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489E-0FD7-47C6-8486-6E39D3B8FE9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C8C-9E1B-4FB0-94A5-7A56215E09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C1AB-AB5B-454B-B6AD-1BB591DE8E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4D96-9AAA-47E7-95B4-6BDE179E6F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9D10-409A-44FA-8BAB-0B07C8334D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C34E-79ED-490F-9137-F79BBB4E61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AA98-794D-4E5B-BDCB-FB487AA971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335D-81EA-416A-8BEA-DA0A03B9B5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3A6A-3310-49D9-9D21-DCFD4F7052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CD86-1CA8-41D3-A3F2-0991C107E6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C25F-5514-4AFB-8AC8-653036FA19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xpect two PPP Programs will be included in June 2012 work program, subject to approval by Council. In the documents published for Council approval, one PPP with AfDB focusing on renewable energy and one with IADB addressing clean energy and bio-diversity are 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working primarily with UNIDO to pursue SME competitions, based on the successful effort in South Africa, in various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5DF5-F94E-4DC1-9A5E-3C87467D1F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 Bahamas, Barbados, </a:t>
            </a:r>
            <a:r>
              <a:rPr b="0" lang="en-US" sz="1200" spc="-1" strike="noStrike" u="sng">
                <a:solidFill>
                  <a:srgbClr val="000000"/>
                </a:solidFill>
                <a:uFillTx/>
                <a:latin typeface="Calibri"/>
              </a:rPr>
              <a:t>Belize</a:t>
            </a:r>
            <a:r>
              <a:rPr b="0" lang="en-US" sz="1200" spc="-1" strike="noStrike">
                <a:solidFill>
                  <a:srgbClr val="000000"/>
                </a:solidFill>
                <a:latin typeface="Calibri"/>
              </a:rPr>
              <a:t>, Cuba, Dominica, Dominican Republic, Grenada, Guyana, Haiti, Jamaica, St. Kitts And Nevis, St. Lucia, St. Vincent and Grenadines, Suriname, and Trinidad and Tobago</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DF49-97F8-454D-8F04-3685650F22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2C01-6656-45BE-BF04-02A5E402D4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6320"/>
              <a:ext cx="9144000" cy="1247760"/>
            </a:xfrm>
            <a:prstGeom prst="rect">
              <a:avLst/>
            </a:prstGeom>
            <a:ln w="0">
              <a:noFill/>
            </a:ln>
          </p:spPr>
        </p:pic>
        <p:pic>
          <p:nvPicPr>
            <p:cNvPr id="41" name="Picture 7" descr="GEF-PPT-BG.png"/>
            <p:cNvPicPr/>
            <p:nvPr/>
          </p:nvPicPr>
          <p:blipFill>
            <a:blip r:embed="rId3"/>
            <a:stretch/>
          </p:blipFill>
          <p:spPr>
            <a:xfrm>
              <a:off x="18000" y="77760"/>
              <a:ext cx="910764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8 to 10 May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 and Barbud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1828440"/>
            <a:ext cx="82296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5.9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304920" y="1219320"/>
            <a:ext cx="8229600" cy="4419360"/>
          </a:xfrm>
          <a:prstGeom prst="rect">
            <a:avLst/>
          </a:prstGeom>
          <a:noFill/>
          <a:ln w="0">
            <a:noFill/>
          </a:ln>
        </p:spPr>
        <p:txBody>
          <a:bodyPr anchor="t">
            <a:normAutofit/>
          </a:bodyPr>
          <a:p>
            <a:pPr marL="343080" indent="-343080">
              <a:lnSpc>
                <a:spcPct val="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rojects/programmes larger than USD 1M, a choice of a one step (full proposal) or two step process (concept approval and project/programme docu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small-scale projects (below USD 1M) one-step proces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s are either Endorsed, Not endorsed, or Rejected</a:t>
            </a:r>
            <a:endParaRPr b="0" lang="en-US" sz="1800" spc="-1" strike="noStrike">
              <a:solidFill>
                <a:srgbClr val="000000"/>
              </a:solidFill>
              <a:latin typeface="Calibri"/>
            </a:endParaRPr>
          </a:p>
          <a:p>
            <a:pPr lvl="2" marL="74304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unding is NOT set aside for endorsed concepts</a:t>
            </a:r>
            <a:endParaRPr b="0" lang="en-US" sz="17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proposals are either Approved, Not Approved, or Rejected</a:t>
            </a:r>
            <a:endParaRPr b="0" lang="en-US" sz="1800" spc="-1" strike="noStrike">
              <a:solidFill>
                <a:srgbClr val="000000"/>
              </a:solidFill>
              <a:latin typeface="Calibri"/>
            </a:endParaRPr>
          </a:p>
          <a:p>
            <a:pPr lvl="2" marL="74304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ncept endorsement NOT required for the full proposal submission, but generally most approved projects are first endorsed as concepts</a:t>
            </a:r>
            <a:endParaRPr b="0" lang="en-US" sz="17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proposals are posted on the website for comments from the public</a:t>
            </a:r>
            <a:endParaRPr b="0" lang="en-US" sz="1800" spc="-1" strike="noStrike">
              <a:solidFill>
                <a:srgbClr val="000000"/>
              </a:solidFill>
              <a:latin typeface="Calibri"/>
            </a:endParaRPr>
          </a:p>
          <a:p>
            <a:pPr lvl="1" marL="343080" indent="-343080">
              <a:lnSpc>
                <a:spcPct val="80000"/>
              </a:lnSpc>
              <a:spcBef>
                <a:spcPts val="2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2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53352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Review Criteria</a:t>
            </a:r>
            <a:endParaRPr b="1" lang="en-US" sz="48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evance to the GEF</a:t>
            </a:r>
            <a:r>
              <a:rPr b="0" i="1"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nstration of Environmental or Climate Change Adaptation Resul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ale of Engage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pacity to Leverage Financ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Efficienc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38088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380520" y="1142640"/>
            <a:ext cx="8153640" cy="4343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SEC has finalized the operational modalities in coordination with the MDB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DBs can submit proposals for Public Private Partnership Programs as candidates for inclusion in a work progra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es and countries can propose the use of non-grant instruments in new PIFs at anyti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is coordinating with UNIDO to identify countries that wish to pursue SME competitions as medium-sized projec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304920" y="380880"/>
          <a:ext cx="8458200" cy="6319800"/>
        </p:xfrm>
        <a:graphic>
          <a:graphicData uri="http://schemas.openxmlformats.org/drawingml/2006/table">
            <a:tbl>
              <a:tblPr/>
              <a:tblGrid>
                <a:gridCol w="3095640"/>
                <a:gridCol w="941400"/>
                <a:gridCol w="706320"/>
                <a:gridCol w="888840"/>
                <a:gridCol w="757440"/>
                <a:gridCol w="1170000"/>
                <a:gridCol w="89856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S$4.25B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Antigua and 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minican Republic</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Kitts and Nevi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Luc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Vincent and Grenadin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rinam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inidad and 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
        <p:nvSpPr>
          <p:cNvPr id="141" name="PlaceHolder 1"/>
          <p:cNvSpPr>
            <a:spLocks noGrp="1"/>
          </p:cNvSpPr>
          <p:nvPr>
            <p:ph type="title"/>
          </p:nvPr>
        </p:nvSpPr>
        <p:spPr>
          <a:xfrm>
            <a:off x="151920" y="456840"/>
            <a:ext cx="3505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GEF-5 STAR Allocation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62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1:06Z</dcterms:modified>
  <cp:revision>370</cp:revision>
  <dc:subject/>
  <dc:title>Focal Area and Cross Cutting Strategies – Chemicals</dc:title>
</cp:coreProperties>
</file>