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_rels/notesSlide3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920" bIns="439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1"/>
          </p:nvPr>
        </p:nvSpPr>
        <p:spPr>
          <a:xfrm>
            <a:off x="3970440" y="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920" bIns="439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87480" rIns="8748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move the slide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2"/>
          </p:nvPr>
        </p:nvSpPr>
        <p:spPr>
          <a:xfrm>
            <a:off x="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920" bIns="439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3"/>
          </p:nvPr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920" bIns="4392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4CC4A-6EE4-4FE3-B733-D583EC66C866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920" bIns="439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7F77C-DF88-45EB-B0EB-C862DCCE1470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Date Placeholder 4"/>
          <p:cNvSpPr/>
          <p:nvPr/>
        </p:nvSpPr>
        <p:spPr>
          <a:xfrm>
            <a:off x="3970440" y="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920" bIns="4392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ooter Placeholder 5"/>
          <p:cNvSpPr/>
          <p:nvPr/>
        </p:nvSpPr>
        <p:spPr>
          <a:xfrm>
            <a:off x="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920" bIns="4392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Header Placeholder 6"/>
          <p:cNvSpPr/>
          <p:nvPr/>
        </p:nvSpPr>
        <p:spPr>
          <a:xfrm>
            <a:off x="0" y="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920" bIns="43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920" bIns="439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Le montant des ressources disponibles estimées (au 31 décembre 2011) est calculé à partir du tableau 5, ligne 16 de l’AFB/EFC.7/6 (« ressources potentielles ») plus les nouvelles contributions de la Suède (100 millions de couronnes suédoises) et de la Suisse ( 3 millions de francs suisses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920" bIns="439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CB195-87B7-474D-8323-B29ACBBC4DB8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920" bIns="439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der Modality 1, the MDBs can build programs in any focal are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P Programs can be country, regional, or global in natu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will focus on small and medium enterprises; all will have private sector partn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der Modality 2, projects using STAR allocation can are eligible to get an incentive from the private sector set-aside if they incorporate a non-grant instru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every three dollars of STAR allocation used, a matching grant of one dollar is availab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der Modality 3, the GEF will support countries that want to start competitions to recognize innovation and entrepreneurshi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December, the South Africa announced the winners of their first clean technology competition with GEF and UNIDO suppor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etitions can cover any focal area; adaptation technology is especially encourag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920" bIns="439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EB574-5B56-4985-82F2-CA7313B61E04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920" bIns="439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Chile, the IADB used GEF funding to establish a risk guarantee fund that is lowering the risk for local banks to fund energy efficiency projects. (#4176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a Regional program in Cape Verde, Liberia, Sierra Leone, and Senegal, the World Bank has established a credit line to support the West Africa Regional Fisheries Program. (#3558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other examples of existing use of non-grant instruments are listed in Annex 4 of the GEF revised strategy available on the GEF web-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920" bIns="439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3D992-215C-4652-85C2-CDB87F58B7D5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920" bIns="439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DBs are already preparing proposals and we hope one or more PPP Programs will be ready for the June 2012 work progra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veral agencies are studying SME competitions, using the South Africa model, in various countr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920" bIns="439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3AF04-2672-4ADB-86CD-302876413EF9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920" bIns="439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&gt; </a:t>
            </a: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Sans reprendre les preuves scientifiques et les calculs économiques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k advice on timeframe, modalities, possible size of voluntary contributions, et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ote language from COP12 asking the GEF to finance adap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920" bIns="439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A4D63-DE92-4F4B-90AA-60BF0DD03731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Date Placeholder 4"/>
          <p:cNvSpPr/>
          <p:nvPr/>
        </p:nvSpPr>
        <p:spPr>
          <a:xfrm>
            <a:off x="3970440" y="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920" bIns="4392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" name="Picture 2" descr=""/>
          <p:cNvPicPr/>
          <p:nvPr/>
        </p:nvPicPr>
        <p:blipFill>
          <a:blip r:embed="rId2"/>
          <a:stretch/>
        </p:blipFill>
        <p:spPr>
          <a:xfrm>
            <a:off x="0" y="5562720"/>
            <a:ext cx="914400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" name="Group 12"/>
          <p:cNvGrpSpPr/>
          <p:nvPr/>
        </p:nvGrpSpPr>
        <p:grpSpPr>
          <a:xfrm>
            <a:off x="0" y="0"/>
            <a:ext cx="9144000" cy="1295280"/>
            <a:chOff x="0" y="0"/>
            <a:chExt cx="9144000" cy="1295280"/>
          </a:xfrm>
        </p:grpSpPr>
        <p:pic>
          <p:nvPicPr>
            <p:cNvPr id="40" name="Picture 5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2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" name="Picture 2" descr=""/>
            <p:cNvPicPr/>
            <p:nvPr/>
          </p:nvPicPr>
          <p:blipFill>
            <a:blip r:embed="rId3"/>
            <a:stretch/>
          </p:blipFill>
          <p:spPr>
            <a:xfrm>
              <a:off x="11880" y="0"/>
              <a:ext cx="9119880" cy="658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thegef.org/gef/sites/thegef.org/files/publication/LDCF%20FRench.pdf(site" TargetMode="External"/><Relationship Id="rId2" Type="http://schemas.openxmlformats.org/officeDocument/2006/relationships/hyperlink" Target="http://www.thegef.org/gef/sites/thegef.org/files/publication/SCCF%20French.pdf" TargetMode="Externa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914400" y="502884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898989"/>
                </a:solidFill>
                <a:latin typeface="Calibri"/>
              </a:rPr>
              <a:t>Atelier Elargi pour la Circonscrip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898989"/>
                </a:solidFill>
                <a:latin typeface="Calibri"/>
              </a:rPr>
              <a:t>17 -19 avril 2012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898989"/>
                </a:solidFill>
                <a:latin typeface="Calibri"/>
              </a:rPr>
              <a:t>Ouagadougou, Burkina Fas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533160" y="2743200"/>
            <a:ext cx="83055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00642d"/>
                </a:solidFill>
                <a:latin typeface="Calibri"/>
              </a:rPr>
              <a:t>Comment accéder aux ressources du FEM</a:t>
            </a:r>
            <a:br>
              <a:rPr sz="3600"/>
            </a:br>
            <a:r>
              <a:rPr b="1" lang="fr-FR" sz="2200" spc="-1" strike="noStrike">
                <a:solidFill>
                  <a:srgbClr val="1f497d"/>
                </a:solidFill>
                <a:latin typeface="Calibri"/>
              </a:rPr>
              <a:t>Caisse du FEM, STAR </a:t>
            </a:r>
            <a:br>
              <a:rPr sz="2200"/>
            </a:br>
            <a:r>
              <a:rPr b="1" lang="fr-FR" sz="2200" spc="-1" strike="noStrike">
                <a:solidFill>
                  <a:srgbClr val="1f497d"/>
                </a:solidFill>
                <a:latin typeface="Calibri"/>
              </a:rPr>
              <a:t>Fonds PMA, Fonds spécial, Fonds de Nagoya, Fonds pour l’adaptation </a:t>
            </a:r>
            <a:br>
              <a:rPr sz="2200"/>
            </a:br>
            <a:r>
              <a:rPr b="1" lang="fr-FR" sz="2200" spc="-1" strike="noStrike">
                <a:solidFill>
                  <a:srgbClr val="1f497d"/>
                </a:solidFill>
                <a:latin typeface="Calibri"/>
              </a:rPr>
              <a:t>Élargissement du réseau du FEM</a:t>
            </a:r>
            <a:br>
              <a:rPr sz="2200"/>
            </a:br>
            <a:r>
              <a:rPr b="1" lang="fr-FR" sz="2200" spc="-1" strike="noStrike">
                <a:solidFill>
                  <a:srgbClr val="1f497d"/>
                </a:solidFill>
                <a:latin typeface="Calibri"/>
              </a:rPr>
              <a:t>Partenariats public-privé</a:t>
            </a:r>
            <a:br>
              <a:rPr sz="2200"/>
            </a:br>
            <a:r>
              <a:rPr b="1" lang="fr-FR" sz="2200" spc="-1" strike="noStrike">
                <a:solidFill>
                  <a:srgbClr val="1f497d"/>
                </a:solidFill>
                <a:latin typeface="Calibri"/>
              </a:rPr>
              <a:t>SIGP et site web </a:t>
            </a:r>
            <a:br>
              <a:rPr sz="2800"/>
            </a:br>
            <a:endParaRPr b="1" lang="en-US" sz="22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1f497d"/>
                </a:solidFill>
                <a:latin typeface="Calibri"/>
              </a:rPr>
              <a:t>Caractéristiques </a:t>
            </a:r>
            <a:br>
              <a:rPr sz="4400"/>
            </a:br>
            <a:r>
              <a:rPr b="1" lang="fr-FR" sz="4400" spc="-1" strike="noStrike">
                <a:solidFill>
                  <a:srgbClr val="1f497d"/>
                </a:solidFill>
                <a:latin typeface="Calibri"/>
              </a:rPr>
              <a:t>du Fonds PMA/Fonds spécial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6840" y="175248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Le principe du </a:t>
            </a:r>
            <a:r>
              <a:rPr b="1" lang="fr-FR" sz="1500" spc="-1" strike="noStrike" u="sng">
                <a:solidFill>
                  <a:srgbClr val="000000"/>
                </a:solidFill>
                <a:uFillTx/>
                <a:latin typeface="Calibri"/>
              </a:rPr>
              <a:t>coût additionnel </a:t>
            </a: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distingue les projets du Fonds PMA/Fonds spécial de la pratique courante du FEM qui finance les projets selon le principe du surcoût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Le montant intégral des </a:t>
            </a:r>
            <a:r>
              <a:rPr b="0" i="1" lang="fr-FR" sz="1500" spc="-1" strike="noStrike">
                <a:solidFill>
                  <a:srgbClr val="000000"/>
                </a:solidFill>
                <a:latin typeface="Calibri"/>
              </a:rPr>
              <a:t>coûts additionnels </a:t>
            </a: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imposés au pays par les effets du changement climatique est pris en charge par le Fonds PMA/Fonds spécial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Base inchangée – Les activités qui seraient réalisées en l’absence de changement climatique constituent </a:t>
            </a:r>
            <a:r>
              <a:rPr b="1" lang="fr-FR" sz="1500" spc="-1" strike="noStrike" u="sng">
                <a:solidFill>
                  <a:srgbClr val="000000"/>
                </a:solidFill>
                <a:uFillTx/>
                <a:latin typeface="Calibri"/>
              </a:rPr>
              <a:t>le projet de base</a:t>
            </a: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 (base : situation inchangée)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Le Fonds PMA applique </a:t>
            </a:r>
            <a:r>
              <a:rPr b="1" lang="fr-FR" sz="1500" spc="-1" strike="noStrike" u="sng">
                <a:solidFill>
                  <a:srgbClr val="000000"/>
                </a:solidFill>
                <a:uFillTx/>
                <a:latin typeface="Calibri"/>
              </a:rPr>
              <a:t>le principe de l’accès équitable</a:t>
            </a: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 selon lequel le financement de la mise en œuvre des PANA est ouvert à tous les PMA, et non sur la base du premier arrivé, premier servi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Content Placeholder 7" descr="BGD-062HR-04.tif"/>
          <p:cNvPicPr/>
          <p:nvPr/>
        </p:nvPicPr>
        <p:blipFill>
          <a:blip r:embed="rId1"/>
          <a:stretch/>
        </p:blipFill>
        <p:spPr>
          <a:xfrm>
            <a:off x="5562720" y="1371600"/>
            <a:ext cx="2663640" cy="39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1f497d"/>
                </a:solidFill>
                <a:latin typeface="Calibri"/>
              </a:rPr>
              <a:t>Comment accéder aux ressources du Fonds pour les PMA et du Fonds spécial? 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a-DK" sz="3000" spc="-1" strike="noStrike">
                <a:solidFill>
                  <a:srgbClr val="000000"/>
                </a:solidFill>
                <a:latin typeface="Calibri"/>
              </a:rPr>
              <a:t>Accés aux ressources du Fonds pour les pays les moins avancés</a:t>
            </a:r>
            <a:r>
              <a:rPr b="0" lang="da-DK" sz="3000" spc="-1" strike="noStrike">
                <a:solidFill>
                  <a:srgbClr val="000000"/>
                </a:solidFill>
                <a:latin typeface="Calibri"/>
              </a:rPr>
              <a:t>, sur le site du FEM </a:t>
            </a:r>
            <a:r>
              <a:rPr b="0" lang="da-DK" sz="3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thegef.org/gef/sites/thegef.org/files/publication/LDCF%20FRench.pdf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a-DK" sz="3000" spc="-1" strike="noStrike">
                <a:solidFill>
                  <a:srgbClr val="000000"/>
                </a:solidFill>
                <a:latin typeface="Calibri"/>
              </a:rPr>
              <a:t>Accés aux ressources du Fonds spécial pour les changements climatiques</a:t>
            </a:r>
            <a:r>
              <a:rPr b="0" lang="da-DK" sz="3000" spc="-1" strike="noStrike">
                <a:solidFill>
                  <a:srgbClr val="000000"/>
                </a:solidFill>
                <a:latin typeface="Calibri"/>
              </a:rPr>
              <a:t>, sur le site du FEM </a:t>
            </a:r>
            <a:r>
              <a:rPr b="0" lang="da-DK" sz="3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thegef.org/gef/sites/thegef.org/files/publication/SCCF%20French.pdf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80880" y="14475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Le Fonds de Nagoya est un fond fiduciaire crée et administré séparément par le conseil du FEM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Etabli le 18 février 20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Le financement reste indépendant des allocations STA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itle 6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Calibri"/>
              </a:rPr>
              <a:t>Fonds de Mise en œuvre du Protocole de Nagoy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hronologie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Démarrage : 26 mai 201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onseil du FEM (GEF/C.40/11/Rev.1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Modalités d’application 1 :  18 août 201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ettre de la directrice générale aux points focaux techniqu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Modalités d’application 2 : 11 novembre 201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ettre de la directrice générale aux points focaux techniqu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&amp; aux membres titulaires et suppléants du Conseil du F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1f497d"/>
                </a:solidFill>
                <a:latin typeface="Calibri"/>
              </a:rPr>
              <a:t>Fonds </a:t>
            </a:r>
            <a:r>
              <a:rPr b="1" lang="fr-FR" sz="3600" spc="-1" strike="noStrike">
                <a:solidFill>
                  <a:srgbClr val="1f497d"/>
                </a:solidFill>
                <a:latin typeface="Calibri"/>
              </a:rPr>
              <a:t>de Mise en Œuvre du Protocole </a:t>
            </a:r>
            <a:r>
              <a:rPr b="1" lang="fr-FR" sz="3600" spc="-1" strike="noStrike">
                <a:solidFill>
                  <a:srgbClr val="1f497d"/>
                </a:solidFill>
                <a:latin typeface="Calibri"/>
              </a:rPr>
              <a:t>de Nagoya: Que finance-t-il</a:t>
            </a: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?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4475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Des projets qu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Complètent les investissements  envisagés dans le cadre de la Caisse du FEM (STAR) à l’appui de l’accès aux ressources génétiques et des avantages en découlant (régime AP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Cherchent à concrétiser les possibilités d’accord sur un régime APA entre utilisateurs et pourvoyeurs de ressources génétiqu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Favorisent le transfert de technologies et la mobilisation du secteur priv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Permettent aux pays de rassembler des informations pour examiner leurs capacités et leurs besoins d’application d’un régime APA, l’accent étant mis sur les politiques et la législation en vigu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1f497d"/>
                </a:solidFill>
                <a:latin typeface="Calibri"/>
              </a:rPr>
              <a:t>Comment accéder </a:t>
            </a:r>
            <a:br>
              <a:rPr sz="4000"/>
            </a:br>
            <a:r>
              <a:rPr b="1" lang="fr-FR" sz="4000" spc="-1" strike="noStrike">
                <a:solidFill>
                  <a:srgbClr val="1f497d"/>
                </a:solidFill>
                <a:latin typeface="Calibri"/>
              </a:rPr>
              <a:t>au Fonds de Nagoya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Projets de moyenne envergu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Mêmes politiques et modalités que celles appliquées aux autres projets de moyenne envergure du F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Agrément, de façon continue, du directeur génér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Entités d’exécution du F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Organisations partenaires (réalisent le projet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Lettre d’approbation du point focal technique du F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Lettres de cofinanc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Le financement s’ajoute aux allocations STA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1f497d"/>
                </a:solidFill>
                <a:latin typeface="Calibri"/>
              </a:rPr>
              <a:t>Fonds de Nagoya : État des lieux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09480" y="1142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Rapport d’activité du Fonds de mise en œuvre du Protocole de Nagoya (GEF/C.41/Inf.08/Rev.01) </a:t>
            </a: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Ressources disponibles : 15 M USD (Japon, Suisse et France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Projets approuvés : GEF ID 4780 (Promouvoir l’application du Protocole de Nagoya sur l’accès aux ressources génétiques et le partage des avantages qui en découlent au Panama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Projets à venir : 3 projets de moyenne envergure en cours d’élaboration, 3 fiches de synthèse, pourparler avec 7 partenaires et pay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itle 3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ff"/>
                </a:solidFill>
                <a:latin typeface="Calibri"/>
              </a:rPr>
              <a:t>Fonds pour l’adap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1" descr=""/>
          <p:cNvPicPr/>
          <p:nvPr/>
        </p:nvPicPr>
        <p:blipFill>
          <a:blip r:embed="rId1"/>
          <a:srcRect l="22221" t="12389" r="27785" b="38095"/>
          <a:stretch/>
        </p:blipFill>
        <p:spPr>
          <a:xfrm>
            <a:off x="8077320" y="0"/>
            <a:ext cx="1066680" cy="94788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880" y="9144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1f497d"/>
                </a:solidFill>
                <a:latin typeface="Calibri"/>
              </a:rPr>
              <a:t>Ressources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3352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Produit de la monétisation des URCE : $167,4 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Contributions des Partis visés à l’Annexe I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Espagne 45 EUR, Monaco 10,000 EUR,          Allemagne 10 M EUR, Suède 200 M SEK, Suisse 3 M CHF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Contributions annoncées : Australie 15 M AUD, Région de Bruxelles-Capitale 1 M EUR, Royaume-Uni 10M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£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Ressources allouées au 20 mars 2012: $116,1 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Ressources actuellement disponibles: $147 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Estimation des ressources d’ici fin 2012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Hypothèse moyenne $207 M (basse : $187 M, haute : $223 M)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92d050"/>
                </a:solidFill>
                <a:latin typeface="Calibri"/>
              </a:rPr>
              <a:t>Modalités d’accès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4475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7033"/>
                </a:solidFill>
                <a:latin typeface="Calibri"/>
              </a:rPr>
              <a:t> </a:t>
            </a:r>
            <a:r>
              <a:rPr b="1" lang="fr-FR" sz="3000" spc="-1" strike="noStrike">
                <a:solidFill>
                  <a:srgbClr val="007033"/>
                </a:solidFill>
                <a:latin typeface="Calibri"/>
              </a:rPr>
              <a:t>Modalité d’Accès Direc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es projets et programmes des Partis remplissant les conditions d’admissibilité peuvent être présentés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directement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au Conseil du Fonds pour l’adaptation par une institution nationale de mise en œuvre (INM)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accréditée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7033"/>
                </a:solidFill>
                <a:latin typeface="Calibri"/>
              </a:rPr>
              <a:t>Modalité d’Accès Multilatéra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es Partis peuvent soumettre leurs projets par le biais d’une institution multilatérale de mise en œuvre (IMM)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accrédité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7033"/>
                </a:solidFill>
                <a:latin typeface="Calibri"/>
              </a:rPr>
              <a:t>Modalité d’Accès Régiona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Un groupe de Partis peut également nommer une entité régionale ou sous-régionale comme institution de mise en œuvre (IRM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traight Connector 7"/>
          <p:cNvSpPr/>
          <p:nvPr/>
        </p:nvSpPr>
        <p:spPr>
          <a:xfrm>
            <a:off x="0" y="1217520"/>
            <a:ext cx="9144000" cy="1800"/>
          </a:xfrm>
          <a:prstGeom prst="line">
            <a:avLst/>
          </a:prstGeom>
          <a:ln w="25560">
            <a:solidFill>
              <a:srgbClr val="b7e7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1" descr=""/>
          <p:cNvPicPr/>
          <p:nvPr/>
        </p:nvPicPr>
        <p:blipFill>
          <a:blip r:embed="rId1"/>
          <a:srcRect l="22221" t="12389" r="27785" b="38095"/>
          <a:stretch/>
        </p:blipFill>
        <p:spPr>
          <a:xfrm>
            <a:off x="8077320" y="0"/>
            <a:ext cx="1066680" cy="9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2d050"/>
                </a:solidFill>
                <a:latin typeface="Calibri"/>
              </a:rPr>
              <a:t>Modalités d’accès (2)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59984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7033"/>
                </a:solidFill>
                <a:latin typeface="Calibri"/>
              </a:rPr>
              <a:t>Les INM, IMM et IRM doivent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Calibri"/>
              </a:rPr>
              <a:t>Satisfaire aux normes fiduciaires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établies par le Conseil du Fonds pour l’adaptation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Calibri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Gestion et intégrité financiè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Calibri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Capacité institutionnel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Calibri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Transparence, pouvoirs d’enquête interne et mesures anticorrup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Calibri"/>
              </a:rPr>
              <a:t>Assumer l’entière responsabilité </a:t>
            </a:r>
            <a:r>
              <a:rPr b="0" i="1" lang="fr-FR" sz="2400" spc="-1" strike="noStrike">
                <a:solidFill>
                  <a:srgbClr val="000000"/>
                </a:solidFill>
                <a:latin typeface="Calibri"/>
              </a:rPr>
              <a:t>de </a:t>
            </a:r>
            <a:r>
              <a:rPr b="1" i="1" lang="fr-FR" sz="2400" spc="-1" strike="noStrike">
                <a:solidFill>
                  <a:srgbClr val="000000"/>
                </a:solidFill>
                <a:latin typeface="Calibri"/>
              </a:rPr>
              <a:t>chacun des aspects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de la </a:t>
            </a:r>
            <a:r>
              <a:rPr b="1" i="1" lang="fr-FR" sz="2400" spc="-1" strike="noStrike">
                <a:solidFill>
                  <a:srgbClr val="000000"/>
                </a:solidFill>
                <a:latin typeface="Calibri"/>
              </a:rPr>
              <a:t>gestion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des projets et programm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ssurer la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gestion financière,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e travail de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suivi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et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’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établissement des rapports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nécessai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Picture 1" descr=""/>
          <p:cNvPicPr/>
          <p:nvPr/>
        </p:nvPicPr>
        <p:blipFill>
          <a:blip r:embed="rId1"/>
          <a:srcRect l="22221" t="12389" r="27785" b="38095"/>
          <a:stretch/>
        </p:blipFill>
        <p:spPr>
          <a:xfrm>
            <a:off x="8077320" y="0"/>
            <a:ext cx="1066680" cy="947880"/>
          </a:xfrm>
          <a:prstGeom prst="rect">
            <a:avLst/>
          </a:prstGeom>
          <a:ln w="0">
            <a:noFill/>
          </a:ln>
        </p:spPr>
      </p:pic>
      <p:sp>
        <p:nvSpPr>
          <p:cNvPr id="137" name="Straight Connector 7"/>
          <p:cNvSpPr/>
          <p:nvPr/>
        </p:nvSpPr>
        <p:spPr>
          <a:xfrm>
            <a:off x="0" y="1217520"/>
            <a:ext cx="9144000" cy="1800"/>
          </a:xfrm>
          <a:prstGeom prst="line">
            <a:avLst/>
          </a:prstGeom>
          <a:ln w="25560">
            <a:solidFill>
              <a:srgbClr val="b7e7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1f497d"/>
                </a:solidFill>
                <a:latin typeface="Calibri"/>
              </a:rPr>
              <a:t>Cadre institutionnel du FEM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0" name="Title 3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ff"/>
                </a:solidFill>
                <a:latin typeface="Calibri"/>
              </a:rPr>
              <a:t>Comment accéder à la Caisse du F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4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Object 320" descr=""/>
          <p:cNvPicPr/>
          <p:nvPr/>
        </p:nvPicPr>
        <p:blipFill>
          <a:blip r:embed="rId1"/>
          <a:stretch/>
        </p:blipFill>
        <p:spPr>
          <a:xfrm>
            <a:off x="380880" y="2048040"/>
            <a:ext cx="8305920" cy="36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92d050"/>
                </a:solidFill>
                <a:latin typeface="Calibri"/>
              </a:rPr>
              <a:t>Procédure d’une vs deux étapes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our des </a:t>
            </a: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projets/programmes au delà de 1M USD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,  un choix doit se faire quant aux procédures  soit: Une procédure d’</a:t>
            </a: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une étape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(proposition complète) ou de </a:t>
            </a: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deux étapes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(approbation du concept et document du projet/programme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our des projets </a:t>
            </a: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de petite échelle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(En dessous de $1m) la procédure </a:t>
            </a: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d’une étape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doit être choisie.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es concepts sont soit endossés, non endossés ou rejeté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-Les fonds ne sont PAS mis appart pour des concepts endossé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es propositions complètes sont soit approuvées, non approuvées, ou rejeté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-L’endossement des concepts n’est PAS requis pour la présentation de la proposition complète, mais en générale, les projets approuvés sont en premier lieu endossés comme concept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Toutes les propositions sont publiées sur le site web et ouvertes au public pour tout commentair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traight Connector 3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25560">
            <a:solidFill>
              <a:srgbClr val="b7e7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" descr=""/>
          <p:cNvPicPr/>
          <p:nvPr/>
        </p:nvPicPr>
        <p:blipFill>
          <a:blip r:embed="rId1"/>
          <a:srcRect l="22221" t="12389" r="27785" b="38095"/>
          <a:stretch/>
        </p:blipFill>
        <p:spPr>
          <a:xfrm>
            <a:off x="8077320" y="0"/>
            <a:ext cx="1066680" cy="9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solidFill>
            <a:srgbClr val="b1ca7e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8064a2"/>
                </a:solidFill>
                <a:latin typeface="Calibri"/>
              </a:rPr>
              <a:t>Cycle du Projet du Conseil du fonds pour l’adaptation</a:t>
            </a:r>
            <a:endParaRPr b="1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3" name="AutoShape 3"/>
          <p:cNvSpPr/>
          <p:nvPr/>
        </p:nvSpPr>
        <p:spPr>
          <a:xfrm flipH="1" flipV="1" rot="16200000">
            <a:off x="3780720" y="2162880"/>
            <a:ext cx="1506240" cy="2819520"/>
          </a:xfrm>
          <a:custGeom>
            <a:avLst/>
            <a:gdLst>
              <a:gd name="textAreaLeft" fmla="*/ 263520 w 1506240"/>
              <a:gd name="textAreaRight" fmla="*/ 1092240 w 1506240"/>
              <a:gd name="textAreaTop" fmla="*/ 377640 h 2819520"/>
              <a:gd name="textAreaBottom" fmla="*/ 2441880 h 2819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3216951"/>
                <a:lnTo>
                  <a:pt x="21360" y="5394"/>
                </a:lnTo>
                <a:lnTo>
                  <a:pt x="17280" y="0"/>
                </a:lnTo>
                <a:lnTo>
                  <a:pt x="12720" y="5394"/>
                </a:lnTo>
                <a:lnTo>
                  <a:pt x="14880" y="5394"/>
                </a:lnTo>
                <a:arcTo wR="7560" hR="21600" stAng="2183049" swAng="2859516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9bbb59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5943600" y="1295280"/>
            <a:ext cx="2590920" cy="1067040"/>
          </a:xfrm>
          <a:prstGeom prst="rect">
            <a:avLst/>
          </a:prstGeom>
          <a:solidFill>
            <a:srgbClr val="8064a2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Présentation du projet ou programme au secrétariat du fond  pour l’adaptation en suivant les modèles approuvés par le Conseil du fonds pour l’adapt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5"/>
          <p:cNvSpPr/>
          <p:nvPr/>
        </p:nvSpPr>
        <p:spPr>
          <a:xfrm>
            <a:off x="3505320" y="1447920"/>
            <a:ext cx="1828800" cy="685800"/>
          </a:xfrm>
          <a:prstGeom prst="rect">
            <a:avLst/>
          </a:prstGeom>
          <a:solidFill>
            <a:srgbClr val="8064a2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Contrôle de cohérence et évaluation technique de la part du secrétari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6"/>
          <p:cNvSpPr/>
          <p:nvPr/>
        </p:nvSpPr>
        <p:spPr>
          <a:xfrm>
            <a:off x="457200" y="3048120"/>
            <a:ext cx="1879560" cy="585720"/>
          </a:xfrm>
          <a:prstGeom prst="rect">
            <a:avLst/>
          </a:prstGeom>
          <a:solidFill>
            <a:srgbClr val="8064a2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Prise de décision par le fond pour l’adapt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7"/>
          <p:cNvSpPr/>
          <p:nvPr/>
        </p:nvSpPr>
        <p:spPr>
          <a:xfrm>
            <a:off x="762120" y="1600200"/>
            <a:ext cx="2133360" cy="1066680"/>
          </a:xfrm>
          <a:prstGeom prst="rect">
            <a:avLst/>
          </a:prstGeom>
          <a:solidFill>
            <a:srgbClr val="8064a2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Révision par le comité d’examen  de projets et programmes. Des services experts externes peuvent être utilisé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8"/>
          <p:cNvSpPr/>
          <p:nvPr/>
        </p:nvSpPr>
        <p:spPr>
          <a:xfrm>
            <a:off x="1523880" y="4191120"/>
            <a:ext cx="1997280" cy="1218960"/>
          </a:xfrm>
          <a:prstGeom prst="rect">
            <a:avLst/>
          </a:prstGeom>
          <a:solidFill>
            <a:srgbClr val="8064a2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Traitance de la part du fond pour l’adaptation. Décaissement des fonds par l’administrateur avec un ordre écrit du fond pour l’adapt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9"/>
          <p:cNvSpPr/>
          <p:nvPr/>
        </p:nvSpPr>
        <p:spPr>
          <a:xfrm>
            <a:off x="4114800" y="4648320"/>
            <a:ext cx="2057400" cy="761760"/>
          </a:xfrm>
          <a:prstGeom prst="rect">
            <a:avLst/>
          </a:prstGeom>
          <a:solidFill>
            <a:srgbClr val="8064a2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Implémentation et contrôle du projet par l’entité d’exécu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0"/>
          <p:cNvSpPr/>
          <p:nvPr/>
        </p:nvSpPr>
        <p:spPr>
          <a:xfrm>
            <a:off x="6553080" y="3200400"/>
            <a:ext cx="2281320" cy="108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Tous les projets: Rapports annuels sur l’état des lieux, rapport d’évaluation fin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5"/>
          <p:cNvSpPr/>
          <p:nvPr/>
        </p:nvSpPr>
        <p:spPr>
          <a:xfrm>
            <a:off x="0" y="442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11"/>
          <p:cNvSpPr/>
          <p:nvPr/>
        </p:nvSpPr>
        <p:spPr>
          <a:xfrm>
            <a:off x="5943600" y="23623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64a2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12"/>
          <p:cNvSpPr/>
          <p:nvPr/>
        </p:nvSpPr>
        <p:spPr>
          <a:xfrm>
            <a:off x="3505320" y="220968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64a2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13"/>
          <p:cNvSpPr/>
          <p:nvPr/>
        </p:nvSpPr>
        <p:spPr>
          <a:xfrm>
            <a:off x="2590920" y="27432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64a2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14"/>
          <p:cNvSpPr/>
          <p:nvPr/>
        </p:nvSpPr>
        <p:spPr>
          <a:xfrm>
            <a:off x="2057400" y="37339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64a2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15"/>
          <p:cNvSpPr/>
          <p:nvPr/>
        </p:nvSpPr>
        <p:spPr>
          <a:xfrm>
            <a:off x="3276720" y="54864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64a2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16"/>
          <p:cNvSpPr/>
          <p:nvPr/>
        </p:nvSpPr>
        <p:spPr>
          <a:xfrm>
            <a:off x="5943600" y="548640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64a2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17"/>
          <p:cNvSpPr/>
          <p:nvPr/>
        </p:nvSpPr>
        <p:spPr>
          <a:xfrm>
            <a:off x="0" y="1066680"/>
            <a:ext cx="9144000" cy="1800"/>
          </a:xfrm>
          <a:prstGeom prst="line">
            <a:avLst/>
          </a:prstGeom>
          <a:ln w="25560">
            <a:solidFill>
              <a:srgbClr val="7692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92d050"/>
                </a:solidFill>
                <a:latin typeface="Calibri"/>
              </a:rPr>
              <a:t>Critères de financemen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Des fonds sont pourvus </a:t>
            </a:r>
            <a:r>
              <a:rPr b="0" i="1" lang="fr-FR" sz="2000" spc="-1" strike="noStrike">
                <a:solidFill>
                  <a:srgbClr val="000000"/>
                </a:solidFill>
                <a:latin typeface="Calibri"/>
              </a:rPr>
              <a:t>pour </a:t>
            </a:r>
            <a:r>
              <a:rPr b="1" i="1" lang="fr-FR" sz="2000" spc="-1" strike="noStrike">
                <a:solidFill>
                  <a:srgbClr val="000000"/>
                </a:solidFill>
                <a:latin typeface="Calibri"/>
              </a:rPr>
              <a:t>l’intégralité des coûts d’adaptation de base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pour les programmes et projets ayant pour objectif principal de </a:t>
            </a:r>
            <a:r>
              <a:rPr b="1" i="1" lang="fr-FR" sz="2000" spc="-1" strike="noStrike">
                <a:solidFill>
                  <a:srgbClr val="000000"/>
                </a:solidFill>
                <a:latin typeface="Calibri"/>
              </a:rPr>
              <a:t>s’adapter et d’augmenter la capacité d’adaptation au changement climatiqu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Les projets doivent être </a:t>
            </a:r>
            <a:r>
              <a:rPr b="1" i="1" lang="fr-FR" sz="2000" spc="-1" strike="noStrike">
                <a:solidFill>
                  <a:srgbClr val="000000"/>
                </a:solidFill>
                <a:latin typeface="Calibri"/>
              </a:rPr>
              <a:t>concrets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: l’accent doit être mis sur l’impac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Calibri"/>
              </a:rPr>
              <a:t>Aucun secteur ou approche n’est préétabl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L’allocation totale pour les projets et programmes présentés par les entités multilatérales d’exécution à chaque réunion ne peut dépasser 50% des ressources accumulées dans le fond fiduciair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Tous les projets/programmes doivent inclure une composante de gestion de connaissance (KM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Les propositions doivent s’adapter au cadre de résultats du fond pour l’adapt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traight Connector 3"/>
          <p:cNvSpPr/>
          <p:nvPr/>
        </p:nvSpPr>
        <p:spPr>
          <a:xfrm>
            <a:off x="0" y="1217520"/>
            <a:ext cx="9144000" cy="1800"/>
          </a:xfrm>
          <a:prstGeom prst="line">
            <a:avLst/>
          </a:prstGeom>
          <a:ln w="25560">
            <a:solidFill>
              <a:srgbClr val="b7e7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" descr=""/>
          <p:cNvPicPr/>
          <p:nvPr/>
        </p:nvPicPr>
        <p:blipFill>
          <a:blip r:embed="rId1"/>
          <a:srcRect l="22221" t="12389" r="27785" b="38095"/>
          <a:stretch/>
        </p:blipFill>
        <p:spPr>
          <a:xfrm>
            <a:off x="7924680" y="152280"/>
            <a:ext cx="1067040" cy="9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92d050"/>
                </a:solidFill>
                <a:latin typeface="Calibri"/>
              </a:rPr>
              <a:t>Critères d’évaluation des projets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100" spc="-1" strike="noStrike">
                <a:solidFill>
                  <a:srgbClr val="000000"/>
                </a:solidFill>
                <a:latin typeface="Calibri"/>
              </a:rPr>
              <a:t>Cohérence</a:t>
            </a:r>
            <a:r>
              <a:rPr b="0" lang="fr-FR" sz="2100" spc="-1" strike="noStrike">
                <a:solidFill>
                  <a:srgbClr val="000000"/>
                </a:solidFill>
                <a:latin typeface="Calibri"/>
              </a:rPr>
              <a:t> avec les stratégies nationales pour le développement durabl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Calibri"/>
              </a:rPr>
              <a:t>Les bénéfices </a:t>
            </a:r>
            <a:r>
              <a:rPr b="1" i="1" lang="fr-FR" sz="2100" spc="-1" strike="noStrike">
                <a:solidFill>
                  <a:srgbClr val="000000"/>
                </a:solidFill>
                <a:latin typeface="Calibri"/>
              </a:rPr>
              <a:t>économiques, sociaux et écologiqu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Calibri"/>
              </a:rPr>
              <a:t>Le </a:t>
            </a:r>
            <a:r>
              <a:rPr b="1" i="1" lang="fr-FR" sz="2100" spc="-1" strike="noStrike">
                <a:solidFill>
                  <a:srgbClr val="000000"/>
                </a:solidFill>
                <a:latin typeface="Calibri"/>
              </a:rPr>
              <a:t>respect</a:t>
            </a:r>
            <a:r>
              <a:rPr b="0" lang="fr-FR" sz="2100" spc="-1" strike="noStrike">
                <a:solidFill>
                  <a:srgbClr val="000000"/>
                </a:solidFill>
                <a:latin typeface="Calibri"/>
              </a:rPr>
              <a:t> de standards techniques nationaux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100" spc="-1" strike="noStrike">
                <a:solidFill>
                  <a:srgbClr val="000000"/>
                </a:solidFill>
                <a:latin typeface="Calibri"/>
              </a:rPr>
              <a:t>Le rapport coût-efficacité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Calibri"/>
              </a:rPr>
              <a:t>Les </a:t>
            </a:r>
            <a:r>
              <a:rPr b="1" i="1" lang="fr-FR" sz="2100" spc="-1" strike="noStrike">
                <a:solidFill>
                  <a:srgbClr val="000000"/>
                </a:solidFill>
                <a:latin typeface="Calibri"/>
              </a:rPr>
              <a:t>mécanismes</a:t>
            </a:r>
            <a:r>
              <a:rPr b="0" lang="fr-FR" sz="2100" spc="-1" strike="noStrike">
                <a:solidFill>
                  <a:srgbClr val="000000"/>
                </a:solidFill>
                <a:latin typeface="Calibri"/>
              </a:rPr>
              <a:t> de gestion, gestion financière et des risques, le suivi et l’évaluation, et l’évaluation de l’impac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100" spc="-1" strike="noStrike">
                <a:solidFill>
                  <a:srgbClr val="000000"/>
                </a:solidFill>
                <a:latin typeface="Calibri"/>
              </a:rPr>
              <a:t>Eviter la duplication </a:t>
            </a:r>
            <a:r>
              <a:rPr b="0" lang="fr-FR" sz="2100" spc="-1" strike="noStrike">
                <a:solidFill>
                  <a:srgbClr val="000000"/>
                </a:solidFill>
                <a:latin typeface="Calibri"/>
              </a:rPr>
              <a:t>avec d’autres sources de financement pour les projets d’adaptatio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100" spc="-1" strike="noStrike">
                <a:solidFill>
                  <a:srgbClr val="000000"/>
                </a:solidFill>
                <a:latin typeface="Calibri"/>
              </a:rPr>
              <a:t>Consulter les partis prenants</a:t>
            </a:r>
            <a:r>
              <a:rPr b="0" lang="fr-FR" sz="2100" spc="-1" strike="noStrike">
                <a:solidFill>
                  <a:srgbClr val="000000"/>
                </a:solidFill>
                <a:latin typeface="Calibri"/>
              </a:rPr>
              <a:t>: assurer l’acceptation et l’incorporation des points de vues de la communauté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Calibri"/>
              </a:rPr>
              <a:t>La considération de </a:t>
            </a:r>
            <a:r>
              <a:rPr b="1" i="1" lang="fr-FR" sz="2100" spc="-1" strike="noStrike">
                <a:solidFill>
                  <a:srgbClr val="000000"/>
                </a:solidFill>
                <a:latin typeface="Calibri"/>
              </a:rPr>
              <a:t>questions de genre </a:t>
            </a:r>
            <a:r>
              <a:rPr b="0" lang="fr-FR" sz="2100" spc="-1" strike="noStrike">
                <a:solidFill>
                  <a:srgbClr val="000000"/>
                </a:solidFill>
                <a:latin typeface="Calibri"/>
              </a:rPr>
              <a:t>dans l’élaboration du proje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traight Connector 3"/>
          <p:cNvSpPr/>
          <p:nvPr/>
        </p:nvSpPr>
        <p:spPr>
          <a:xfrm>
            <a:off x="0" y="1217520"/>
            <a:ext cx="9144000" cy="1800"/>
          </a:xfrm>
          <a:prstGeom prst="line">
            <a:avLst/>
          </a:prstGeom>
          <a:ln w="25560">
            <a:solidFill>
              <a:srgbClr val="b7e7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1" descr=""/>
          <p:cNvPicPr/>
          <p:nvPr/>
        </p:nvPicPr>
        <p:blipFill>
          <a:blip r:embed="rId1"/>
          <a:srcRect l="22221" t="12389" r="27785" b="38095"/>
          <a:stretch/>
        </p:blipFill>
        <p:spPr>
          <a:xfrm>
            <a:off x="7924680" y="152280"/>
            <a:ext cx="1067040" cy="9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En mai 2011, le Conseil du FEM a approuvé un projet pilote d’accréditation de jusqu’à dix nouvelles institutions pour exécuter les projets de l’institution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Au moins 5 institutions national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Une fois accréditées, les Agences de projet pourront </a:t>
            </a:r>
            <a:r>
              <a:rPr b="0" i="1" lang="fr-FR" sz="2800" spc="-1" strike="noStrike">
                <a:solidFill>
                  <a:srgbClr val="000000"/>
                </a:solidFill>
                <a:latin typeface="Calibri"/>
              </a:rPr>
              <a:t>accéder directement aux ressources des fonds administrés par le FEM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pour aider les pays bénéficiaires à préparer et exécuter des projet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itle 6"/>
          <p:cNvSpPr/>
          <p:nvPr/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ffffff"/>
                </a:solidFill>
                <a:latin typeface="Calibri"/>
              </a:rPr>
              <a:t>Élargissement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ffffff"/>
                </a:solidFill>
                <a:latin typeface="Calibri"/>
              </a:rPr>
              <a:t>du réseau du FEM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1f497d"/>
                </a:solidFill>
                <a:latin typeface="Calibri"/>
              </a:rPr>
              <a:t>Candidatures déposées au 31 décembre 2011</a:t>
            </a:r>
            <a:endParaRPr b="1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0666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Institutions nationales (5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Uruguay : Agencia Nacional de Investigación e Innovación (ANII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Fédération de Russie : VTB Bank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Brésil : Fundo Brasileiro para a Biodiversidade (FUNBIO)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Chine: Ministère de l’Environnement, Bureau de la coopération économique étrangère (MEP FECO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Afrique du Sud:  Banque de développement de l’Afrique australe (DBSA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Organisations internationales de la société civile (3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Union mondiale pour la nature (UICN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Fonds mondial pour la nature (WWF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Conservation International (CI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Organismes des Nations Unies (2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Programme alimentaire mondial (PAM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Programme des Nations Unies pour les établissements humains (UN-HABITAT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Institutions régionales (4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LAC: Conservation International Banco de Desarrollo de America Latina (CAF)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Pacifique: Secrétariat du Programme régional océanien de l’environnement (PROE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Afrique du Nord: Observatoire du Sahara et du Sahel (OSS)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Afrique de l’Ouest: Banque ouest africaine de développement (BOAD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1f497d"/>
                </a:solidFill>
                <a:latin typeface="Calibri"/>
              </a:rPr>
              <a:t>Critères d’accréditation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80880" y="1219320"/>
            <a:ext cx="8305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Les institutions suivantes ont qualité pour être accréditées dans le cadre du projet pilote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Institutions nationa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Organisations régiona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Organisations de la société civile/O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Programmes et organismes spécialisés des Nations Un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Autres organisations internationa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1f497d"/>
                </a:solidFill>
                <a:latin typeface="Calibri"/>
              </a:rPr>
              <a:t>Examen des demandes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4479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 u="sng">
                <a:solidFill>
                  <a:srgbClr val="000000"/>
                </a:solidFill>
                <a:uFillTx/>
                <a:latin typeface="Calibri"/>
              </a:rPr>
              <a:t>Phase I 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: Les institutions candidates seront évaluées en fonction de la valeur ajoutée qu’elles apportent au réseau du FEM et de leur positionnement stratégique par rapport aux objectifs de l’institution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 u="sng">
                <a:solidFill>
                  <a:srgbClr val="000000"/>
                </a:solidFill>
                <a:uFillTx/>
                <a:latin typeface="Calibri"/>
              </a:rPr>
              <a:t>Phase II 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: Les institutions candidates devront satisfaire pleinement aux normes fiduciaires du FEM ainsi  qu’aux normes de sauvegarde environnementale et sociale de l’institution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1f497d"/>
                </a:solidFill>
                <a:latin typeface="Calibri"/>
              </a:rPr>
              <a:t>Déroulement de la procédure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53352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hase I : </a:t>
            </a:r>
            <a:r>
              <a:rPr b="0" i="1" lang="fr-FR" sz="3200" spc="-1" strike="noStrike">
                <a:solidFill>
                  <a:srgbClr val="000000"/>
                </a:solidFill>
                <a:latin typeface="Calibri"/>
              </a:rPr>
              <a:t>Évaluation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interne de la </a:t>
            </a:r>
            <a:r>
              <a:rPr b="0" i="1" lang="fr-FR" sz="3200" spc="-1" strike="noStrike">
                <a:solidFill>
                  <a:srgbClr val="000000"/>
                </a:solidFill>
                <a:latin typeface="Calibri"/>
              </a:rPr>
              <a:t>valeur ajoutée des institutions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ar le Secrétariat du FEM et approbation du Consei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hase II : </a:t>
            </a:r>
            <a:r>
              <a:rPr b="0" i="1" lang="fr-FR" sz="3200" spc="-1" strike="noStrike">
                <a:solidFill>
                  <a:srgbClr val="000000"/>
                </a:solidFill>
                <a:latin typeface="Calibri"/>
              </a:rPr>
              <a:t>Examen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externe du respect des normes fiduciaires, environnementales et sociales (</a:t>
            </a:r>
            <a:r>
              <a:rPr b="0" i="1" lang="fr-FR" sz="3200" spc="-1" strike="noStrike">
                <a:solidFill>
                  <a:srgbClr val="000000"/>
                </a:solidFill>
                <a:latin typeface="Calibri"/>
              </a:rPr>
              <a:t>Panel d’accréditatio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1f497d"/>
                </a:solidFill>
                <a:latin typeface="Calibri"/>
              </a:rPr>
              <a:t>Critères d’evaluation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ertinence au F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Démonstration de résultats sur l’adaptation au changements de l’environnement et du cli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Niveau d’engag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Capacité pour mobiliser des finance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Efficacité institutionnel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Réseau de conta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1f497d"/>
                </a:solidFill>
                <a:latin typeface="Calibri"/>
              </a:rPr>
              <a:t>Étapes de l’élaboration d’un projet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2193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Idée de projet – Pays – PCPN (facultatif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Conception du projet – Entités d’exécution – FIP &amp; financement PPG (modèl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pprobation du projet – Points focaux techniqu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Examen de la FIP &amp; du financement PPG par le Secrétariat du FEM, inscription dans un programme de travail et approbation par le Consei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Préparation du projet – Entités d’exécu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Descriptif du projet – Entités d’exécution – projets de grande ou de moyenne envergure (activités habilitantes) (modèl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Examen par le Secrétariat du FEM, agrément/approbation par le DG et information du Consei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0" y="480024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itle 6"/>
          <p:cNvSpPr/>
          <p:nvPr/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Partenariats public-privé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pendant FEM-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8"/>
          <p:cNvSpPr/>
          <p:nvPr/>
        </p:nvSpPr>
        <p:spPr>
          <a:xfrm>
            <a:off x="914400" y="2133720"/>
            <a:ext cx="7848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Un montant de 80 M USD est réservé à la mobilisation du secteur privé pendant FEM-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La mobilisation du secteur privé n’est pas une fin en soi ; c’est un moyen de multiplier les effets positifs sur l’environnement mondi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055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1f497d"/>
                </a:solidFill>
                <a:latin typeface="Calibri"/>
              </a:rPr>
              <a:t>Stratégie de mobilisation du secteur privé : </a:t>
            </a:r>
            <a:br>
              <a:rPr sz="2900"/>
            </a:br>
            <a:r>
              <a:rPr b="1" lang="en-US" sz="2900" spc="-1" strike="noStrike">
                <a:solidFill>
                  <a:srgbClr val="1f497d"/>
                </a:solidFill>
                <a:latin typeface="Calibri"/>
              </a:rPr>
              <a:t>Trois modalités d’intervention pour FEM-5 </a:t>
            </a:r>
            <a:endParaRPr b="1" lang="en-US" sz="29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533520" y="1676160"/>
            <a:ext cx="67816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Mettre en place des programmes de partenariat public-privé avec des banques multilatérales de développement pour promouvoir l’utilisation d’instruments financiers autres que les aides directe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Encourager les pays à utiliser les ressources allouées dans le cadre du STAR pour proposer des instruments financiers hors aides directes à l’appui de projets d’investissement du secteur priv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outenir des concours entre PME pour promouvoir le transfert de technologies et l’esprit d’entrepri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4" name="Picture 3" descr=""/>
          <p:cNvPicPr/>
          <p:nvPr/>
        </p:nvPicPr>
        <p:blipFill>
          <a:blip r:embed="rId1"/>
          <a:stretch/>
        </p:blipFill>
        <p:spPr>
          <a:xfrm>
            <a:off x="7467480" y="2438280"/>
            <a:ext cx="1428840" cy="17146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8" descr="P5220645"/>
          <p:cNvPicPr/>
          <p:nvPr/>
        </p:nvPicPr>
        <p:blipFill>
          <a:blip r:embed="rId2"/>
          <a:stretch/>
        </p:blipFill>
        <p:spPr>
          <a:xfrm>
            <a:off x="7467480" y="4114800"/>
            <a:ext cx="1486080" cy="19810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5" descr="Fire 3"/>
          <p:cNvPicPr/>
          <p:nvPr/>
        </p:nvPicPr>
        <p:blipFill>
          <a:blip r:embed="rId3"/>
          <a:stretch/>
        </p:blipFill>
        <p:spPr>
          <a:xfrm>
            <a:off x="7467480" y="1084320"/>
            <a:ext cx="1447920" cy="1353960"/>
          </a:xfrm>
          <a:prstGeom prst="rect">
            <a:avLst/>
          </a:prstGeom>
          <a:ln w="0">
            <a:noFill/>
          </a:ln>
        </p:spPr>
      </p:pic>
      <p:sp>
        <p:nvSpPr>
          <p:cNvPr id="187" name="TextBox 7"/>
          <p:cNvSpPr/>
          <p:nvPr/>
        </p:nvSpPr>
        <p:spPr>
          <a:xfrm>
            <a:off x="1371600" y="4724280"/>
            <a:ext cx="5257800" cy="6426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F/C.41/09.Rev.01, 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Stratégie révisée de mobilisation accrue du secteur priv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1f497d"/>
                </a:solidFill>
                <a:latin typeface="Calibri"/>
              </a:rPr>
              <a:t>Qu’est-ce qu’un instrument financier autre qu’une aide directe ?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4475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Dans le cadre de l’Instrument du FEM, c’est une forme de financement à des conditions libérales susceptible de générer des rentrées de fonds (ou des remboursements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Ces rentrées de fonds viennent compléter les ressources du FEM et peuvent être utilisées pour de futurs investissement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Exemples 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Financements conditionne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Garanties de crédit ou fonds de garantie des risqu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Investissements dans des fonds de plac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Crédits à des conditions libéra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Garanties des risques de performa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Fonds auto renouvelab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Fonds de mutualisation des risques associés aux prê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1f497d"/>
                </a:solidFill>
                <a:latin typeface="Calibri"/>
              </a:rPr>
              <a:t>Et maintenant…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2949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Le Secrétariat du FEM travaille avec les banques multilatérales de développement pour finaliser les modalités d’application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Les banques multilatérales peuvent proposer des projets de partenariat public-privé à tout moment, en vue de leur examen en juin ou lors de futurs programmes de travail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Les Entités d’exécution et les pays peuvent à tout moment présenter de nouvelles FIP comportant l’utilisation d’instruments financiers autres que les aides directe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Les Entités d’exécution et les pays peuvent à tout moment proposer des projets de moyenne envergure pour organiser des concours entre PME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Site web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Documents à emporte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Listes des membres du Conseil et des points focau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Fiches-p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Programme d’aide aux p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Programmes de travail et documents du Conse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Publications/vidé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Modèles – FIP, activités habilitan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Bulletin de suivi des program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Système intégré de gestion des projets (SIGP)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Documents à empor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Nom d’utilisateur et mot de pas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Outil de suivi pré-FI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Informations sur les proj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ù trouver les FIP, DP, EEA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828800" y="1447560"/>
            <a:ext cx="541008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00642d"/>
                </a:solidFill>
                <a:latin typeface="Calibri"/>
              </a:rPr>
              <a:t>Merci 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1f497d"/>
                </a:solidFill>
                <a:latin typeface="Calibri"/>
              </a:rPr>
              <a:t>Des questions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762120" y="2057040"/>
            <a:ext cx="76960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000000"/>
                </a:solidFill>
                <a:latin typeface="Calibri"/>
              </a:rPr>
              <a:t>Diversité biologique, changements climatiques, dégradation des sol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000000"/>
                </a:solidFill>
                <a:latin typeface="Calibri"/>
              </a:rPr>
              <a:t>Tous les pays ont une allocation nationale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3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000000"/>
                </a:solidFill>
                <a:latin typeface="Calibri"/>
              </a:rPr>
              <a:t>Allocations minimales: 2 M USD pour les changements climatiques, 1,5 M USD pour la diversité biologique et 0,5 M USD pour la dégradation des sol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3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000000"/>
                </a:solidFill>
                <a:latin typeface="Calibri"/>
              </a:rPr>
              <a:t>Souplesse, si allocation totale inférieure à 7 M USD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itle 3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ff"/>
                </a:solidFill>
                <a:latin typeface="Calibri"/>
              </a:rPr>
              <a:t>Système transparent d’allocations des ressources (STAR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1f497d"/>
                </a:solidFill>
                <a:latin typeface="Calibri"/>
              </a:rPr>
              <a:t>Programmes non couverts par le STAR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762120" y="1295280"/>
            <a:ext cx="80769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Eaux internationa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Polluants organiques persistants et gestion sans risque des substances chimiq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Programme d’aide aux p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Projets/programmes régionaux et mondiau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Programme de microfinance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Mobilisation du secteur priv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685800" y="609480"/>
          <a:ext cx="7848720" cy="5029200"/>
        </p:xfrm>
        <a:graphic>
          <a:graphicData uri="http://schemas.openxmlformats.org/drawingml/2006/table">
            <a:tbl>
              <a:tblPr/>
              <a:tblGrid>
                <a:gridCol w="2668680"/>
                <a:gridCol w="1050840"/>
                <a:gridCol w="789120"/>
                <a:gridCol w="798480"/>
                <a:gridCol w="682560"/>
                <a:gridCol w="1050840"/>
                <a:gridCol w="808200"/>
              </a:tblGrid>
              <a:tr h="280080">
                <a:tc rowSpan="3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EM-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llocation utilisé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(M USD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9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constitu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,25  milliards de dolla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19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nveloppes STAR (M USD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0120"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ay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hangements climatiqu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iversité biologiq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égradation des so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épartition souple 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5720"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Burkina Fa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dd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dd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.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dd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.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dca9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.0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</a:tr>
              <a:tr h="315720"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e Cap-Ve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dd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dd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dd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dca9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u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</a:tr>
              <a:tr h="315720"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ch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dd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9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dd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dd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.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dca9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u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</a:tr>
              <a:tr h="315720"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uinée-Bissa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dd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dd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dd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dca9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u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</a:tr>
              <a:tr h="315720"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al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dd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dd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dd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.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dca9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</a:tr>
              <a:tr h="315720"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auritan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dd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dd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dd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.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dca9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.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u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</a:tr>
              <a:tr h="315720"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ig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dd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dd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dd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.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dca9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.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u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</a:tr>
              <a:tr h="315720"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ao Tomé et Princi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dd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7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dd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7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dd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dca9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7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</a:tr>
              <a:tr h="315720"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énég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dd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dd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dd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.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dca9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</a:tr>
              <a:tr h="315720"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a Gamb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dd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dd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dd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.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dca9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</a:tr>
            </a:tbl>
          </a:graphicData>
        </a:graphic>
      </p:graphicFrame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1f497d"/>
                </a:solidFill>
                <a:latin typeface="Calibri"/>
              </a:rPr>
              <a:t>Allocations STAR pendant FEM-5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9051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Calibri"/>
              </a:rPr>
              <a:t>Comment accéder aux autres fonds :</a:t>
            </a:r>
            <a:br>
              <a:rPr sz="3600"/>
            </a:br>
            <a:r>
              <a:rPr b="1" lang="fr-FR" sz="3600" spc="-1" strike="noStrike">
                <a:solidFill>
                  <a:srgbClr val="ffffff"/>
                </a:solidFill>
                <a:latin typeface="Calibri"/>
              </a:rPr>
              <a:t> Fonds PMA, Fonds spécial, Fonds de Nagoya, Fonds pour l’adaptation 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000000"/>
                </a:solidFill>
                <a:latin typeface="Calibri"/>
              </a:rPr>
              <a:t>Le FEM administre également trois fonds fiduciaires 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000000"/>
                </a:solidFill>
                <a:latin typeface="Calibri"/>
                <a:ea typeface="Arial"/>
              </a:rPr>
              <a:t>Fonds pour les pays les moins avancés (Fonds pour les PMA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000000"/>
                </a:solidFill>
                <a:latin typeface="Calibri"/>
                <a:ea typeface="Arial"/>
              </a:rPr>
              <a:t>Fonds spécial pour les changements climatiques (Fonds spécial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000000"/>
                </a:solidFill>
                <a:latin typeface="Calibri"/>
              </a:rPr>
              <a:t>Fonds de mise en œuvre du Protocole de Nagoya (Fonds de Nagoya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000000"/>
                </a:solidFill>
                <a:latin typeface="Calibri"/>
              </a:rPr>
              <a:t>Il assure en outre les services de secrétariat du Fonds pour l’adaptatio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6840" y="129492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1f497d"/>
                </a:solidFill>
                <a:latin typeface="Calibri"/>
              </a:rPr>
              <a:t>Fonds</a:t>
            </a: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 pour les P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1981080"/>
            <a:ext cx="40399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Calibri"/>
              </a:rPr>
              <a:t>Créé au titre de la Convention pour répondre aux besoins particuliers des </a:t>
            </a:r>
            <a:r>
              <a:rPr b="1" lang="fr-FR" sz="2100" spc="-1" strike="noStrike">
                <a:solidFill>
                  <a:srgbClr val="000000"/>
                </a:solidFill>
                <a:latin typeface="Calibri"/>
              </a:rPr>
              <a:t>PMA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Calibri"/>
              </a:rPr>
              <a:t>Seul fonds actuellement mandaté pour financer la préparation et la mise en œuvre des </a:t>
            </a:r>
            <a:r>
              <a:rPr b="1" lang="fr-FR" sz="2100" spc="-1" strike="noStrike">
                <a:solidFill>
                  <a:srgbClr val="000000"/>
                </a:solidFill>
                <a:latin typeface="Calibri"/>
              </a:rPr>
              <a:t>PANA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Calibri"/>
              </a:rPr>
              <a:t>48 PANA déjà financés et 54 projets approuvé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Calibri"/>
              </a:rPr>
              <a:t>Ressources disponibles = </a:t>
            </a:r>
            <a:r>
              <a:rPr b="1" lang="fr-FR" sz="2100" spc="-1" strike="noStrike">
                <a:solidFill>
                  <a:srgbClr val="000000"/>
                </a:solidFill>
                <a:latin typeface="Calibri"/>
              </a:rPr>
              <a:t>537</a:t>
            </a:r>
            <a:r>
              <a:rPr b="0" lang="fr-FR" sz="2100" spc="-1" strike="noStrike">
                <a:solidFill>
                  <a:srgbClr val="000000"/>
                </a:solidFill>
                <a:latin typeface="Calibri"/>
              </a:rPr>
              <a:t>M USD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723920" y="129492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1f497d"/>
                </a:solidFill>
                <a:latin typeface="Calibri"/>
              </a:rPr>
              <a:t>Fonds spéc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647960" y="198108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Calibri"/>
              </a:rPr>
              <a:t>Ouvert à tous les pays en développement parties à la Conventio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Calibri"/>
              </a:rPr>
              <a:t>Créé pour financer les activités d’adaptation et de transfert de technologies à court et moyen term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Calibri"/>
              </a:rPr>
              <a:t>43 projets approuvé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Calibri"/>
              </a:rPr>
              <a:t>Ressources disponibles = </a:t>
            </a:r>
            <a:r>
              <a:rPr b="1" lang="fr-FR" sz="2100" spc="-1" strike="noStrike">
                <a:solidFill>
                  <a:srgbClr val="000000"/>
                </a:solidFill>
                <a:latin typeface="Calibri"/>
              </a:rPr>
              <a:t>239</a:t>
            </a:r>
            <a:r>
              <a:rPr b="0" lang="fr-FR" sz="2100" spc="-1" strike="noStrike">
                <a:solidFill>
                  <a:srgbClr val="000000"/>
                </a:solidFill>
                <a:latin typeface="Calibri"/>
              </a:rPr>
              <a:t>M USD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itle 3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ff"/>
                </a:solidFill>
                <a:latin typeface="Calibri"/>
              </a:rPr>
              <a:t>Fonds pour les PMA et Fonds spéc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fr-FR" sz="4000" spc="-1" strike="noStrike">
                <a:solidFill>
                  <a:srgbClr val="1f497d"/>
                </a:solidFill>
                <a:latin typeface="Calibri"/>
              </a:rPr>
              <a:t>Particularités</a:t>
            </a:r>
            <a:br>
              <a:rPr sz="4000"/>
            </a:br>
            <a:r>
              <a:rPr b="1" lang="fr-FR" sz="4000" spc="-1" strike="noStrike">
                <a:solidFill>
                  <a:srgbClr val="1f497d"/>
                </a:solidFill>
                <a:latin typeface="Calibri"/>
              </a:rPr>
              <a:t>du Fonds PMA/Fonds spécial</a:t>
            </a:r>
            <a:br>
              <a:rPr sz="4000"/>
            </a:b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990720" y="1670040"/>
            <a:ext cx="3622680" cy="335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CAISSE DU FEM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Surcoû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Effets positifs sur l’environnement mond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ST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Cofinanc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343400" y="1600200"/>
            <a:ext cx="4572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 u="sng">
                <a:solidFill>
                  <a:srgbClr val="000000"/>
                </a:solidFill>
                <a:uFillTx/>
                <a:latin typeface="Calibri"/>
              </a:rPr>
              <a:t>FONDS POUR LES PMA &amp; FONDS SPÉ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Principe du coût addition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Effets positifs à caractère mondial NON requ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Hors ST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Financement sur la base d’une situation inchangé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Plafond plus élevé pour les projets de moyenne envergure du Fonds PMA (2 M US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Approbation de façon continue pour les projets du Fonds P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Accès équitable au Fonds pour tous les P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8T15:42:01Z</dcterms:created>
  <dc:creator>wb350798</dc:creator>
  <dc:description/>
  <dc:language>en-US</dc:language>
  <cp:lastModifiedBy>Lisa</cp:lastModifiedBy>
  <dcterms:modified xsi:type="dcterms:W3CDTF">2012-04-23T02:08:41Z</dcterms:modified>
  <cp:revision>414</cp:revision>
  <dc:subject/>
  <dc:title>Focal Area and Cross Cutting Strategies – Chemicals</dc:title>
</cp:coreProperties>
</file>