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12A-CC28-4BA4-ABFA-D0498721C8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411-D718-49F6-9AD4-A52E50D9D6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funds available figure (as of December 31, 2011) is calculated from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FB/EFC.7/6, Table 5, line 16 (“Potential resources”) adding the new contributions from Sweden (SEK100M) and Switzerland (CHF3M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569D-891E-4EB0-B93B-2AAAD8D56F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ngagement with the private sector is not n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010 portfolio review indicated that nearly 500 projects out of about 2500 GEF-financed projects had some element of engagement with the private se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sector projects had an average co-financing ratio of 4.8 compared to 4.44 of the overal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three quarters of the portfolio was in the climate change focal area; 17 percent in biodiver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unding for private sector partners has declined and GEF-5 replenishment participants wanted to do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F57-1F47-498C-A693-1630E4A519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621-387C-4D8F-9856-06EED22A187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F642-BBE2-4DAD-9EC4-FBBAA3B8AE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B00-FCE1-4E1E-9F68-C581C579A1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o can sponsor a non-grant instru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DBs have the structure and capacity for non-grant instr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PPP Programs country specific, regional, or glob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any of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letters of endorsement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untry specific programs, yes. For regional and global programs, no. Country consultation is expected in all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at happens to the reflows from a STAR allocation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Any funding from a STAR allocation and reflows from a non-grant instrument will stay in the country after the project is completed, and can be reinvested in similar projects with GEFSEC con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ere can we get mor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Please feel free to contact the MDB covering your region; other GEF agencies; or contact us at the GEFS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CEBA-7A41-458E-8074-DC37FC940C2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752D-BE81-41DE-AD52-6FFBAFD1BE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cation utilized amounts include – PPG, Agency Fee and Project Management Fee – they will be higher than the “grant amount” listed in the RBM country snapshots for this reason, which only reports the grant amoutn for the project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undi – used its flexible allocation for an LD/BD MFA and received $1 million in SFM incen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oon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o Tome and Principe – has a B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36F-66F9-4399-9685-B41AD40692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72F-85EC-4BAF-9743-147D445F81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5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drodgers@thegef.or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сширенный семинар ГЭФ на уровне группы ст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7 – 29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рт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Доступ к ресурсам ГЭФ</a:t>
            </a:r>
            <a:br>
              <a:rPr sz="4800"/>
            </a:br>
            <a:br>
              <a:rPr sz="20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Трастовый фонд ГЭФ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РР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ФБИК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НП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сширение Партнерства ГЭ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ртнерство между частным и государственным сектором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СУП и интернет-сайт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обенности ФНРС/СФБИ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7524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екты ФНРС/СФБИК отличаются от обычных проектов ГЭФ тем, что финансируются не на основе приростных затрат, а исходя из принцип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х затрат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счет средств ФНРС и СФБИК покрываются все расходы, связанные с покрытием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дополнительных затрат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торые стране необходимо нести вследствие 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, которые осуществлялись бы в отсутствие изменений климата, назыв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исходными условиями реализации проек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ли базовым сценарием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 работает п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инципу равного доступ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гласно этому принципу сбалансированного доступа, финансовые средства на осуществление НПДА доступны всем 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 не предоставляются «в порядке общей очереди»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 получить доступ к средствам ФНРС и СФБИК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Фонда для наименее развитых стран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5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Специального фонда для борьбы с изменением климата»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6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реждё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вра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е Совета ГЭФ, принятое голосованием по поч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 функционирова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едание Совета ГЭФ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й пакет указаний: 18 августа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й пакет указаний: 11 ноября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, членам и заместителям членов Совета ГЭ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ФОН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ы, котор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яют ожидаемые инвестиции в ДРСВ из средств Трастового фонда ГЭФ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авлены на использование возможностей заключения соглашений о ДРСВ между пользователями и поставщиками генетических ресурс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уют передаче технологий и взаимодействию с частным сектор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яют странам получать информацию, необходимую для анализа потенциала и потребностей в области ДРСВ с особым упором на нынешнюю политику и нормативно-правовую баз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что он финансирует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масштабные проекты (СМ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ются те же принципы политики и процедуры, что и к другим СМП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тверждение ГД на скользящей основ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реждение-исполнитель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партнер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исполните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о Оперативного координатора ГЭФ об одобрени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а о софинансирова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за счет ФОН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х ассигнований по С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ступ к средствам ФОНП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положение дел на сегодн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400" y="1599840"/>
            <a:ext cx="9093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деятельности Фонда для осуществления Нагойского прото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1/Inf.08/Rev.01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ющиеся сред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н. долл. СШ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пония, Швейцария и Франц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жденны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F ID 4780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одействие применению в Панаме Нагойского протокола регулирования доступа к генетическим ресурсам и совместного использования на справедливой и равной основе выгод от их применения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оящ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П в процессе разработ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туальных записки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 потенциальным партнерам и стран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даптационный фонд (А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сурс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упления от монетизации СС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167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зносы Сторон, включенных в Прилож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м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дских кр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йцар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йцарских фран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ные взно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страл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австралийских доллар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юссельский регион (Бельгия)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ссигнования по состоянию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кабря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9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четный объем доступных средств к конц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1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, высока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6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еханизм прямого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, имеющие право на получение помощи, могут представлять свои проекты/программ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АФ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ногосторонни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 могут подавать свои предложения через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Региональны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уппа Сторон может также назначить учреждениями-исполнителям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33"/>
                </a:solidFill>
                <a:latin typeface="Calibri"/>
              </a:rPr>
              <a:t>НУИ, РУИ и МУИ должны</a:t>
            </a:r>
            <a:r>
              <a:rPr b="1" lang="en-US" sz="25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ответств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АФ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андартам доверительного управления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едующи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инансовая добросовестность и управление финансовыми ресурсам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нституциональный потенциа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зрачность, способность самостоятельно выявлять и устранять нарушения, меры борьбы с корруп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и пол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осуществл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ти ответственность 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ую деятельность, мониторинг и отчет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figure.jpg"/>
          <p:cNvPicPr/>
          <p:nvPr/>
        </p:nvPicPr>
        <p:blipFill>
          <a:blip r:embed="rId2"/>
          <a:stretch/>
        </p:blipFill>
        <p:spPr>
          <a:xfrm>
            <a:off x="1066680" y="1546200"/>
            <a:ext cx="6815160" cy="4122720"/>
          </a:xfrm>
          <a:prstGeom prst="rect">
            <a:avLst/>
          </a:prstGeom>
          <a:ln w="0">
            <a:noFill/>
          </a:ln>
        </p:spPr>
      </p:pic>
      <p:sp>
        <p:nvSpPr>
          <p:cNvPr id="43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ституциональная структура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получить доступ к ресурсам Трастового фонда ГЭ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52280" y="1789200"/>
            <a:ext cx="8710560" cy="4324320"/>
            <a:chOff x="152280" y="1789200"/>
            <a:chExt cx="8710560" cy="4324320"/>
          </a:xfrm>
        </p:grpSpPr>
        <p:sp>
          <p:nvSpPr>
            <p:cNvPr id="133" name="AutoShape 3"/>
            <p:cNvSpPr/>
            <p:nvPr/>
          </p:nvSpPr>
          <p:spPr>
            <a:xfrm>
              <a:off x="152280" y="182880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135" name="Freeform 5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2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5"/>
            <p:cNvSpPr/>
            <p:nvPr/>
          </p:nvSpPr>
          <p:spPr>
            <a:xfrm>
              <a:off x="2651400" y="28144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146" name="Group 20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147" name="Freeform 16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7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8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9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1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Rectangle 23"/>
            <p:cNvSpPr/>
            <p:nvPr/>
          </p:nvSpPr>
          <p:spPr>
            <a:xfrm>
              <a:off x="327600" y="3021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0280" y="32958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57560" y="34783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1021680" y="347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6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157" name="Freeform 27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8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0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1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2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3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4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5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7"/>
            <p:cNvSpPr/>
            <p:nvPr/>
          </p:nvSpPr>
          <p:spPr>
            <a:xfrm>
              <a:off x="4360680" y="3659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4123800" y="384192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8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169" name="Freeform 39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3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44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5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46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47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49"/>
            <p:cNvSpPr/>
            <p:nvPr/>
          </p:nvSpPr>
          <p:spPr>
            <a:xfrm>
              <a:off x="5715360" y="31305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5772960" y="340056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772600" y="3675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5773320" y="39495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18960" y="42242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5771880" y="450072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5772960" y="47736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5772960" y="50482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5771520" y="53229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5772240" y="55990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5773320" y="58737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5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200" name="Freeform 69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0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71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2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Picture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Rectangle 76"/>
            <p:cNvSpPr/>
            <p:nvPr/>
          </p:nvSpPr>
          <p:spPr>
            <a:xfrm>
              <a:off x="7872840" y="30258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7"/>
            <p:cNvSpPr/>
            <p:nvPr/>
          </p:nvSpPr>
          <p:spPr>
            <a:xfrm>
              <a:off x="7835760" y="33004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8"/>
            <p:cNvSpPr/>
            <p:nvPr/>
          </p:nvSpPr>
          <p:spPr>
            <a:xfrm>
              <a:off x="7793280" y="34830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9"/>
            <p:cNvSpPr/>
            <p:nvPr/>
          </p:nvSpPr>
          <p:spPr>
            <a:xfrm>
              <a:off x="8025480" y="36655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0"/>
            <p:cNvSpPr/>
            <p:nvPr/>
          </p:nvSpPr>
          <p:spPr>
            <a:xfrm>
              <a:off x="827928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1"/>
            <p:cNvSpPr/>
            <p:nvPr/>
          </p:nvSpPr>
          <p:spPr>
            <a:xfrm>
              <a:off x="7805520" y="384984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2"/>
            <p:cNvSpPr/>
            <p:nvPr/>
          </p:nvSpPr>
          <p:spPr>
            <a:xfrm>
              <a:off x="7665120" y="4030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3"/>
            <p:cNvSpPr/>
            <p:nvPr/>
          </p:nvSpPr>
          <p:spPr>
            <a:xfrm>
              <a:off x="7920720" y="40305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4"/>
            <p:cNvSpPr/>
            <p:nvPr/>
          </p:nvSpPr>
          <p:spPr>
            <a:xfrm>
              <a:off x="8365320" y="40305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5"/>
            <p:cNvSpPr/>
            <p:nvPr/>
          </p:nvSpPr>
          <p:spPr>
            <a:xfrm>
              <a:off x="858420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6"/>
            <p:cNvSpPr/>
            <p:nvPr/>
          </p:nvSpPr>
          <p:spPr>
            <a:xfrm>
              <a:off x="863496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7"/>
            <p:cNvSpPr/>
            <p:nvPr/>
          </p:nvSpPr>
          <p:spPr>
            <a:xfrm>
              <a:off x="7732440" y="42130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8"/>
            <p:cNvSpPr/>
            <p:nvPr/>
          </p:nvSpPr>
          <p:spPr>
            <a:xfrm>
              <a:off x="7961760" y="43959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98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219" name="Freeform 89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91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3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99"/>
            <p:cNvSpPr/>
            <p:nvPr/>
          </p:nvSpPr>
          <p:spPr>
            <a:xfrm>
              <a:off x="2501280" y="47149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0"/>
            <p:cNvSpPr/>
            <p:nvPr/>
          </p:nvSpPr>
          <p:spPr>
            <a:xfrm>
              <a:off x="2642400" y="48672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7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231" name="Group 105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232" name="Freeform 101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2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03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4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6" name="Picture 10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108"/>
            <p:cNvSpPr/>
            <p:nvPr/>
          </p:nvSpPr>
          <p:spPr>
            <a:xfrm>
              <a:off x="430920" y="41767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9"/>
            <p:cNvSpPr/>
            <p:nvPr/>
          </p:nvSpPr>
          <p:spPr>
            <a:xfrm>
              <a:off x="550800" y="44514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0"/>
            <p:cNvSpPr/>
            <p:nvPr/>
          </p:nvSpPr>
          <p:spPr>
            <a:xfrm>
              <a:off x="374400" y="46339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1"/>
            <p:cNvSpPr/>
            <p:nvPr/>
          </p:nvSpPr>
          <p:spPr>
            <a:xfrm>
              <a:off x="1143720" y="46339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18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242" name="Group 116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243" name="Freeform 112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3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14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5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7" name="Picture 1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8" name="Rectangle 119"/>
            <p:cNvSpPr/>
            <p:nvPr/>
          </p:nvSpPr>
          <p:spPr>
            <a:xfrm>
              <a:off x="2316600" y="333072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0"/>
            <p:cNvSpPr/>
            <p:nvPr/>
          </p:nvSpPr>
          <p:spPr>
            <a:xfrm>
              <a:off x="2433600" y="36050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1"/>
            <p:cNvSpPr/>
            <p:nvPr/>
          </p:nvSpPr>
          <p:spPr>
            <a:xfrm>
              <a:off x="2518920" y="37879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2"/>
            <p:cNvSpPr/>
            <p:nvPr/>
          </p:nvSpPr>
          <p:spPr>
            <a:xfrm>
              <a:off x="2454840" y="39704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3"/>
            <p:cNvSpPr/>
            <p:nvPr/>
          </p:nvSpPr>
          <p:spPr>
            <a:xfrm>
              <a:off x="2306520" y="41544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4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5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6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7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8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9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0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3"/>
            <p:cNvSpPr/>
            <p:nvPr/>
          </p:nvSpPr>
          <p:spPr>
            <a:xfrm>
              <a:off x="3716640" y="1789200"/>
              <a:ext cx="152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Операционна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4"/>
            <p:cNvSpPr/>
            <p:nvPr/>
          </p:nvSpPr>
          <p:spPr>
            <a:xfrm>
              <a:off x="7398000" y="1919160"/>
              <a:ext cx="143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Меро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5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6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7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8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48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267" name="Freeform 139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40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1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42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4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5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46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47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9"/>
            <p:cNvSpPr/>
            <p:nvPr/>
          </p:nvSpPr>
          <p:spPr>
            <a:xfrm>
              <a:off x="2624400" y="281448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НТК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6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278" name="Group 154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279" name="Freeform 150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51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52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53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3" name="Picture 15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Rectangle 157"/>
            <p:cNvSpPr/>
            <p:nvPr/>
          </p:nvSpPr>
          <p:spPr>
            <a:xfrm>
              <a:off x="243360" y="2943360"/>
              <a:ext cx="121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Ассамблея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8"/>
            <p:cNvSpPr/>
            <p:nvPr/>
          </p:nvSpPr>
          <p:spPr>
            <a:xfrm>
              <a:off x="529200" y="31417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9"/>
            <p:cNvSpPr/>
            <p:nvPr/>
          </p:nvSpPr>
          <p:spPr>
            <a:xfrm>
              <a:off x="376200" y="3311640"/>
              <a:ext cx="1006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олитически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70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288" name="Freeform 161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62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3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64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65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6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67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68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9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171"/>
            <p:cNvSpPr/>
            <p:nvPr/>
          </p:nvSpPr>
          <p:spPr>
            <a:xfrm>
              <a:off x="4040640" y="365760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Секретари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72"/>
            <p:cNvSpPr/>
            <p:nvPr/>
          </p:nvSpPr>
          <p:spPr>
            <a:xfrm>
              <a:off x="4307040" y="385776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82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300" name="Freeform 173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74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6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77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78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79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0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1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3"/>
            <p:cNvSpPr/>
            <p:nvPr/>
          </p:nvSpPr>
          <p:spPr>
            <a:xfrm>
              <a:off x="5623560" y="3117960"/>
              <a:ext cx="127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4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5"/>
            <p:cNvSpPr/>
            <p:nvPr/>
          </p:nvSpPr>
          <p:spPr>
            <a:xfrm>
              <a:off x="5738040" y="34005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ПРО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6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7"/>
            <p:cNvSpPr/>
            <p:nvPr/>
          </p:nvSpPr>
          <p:spPr>
            <a:xfrm>
              <a:off x="5738760" y="367524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Е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8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89"/>
            <p:cNvSpPr/>
            <p:nvPr/>
          </p:nvSpPr>
          <p:spPr>
            <a:xfrm>
              <a:off x="5742360" y="394956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Всемирный бан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0"/>
            <p:cNvSpPr/>
            <p:nvPr/>
          </p:nvSpPr>
          <p:spPr>
            <a:xfrm>
              <a:off x="5685480" y="42242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1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2"/>
            <p:cNvSpPr/>
            <p:nvPr/>
          </p:nvSpPr>
          <p:spPr>
            <a:xfrm>
              <a:off x="5738400" y="4500720"/>
              <a:ext cx="45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ф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3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4"/>
            <p:cNvSpPr/>
            <p:nvPr/>
          </p:nvSpPr>
          <p:spPr>
            <a:xfrm>
              <a:off x="5738400" y="4773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ЕБР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95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6"/>
            <p:cNvSpPr/>
            <p:nvPr/>
          </p:nvSpPr>
          <p:spPr>
            <a:xfrm>
              <a:off x="5735880" y="50482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ФА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97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98"/>
            <p:cNvSpPr/>
            <p:nvPr/>
          </p:nvSpPr>
          <p:spPr>
            <a:xfrm>
              <a:off x="5739120" y="532296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99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0"/>
            <p:cNvSpPr/>
            <p:nvPr/>
          </p:nvSpPr>
          <p:spPr>
            <a:xfrm>
              <a:off x="5739480" y="55990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ФС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1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2"/>
            <p:cNvSpPr/>
            <p:nvPr/>
          </p:nvSpPr>
          <p:spPr>
            <a:xfrm>
              <a:off x="5739840" y="587376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ИД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09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330" name="Group 207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331" name="Freeform 203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04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05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206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5" name="Picture 208" descr=""/>
              <p:cNvPicPr/>
              <p:nvPr/>
            </p:nvPicPr>
            <p:blipFill>
              <a:blip r:embed="rId6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Rectangle 210"/>
            <p:cNvSpPr/>
            <p:nvPr/>
          </p:nvSpPr>
          <p:spPr>
            <a:xfrm>
              <a:off x="7775280" y="29703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Проек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1"/>
            <p:cNvSpPr/>
            <p:nvPr/>
          </p:nvSpPr>
          <p:spPr>
            <a:xfrm>
              <a:off x="7804440" y="317988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2"/>
            <p:cNvSpPr/>
            <p:nvPr/>
          </p:nvSpPr>
          <p:spPr>
            <a:xfrm>
              <a:off x="7686000" y="336564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оп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3"/>
            <p:cNvSpPr/>
            <p:nvPr/>
          </p:nvSpPr>
          <p:spPr>
            <a:xfrm>
              <a:off x="7634880" y="3541680"/>
              <a:ext cx="104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5"/>
            <p:cNvSpPr/>
            <p:nvPr/>
          </p:nvSpPr>
          <p:spPr>
            <a:xfrm>
              <a:off x="7620840" y="372096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6"/>
            <p:cNvSpPr/>
            <p:nvPr/>
          </p:nvSpPr>
          <p:spPr>
            <a:xfrm>
              <a:off x="7529400" y="3902040"/>
              <a:ext cx="122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, друг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1"/>
            <p:cNvSpPr/>
            <p:nvPr/>
          </p:nvSpPr>
          <p:spPr>
            <a:xfrm>
              <a:off x="7551000" y="408456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осудар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22"/>
            <p:cNvSpPr/>
            <p:nvPr/>
          </p:nvSpPr>
          <p:spPr>
            <a:xfrm>
              <a:off x="7532640" y="4248000"/>
              <a:ext cx="127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ведомства, граж-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данское об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32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345" name="Freeform 223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4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5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6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27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8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29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0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31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33"/>
            <p:cNvSpPr/>
            <p:nvPr/>
          </p:nvSpPr>
          <p:spPr>
            <a:xfrm>
              <a:off x="2475000" y="4714920"/>
              <a:ext cx="79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Управле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34"/>
            <p:cNvSpPr/>
            <p:nvPr/>
          </p:nvSpPr>
          <p:spPr>
            <a:xfrm>
              <a:off x="2614680" y="4867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оце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41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357" name="Group 239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358" name="Freeform 235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36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7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38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2" name="Picture 24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Rectangle 242"/>
            <p:cNvSpPr/>
            <p:nvPr/>
          </p:nvSpPr>
          <p:spPr>
            <a:xfrm>
              <a:off x="438480" y="409896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Кон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535320" y="4307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338760" y="446724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52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367" name="Group 250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368" name="Freeform 246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7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48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49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251" descr=""/>
              <p:cNvPicPr/>
              <p:nvPr/>
            </p:nvPicPr>
            <p:blipFill>
              <a:blip r:embed="rId8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253"/>
            <p:cNvSpPr/>
            <p:nvPr/>
          </p:nvSpPr>
          <p:spPr>
            <a:xfrm>
              <a:off x="2279520" y="33307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Совет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4"/>
            <p:cNvSpPr/>
            <p:nvPr/>
          </p:nvSpPr>
          <p:spPr>
            <a:xfrm>
              <a:off x="2406960" y="3605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5"/>
            <p:cNvSpPr/>
            <p:nvPr/>
          </p:nvSpPr>
          <p:spPr>
            <a:xfrm>
              <a:off x="2214360" y="378792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Члены Совета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7"/>
            <p:cNvSpPr/>
            <p:nvPr/>
          </p:nvSpPr>
          <p:spPr>
            <a:xfrm>
              <a:off x="2194560" y="3962520"/>
              <a:ext cx="1123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редставленны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руппы стр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8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59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65"/>
            <p:cNvSpPr/>
            <p:nvPr/>
          </p:nvSpPr>
          <p:spPr>
            <a:xfrm>
              <a:off x="199440" y="1790640"/>
              <a:ext cx="17031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Указани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стратегического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характ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69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0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71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72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: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аккредитаци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тельство назначает Уполномоченное должностное лицо (УДЛ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Л должно одобрить заявку учреждения-исполнителя (УИ) на аккредитацию и все подаваемые УИ предложения по проектам/программ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ача заяв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ишите, каким образом организация обеспечивает соответствие необходимым конкретным компетенци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ложите подтверждающие документ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о аккредитации рассматривает заяв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может запросить у организации дополнительные сведения/разъясн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Совету мнение о необходимости командировки на мес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мнение о необходимости оказания заявителю технической помощи в целях наращивания его потенциала для получения аккредит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редставляет рекомендацию Совету А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относительно аккредитации учреж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2011 года Совет ГЭФ одобрил экспериментальную программу аккредитации новых организаций в качестве партнеров ГЭФ по осуществлению проек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организации будут именоваться «учреждениями-исполнителями проектов ГЭФ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учреждения-исполнители проектов ГЭФ мог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учать прямой доступ к средствам управляемых ГЭФ трастовых фон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ях содействия странам – получателям помощи в подготовке и осуществлении проектов, финансируемых за счет средст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асширение Партнерства ГЭ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илотная фаза аккредитации в рамках ГЭФ-5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учреждений-исполнителей проектов ГЭФ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дут аккредитованы д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циональных учреждений при соблюдении баланса регионального представитель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НР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страны со средним уровнем доход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одобрения Советом заявок не менее чем от 5 национальных учреждений будут рассматриваться только заявки от национальных 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х организаций и организаций гражданского общества / неправительственных организац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аво на аккредитацию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 на аккредитацию в рамках данной экспериментальной фазы имею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е учре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гиональ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и гражданского общества / неправительствен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ализированные учреждения и программы Организации Объединенных Н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е международ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отрение заявок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деятельности заявителя с точки зрения её дополнительной ценности для партнерства ГЭФ и стратегической корреляции с задачами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явителям необходимо в полной мере соответствовать всем стандартам доверительного управления ГЭФ, а также соответствующи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м охраны окружающей среды и социальной защиты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рассмотрения заяво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дополнительных возможностей заявител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кретариатом ГЭФ и одобрение Совет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ш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Комиссией по аккредитации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редмет соответствия заявителя стандартам доверительного управления, охраны окружающей среды и социальной защи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Заявки, полученные до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декабр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201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года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агентство исследований и инновац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ВТ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фонд биоразнообраз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БИ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ро внешнеэкономического сотрудничества Министерства охраны окружающей сре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ВЭС МОО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развития Юга Афр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Ю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ународные организации гражданского обществ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по охране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О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фонд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реждения Организации Объединенных Нац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2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продовольственная программа ОО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П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ООН по населенным пункта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-Хаби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4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и Латиноаме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хоокеанский реги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ариат Тихоокеанской региональной программы по окружающей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о-сахелиан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оаф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54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осударственно-частные партнерства в ГЭ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частники пополнения ГЭФ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-5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ъявили одним из приоритетов сотрудничество с частным сектором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иняли во внимание первые итоги деятельности учрежденного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у Фонда планеты Земля и предложили провести её оцен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у ГЭФ было предложено расширить стратегию, не ограничиваясь рамками Фонда планеты Земля, и представить её следующий этап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поручил провести дополнительную работу по анализу и планировани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работанная стратегия была утверждена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ополнения были предусмотрены ассигнования на сотрудничество с частным сектором в разме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 – не цель, а средство создания дополнительных глобальных выгод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твержденная стратегия сотрудничества с частным сектором на период ГЭФ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-5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Три на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здать программы государственно-частного партнерства с многосторонними банками развития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целях поддержки инвестиций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комендовать странам использовать ассигнования в форме грантов, предоставленные им в рамках СТАР, для осуществления проектов, предусматривающих привлечение инвестиций частного сектора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держивать конкурсы среди МСП в целях содействия передаче технологий и поощрения предприниматель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64" name="TextBox 7"/>
          <p:cNvSpPr/>
          <p:nvPr/>
        </p:nvSpPr>
        <p:spPr>
          <a:xfrm>
            <a:off x="1143000" y="5029200"/>
            <a:ext cx="6019920" cy="58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смотренная стратегия расширения взаимодействия с частным секто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азработки проекта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и прое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Ф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и-исполн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оектного документа – Организации-исполнит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СП или МС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такое финансовые инструменты, не относящиеся к грантам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Инструмен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форма льготного финансирования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ая обеспечить доход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возврат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оставленных сред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упления от погашения ранее предоставленных кредитов увеличивают объём средств ГЭФ, доступных для будущих инвести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словленный гр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кредитных рисков или гарантийный фонд для покрытия р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ожение средств инвестиционных фондов в акционер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ймы на льготных услов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рисков неисполнения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обновляемый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удный фонд с распределением рисков для креди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льнейшие шаг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ретариат ГЭФ совместно с МБР дорабатывает операционные механиз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БР могут в любое время представлять на рассмотрение предложения по программам государственно-частного партнерства для включения в рабочую программу, которая будет принята в июне 2012 года, и в последующие рабочие программ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включать в новые ИФП предложения об использовании финансовых инструментов, не относящихся к грант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предлагать среднемасштабные проекты организации конкурсов МС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Ждём Ваших предложений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040" y="1600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актное лицо по вопросам взаимодействия с частным сектор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эвид Э. Роджерс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vid E. Rodger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энерге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odgers@thegef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2-458-986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95480" cy="43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о отслеживания концепций проектов на этапах, предшествующих подготовке ИФ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я о проект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айти ПИФ, РД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СУП</a:t>
            </a:r>
            <a:endParaRPr b="1" lang="en-US" sz="5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еб-сайт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юллетень по управлению программам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программы и документы Со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ие сведения по стран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У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овые форм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ующи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а страновой поддерж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оразнообразие, изменение климата и деградация зем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м странам выделяются индивидуальные ассигн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мальный размер ассигнован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К 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З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бкий подход к ассигнованиям небольшого совокупного размер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истема прозрачного распределения ресурсов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РР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граммы без индивидуальных ассигнований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ждународные 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и рациональное использование химических вещест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поддержки стра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ращивание потенциа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е и глобальные проекты/програм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малых грантов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ссигнования по СТАР в рамках ГЭФ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066680"/>
          <a:ext cx="8305920" cy="4545000"/>
        </p:xfrm>
        <a:graphic>
          <a:graphicData uri="http://schemas.openxmlformats.org/drawingml/2006/table">
            <a:tbl>
              <a:tblPr/>
              <a:tblGrid>
                <a:gridCol w="2917800"/>
                <a:gridCol w="666720"/>
                <a:gridCol w="689040"/>
                <a:gridCol w="738000"/>
                <a:gridCol w="632160"/>
                <a:gridCol w="1015920"/>
                <a:gridCol w="1646280"/>
              </a:tblGrid>
              <a:tr h="21924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воено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млрд. долл. 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сигнования по СПРР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бки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ия и 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о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вшая Югославская Республика 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получить доступ к средствам других фондов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ФБИ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Н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ГЭФ управляет еще тремя трастовыми фонд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наименее развитых стр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ФНР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фондом для борьбы с изменением клим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ФБ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осуществления Нагойского протоко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также предоставляет административные услуги Адаптационному фонд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108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удовлетворения особых потребнос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вязи с Конвен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ственный действующий фонд, уполномоченный финансировать подготовку и осуществл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П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профинансирова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А, 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7960" y="19810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ства доступны всем Сторонам Конвенции, являющимся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поддержки кратко- и долгосрочных мероприятий в области адаптации и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НРС и СФБ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оваторские элементы в деятельности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04920" y="1600200"/>
            <a:ext cx="3276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АСТОВЫЙ ФОНД ГЭ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ст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733920" y="160020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НРС и СФБИ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 дополнительных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требования о глобальных бла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текущих мероприятий в рамках базового сценария (Б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ый лимит финансирования СМП по линии ФНР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 проектов ФНРС на скользяще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ый доступ всех НРС к средствам ФН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2:57Z</dcterms:modified>
  <cp:revision>281</cp:revision>
  <dc:subject/>
  <dc:title>Focal Area and Cross Cutting Strategies – Chemicals</dc:title>
</cp:coreProperties>
</file>