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8E30-6379-4934-84F6-FD801FF97E3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F2F6-B7B6-4CAE-BC5F-7F3B55FBE74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96C8-41E2-430E-9087-55560F31B46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B95-22A6-4586-9C57-371840D8CB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333F-77E7-49D1-AD1E-254893341B3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7258-6902-457F-B834-34996338DD6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6004-E116-4DE9-B56A-A65048DE167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BF80-5548-4420-926E-68AE45C9B09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EE4B-F863-4F9C-A533-17DA28E647B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6 – 8 de marzo de 2012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San José, Costa 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Acceso</a:t>
            </a: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 al  FMAM</a:t>
            </a:r>
            <a:br>
              <a:rPr sz="4800"/>
            </a:br>
            <a:br>
              <a:rPr sz="3600"/>
            </a:br>
            <a:endParaRPr b="1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Características del FPMA/FEC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0666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CO" sz="1900" spc="-1" strike="noStrike" u="sng">
                <a:solidFill>
                  <a:srgbClr val="000000"/>
                </a:solidFill>
                <a:uFillTx/>
                <a:latin typeface="Calibri"/>
              </a:rPr>
              <a:t>principio del costo adicional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 distingue los proyectos del FPMA/LDCF y del FECC/SCCF de la práctica estándar del FMAM, que otorga financiamiento basado en costos incrementa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l FPMA/LDCF y el FECC/SCCF financian los costos adicionales por efectos del cambio climát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Financiamiento habitual: Las actividades que se realizarían si no existiera el cambio climático constituyen una </a:t>
            </a:r>
            <a:r>
              <a:rPr b="1" lang="es-CO" sz="1900" spc="-1" strike="noStrike" u="sng">
                <a:solidFill>
                  <a:srgbClr val="000000"/>
                </a:solidFill>
                <a:uFillTx/>
                <a:latin typeface="Calibri"/>
              </a:rPr>
              <a:t>hipótesis de referencia de proyectos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 (o habitua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l FPMA observa el </a:t>
            </a:r>
            <a:r>
              <a:rPr b="1" lang="es-CO" sz="1900" spc="-1" strike="noStrike" u="sng">
                <a:solidFill>
                  <a:srgbClr val="000000"/>
                </a:solidFill>
                <a:uFillTx/>
                <a:latin typeface="Calibri"/>
              </a:rPr>
              <a:t>principio de acceso equitativo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, el cual garantiza que el financiamiento para la aplicación del PANA/LDCF estará a disposición de todos los PMA/LDCs y no se adjudicará  por orden de llegada (tope 15 millones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143000"/>
            <a:ext cx="2876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ómo obtener acceso a financiamiento del FPMA/LDCF  y del FECC/SCC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Accessing resources under the Least Developed Countries Fund” FMA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FPMA.FECC.9/5/Rev.1, disponible en el sitio web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Accessing resources under the Special Climate Change Fund” FMA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FPMA.FECC.9/6/Rev.1, disponible en el sitio web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0520" y="1143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echa de establecimiento: 18 de febrero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Decisión por correo del Consejo del FM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echa de entrada en funcionamiento: 26 de mayo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unión del Consejo del FMAM (FMAM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irectriz N.º:  18 de agosto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rta del Director Ejecutivo a los Puntos Focales Opera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irectriz N.º 2: 11 de noviembre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rta del Director Ejecutivo a los Puntos Focales Operativos y Miembros Titulares y Alternos del Consejo del FM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itle 6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FAPN/NP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FAPN: ¿Qué financia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Proyectos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mplementen inversiones conforme al Régimen de Acceso y Participación en los Beneficios (APB/ABS) anticipadas con recursos del Fondo Fiduciario del FMAM (SATR/STAR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provechan oportunidades que conducen a acuerdos de APB/ABS entre usuarios y proveedores de recursos genético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romueven transferencia de tecnología y participación del sector privado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ermiten a los países obtener información para examinar capacidades y necesidades de APB/ABS focalizadas en políticas, leyes y reglamentos existen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Régimen del FAPN/NPI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Proyectos de tamaño mediano (MS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olíticas y procedimientos idénticos a los de otros proyectos de tamaño mediano del FM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probación rotatoria por parte de la Directora Ejecutiv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gencia del FMAM es necesari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tidades aliadas (organismos ejecutor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arta de ratificación del Punto Focal Operativo del FM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artas de cofinanciamie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inanciamiento del FAPN/NPIF: adicional a las asignaciones del SATR/S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FAPN: ¿Qué etapa se ha alcanzado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Informe de situación del Fondo de Aplicación del Protocolo de Nagoya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(FMAM/C.41/Inf.08/Rev.01)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Fondos disponibles: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US$15 millones (Japón, Suiza y Franc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yectos aprobados: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F ID 4780 (Promoción de la aplicación  en Panamá del Protocolo de Nagoya sobre Acceso a Recursos Genéticos y Reparto de Benefici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yectos venideros: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3 proyectos de tamaño mediano en preparación, 3 notas conceptuales y 7 consultas a potenciales aliados y a paí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itle 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Fondo de Adaptación (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Recurso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16765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Producto de RCE monetizadas: US$167,4 mill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Anexo I: contribuciones de par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alibri"/>
              </a:rPr>
              <a:t>España €45 millones, Mónaco €10 000, Alemania €10 millones, Suecia SEK200 millones, Suiza CHF3 mill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alibri"/>
              </a:rPr>
              <a:t>Compromisos: Australia AU$ 15 millones, Región de Bruselas Capital €1 millón, el Reino Unido  £10 mill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Fondos asignados al 31 de diciembre de 2011: US$ 109,3 mill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Disponibilidad de Fondos actual: US$ 147 mill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Fondos estimados disponibles al final de 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alibri"/>
              </a:rPr>
              <a:t>Promedio estimado: US$ 207 millones (bajo: 187 millones;  alto: 223 millon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Modalidades de acceso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7033"/>
                </a:solidFill>
                <a:latin typeface="Calibri"/>
              </a:rPr>
              <a:t>Modalidad de acces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s partes elegibles pueden presentar sus proyectos/programas 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rectamente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al APA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a través de una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entidad de implementación nacional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(EIN) acredit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7033"/>
                </a:solidFill>
                <a:latin typeface="Calibri"/>
              </a:rPr>
              <a:t>Modalidad de acceso multilat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s partes pueden presentar sus propuestas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a través de una entidad  de implementación multilateral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EIM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acreditada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7033"/>
                </a:solidFill>
                <a:latin typeface="Calibri"/>
              </a:rPr>
              <a:t>Modalidad de acceso reg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Un grupo de partes pueden también designar como entidades de implementación a 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entidades regionales y subregionales (ERS)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Modalidades de acceso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700" spc="-1" strike="noStrike">
                <a:solidFill>
                  <a:srgbClr val="007033"/>
                </a:solidFill>
                <a:latin typeface="Calibri"/>
              </a:rPr>
              <a:t>Las EIN, ERS y EIM deberá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Cumplir las normas fiduciarias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stablecidas por la Decisión AFB sob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dministración financiera e integridad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apacidad institucional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Transparencia, potestades de autoinvestigación y medidas anticorrup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Hacerse plenamente responsables </a:t>
            </a: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de la</a:t>
            </a: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 gestion global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de los proyectos y programas,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mplir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ometidos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financieros, de seguimiento y de suministro de información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38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dalidades de acceso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388" name="Straight Connector 7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1371600" y="2057400"/>
            <a:ext cx="2057400" cy="609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Calibri"/>
              </a:rPr>
              <a:t>Fiduci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4952880" y="2057400"/>
            <a:ext cx="2057400" cy="609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Calibri"/>
              </a:rPr>
              <a:t>Ju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0"/>
          <p:cNvSpPr/>
          <p:nvPr/>
        </p:nvSpPr>
        <p:spPr>
          <a:xfrm>
            <a:off x="15238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Calibri"/>
              </a:rPr>
              <a:t>Gráfico 1: Modalidades de acceso a los recursos del Fondo de Adap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13"/>
          <p:cNvCxnSpPr>
            <a:stCxn id="390" idx="1"/>
          </p:cNvCxnSpPr>
          <p:nvPr/>
        </p:nvCxnSpPr>
        <p:spPr>
          <a:xfrm flipH="1">
            <a:off x="3733560" y="2361960"/>
            <a:ext cx="1219680" cy="10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393" name="Rounded Rectangle 14"/>
          <p:cNvSpPr/>
          <p:nvPr/>
        </p:nvSpPr>
        <p:spPr>
          <a:xfrm>
            <a:off x="1066680" y="3048120"/>
            <a:ext cx="990720" cy="8380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0a0"/>
                </a:solidFill>
                <a:latin typeface="Calibri"/>
              </a:rPr>
              <a:t>EI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15"/>
          <p:cNvSpPr/>
          <p:nvPr/>
        </p:nvSpPr>
        <p:spPr>
          <a:xfrm>
            <a:off x="3886200" y="3124080"/>
            <a:ext cx="914400" cy="838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7030a0"/>
                </a:solidFill>
                <a:latin typeface="Calibri"/>
              </a:rPr>
              <a:t>EIM</a:t>
            </a:r>
            <a:r>
              <a:rPr b="0" lang="fr-FR" sz="1800" spc="-1" strike="noStrike">
                <a:solidFill>
                  <a:srgbClr val="7030a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ounded Rectangle 16"/>
          <p:cNvSpPr/>
          <p:nvPr/>
        </p:nvSpPr>
        <p:spPr>
          <a:xfrm>
            <a:off x="6781680" y="3124080"/>
            <a:ext cx="914400" cy="838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Calibri"/>
              </a:rPr>
              <a:t>EI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04920" y="4343400"/>
            <a:ext cx="121896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1600200" y="4343400"/>
            <a:ext cx="121932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3124080" y="4343400"/>
            <a:ext cx="121932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4419720" y="4343400"/>
            <a:ext cx="121896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6019920" y="4343400"/>
            <a:ext cx="1218960" cy="3808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2d05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2"/>
          <p:cNvSpPr/>
          <p:nvPr/>
        </p:nvSpPr>
        <p:spPr>
          <a:xfrm>
            <a:off x="7315200" y="4343400"/>
            <a:ext cx="1219320" cy="3808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2d05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23"/>
          <p:cNvCxnSpPr/>
          <p:nvPr/>
        </p:nvCxnSpPr>
        <p:spPr>
          <a:xfrm flipH="1">
            <a:off x="1523520" y="2666520"/>
            <a:ext cx="457920" cy="30564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3" name="Straight Arrow Connector 28"/>
          <p:cNvCxnSpPr/>
          <p:nvPr/>
        </p:nvCxnSpPr>
        <p:spPr>
          <a:xfrm>
            <a:off x="2819520" y="2666880"/>
            <a:ext cx="915120" cy="4579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4" name="Straight Arrow Connector 32"/>
          <p:cNvCxnSpPr/>
          <p:nvPr/>
        </p:nvCxnSpPr>
        <p:spPr>
          <a:xfrm>
            <a:off x="3429000" y="2590560"/>
            <a:ext cx="3277440" cy="6865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5" name="Straight Arrow Connector 34"/>
          <p:cNvCxnSpPr/>
          <p:nvPr/>
        </p:nvCxnSpPr>
        <p:spPr>
          <a:xfrm flipH="1">
            <a:off x="914040" y="3886200"/>
            <a:ext cx="381600" cy="381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6" name="Straight Arrow Connector 36"/>
          <p:cNvCxnSpPr/>
          <p:nvPr/>
        </p:nvCxnSpPr>
        <p:spPr>
          <a:xfrm>
            <a:off x="1752120" y="3886200"/>
            <a:ext cx="305640" cy="381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7" name="Straight Arrow Connector 41"/>
          <p:cNvCxnSpPr/>
          <p:nvPr/>
        </p:nvCxnSpPr>
        <p:spPr>
          <a:xfrm>
            <a:off x="441936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8" name="Straight Arrow Connector 43"/>
          <p:cNvCxnSpPr/>
          <p:nvPr/>
        </p:nvCxnSpPr>
        <p:spPr>
          <a:xfrm flipH="1">
            <a:off x="388548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9" name="Straight Arrow Connector 45"/>
          <p:cNvCxnSpPr/>
          <p:nvPr/>
        </p:nvCxnSpPr>
        <p:spPr>
          <a:xfrm flipH="1">
            <a:off x="678096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10" name="Straight Arrow Connector 46"/>
          <p:cNvCxnSpPr/>
          <p:nvPr/>
        </p:nvCxnSpPr>
        <p:spPr>
          <a:xfrm>
            <a:off x="739116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11" name="Straight Arrow Connector 48"/>
          <p:cNvCxnSpPr/>
          <p:nvPr/>
        </p:nvCxnSpPr>
        <p:spPr>
          <a:xfrm flipH="1">
            <a:off x="761760" y="3886200"/>
            <a:ext cx="381600" cy="38160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2" name="Straight Arrow Connector 49"/>
          <p:cNvCxnSpPr/>
          <p:nvPr/>
        </p:nvCxnSpPr>
        <p:spPr>
          <a:xfrm flipH="1">
            <a:off x="3656880" y="3962520"/>
            <a:ext cx="30564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3" name="Straight Arrow Connector 50"/>
          <p:cNvCxnSpPr/>
          <p:nvPr/>
        </p:nvCxnSpPr>
        <p:spPr>
          <a:xfrm flipH="1">
            <a:off x="6552360" y="3962520"/>
            <a:ext cx="30564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4" name="Straight Arrow Connector 54"/>
          <p:cNvCxnSpPr/>
          <p:nvPr/>
        </p:nvCxnSpPr>
        <p:spPr>
          <a:xfrm flipH="1" flipV="1">
            <a:off x="7543080" y="3962160"/>
            <a:ext cx="30564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5" name="Straight Arrow Connector 60"/>
          <p:cNvCxnSpPr/>
          <p:nvPr/>
        </p:nvCxnSpPr>
        <p:spPr>
          <a:xfrm flipH="1" flipV="1">
            <a:off x="4647960" y="3962160"/>
            <a:ext cx="30528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6" name="Straight Arrow Connector 61"/>
          <p:cNvCxnSpPr/>
          <p:nvPr/>
        </p:nvCxnSpPr>
        <p:spPr>
          <a:xfrm flipH="1" flipV="1">
            <a:off x="1904760" y="3885840"/>
            <a:ext cx="381600" cy="38160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7" name="Straight Arrow Connector 64"/>
          <p:cNvCxnSpPr/>
          <p:nvPr/>
        </p:nvCxnSpPr>
        <p:spPr>
          <a:xfrm flipH="1">
            <a:off x="2133720" y="2438280"/>
            <a:ext cx="2667240" cy="53424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18" name="Straight Arrow Connector 66"/>
          <p:cNvCxnSpPr/>
          <p:nvPr/>
        </p:nvCxnSpPr>
        <p:spPr>
          <a:xfrm flipH="1">
            <a:off x="4647960" y="2742840"/>
            <a:ext cx="381600" cy="30564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19" name="Straight Arrow Connector 73"/>
          <p:cNvCxnSpPr/>
          <p:nvPr/>
        </p:nvCxnSpPr>
        <p:spPr>
          <a:xfrm flipH="1" flipV="1">
            <a:off x="6705360" y="2742480"/>
            <a:ext cx="305280" cy="30564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20" name="Straight Arrow Connector 80"/>
          <p:cNvCxnSpPr/>
          <p:nvPr/>
        </p:nvCxnSpPr>
        <p:spPr>
          <a:xfrm flipH="1">
            <a:off x="2133000" y="4952520"/>
            <a:ext cx="533880" cy="10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421" name="TextBox 82"/>
          <p:cNvSpPr/>
          <p:nvPr/>
        </p:nvSpPr>
        <p:spPr>
          <a:xfrm>
            <a:off x="2819520" y="4800600"/>
            <a:ext cx="43434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Flujo de fo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resentación de propuesta y contr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Elaboración de la propuesta y supervi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Instrucciones de la Junta al Administrador Fiduc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Modalidad de acceso direc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83"/>
          <p:cNvCxnSpPr/>
          <p:nvPr/>
        </p:nvCxnSpPr>
        <p:spPr>
          <a:xfrm flipH="1">
            <a:off x="2133000" y="5181120"/>
            <a:ext cx="610200" cy="108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23" name="Straight Arrow Connector 87"/>
          <p:cNvCxnSpPr/>
          <p:nvPr/>
        </p:nvCxnSpPr>
        <p:spPr>
          <a:xfrm flipH="1">
            <a:off x="2133000" y="5409720"/>
            <a:ext cx="610200" cy="10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24" name="Straight Arrow Connector 90"/>
          <p:cNvCxnSpPr/>
          <p:nvPr/>
        </p:nvCxnSpPr>
        <p:spPr>
          <a:xfrm flipH="1">
            <a:off x="2133000" y="5638320"/>
            <a:ext cx="533880" cy="10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425" name="Rounded Rectangle 91"/>
          <p:cNvSpPr/>
          <p:nvPr/>
        </p:nvSpPr>
        <p:spPr>
          <a:xfrm>
            <a:off x="2362320" y="5715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92"/>
          <p:cNvSpPr/>
          <p:nvPr/>
        </p:nvSpPr>
        <p:spPr>
          <a:xfrm>
            <a:off x="7162920" y="5105520"/>
            <a:ext cx="1676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La Parte designa a una entidad de implementación nacional, regional o multilateral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arco institucional d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ómo obtener acceso 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Fondo Fiduciario del FM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0" y="1676520"/>
            <a:ext cx="8839080" cy="4341600"/>
            <a:chOff x="0" y="1676520"/>
            <a:chExt cx="8839080" cy="4341600"/>
          </a:xfrm>
        </p:grpSpPr>
        <p:sp>
          <p:nvSpPr>
            <p:cNvPr id="94" name="AutoShape 6"/>
            <p:cNvSpPr/>
            <p:nvPr/>
          </p:nvSpPr>
          <p:spPr>
            <a:xfrm>
              <a:off x="0" y="167652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7"/>
            <p:cNvGrpSpPr/>
            <p:nvPr/>
          </p:nvGrpSpPr>
          <p:grpSpPr>
            <a:xfrm>
              <a:off x="2297160" y="2641680"/>
              <a:ext cx="727200" cy="291960"/>
              <a:chOff x="2297160" y="2641680"/>
              <a:chExt cx="727200" cy="291960"/>
            </a:xfrm>
          </p:grpSpPr>
          <p:sp>
            <p:nvSpPr>
              <p:cNvPr id="96" name="Freeform 8"/>
              <p:cNvSpPr/>
              <p:nvPr/>
            </p:nvSpPr>
            <p:spPr>
              <a:xfrm>
                <a:off x="2978280" y="264168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9"/>
              <p:cNvSpPr/>
              <p:nvPr/>
            </p:nvSpPr>
            <p:spPr>
              <a:xfrm flipV="1">
                <a:off x="2978280" y="2886120"/>
                <a:ext cx="4608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>
                <a:off x="2297160" y="2641680"/>
                <a:ext cx="727200" cy="46080"/>
              </a:xfrm>
              <a:custGeom>
                <a:avLst/>
                <a:gdLst>
                  <a:gd name="textAreaLeft" fmla="*/ 0 w 727200"/>
                  <a:gd name="textAreaRight" fmla="*/ 727560 w 727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1"/>
              <p:cNvSpPr/>
              <p:nvPr/>
            </p:nvSpPr>
            <p:spPr>
              <a:xfrm flipV="1">
                <a:off x="2978280" y="264168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2297160" y="268776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>
                <a:off x="2297160" y="2687760"/>
                <a:ext cx="144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>
                <a:off x="2297160" y="293220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2978280" y="268740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H="1">
                <a:off x="2297160" y="268776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ctangle 18"/>
            <p:cNvSpPr/>
            <p:nvPr/>
          </p:nvSpPr>
          <p:spPr>
            <a:xfrm>
              <a:off x="2472840" y="273852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5"/>
            <p:cNvGrpSpPr/>
            <p:nvPr/>
          </p:nvGrpSpPr>
          <p:grpSpPr>
            <a:xfrm>
              <a:off x="6480" y="2844720"/>
              <a:ext cx="1395360" cy="777960"/>
              <a:chOff x="6480" y="2844720"/>
              <a:chExt cx="1395360" cy="777960"/>
            </a:xfrm>
          </p:grpSpPr>
          <p:grpSp>
            <p:nvGrpSpPr>
              <p:cNvPr id="107" name="Group 23"/>
              <p:cNvGrpSpPr/>
              <p:nvPr/>
            </p:nvGrpSpPr>
            <p:grpSpPr>
              <a:xfrm>
                <a:off x="6480" y="2844720"/>
                <a:ext cx="1395360" cy="777960"/>
                <a:chOff x="6480" y="2844720"/>
                <a:chExt cx="1395360" cy="777960"/>
              </a:xfrm>
            </p:grpSpPr>
            <p:sp>
              <p:nvSpPr>
                <p:cNvPr id="108" name="Freeform 19"/>
                <p:cNvSpPr/>
                <p:nvPr/>
              </p:nvSpPr>
              <p:spPr>
                <a:xfrm>
                  <a:off x="1355760" y="284472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0"/>
                <p:cNvSpPr/>
                <p:nvPr/>
              </p:nvSpPr>
              <p:spPr>
                <a:xfrm flipV="1">
                  <a:off x="1355760" y="357660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480" y="2844720"/>
                  <a:ext cx="1395360" cy="46080"/>
                </a:xfrm>
                <a:custGeom>
                  <a:avLst/>
                  <a:gdLst>
                    <a:gd name="textAreaLeft" fmla="*/ 0 w 1395360"/>
                    <a:gd name="textAreaRight" fmla="*/ 1395720 w 13953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2"/>
                <p:cNvSpPr/>
                <p:nvPr/>
              </p:nvSpPr>
              <p:spPr>
                <a:xfrm flipV="1">
                  <a:off x="1355760" y="28447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2" name="Picture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80" y="2889360"/>
                <a:ext cx="134928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Rectangle 26"/>
            <p:cNvSpPr/>
            <p:nvPr/>
          </p:nvSpPr>
          <p:spPr>
            <a:xfrm>
              <a:off x="146520" y="294480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349560" y="32194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8"/>
            <p:cNvSpPr/>
            <p:nvPr/>
          </p:nvSpPr>
          <p:spPr>
            <a:xfrm>
              <a:off x="274320" y="34020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9"/>
            <p:cNvSpPr/>
            <p:nvPr/>
          </p:nvSpPr>
          <p:spPr>
            <a:xfrm>
              <a:off x="838800" y="34020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39"/>
            <p:cNvGrpSpPr/>
            <p:nvPr/>
          </p:nvGrpSpPr>
          <p:grpSpPr>
            <a:xfrm>
              <a:off x="3654000" y="3208320"/>
              <a:ext cx="1397520" cy="1054080"/>
              <a:chOff x="3654000" y="3208320"/>
              <a:chExt cx="1397520" cy="1054080"/>
            </a:xfrm>
          </p:grpSpPr>
          <p:sp>
            <p:nvSpPr>
              <p:cNvPr id="118" name="Freeform 30"/>
              <p:cNvSpPr/>
              <p:nvPr/>
            </p:nvSpPr>
            <p:spPr>
              <a:xfrm>
                <a:off x="5005440" y="3208320"/>
                <a:ext cx="46080" cy="10526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 flipV="1">
                <a:off x="5005440" y="421632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3654360" y="3208320"/>
                <a:ext cx="1397160" cy="4608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5005440" y="320832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34"/>
              <p:cNvSpPr/>
              <p:nvPr/>
            </p:nvSpPr>
            <p:spPr>
              <a:xfrm>
                <a:off x="3654360" y="325440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3654360" y="3254400"/>
                <a:ext cx="180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3654360" y="426096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 flipV="1">
                <a:off x="5005440" y="3254400"/>
                <a:ext cx="144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 flipH="1">
                <a:off x="3654000" y="325440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40"/>
            <p:cNvSpPr/>
            <p:nvPr/>
          </p:nvSpPr>
          <p:spPr>
            <a:xfrm>
              <a:off x="4172760" y="358308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936960" y="3765600"/>
              <a:ext cx="69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51"/>
            <p:cNvGrpSpPr/>
            <p:nvPr/>
          </p:nvGrpSpPr>
          <p:grpSpPr>
            <a:xfrm>
              <a:off x="5394240" y="2949480"/>
              <a:ext cx="1514520" cy="3068640"/>
              <a:chOff x="5394240" y="2949480"/>
              <a:chExt cx="1514520" cy="3068640"/>
            </a:xfrm>
          </p:grpSpPr>
          <p:sp>
            <p:nvSpPr>
              <p:cNvPr id="130" name="Freeform 42"/>
              <p:cNvSpPr/>
              <p:nvPr/>
            </p:nvSpPr>
            <p:spPr>
              <a:xfrm>
                <a:off x="6864480" y="2949480"/>
                <a:ext cx="44280" cy="3067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067200"/>
                  <a:gd name="textAreaBottom" fmla="*/ 3067560 h 306720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 flipV="1">
                <a:off x="6864480" y="5972040"/>
                <a:ext cx="442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5394240" y="294948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 flipV="1">
                <a:off x="6864480" y="2949480"/>
                <a:ext cx="442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46"/>
              <p:cNvSpPr/>
              <p:nvPr/>
            </p:nvSpPr>
            <p:spPr>
              <a:xfrm>
                <a:off x="5394240" y="2995560"/>
                <a:ext cx="147024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7"/>
              <p:cNvSpPr/>
              <p:nvPr/>
            </p:nvSpPr>
            <p:spPr>
              <a:xfrm>
                <a:off x="5394240" y="2995560"/>
                <a:ext cx="1800" cy="30211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8"/>
              <p:cNvSpPr/>
              <p:nvPr/>
            </p:nvSpPr>
            <p:spPr>
              <a:xfrm>
                <a:off x="5394240" y="6016680"/>
                <a:ext cx="14702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9"/>
              <p:cNvSpPr/>
              <p:nvPr/>
            </p:nvSpPr>
            <p:spPr>
              <a:xfrm flipV="1">
                <a:off x="6864480" y="2995560"/>
                <a:ext cx="1440" cy="30211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0"/>
              <p:cNvSpPr/>
              <p:nvPr/>
            </p:nvSpPr>
            <p:spPr>
              <a:xfrm flipH="1">
                <a:off x="5394240" y="2995560"/>
                <a:ext cx="14702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52"/>
            <p:cNvSpPr/>
            <p:nvPr/>
          </p:nvSpPr>
          <p:spPr>
            <a:xfrm>
              <a:off x="5535720" y="305424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3"/>
            <p:cNvSpPr/>
            <p:nvPr/>
          </p:nvSpPr>
          <p:spPr>
            <a:xfrm>
              <a:off x="5532120" y="3328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4"/>
            <p:cNvSpPr/>
            <p:nvPr/>
          </p:nvSpPr>
          <p:spPr>
            <a:xfrm>
              <a:off x="5586480" y="332424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5"/>
            <p:cNvSpPr/>
            <p:nvPr/>
          </p:nvSpPr>
          <p:spPr>
            <a:xfrm>
              <a:off x="5532120" y="36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6"/>
            <p:cNvSpPr/>
            <p:nvPr/>
          </p:nvSpPr>
          <p:spPr>
            <a:xfrm>
              <a:off x="5586120" y="359892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7"/>
            <p:cNvSpPr/>
            <p:nvPr/>
          </p:nvSpPr>
          <p:spPr>
            <a:xfrm>
              <a:off x="5532120" y="387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8"/>
            <p:cNvSpPr/>
            <p:nvPr/>
          </p:nvSpPr>
          <p:spPr>
            <a:xfrm>
              <a:off x="5584680" y="38736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9"/>
            <p:cNvSpPr/>
            <p:nvPr/>
          </p:nvSpPr>
          <p:spPr>
            <a:xfrm>
              <a:off x="5533920" y="414828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0"/>
            <p:cNvSpPr/>
            <p:nvPr/>
          </p:nvSpPr>
          <p:spPr>
            <a:xfrm>
              <a:off x="5532120" y="4429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1"/>
            <p:cNvSpPr/>
            <p:nvPr/>
          </p:nvSpPr>
          <p:spPr>
            <a:xfrm>
              <a:off x="5585760" y="442440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2"/>
            <p:cNvSpPr/>
            <p:nvPr/>
          </p:nvSpPr>
          <p:spPr>
            <a:xfrm>
              <a:off x="5532120" y="4702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3"/>
            <p:cNvSpPr/>
            <p:nvPr/>
          </p:nvSpPr>
          <p:spPr>
            <a:xfrm>
              <a:off x="5586840" y="469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4"/>
            <p:cNvSpPr/>
            <p:nvPr/>
          </p:nvSpPr>
          <p:spPr>
            <a:xfrm>
              <a:off x="5532120" y="49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5"/>
            <p:cNvSpPr/>
            <p:nvPr/>
          </p:nvSpPr>
          <p:spPr>
            <a:xfrm>
              <a:off x="5580720" y="49719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6"/>
            <p:cNvSpPr/>
            <p:nvPr/>
          </p:nvSpPr>
          <p:spPr>
            <a:xfrm>
              <a:off x="5532120" y="5251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7"/>
            <p:cNvSpPr/>
            <p:nvPr/>
          </p:nvSpPr>
          <p:spPr>
            <a:xfrm>
              <a:off x="5586120" y="5246640"/>
              <a:ext cx="31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8"/>
            <p:cNvSpPr/>
            <p:nvPr/>
          </p:nvSpPr>
          <p:spPr>
            <a:xfrm>
              <a:off x="5532120" y="5527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9"/>
            <p:cNvSpPr/>
            <p:nvPr/>
          </p:nvSpPr>
          <p:spPr>
            <a:xfrm>
              <a:off x="5581080" y="552276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0"/>
            <p:cNvSpPr/>
            <p:nvPr/>
          </p:nvSpPr>
          <p:spPr>
            <a:xfrm>
              <a:off x="5532120" y="5802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1"/>
            <p:cNvSpPr/>
            <p:nvPr/>
          </p:nvSpPr>
          <p:spPr>
            <a:xfrm>
              <a:off x="5587200" y="57974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78"/>
            <p:cNvGrpSpPr/>
            <p:nvPr/>
          </p:nvGrpSpPr>
          <p:grpSpPr>
            <a:xfrm>
              <a:off x="7321680" y="2850840"/>
              <a:ext cx="1374480" cy="1689480"/>
              <a:chOff x="7321680" y="2850840"/>
              <a:chExt cx="1374480" cy="168948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7321680" y="2850840"/>
                <a:ext cx="1374480" cy="1689480"/>
                <a:chOff x="7321680" y="2850840"/>
                <a:chExt cx="1374480" cy="1689480"/>
              </a:xfrm>
            </p:grpSpPr>
            <p:sp>
              <p:nvSpPr>
                <p:cNvPr id="161" name="Freeform 72"/>
                <p:cNvSpPr/>
                <p:nvPr/>
              </p:nvSpPr>
              <p:spPr>
                <a:xfrm>
                  <a:off x="8651880" y="285120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73"/>
                <p:cNvSpPr/>
                <p:nvPr/>
              </p:nvSpPr>
              <p:spPr>
                <a:xfrm flipV="1">
                  <a:off x="8651880" y="4495680"/>
                  <a:ext cx="4428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74"/>
                <p:cNvSpPr/>
                <p:nvPr/>
              </p:nvSpPr>
              <p:spPr>
                <a:xfrm>
                  <a:off x="7321680" y="2851200"/>
                  <a:ext cx="1374480" cy="44280"/>
                </a:xfrm>
                <a:custGeom>
                  <a:avLst/>
                  <a:gdLst>
                    <a:gd name="textAreaLeft" fmla="*/ 0 w 1374480"/>
                    <a:gd name="textAreaRight" fmla="*/ 1374840 w 1374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75"/>
                <p:cNvSpPr/>
                <p:nvPr/>
              </p:nvSpPr>
              <p:spPr>
                <a:xfrm flipV="1">
                  <a:off x="8651880" y="2850840"/>
                  <a:ext cx="44280" cy="442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5" name="Picture 77" descr=""/>
              <p:cNvPicPr/>
              <p:nvPr/>
            </p:nvPicPr>
            <p:blipFill>
              <a:blip r:embed="rId2"/>
              <a:stretch/>
            </p:blipFill>
            <p:spPr>
              <a:xfrm>
                <a:off x="7321680" y="2894040"/>
                <a:ext cx="133020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" name="Rectangle 79"/>
            <p:cNvSpPr/>
            <p:nvPr/>
          </p:nvSpPr>
          <p:spPr>
            <a:xfrm>
              <a:off x="7686720" y="294948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0"/>
            <p:cNvSpPr/>
            <p:nvPr/>
          </p:nvSpPr>
          <p:spPr>
            <a:xfrm>
              <a:off x="7655040" y="32241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1"/>
            <p:cNvSpPr/>
            <p:nvPr/>
          </p:nvSpPr>
          <p:spPr>
            <a:xfrm>
              <a:off x="7614720" y="340668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2"/>
            <p:cNvSpPr/>
            <p:nvPr/>
          </p:nvSpPr>
          <p:spPr>
            <a:xfrm>
              <a:off x="7842960" y="35892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3"/>
            <p:cNvSpPr/>
            <p:nvPr/>
          </p:nvSpPr>
          <p:spPr>
            <a:xfrm>
              <a:off x="8096040" y="3589200"/>
              <a:ext cx="7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4"/>
            <p:cNvSpPr/>
            <p:nvPr/>
          </p:nvSpPr>
          <p:spPr>
            <a:xfrm>
              <a:off x="7624800" y="377352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5"/>
            <p:cNvSpPr/>
            <p:nvPr/>
          </p:nvSpPr>
          <p:spPr>
            <a:xfrm>
              <a:off x="7482600" y="395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6"/>
            <p:cNvSpPr/>
            <p:nvPr/>
          </p:nvSpPr>
          <p:spPr>
            <a:xfrm>
              <a:off x="7739280" y="3954600"/>
              <a:ext cx="45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7"/>
            <p:cNvSpPr/>
            <p:nvPr/>
          </p:nvSpPr>
          <p:spPr>
            <a:xfrm>
              <a:off x="8182440" y="3954600"/>
              <a:ext cx="23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8"/>
            <p:cNvSpPr/>
            <p:nvPr/>
          </p:nvSpPr>
          <p:spPr>
            <a:xfrm>
              <a:off x="8400600" y="39546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9"/>
            <p:cNvSpPr/>
            <p:nvPr/>
          </p:nvSpPr>
          <p:spPr>
            <a:xfrm>
              <a:off x="845100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90"/>
            <p:cNvSpPr/>
            <p:nvPr/>
          </p:nvSpPr>
          <p:spPr>
            <a:xfrm>
              <a:off x="7552800" y="4137120"/>
              <a:ext cx="91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1"/>
            <p:cNvSpPr/>
            <p:nvPr/>
          </p:nvSpPr>
          <p:spPr>
            <a:xfrm>
              <a:off x="7778880" y="43196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01"/>
            <p:cNvGrpSpPr/>
            <p:nvPr/>
          </p:nvGrpSpPr>
          <p:grpSpPr>
            <a:xfrm>
              <a:off x="2139840" y="4543200"/>
              <a:ext cx="1044720" cy="443160"/>
              <a:chOff x="2139840" y="4543200"/>
              <a:chExt cx="1044720" cy="443160"/>
            </a:xfrm>
          </p:grpSpPr>
          <p:sp>
            <p:nvSpPr>
              <p:cNvPr id="180" name="Freeform 92"/>
              <p:cNvSpPr/>
              <p:nvPr/>
            </p:nvSpPr>
            <p:spPr>
              <a:xfrm>
                <a:off x="3138480" y="454356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3"/>
              <p:cNvSpPr/>
              <p:nvPr/>
            </p:nvSpPr>
            <p:spPr>
              <a:xfrm flipV="1">
                <a:off x="3138480" y="494028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4"/>
              <p:cNvSpPr/>
              <p:nvPr/>
            </p:nvSpPr>
            <p:spPr>
              <a:xfrm>
                <a:off x="2139840" y="4543560"/>
                <a:ext cx="1044720" cy="4428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95"/>
              <p:cNvSpPr/>
              <p:nvPr/>
            </p:nvSpPr>
            <p:spPr>
              <a:xfrm flipV="1">
                <a:off x="3138480" y="4543200"/>
                <a:ext cx="46080" cy="442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96"/>
              <p:cNvSpPr/>
              <p:nvPr/>
            </p:nvSpPr>
            <p:spPr>
              <a:xfrm>
                <a:off x="2139840" y="4587840"/>
                <a:ext cx="998640" cy="39708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7"/>
              <p:cNvSpPr/>
              <p:nvPr/>
            </p:nvSpPr>
            <p:spPr>
              <a:xfrm>
                <a:off x="2139840" y="4587840"/>
                <a:ext cx="1800" cy="39708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98"/>
              <p:cNvSpPr/>
              <p:nvPr/>
            </p:nvSpPr>
            <p:spPr>
              <a:xfrm>
                <a:off x="2139840" y="4984920"/>
                <a:ext cx="998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99"/>
              <p:cNvSpPr/>
              <p:nvPr/>
            </p:nvSpPr>
            <p:spPr>
              <a:xfrm flipV="1">
                <a:off x="3138480" y="4587480"/>
                <a:ext cx="1440" cy="39708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0"/>
              <p:cNvSpPr/>
              <p:nvPr/>
            </p:nvSpPr>
            <p:spPr>
              <a:xfrm flipH="1">
                <a:off x="2139840" y="4587840"/>
                <a:ext cx="998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02"/>
            <p:cNvSpPr/>
            <p:nvPr/>
          </p:nvSpPr>
          <p:spPr>
            <a:xfrm>
              <a:off x="2323080" y="463860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3"/>
            <p:cNvSpPr/>
            <p:nvPr/>
          </p:nvSpPr>
          <p:spPr>
            <a:xfrm>
              <a:off x="2463480" y="479124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10"/>
            <p:cNvGrpSpPr/>
            <p:nvPr/>
          </p:nvGrpSpPr>
          <p:grpSpPr>
            <a:xfrm>
              <a:off x="6480" y="4000320"/>
              <a:ext cx="1438200" cy="777960"/>
              <a:chOff x="6480" y="4000320"/>
              <a:chExt cx="1438200" cy="777960"/>
            </a:xfrm>
          </p:grpSpPr>
          <p:grpSp>
            <p:nvGrpSpPr>
              <p:cNvPr id="192" name="Group 108"/>
              <p:cNvGrpSpPr/>
              <p:nvPr/>
            </p:nvGrpSpPr>
            <p:grpSpPr>
              <a:xfrm>
                <a:off x="6480" y="4000320"/>
                <a:ext cx="1438200" cy="777960"/>
                <a:chOff x="6480" y="4000320"/>
                <a:chExt cx="1438200" cy="777960"/>
              </a:xfrm>
            </p:grpSpPr>
            <p:sp>
              <p:nvSpPr>
                <p:cNvPr id="193" name="Freeform 104"/>
                <p:cNvSpPr/>
                <p:nvPr/>
              </p:nvSpPr>
              <p:spPr>
                <a:xfrm>
                  <a:off x="1398600" y="400068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05"/>
                <p:cNvSpPr/>
                <p:nvPr/>
              </p:nvSpPr>
              <p:spPr>
                <a:xfrm flipV="1">
                  <a:off x="1398600" y="473364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06"/>
                <p:cNvSpPr/>
                <p:nvPr/>
              </p:nvSpPr>
              <p:spPr>
                <a:xfrm>
                  <a:off x="6480" y="4000680"/>
                  <a:ext cx="1438200" cy="45720"/>
                </a:xfrm>
                <a:custGeom>
                  <a:avLst/>
                  <a:gdLst>
                    <a:gd name="textAreaLeft" fmla="*/ 0 w 1438200"/>
                    <a:gd name="textAreaRight" fmla="*/ 1438560 w 143820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07"/>
                <p:cNvSpPr/>
                <p:nvPr/>
              </p:nvSpPr>
              <p:spPr>
                <a:xfrm flipV="1">
                  <a:off x="1398600" y="4000320"/>
                  <a:ext cx="4608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7" name="Picture 109" descr=""/>
              <p:cNvPicPr/>
              <p:nvPr/>
            </p:nvPicPr>
            <p:blipFill>
              <a:blip r:embed="rId3"/>
              <a:stretch/>
            </p:blipFill>
            <p:spPr>
              <a:xfrm>
                <a:off x="6480" y="404496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8" name="Rectangle 111"/>
            <p:cNvSpPr/>
            <p:nvPr/>
          </p:nvSpPr>
          <p:spPr>
            <a:xfrm>
              <a:off x="244800" y="410040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2"/>
            <p:cNvSpPr/>
            <p:nvPr/>
          </p:nvSpPr>
          <p:spPr>
            <a:xfrm>
              <a:off x="370080" y="4375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13"/>
            <p:cNvSpPr/>
            <p:nvPr/>
          </p:nvSpPr>
          <p:spPr>
            <a:xfrm>
              <a:off x="193680" y="455760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4"/>
            <p:cNvSpPr/>
            <p:nvPr/>
          </p:nvSpPr>
          <p:spPr>
            <a:xfrm>
              <a:off x="961200" y="4557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21"/>
            <p:cNvGrpSpPr/>
            <p:nvPr/>
          </p:nvGrpSpPr>
          <p:grpSpPr>
            <a:xfrm>
              <a:off x="1911240" y="3154320"/>
              <a:ext cx="1392480" cy="1143000"/>
              <a:chOff x="1911240" y="3154320"/>
              <a:chExt cx="1392480" cy="1143000"/>
            </a:xfrm>
          </p:grpSpPr>
          <p:grpSp>
            <p:nvGrpSpPr>
              <p:cNvPr id="203" name="Group 119"/>
              <p:cNvGrpSpPr/>
              <p:nvPr/>
            </p:nvGrpSpPr>
            <p:grpSpPr>
              <a:xfrm>
                <a:off x="1911240" y="3154320"/>
                <a:ext cx="1392480" cy="1143000"/>
                <a:chOff x="1911240" y="3154320"/>
                <a:chExt cx="1392480" cy="1143000"/>
              </a:xfrm>
            </p:grpSpPr>
            <p:sp>
              <p:nvSpPr>
                <p:cNvPr id="204" name="Freeform 115"/>
                <p:cNvSpPr/>
                <p:nvPr/>
              </p:nvSpPr>
              <p:spPr>
                <a:xfrm>
                  <a:off x="3257640" y="315432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16"/>
                <p:cNvSpPr/>
                <p:nvPr/>
              </p:nvSpPr>
              <p:spPr>
                <a:xfrm flipV="1">
                  <a:off x="3257640" y="425268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17"/>
                <p:cNvSpPr/>
                <p:nvPr/>
              </p:nvSpPr>
              <p:spPr>
                <a:xfrm>
                  <a:off x="1911240" y="3154320"/>
                  <a:ext cx="1392480" cy="46080"/>
                </a:xfrm>
                <a:custGeom>
                  <a:avLst/>
                  <a:gdLst>
                    <a:gd name="textAreaLeft" fmla="*/ 0 w 1392480"/>
                    <a:gd name="textAreaRight" fmla="*/ 1392840 w 1392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18"/>
                <p:cNvSpPr/>
                <p:nvPr/>
              </p:nvSpPr>
              <p:spPr>
                <a:xfrm flipV="1">
                  <a:off x="3257640" y="31543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" name="Picture 1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911240" y="3198960"/>
                <a:ext cx="1346400" cy="109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Rectangle 122"/>
            <p:cNvSpPr/>
            <p:nvPr/>
          </p:nvSpPr>
          <p:spPr>
            <a:xfrm>
              <a:off x="2130480" y="325440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3"/>
            <p:cNvSpPr/>
            <p:nvPr/>
          </p:nvSpPr>
          <p:spPr>
            <a:xfrm>
              <a:off x="2252880" y="3529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4"/>
            <p:cNvSpPr/>
            <p:nvPr/>
          </p:nvSpPr>
          <p:spPr>
            <a:xfrm>
              <a:off x="2339640" y="371160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25"/>
            <p:cNvSpPr/>
            <p:nvPr/>
          </p:nvSpPr>
          <p:spPr>
            <a:xfrm>
              <a:off x="2276280" y="3894120"/>
              <a:ext cx="69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6"/>
            <p:cNvSpPr/>
            <p:nvPr/>
          </p:nvSpPr>
          <p:spPr>
            <a:xfrm>
              <a:off x="2129040" y="4078440"/>
              <a:ext cx="91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7"/>
            <p:cNvSpPr/>
            <p:nvPr/>
          </p:nvSpPr>
          <p:spPr>
            <a:xfrm>
              <a:off x="1419120" y="4392720"/>
              <a:ext cx="24948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8"/>
            <p:cNvSpPr/>
            <p:nvPr/>
          </p:nvSpPr>
          <p:spPr>
            <a:xfrm>
              <a:off x="1407960" y="3236760"/>
              <a:ext cx="24948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9"/>
            <p:cNvSpPr/>
            <p:nvPr/>
          </p:nvSpPr>
          <p:spPr>
            <a:xfrm>
              <a:off x="3236760" y="3699000"/>
              <a:ext cx="427320" cy="75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0"/>
            <p:cNvSpPr/>
            <p:nvPr/>
          </p:nvSpPr>
          <p:spPr>
            <a:xfrm>
              <a:off x="5008680" y="3695760"/>
              <a:ext cx="407880" cy="763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1"/>
            <p:cNvSpPr/>
            <p:nvPr/>
          </p:nvSpPr>
          <p:spPr>
            <a:xfrm>
              <a:off x="6858000" y="3695760"/>
              <a:ext cx="463680" cy="76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2"/>
            <p:cNvSpPr/>
            <p:nvPr/>
          </p:nvSpPr>
          <p:spPr>
            <a:xfrm>
              <a:off x="2616120" y="428940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3"/>
            <p:cNvSpPr/>
            <p:nvPr/>
          </p:nvSpPr>
          <p:spPr>
            <a:xfrm>
              <a:off x="2587680" y="291636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37"/>
            <p:cNvSpPr/>
            <p:nvPr/>
          </p:nvSpPr>
          <p:spPr>
            <a:xfrm>
              <a:off x="7269840" y="1857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8"/>
            <p:cNvSpPr/>
            <p:nvPr/>
          </p:nvSpPr>
          <p:spPr>
            <a:xfrm>
              <a:off x="1668600" y="322884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9"/>
            <p:cNvSpPr/>
            <p:nvPr/>
          </p:nvSpPr>
          <p:spPr>
            <a:xfrm>
              <a:off x="1676520" y="3772080"/>
              <a:ext cx="234720" cy="75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0"/>
            <p:cNvSpPr/>
            <p:nvPr/>
          </p:nvSpPr>
          <p:spPr>
            <a:xfrm>
              <a:off x="1905120" y="1943280"/>
              <a:ext cx="920520" cy="7596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1"/>
            <p:cNvSpPr/>
            <p:nvPr/>
          </p:nvSpPr>
          <p:spPr>
            <a:xfrm>
              <a:off x="5486400" y="1943280"/>
              <a:ext cx="920880" cy="7596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151"/>
            <p:cNvGrpSpPr/>
            <p:nvPr/>
          </p:nvGrpSpPr>
          <p:grpSpPr>
            <a:xfrm>
              <a:off x="2297160" y="2641680"/>
              <a:ext cx="727200" cy="291960"/>
              <a:chOff x="2297160" y="2641680"/>
              <a:chExt cx="727200" cy="291960"/>
            </a:xfrm>
          </p:grpSpPr>
          <p:sp>
            <p:nvSpPr>
              <p:cNvPr id="227" name="Freeform 142"/>
              <p:cNvSpPr/>
              <p:nvPr/>
            </p:nvSpPr>
            <p:spPr>
              <a:xfrm>
                <a:off x="2978280" y="264168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43"/>
              <p:cNvSpPr/>
              <p:nvPr/>
            </p:nvSpPr>
            <p:spPr>
              <a:xfrm flipV="1">
                <a:off x="2978280" y="2886120"/>
                <a:ext cx="4608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4"/>
              <p:cNvSpPr/>
              <p:nvPr/>
            </p:nvSpPr>
            <p:spPr>
              <a:xfrm>
                <a:off x="2297160" y="2641680"/>
                <a:ext cx="727200" cy="46080"/>
              </a:xfrm>
              <a:custGeom>
                <a:avLst/>
                <a:gdLst>
                  <a:gd name="textAreaLeft" fmla="*/ 0 w 727200"/>
                  <a:gd name="textAreaRight" fmla="*/ 727560 w 727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45"/>
              <p:cNvSpPr/>
              <p:nvPr/>
            </p:nvSpPr>
            <p:spPr>
              <a:xfrm flipV="1">
                <a:off x="2978280" y="264168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46"/>
              <p:cNvSpPr/>
              <p:nvPr/>
            </p:nvSpPr>
            <p:spPr>
              <a:xfrm>
                <a:off x="2297160" y="268776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47"/>
              <p:cNvSpPr/>
              <p:nvPr/>
            </p:nvSpPr>
            <p:spPr>
              <a:xfrm>
                <a:off x="2297160" y="2687760"/>
                <a:ext cx="144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48"/>
              <p:cNvSpPr/>
              <p:nvPr/>
            </p:nvSpPr>
            <p:spPr>
              <a:xfrm>
                <a:off x="2297160" y="293220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49"/>
              <p:cNvSpPr/>
              <p:nvPr/>
            </p:nvSpPr>
            <p:spPr>
              <a:xfrm flipV="1">
                <a:off x="2978280" y="268740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50"/>
              <p:cNvSpPr/>
              <p:nvPr/>
            </p:nvSpPr>
            <p:spPr>
              <a:xfrm flipH="1">
                <a:off x="2297160" y="268776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Rectangle 152"/>
            <p:cNvSpPr/>
            <p:nvPr/>
          </p:nvSpPr>
          <p:spPr>
            <a:xfrm>
              <a:off x="2472840" y="273852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159"/>
            <p:cNvGrpSpPr/>
            <p:nvPr/>
          </p:nvGrpSpPr>
          <p:grpSpPr>
            <a:xfrm>
              <a:off x="6480" y="2844720"/>
              <a:ext cx="1395360" cy="777960"/>
              <a:chOff x="6480" y="2844720"/>
              <a:chExt cx="1395360" cy="777960"/>
            </a:xfrm>
          </p:grpSpPr>
          <p:grpSp>
            <p:nvGrpSpPr>
              <p:cNvPr id="238" name="Group 157"/>
              <p:cNvGrpSpPr/>
              <p:nvPr/>
            </p:nvGrpSpPr>
            <p:grpSpPr>
              <a:xfrm>
                <a:off x="6480" y="2844720"/>
                <a:ext cx="1395360" cy="777960"/>
                <a:chOff x="6480" y="2844720"/>
                <a:chExt cx="1395360" cy="777960"/>
              </a:xfrm>
            </p:grpSpPr>
            <p:sp>
              <p:nvSpPr>
                <p:cNvPr id="239" name="Freeform 153"/>
                <p:cNvSpPr/>
                <p:nvPr/>
              </p:nvSpPr>
              <p:spPr>
                <a:xfrm>
                  <a:off x="1355760" y="284472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54"/>
                <p:cNvSpPr/>
                <p:nvPr/>
              </p:nvSpPr>
              <p:spPr>
                <a:xfrm flipV="1">
                  <a:off x="1355760" y="357660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55"/>
                <p:cNvSpPr/>
                <p:nvPr/>
              </p:nvSpPr>
              <p:spPr>
                <a:xfrm>
                  <a:off x="6480" y="2844720"/>
                  <a:ext cx="1395360" cy="46080"/>
                </a:xfrm>
                <a:custGeom>
                  <a:avLst/>
                  <a:gdLst>
                    <a:gd name="textAreaLeft" fmla="*/ 0 w 1395360"/>
                    <a:gd name="textAreaRight" fmla="*/ 1395720 w 13953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56"/>
                <p:cNvSpPr/>
                <p:nvPr/>
              </p:nvSpPr>
              <p:spPr>
                <a:xfrm flipV="1">
                  <a:off x="1355760" y="28447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3" name="Picture 158" descr=""/>
              <p:cNvPicPr/>
              <p:nvPr/>
            </p:nvPicPr>
            <p:blipFill>
              <a:blip r:embed="rId5"/>
              <a:stretch/>
            </p:blipFill>
            <p:spPr>
              <a:xfrm>
                <a:off x="6480" y="2889360"/>
                <a:ext cx="134928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Rectangle 160"/>
            <p:cNvSpPr/>
            <p:nvPr/>
          </p:nvSpPr>
          <p:spPr>
            <a:xfrm>
              <a:off x="2520" y="2944800"/>
              <a:ext cx="1210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8f8f8"/>
                  </a:solidFill>
                  <a:latin typeface="Calibri"/>
                </a:rPr>
                <a:t>Asamblea del FM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1"/>
            <p:cNvSpPr/>
            <p:nvPr/>
          </p:nvSpPr>
          <p:spPr>
            <a:xfrm>
              <a:off x="469080" y="321948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País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62"/>
            <p:cNvSpPr/>
            <p:nvPr/>
          </p:nvSpPr>
          <p:spPr>
            <a:xfrm>
              <a:off x="23400" y="3402000"/>
              <a:ext cx="1418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untos Focales Políticos</a:t>
              </a:r>
              <a:r>
                <a:rPr b="1" i="1" lang="en-US" sz="11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173"/>
            <p:cNvGrpSpPr/>
            <p:nvPr/>
          </p:nvGrpSpPr>
          <p:grpSpPr>
            <a:xfrm>
              <a:off x="3654000" y="3208320"/>
              <a:ext cx="1397520" cy="1054080"/>
              <a:chOff x="3654000" y="3208320"/>
              <a:chExt cx="1397520" cy="1054080"/>
            </a:xfrm>
          </p:grpSpPr>
          <p:sp>
            <p:nvSpPr>
              <p:cNvPr id="248" name="Freeform 164"/>
              <p:cNvSpPr/>
              <p:nvPr/>
            </p:nvSpPr>
            <p:spPr>
              <a:xfrm>
                <a:off x="5005440" y="3208320"/>
                <a:ext cx="46080" cy="10526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65"/>
              <p:cNvSpPr/>
              <p:nvPr/>
            </p:nvSpPr>
            <p:spPr>
              <a:xfrm flipV="1">
                <a:off x="5005440" y="421632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66"/>
              <p:cNvSpPr/>
              <p:nvPr/>
            </p:nvSpPr>
            <p:spPr>
              <a:xfrm>
                <a:off x="3654360" y="3208320"/>
                <a:ext cx="1397160" cy="4608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67"/>
              <p:cNvSpPr/>
              <p:nvPr/>
            </p:nvSpPr>
            <p:spPr>
              <a:xfrm flipV="1">
                <a:off x="5005440" y="320832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68"/>
              <p:cNvSpPr/>
              <p:nvPr/>
            </p:nvSpPr>
            <p:spPr>
              <a:xfrm>
                <a:off x="3654360" y="325440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69"/>
              <p:cNvSpPr/>
              <p:nvPr/>
            </p:nvSpPr>
            <p:spPr>
              <a:xfrm>
                <a:off x="3654360" y="3254400"/>
                <a:ext cx="180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70"/>
              <p:cNvSpPr/>
              <p:nvPr/>
            </p:nvSpPr>
            <p:spPr>
              <a:xfrm>
                <a:off x="3654360" y="426096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71"/>
              <p:cNvSpPr/>
              <p:nvPr/>
            </p:nvSpPr>
            <p:spPr>
              <a:xfrm flipV="1">
                <a:off x="5005440" y="3254400"/>
                <a:ext cx="144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72"/>
              <p:cNvSpPr/>
              <p:nvPr/>
            </p:nvSpPr>
            <p:spPr>
              <a:xfrm flipH="1">
                <a:off x="3654000" y="325440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174"/>
            <p:cNvSpPr/>
            <p:nvPr/>
          </p:nvSpPr>
          <p:spPr>
            <a:xfrm>
              <a:off x="3943440" y="3583080"/>
              <a:ext cx="906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05631"/>
                  </a:solidFill>
                  <a:latin typeface="Calibri"/>
                </a:rPr>
                <a:t>Secretaría de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05631"/>
                  </a:solidFill>
                  <a:latin typeface="Calibri"/>
                </a:rPr>
                <a:t>FMAM</a:t>
              </a: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85"/>
            <p:cNvGrpSpPr/>
            <p:nvPr/>
          </p:nvGrpSpPr>
          <p:grpSpPr>
            <a:xfrm>
              <a:off x="5394240" y="2949480"/>
              <a:ext cx="1514520" cy="3068640"/>
              <a:chOff x="5394240" y="2949480"/>
              <a:chExt cx="1514520" cy="3068640"/>
            </a:xfrm>
          </p:grpSpPr>
          <p:sp>
            <p:nvSpPr>
              <p:cNvPr id="259" name="Freeform 176"/>
              <p:cNvSpPr/>
              <p:nvPr/>
            </p:nvSpPr>
            <p:spPr>
              <a:xfrm>
                <a:off x="6864480" y="2949480"/>
                <a:ext cx="44280" cy="3067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067200"/>
                  <a:gd name="textAreaBottom" fmla="*/ 3067560 h 306720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77"/>
              <p:cNvSpPr/>
              <p:nvPr/>
            </p:nvSpPr>
            <p:spPr>
              <a:xfrm flipV="1">
                <a:off x="6864480" y="5972040"/>
                <a:ext cx="442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78"/>
              <p:cNvSpPr/>
              <p:nvPr/>
            </p:nvSpPr>
            <p:spPr>
              <a:xfrm>
                <a:off x="5394240" y="294948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79"/>
              <p:cNvSpPr/>
              <p:nvPr/>
            </p:nvSpPr>
            <p:spPr>
              <a:xfrm flipV="1">
                <a:off x="6864480" y="2949480"/>
                <a:ext cx="442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80"/>
              <p:cNvSpPr/>
              <p:nvPr/>
            </p:nvSpPr>
            <p:spPr>
              <a:xfrm>
                <a:off x="5394240" y="2995560"/>
                <a:ext cx="147024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81"/>
              <p:cNvSpPr/>
              <p:nvPr/>
            </p:nvSpPr>
            <p:spPr>
              <a:xfrm>
                <a:off x="5394240" y="2995560"/>
                <a:ext cx="1800" cy="30211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82"/>
              <p:cNvSpPr/>
              <p:nvPr/>
            </p:nvSpPr>
            <p:spPr>
              <a:xfrm>
                <a:off x="5394240" y="6016680"/>
                <a:ext cx="14702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83"/>
              <p:cNvSpPr/>
              <p:nvPr/>
            </p:nvSpPr>
            <p:spPr>
              <a:xfrm flipV="1">
                <a:off x="6864480" y="2995560"/>
                <a:ext cx="1440" cy="30211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84"/>
              <p:cNvSpPr/>
              <p:nvPr/>
            </p:nvSpPr>
            <p:spPr>
              <a:xfrm flipH="1">
                <a:off x="5394240" y="2995560"/>
                <a:ext cx="14702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186"/>
            <p:cNvSpPr/>
            <p:nvPr/>
          </p:nvSpPr>
          <p:spPr>
            <a:xfrm>
              <a:off x="5411520" y="3054240"/>
              <a:ext cx="1300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605631"/>
                  </a:solidFill>
                  <a:latin typeface="Calibri"/>
                </a:rPr>
                <a:t>Organismos del FM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7"/>
            <p:cNvSpPr/>
            <p:nvPr/>
          </p:nvSpPr>
          <p:spPr>
            <a:xfrm>
              <a:off x="5532120" y="3328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88"/>
            <p:cNvSpPr/>
            <p:nvPr/>
          </p:nvSpPr>
          <p:spPr>
            <a:xfrm>
              <a:off x="5586480" y="332424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PN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9"/>
            <p:cNvSpPr/>
            <p:nvPr/>
          </p:nvSpPr>
          <p:spPr>
            <a:xfrm>
              <a:off x="5532120" y="36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0"/>
            <p:cNvSpPr/>
            <p:nvPr/>
          </p:nvSpPr>
          <p:spPr>
            <a:xfrm>
              <a:off x="5586840" y="3598920"/>
              <a:ext cx="50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PNU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91"/>
            <p:cNvSpPr/>
            <p:nvPr/>
          </p:nvSpPr>
          <p:spPr>
            <a:xfrm>
              <a:off x="5532120" y="387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2"/>
            <p:cNvSpPr/>
            <p:nvPr/>
          </p:nvSpPr>
          <p:spPr>
            <a:xfrm>
              <a:off x="5589000" y="3873600"/>
              <a:ext cx="95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05631"/>
                  </a:solidFill>
                  <a:latin typeface="Calibri"/>
                </a:rPr>
                <a:t>Banco Mund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93"/>
            <p:cNvSpPr/>
            <p:nvPr/>
          </p:nvSpPr>
          <p:spPr>
            <a:xfrm>
              <a:off x="5532840" y="4148280"/>
              <a:ext cx="37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As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4"/>
            <p:cNvSpPr/>
            <p:nvPr/>
          </p:nvSpPr>
          <p:spPr>
            <a:xfrm>
              <a:off x="5532120" y="4429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5"/>
            <p:cNvSpPr/>
            <p:nvPr/>
          </p:nvSpPr>
          <p:spPr>
            <a:xfrm>
              <a:off x="5584680" y="442440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Af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6"/>
            <p:cNvSpPr/>
            <p:nvPr/>
          </p:nvSpPr>
          <p:spPr>
            <a:xfrm>
              <a:off x="5532120" y="4702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97"/>
            <p:cNvSpPr/>
            <p:nvPr/>
          </p:nvSpPr>
          <p:spPr>
            <a:xfrm>
              <a:off x="5586840" y="469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E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98"/>
            <p:cNvSpPr/>
            <p:nvPr/>
          </p:nvSpPr>
          <p:spPr>
            <a:xfrm>
              <a:off x="5532120" y="49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99"/>
            <p:cNvSpPr/>
            <p:nvPr/>
          </p:nvSpPr>
          <p:spPr>
            <a:xfrm>
              <a:off x="5580720" y="49719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00"/>
            <p:cNvSpPr/>
            <p:nvPr/>
          </p:nvSpPr>
          <p:spPr>
            <a:xfrm>
              <a:off x="5532120" y="5251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01"/>
            <p:cNvSpPr/>
            <p:nvPr/>
          </p:nvSpPr>
          <p:spPr>
            <a:xfrm>
              <a:off x="5585760" y="5246640"/>
              <a:ext cx="22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02"/>
            <p:cNvSpPr/>
            <p:nvPr/>
          </p:nvSpPr>
          <p:spPr>
            <a:xfrm>
              <a:off x="5532120" y="5527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03"/>
            <p:cNvSpPr/>
            <p:nvPr/>
          </p:nvSpPr>
          <p:spPr>
            <a:xfrm>
              <a:off x="5584320" y="552276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04"/>
            <p:cNvSpPr/>
            <p:nvPr/>
          </p:nvSpPr>
          <p:spPr>
            <a:xfrm>
              <a:off x="5532120" y="5802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5"/>
            <p:cNvSpPr/>
            <p:nvPr/>
          </p:nvSpPr>
          <p:spPr>
            <a:xfrm>
              <a:off x="5587200" y="57974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ONU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212"/>
            <p:cNvGrpSpPr/>
            <p:nvPr/>
          </p:nvGrpSpPr>
          <p:grpSpPr>
            <a:xfrm>
              <a:off x="7315200" y="2850840"/>
              <a:ext cx="1380960" cy="1690920"/>
              <a:chOff x="7315200" y="2850840"/>
              <a:chExt cx="1380960" cy="1690920"/>
            </a:xfrm>
          </p:grpSpPr>
          <p:grpSp>
            <p:nvGrpSpPr>
              <p:cNvPr id="289" name="Group 210"/>
              <p:cNvGrpSpPr/>
              <p:nvPr/>
            </p:nvGrpSpPr>
            <p:grpSpPr>
              <a:xfrm>
                <a:off x="7321680" y="2850840"/>
                <a:ext cx="1374480" cy="1689480"/>
                <a:chOff x="7321680" y="2850840"/>
                <a:chExt cx="1374480" cy="1689480"/>
              </a:xfrm>
            </p:grpSpPr>
            <p:sp>
              <p:nvSpPr>
                <p:cNvPr id="290" name="Freeform 206"/>
                <p:cNvSpPr/>
                <p:nvPr/>
              </p:nvSpPr>
              <p:spPr>
                <a:xfrm>
                  <a:off x="8651880" y="285120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7"/>
                <p:cNvSpPr/>
                <p:nvPr/>
              </p:nvSpPr>
              <p:spPr>
                <a:xfrm flipV="1">
                  <a:off x="8651880" y="4495680"/>
                  <a:ext cx="4428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08"/>
                <p:cNvSpPr/>
                <p:nvPr/>
              </p:nvSpPr>
              <p:spPr>
                <a:xfrm>
                  <a:off x="7321680" y="2851200"/>
                  <a:ext cx="1374480" cy="44280"/>
                </a:xfrm>
                <a:custGeom>
                  <a:avLst/>
                  <a:gdLst>
                    <a:gd name="textAreaLeft" fmla="*/ 0 w 1374480"/>
                    <a:gd name="textAreaRight" fmla="*/ 1374840 w 1374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09"/>
                <p:cNvSpPr/>
                <p:nvPr/>
              </p:nvSpPr>
              <p:spPr>
                <a:xfrm flipV="1">
                  <a:off x="8651880" y="2850840"/>
                  <a:ext cx="44280" cy="442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4" name="Picture 2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315200" y="2895480"/>
                <a:ext cx="133020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5" name="Rectangle 213"/>
            <p:cNvSpPr/>
            <p:nvPr/>
          </p:nvSpPr>
          <p:spPr>
            <a:xfrm>
              <a:off x="7688520" y="2949480"/>
              <a:ext cx="57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8f8f8"/>
                  </a:solidFill>
                  <a:latin typeface="Calibri"/>
                </a:rPr>
                <a:t>Proyect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4"/>
            <p:cNvSpPr/>
            <p:nvPr/>
          </p:nvSpPr>
          <p:spPr>
            <a:xfrm>
              <a:off x="7238880" y="3141720"/>
              <a:ext cx="1600200" cy="13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8f8f8"/>
                  </a:solidFill>
                  <a:latin typeface="Calibri"/>
                </a:rPr>
                <a:t>Países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untos Focal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olítico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Operativo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De Conven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otras institucion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ública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sociedad civi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235"/>
            <p:cNvGrpSpPr/>
            <p:nvPr/>
          </p:nvGrpSpPr>
          <p:grpSpPr>
            <a:xfrm>
              <a:off x="2139840" y="4543200"/>
              <a:ext cx="1044720" cy="443160"/>
              <a:chOff x="2139840" y="4543200"/>
              <a:chExt cx="1044720" cy="443160"/>
            </a:xfrm>
          </p:grpSpPr>
          <p:sp>
            <p:nvSpPr>
              <p:cNvPr id="298" name="Freeform 226"/>
              <p:cNvSpPr/>
              <p:nvPr/>
            </p:nvSpPr>
            <p:spPr>
              <a:xfrm>
                <a:off x="3138480" y="454356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27"/>
              <p:cNvSpPr/>
              <p:nvPr/>
            </p:nvSpPr>
            <p:spPr>
              <a:xfrm flipV="1">
                <a:off x="3138480" y="494028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28"/>
              <p:cNvSpPr/>
              <p:nvPr/>
            </p:nvSpPr>
            <p:spPr>
              <a:xfrm>
                <a:off x="2139840" y="4543560"/>
                <a:ext cx="1044720" cy="4428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29"/>
              <p:cNvSpPr/>
              <p:nvPr/>
            </p:nvSpPr>
            <p:spPr>
              <a:xfrm flipV="1">
                <a:off x="3138480" y="4543200"/>
                <a:ext cx="46080" cy="442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230"/>
              <p:cNvSpPr/>
              <p:nvPr/>
            </p:nvSpPr>
            <p:spPr>
              <a:xfrm>
                <a:off x="2139840" y="4587840"/>
                <a:ext cx="998640" cy="39708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231"/>
              <p:cNvSpPr/>
              <p:nvPr/>
            </p:nvSpPr>
            <p:spPr>
              <a:xfrm>
                <a:off x="2139840" y="4587840"/>
                <a:ext cx="1800" cy="39708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32"/>
              <p:cNvSpPr/>
              <p:nvPr/>
            </p:nvSpPr>
            <p:spPr>
              <a:xfrm>
                <a:off x="2139840" y="4984920"/>
                <a:ext cx="998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233"/>
              <p:cNvSpPr/>
              <p:nvPr/>
            </p:nvSpPr>
            <p:spPr>
              <a:xfrm flipV="1">
                <a:off x="3138480" y="4587480"/>
                <a:ext cx="1440" cy="39708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34"/>
              <p:cNvSpPr/>
              <p:nvPr/>
            </p:nvSpPr>
            <p:spPr>
              <a:xfrm flipH="1">
                <a:off x="2139840" y="4587840"/>
                <a:ext cx="998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236"/>
            <p:cNvSpPr/>
            <p:nvPr/>
          </p:nvSpPr>
          <p:spPr>
            <a:xfrm>
              <a:off x="2359080" y="4638600"/>
              <a:ext cx="595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605631"/>
                  </a:solidFill>
                  <a:latin typeface="Calibri"/>
                </a:rPr>
                <a:t>Oficina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605631"/>
                  </a:solidFill>
                  <a:latin typeface="Calibri"/>
                </a:rPr>
                <a:t>Evaluación</a:t>
              </a: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44"/>
            <p:cNvGrpSpPr/>
            <p:nvPr/>
          </p:nvGrpSpPr>
          <p:grpSpPr>
            <a:xfrm>
              <a:off x="6480" y="4000320"/>
              <a:ext cx="1438200" cy="777960"/>
              <a:chOff x="6480" y="4000320"/>
              <a:chExt cx="1438200" cy="777960"/>
            </a:xfrm>
          </p:grpSpPr>
          <p:grpSp>
            <p:nvGrpSpPr>
              <p:cNvPr id="309" name="Group 242"/>
              <p:cNvGrpSpPr/>
              <p:nvPr/>
            </p:nvGrpSpPr>
            <p:grpSpPr>
              <a:xfrm>
                <a:off x="6480" y="4000320"/>
                <a:ext cx="1438200" cy="777960"/>
                <a:chOff x="6480" y="4000320"/>
                <a:chExt cx="1438200" cy="777960"/>
              </a:xfrm>
            </p:grpSpPr>
            <p:sp>
              <p:nvSpPr>
                <p:cNvPr id="310" name="Freeform 238"/>
                <p:cNvSpPr/>
                <p:nvPr/>
              </p:nvSpPr>
              <p:spPr>
                <a:xfrm>
                  <a:off x="1398600" y="400068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39"/>
                <p:cNvSpPr/>
                <p:nvPr/>
              </p:nvSpPr>
              <p:spPr>
                <a:xfrm flipV="1">
                  <a:off x="1398600" y="473364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240"/>
                <p:cNvSpPr/>
                <p:nvPr/>
              </p:nvSpPr>
              <p:spPr>
                <a:xfrm>
                  <a:off x="6480" y="4000680"/>
                  <a:ext cx="1438200" cy="45720"/>
                </a:xfrm>
                <a:custGeom>
                  <a:avLst/>
                  <a:gdLst>
                    <a:gd name="textAreaLeft" fmla="*/ 0 w 1438200"/>
                    <a:gd name="textAreaRight" fmla="*/ 1438560 w 143820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41"/>
                <p:cNvSpPr/>
                <p:nvPr/>
              </p:nvSpPr>
              <p:spPr>
                <a:xfrm flipV="1">
                  <a:off x="1398600" y="4000320"/>
                  <a:ext cx="4608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Picture 243" descr=""/>
              <p:cNvPicPr/>
              <p:nvPr/>
            </p:nvPicPr>
            <p:blipFill>
              <a:blip r:embed="rId7"/>
              <a:stretch/>
            </p:blipFill>
            <p:spPr>
              <a:xfrm>
                <a:off x="6480" y="404496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5" name="Rectangle 245"/>
            <p:cNvSpPr/>
            <p:nvPr/>
          </p:nvSpPr>
          <p:spPr>
            <a:xfrm>
              <a:off x="244800" y="4100400"/>
              <a:ext cx="88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46"/>
            <p:cNvSpPr/>
            <p:nvPr/>
          </p:nvSpPr>
          <p:spPr>
            <a:xfrm>
              <a:off x="468720" y="41911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Países</a:t>
              </a:r>
              <a:r>
                <a:rPr b="1" i="1" lang="es-ES_tradnl" sz="1800" spc="-1" strike="noStrike">
                  <a:solidFill>
                    <a:srgbClr val="f8f8f8"/>
                  </a:solidFill>
                  <a:latin typeface="Calibr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47"/>
            <p:cNvSpPr/>
            <p:nvPr/>
          </p:nvSpPr>
          <p:spPr>
            <a:xfrm>
              <a:off x="0" y="441972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8f8f8"/>
                  </a:solidFill>
                  <a:latin typeface="Calibri"/>
                </a:rPr>
                <a:t>Puntos Focales de las Convenc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255"/>
            <p:cNvGrpSpPr/>
            <p:nvPr/>
          </p:nvGrpSpPr>
          <p:grpSpPr>
            <a:xfrm>
              <a:off x="1911240" y="3154320"/>
              <a:ext cx="1392480" cy="1143000"/>
              <a:chOff x="1911240" y="3154320"/>
              <a:chExt cx="1392480" cy="1143000"/>
            </a:xfrm>
          </p:grpSpPr>
          <p:grpSp>
            <p:nvGrpSpPr>
              <p:cNvPr id="319" name="Group 253"/>
              <p:cNvGrpSpPr/>
              <p:nvPr/>
            </p:nvGrpSpPr>
            <p:grpSpPr>
              <a:xfrm>
                <a:off x="1911240" y="3154320"/>
                <a:ext cx="1392480" cy="1143000"/>
                <a:chOff x="1911240" y="3154320"/>
                <a:chExt cx="1392480" cy="1143000"/>
              </a:xfrm>
            </p:grpSpPr>
            <p:sp>
              <p:nvSpPr>
                <p:cNvPr id="320" name="Freeform 249"/>
                <p:cNvSpPr/>
                <p:nvPr/>
              </p:nvSpPr>
              <p:spPr>
                <a:xfrm>
                  <a:off x="3257640" y="315432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0"/>
                <p:cNvSpPr/>
                <p:nvPr/>
              </p:nvSpPr>
              <p:spPr>
                <a:xfrm flipV="1">
                  <a:off x="3257640" y="425268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51"/>
                <p:cNvSpPr/>
                <p:nvPr/>
              </p:nvSpPr>
              <p:spPr>
                <a:xfrm>
                  <a:off x="1911240" y="3154320"/>
                  <a:ext cx="1392480" cy="46080"/>
                </a:xfrm>
                <a:custGeom>
                  <a:avLst/>
                  <a:gdLst>
                    <a:gd name="textAreaLeft" fmla="*/ 0 w 1392480"/>
                    <a:gd name="textAreaRight" fmla="*/ 1392840 w 1392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252"/>
                <p:cNvSpPr/>
                <p:nvPr/>
              </p:nvSpPr>
              <p:spPr>
                <a:xfrm flipV="1">
                  <a:off x="3257640" y="31543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4" name="Picture 254" descr=""/>
              <p:cNvPicPr/>
              <p:nvPr/>
            </p:nvPicPr>
            <p:blipFill>
              <a:blip r:embed="rId8"/>
              <a:stretch/>
            </p:blipFill>
            <p:spPr>
              <a:xfrm>
                <a:off x="1911240" y="3198960"/>
                <a:ext cx="1346400" cy="109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Rectangle 256"/>
            <p:cNvSpPr/>
            <p:nvPr/>
          </p:nvSpPr>
          <p:spPr>
            <a:xfrm>
              <a:off x="1984680" y="3254400"/>
              <a:ext cx="1098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8f8f8"/>
                  </a:solidFill>
                  <a:latin typeface="Calibri"/>
                </a:rPr>
                <a:t>Consejo del FM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57"/>
            <p:cNvSpPr/>
            <p:nvPr/>
          </p:nvSpPr>
          <p:spPr>
            <a:xfrm>
              <a:off x="2372400" y="352908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Países</a:t>
              </a: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58"/>
            <p:cNvSpPr/>
            <p:nvPr/>
          </p:nvSpPr>
          <p:spPr>
            <a:xfrm>
              <a:off x="2045160" y="3711600"/>
              <a:ext cx="1143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Miembros/grup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de paí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del Consejo</a:t>
              </a: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61"/>
            <p:cNvSpPr/>
            <p:nvPr/>
          </p:nvSpPr>
          <p:spPr>
            <a:xfrm>
              <a:off x="1419120" y="4392720"/>
              <a:ext cx="24948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62"/>
            <p:cNvSpPr/>
            <p:nvPr/>
          </p:nvSpPr>
          <p:spPr>
            <a:xfrm>
              <a:off x="1407960" y="3236760"/>
              <a:ext cx="24948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3"/>
            <p:cNvSpPr/>
            <p:nvPr/>
          </p:nvSpPr>
          <p:spPr>
            <a:xfrm>
              <a:off x="3236760" y="3699000"/>
              <a:ext cx="427320" cy="75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4"/>
            <p:cNvSpPr/>
            <p:nvPr/>
          </p:nvSpPr>
          <p:spPr>
            <a:xfrm>
              <a:off x="5008680" y="3695760"/>
              <a:ext cx="407880" cy="763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5"/>
            <p:cNvSpPr/>
            <p:nvPr/>
          </p:nvSpPr>
          <p:spPr>
            <a:xfrm>
              <a:off x="6858000" y="3695760"/>
              <a:ext cx="463680" cy="76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6"/>
            <p:cNvSpPr/>
            <p:nvPr/>
          </p:nvSpPr>
          <p:spPr>
            <a:xfrm>
              <a:off x="2616120" y="428940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7"/>
            <p:cNvSpPr/>
            <p:nvPr/>
          </p:nvSpPr>
          <p:spPr>
            <a:xfrm>
              <a:off x="2587680" y="291636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68"/>
            <p:cNvSpPr/>
            <p:nvPr/>
          </p:nvSpPr>
          <p:spPr>
            <a:xfrm>
              <a:off x="316800" y="1781280"/>
              <a:ext cx="1171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Orient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estratég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70"/>
            <p:cNvSpPr/>
            <p:nvPr/>
          </p:nvSpPr>
          <p:spPr>
            <a:xfrm>
              <a:off x="3623400" y="182880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72"/>
            <p:cNvSpPr/>
            <p:nvPr/>
          </p:nvSpPr>
          <p:spPr>
            <a:xfrm>
              <a:off x="1668600" y="322884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3"/>
            <p:cNvSpPr/>
            <p:nvPr/>
          </p:nvSpPr>
          <p:spPr>
            <a:xfrm>
              <a:off x="1676520" y="3772080"/>
              <a:ext cx="234720" cy="75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4"/>
            <p:cNvSpPr/>
            <p:nvPr/>
          </p:nvSpPr>
          <p:spPr>
            <a:xfrm>
              <a:off x="1905120" y="1943280"/>
              <a:ext cx="920520" cy="7596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5"/>
            <p:cNvSpPr/>
            <p:nvPr/>
          </p:nvSpPr>
          <p:spPr>
            <a:xfrm>
              <a:off x="5486400" y="1943280"/>
              <a:ext cx="920880" cy="7596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dalidades de acceso: el proceso de acreditació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0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Gobierno nombra a una Autoridad Designada, encargada de respaldar la solicitud de acreditación del organismo ejecutor y todas las propuestas de proyectos/programas del O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 presenta la solicitu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ación del cumplimiento, por la entidad, de las capacidades específicas requerid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ación, como anexo, de documentación de respald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2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panel de acreditación examina la solicitu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3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panel puede solicitar información o aclaraciones adicionales a la entida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ede señalar al Directorio la necesidad de una visita in situ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ede señalar la necesidad de proporcionar apoyo técnico a un postulante para que esté en mejores condiciones para obtener la acreditació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4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panel formula una recomendación al Directorio del F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5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Directorio del FA se pronuncia en definitiva sobre la acreditación de la entid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0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n mayo de 2011 el Consejo del FMAM aprobó un plan piloto de acreditación de nuevas instituciones como  socias en la ejecución de proyecto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s instituciones acreditadas se denominarán “Agencias de proyectos del FMAM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Una vez acreditados, dichas Agencias pueden </a:t>
            </a:r>
            <a:r>
              <a:rPr b="0" i="1" lang="es-CO" sz="2600" spc="-1" strike="noStrike">
                <a:solidFill>
                  <a:srgbClr val="000000"/>
                </a:solidFill>
                <a:latin typeface="Calibri"/>
              </a:rPr>
              <a:t>obtener acceso directo a fondos fiduciarios administrados por el FMAM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ara ayudar a los países receptores a preparar y ejecutar proyectos financiados por el FMA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it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Ampliación de las actividades de cooperación del FM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lan piloto de FMAM-5 sobre acredita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acreditará para que se desempeñen como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Agencias de proyectos del FMAM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 instituciones cuyo número puede llegar a die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mo mínimo 5 instituciones nacionales con un balance reg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mo mínimo una institución nacional de un P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mo mínimo una institución nacional de un país de ingreso medi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Hasta que el Consejo haya aprobado como mínimo a 5 instituciones nacionales postulantes, sólo se examinarán las postulaciones de instituciones nacionales, entidades regionales y organizaciones de la sociedad civil/organizaciones no gubernamenta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Eleg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Son instituciones elegibles para acreditación en virtud del plan pilo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Instituciones naci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ntidades regi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Organizaciones de la sociedad civil/organizaciones no gubernament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Agencias y programas especializados de las Naciones Un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Otras entidades internaci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Examen de las postulacion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 u="sng">
                <a:solidFill>
                  <a:srgbClr val="000000"/>
                </a:solidFill>
                <a:uFillTx/>
                <a:latin typeface="Calibri"/>
              </a:rPr>
              <a:t>Etapa I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: Todo postulante serán evaluado en la medida en que agregue valor a las actividades de cooperación del FMAM y esté alineado estratégicamente con los objetivos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 u="sng">
                <a:solidFill>
                  <a:srgbClr val="000000"/>
                </a:solidFill>
                <a:uFillTx/>
                <a:latin typeface="Calibri"/>
              </a:rPr>
              <a:t>Etapa II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: Los postulantes deberán cumplir plenamente todas las normas fiduciarias del FMAM, así como las normas (salvaguardas) ambientales y de seguridad social pertinentes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oceso de postula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tapa I: 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Examen del valor 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agregado, realizado en la esfera interna por la Secretaría del FMAM y aprobación por el Consej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tapa II: Examen a cargo del 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Panel de Acreditación, 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de carácter externo, en materia de Salvaguardas Fiduciarias , Ambientales y Soci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ostulaciones recibida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8377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Entidades nacionales (6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Uruguay: Agencia Nacional de Investigación e Innovación (AN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Federación de Rusia:  Banco VT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erú: Fondo Nacional del Ambi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Brasil : Fundo Brasileiro para a Biodiversidade (FUNBIO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hina: Ministerio de Medio Ambiente, Oficina de Cooperación Económica con el Exterior (MEP FE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Sudáfrica:  Banco de Desarrollo de África Meridional (DBS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Organizaciones de la sociedad civil internacionales (3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Unión Internacional para la Conservación de la Naturale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World Wide Fund (WW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onservation International (C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Organismos  de las Naciones Unidas (2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rograma Mundial de Alimentos de las Naciones Unidas (PM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rograma de las Naciones Unidas para los Asentamientos Humanos (UN-HÁBIT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Organismos regionales (4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ALC: Corporación Andina de Fomento (CAF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acífico:  Secretaría del Programa Regional  del Pacífico Sur para el Medio Ambiente (SPR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África del Norte: Observatoire du Sahara et du Sahel (OS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África Occidental: Banque Ouest Africaine de Dévelopment (BO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1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6650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Grafik 5" descr="plant.bmp"/>
          <p:cNvPicPr/>
          <p:nvPr/>
        </p:nvPicPr>
        <p:blipFill>
          <a:blip r:embed="rId2"/>
          <a:stretch/>
        </p:blipFill>
        <p:spPr>
          <a:xfrm>
            <a:off x="1371600" y="2514600"/>
            <a:ext cx="26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1936800" cy="2057400"/>
          </a:xfrm>
          <a:prstGeom prst="rect">
            <a:avLst/>
          </a:prstGeom>
          <a:ln w="0">
            <a:noFill/>
          </a:ln>
        </p:spPr>
      </p:pic>
      <p:sp>
        <p:nvSpPr>
          <p:cNvPr id="447" name="Tit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Asociaciones público-privadas en el FMAM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900" spc="-1" strike="noStrike">
                <a:solidFill>
                  <a:srgbClr val="1f497d"/>
                </a:solidFill>
                <a:latin typeface="Calibri"/>
              </a:rPr>
              <a:t>En el programa de reposición de FMAM-5 se dio prioridad a la participación del sector privado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os participantes reconocieron los esfuerzos iniciales del Fondo para la Tierra de 2008 y solicitaron una evalu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solicitó a la Secretaría del FMAM que ampliara la estrategia, no limitándola al Fondo para la Tierra, y presentara la fase siguiente en noviembre de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Consejo solicitó un análisis y una planificación adicionales; en noviembre de 2011 se aprobó la fase sigui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virtud de la reposición se reservaron US$80 millones para el sector priv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participación del sector privado no es la meta final, sino un medio para generar beneficios ambientales mundiales adiciona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1f497d"/>
                </a:solidFill>
                <a:latin typeface="Calibri"/>
              </a:rPr>
              <a:t>Estrategia para el sector privado aprobada para FMAM-5</a:t>
            </a:r>
            <a:br>
              <a:rPr sz="2500"/>
            </a:br>
            <a:r>
              <a:rPr b="1" lang="es-CO" sz="2500" spc="-1" strike="noStrike">
                <a:solidFill>
                  <a:srgbClr val="1f497d"/>
                </a:solidFill>
                <a:latin typeface="Calibri"/>
              </a:rPr>
              <a:t>Tres modalidades</a:t>
            </a:r>
            <a:endParaRPr b="1" lang="en-US" sz="2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stablecer Programas de Asociaciones Público-Privadas con Bancos Multilaterales de Desarrollo para respaldar inversiones mediante la utilización de instrumentos no consistentes en dona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lentar a los países a utilizar donaciones de asignaciones del SATR para proyectos con inversiones para el sector privado en que se utilicen instrumentos no consistentes en dona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spaldar concursos entre pymes para facilitar la transferencia de tecnología y el empresari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455" name="TextBox 7"/>
          <p:cNvSpPr/>
          <p:nvPr/>
        </p:nvSpPr>
        <p:spPr>
          <a:xfrm>
            <a:off x="1371600" y="4724280"/>
            <a:ext cx="5257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M/C.41/09.Rev.0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ised Strategy for Enhancing Engagement with the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tapas de elaboración del proyect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Idea de proyecto - Países – formulación de la cartera nacional de proyectos / NPFE (voluntari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ncepto de proyecto – Agencias del FMAM – FIP/PIF y DPP/PPG (Forma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doso del proyecto – Punto Focal Oper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visión del FIP/PIF y de DPP/PPG por parte de la Secretaría del FMAM, inclusión del programa de trabajo y aprobación  del mismo por parte del Conse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reparación del proyecto – Agencias + paí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ocumento de proyecto – Agencia – FSP – MSP (actividades habilitantes) (forma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Nueva revisión por la Secretaría del FMAM al momento de solicitar la ratificación por parte de la Directora Ejecutiva /aprobación e información al Conse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Qué es un instrumento no consistente en donaciones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 virtud del Instrumento del FMAM, es una modalidad de financiamiento concesionario que ofrece la posibilidad de obtener un retorno (o refluj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reflujos pueden usarse para ampliar el conjunto de recursos del FMAM disponibles para futuras inversion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jemplo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nstrumentos contingentes de donacion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ndo de garantías  de créditos o de garantías contra riesg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nversiones en fondos de capit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éstamos concesionari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Garantía de riesgos de desempeñ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ndo rotato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ndo de reparto de riesgos para suministro de préstam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óximos pas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La Secretaría del FMAM, trabajando con los BMD, está dando forma final a las modalidades operativ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Los BMD pueden presentar propuestas de Programas de Asociaciones Público-Privadas a fin de que sean consideradas en junio de 2012 y en programas de trabajo posterior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Las Agencias y países pueden proponer en cualquier momento la utilización de instrumentos no consistentes en donaciones en nuevos FIP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También pueden proponer en cualquier momento concursos de pymes en proyectos de mediana esca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alibri"/>
              </a:rPr>
              <a:t>Sistema Integrado de Gestión y Seguimiento de Proyect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Materiales significa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Instrumento de seguimiento pre-FI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Información sobre proyec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Dónde encontrar FIP, PFD, IE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Infor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Sitio web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Materiales significa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Boletín de administración de program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gramas de trabajo y documentos del Cons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erfiles nacional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Herramientas de gestión basada en result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lantillas – PIF, actividades de apoy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grama de Apoyo a un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Biodiversidad, cambio climático y degradación de la ti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A cada país le corresponde una asignación individ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Asignaciones mínimas: US$2 millones en cambio climático, $1,5 millones en biodiversidad y $500 K en degradación de la ti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Flexibilidad para asignaciones globales más pequeñas (hasta US$7 millones o men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istema de Asignación Transparente de Recursos (SAT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rogramas sin asignaciones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guas interna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aminantes orgánicos persistentes y gestión racional de los productos quím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grama de Apoyo a Paí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yectos/programas regionales y mund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grama de Pequeñas Don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articipación del sector priv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ctividades habilit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signaciones del SATR durante FMA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990720"/>
          <a:ext cx="8077320" cy="4689360"/>
        </p:xfrm>
        <a:graphic>
          <a:graphicData uri="http://schemas.openxmlformats.org/drawingml/2006/table">
            <a:tbl>
              <a:tblPr/>
              <a:tblGrid>
                <a:gridCol w="1919160"/>
                <a:gridCol w="960480"/>
                <a:gridCol w="1359000"/>
                <a:gridCol w="176040"/>
                <a:gridCol w="1103400"/>
                <a:gridCol w="719280"/>
                <a:gridCol w="1077840"/>
                <a:gridCol w="762120"/>
              </a:tblGrid>
              <a:tr h="280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ignación utilizad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millones de US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S$4, 250 mill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ignaciones globales del SAT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millones de US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mbio clim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diver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adación de la tier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ex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a 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Salv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uatem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nd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é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icarag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nam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nezu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alibri"/>
              </a:rPr>
              <a:t>Cómo obtener acceso a otros fondos:</a:t>
            </a:r>
            <a:br>
              <a:rPr sz="3200"/>
            </a:br>
            <a:r>
              <a:rPr b="1" lang="es-CO" sz="3200" spc="-1" strike="noStrike">
                <a:solidFill>
                  <a:srgbClr val="ffffff"/>
                </a:solidFill>
                <a:latin typeface="Calibri"/>
              </a:rPr>
              <a:t> FPMA/LDCF , FECC/SCCF , FAPN/NPIF, FA/AF 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52280" y="16765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l FMAM administra además otros 3 fondos fiduciari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ondo para los Países menos Adelantados (FPMA/LDC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ondo Especial para el Cambio Climático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  <a:ea typeface="Arial"/>
              </a:rPr>
              <a:t>(FECC/SCCF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ondo para la Aplicación del Protocolo de Nagoya (FAPN/NPI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Y presta servicios de Secretaría al Fondo de Adaptación (FA/A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PMA/LD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0880" y="1981080"/>
            <a:ext cx="419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stablecido para atender las necesidades especiales de </a:t>
            </a:r>
            <a:r>
              <a:rPr b="1" lang="es-CO" sz="1900" spc="-1" strike="noStrike">
                <a:solidFill>
                  <a:srgbClr val="000000"/>
                </a:solidFill>
                <a:latin typeface="Calibri"/>
              </a:rPr>
              <a:t>PMA/LDC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 en el marco de la Conven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Único Fondo existente con el mandato de financiar la preparación e implementación de </a:t>
            </a:r>
            <a:r>
              <a:rPr b="1" lang="es-CO" sz="1900" spc="-1" strike="noStrike">
                <a:solidFill>
                  <a:srgbClr val="000000"/>
                </a:solidFill>
                <a:latin typeface="Calibri"/>
              </a:rPr>
              <a:t>PANA/NAP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48 PANA ya financiados y 54 proyectos  del FPMA/LDCF aprobad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Recursos disponibles (a Febrero de 2012) = </a:t>
            </a:r>
            <a:r>
              <a:rPr b="1" lang="es-CO" sz="1900" spc="-1" strike="noStrike">
                <a:solidFill>
                  <a:srgbClr val="000000"/>
                </a:solidFill>
                <a:latin typeface="Calibri"/>
              </a:rPr>
              <a:t>US$205 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millon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ECC/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7960" y="19807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 disposición de todos los países en desarrollo que sean partes de la Conven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stablecido para respaldar actividades de adaptación y transferencia de tecnología a corto y largo plaz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43 proyectos aprob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cursos disponibles (a Febrero de 2012) =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US$36 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mill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PMA y FE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Características de FPMA/LDCF – FECC/SCCF</a:t>
            </a:r>
            <a:br>
              <a:rPr sz="4400"/>
            </a:b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 u="sng">
                <a:solidFill>
                  <a:srgbClr val="000000"/>
                </a:solidFill>
                <a:uFillTx/>
                <a:latin typeface="Calibri"/>
              </a:rPr>
              <a:t>FONDO FIDUCIARIO DEL FMAM / GEF Trust Fun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74760"/>
            <a:ext cx="404028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Principio del costo incre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Beneficios mund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AT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financiamiento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FPMA Y FECC / LDCF y SCC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Content Placeholder 9" descr=""/>
          <p:cNvPicPr/>
          <p:nvPr/>
        </p:nvPicPr>
        <p:blipFill>
          <a:blip r:embed="rId1"/>
          <a:stretch/>
        </p:blipFill>
        <p:spPr>
          <a:xfrm>
            <a:off x="4572000" y="2097000"/>
            <a:ext cx="4121280" cy="45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7T11:20:33Z</dcterms:modified>
  <cp:revision>458</cp:revision>
  <dc:subject/>
  <dc:title>Focal Area and Cross Cutting Strategies – Chemicals</dc:title>
</cp:coreProperties>
</file>