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144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38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144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DFA03-0601-4E98-98D8-9F56A4EB5A8C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حتفالية السنة العشرين ل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استثمار من أجل كوكبن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0B9F3DF-0F89-4270-A410-D87E0D634C1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000C7DED-4BCC-4C13-B2F3-CCC7DB2CE8D7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EF91-1673-4392-A931-33EDEC835DF3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242374E4-8F42-4129-AD6D-D45D0EE04C3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was just a first step in what is hoped will be a long and fruitful partnership together to face the challenge of building models that show the way toward prosperity and preservation of the global environment in the new millen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B12B8E1-FF46-4902-B80C-D863A928EDB2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52320" y="4559400"/>
            <a:ext cx="6258240" cy="4721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مجالات تركيز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للبيئة أبعاد لا تعد ولا تحصى، لكن كي يتسنى معالجة المشكلات التي تعاني منها البيئة ، قسّم العلماء وواضعو السياسات هذه  المشكلات إلى جوانب هي في المقام الأول محلية ووطنية وإقليمية وعالمية في طبيعتها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على الرغم من ترابط وتداخل جميع هذه الجوانب، فإن صندوق البيئة العالمية يركز على التحديات ذات النطاق العالمي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تنوع البيولوجي (فقدان التنوع البيولوجي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تغير المنا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ياه الدولية (تدهور المحيطات والمسطحات المائية الكبيرة للمياه العذبة التي يتقاسمها أكثر من بلد واحد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نفاد طبقة الأوزو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تدهور الأراض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يتقاسم الجميع الغلاف الجوي والمحيط الحيوي والغلاف المائ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فهذه الأشياء هي التراث المشترك للبشري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يمثل صندوق البيئة العالمية أناساً تجمعوا من البلدان النامية والمتقدمة على حد سواء للعمل معا من أجل حماية البيئة العالمية التي نعتمد عليها جميع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بالتالي سنتناول كل مجال تركيز على حدة، مع الاتجاهات ذات الصلة في هذا الشأن، والجوانب البشرية، وما يرتبط بالرفاهية الأساسية للإنسا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5217A087-0F5E-47F5-8167-71864052B2D7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5274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إجمالي النسبة المئوية للتمويل حسب مجال التركي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545-6153-43C1-8F96-850C854F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264-6BC4-4AD3-9AE9-3392210C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665-F897-478D-A633-6DFF2B7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31E-E0A6-475B-8584-DCF5AADC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D175-47AD-445D-AADB-1C6E79E5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8D1-6311-41C4-8470-73C4BCD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2C79-3898-4383-A50C-D84A4371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AD69-978B-4608-9E4E-3A17D33A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467-828E-4CCF-BD90-B9C079F4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2E9A-3A8F-4E30-BDC7-83C1D5E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B4FE-F850-4EA3-BFED-ABF7708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7A0-9664-45E4-92E7-C568611F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8E87-CAE3-4492-A48C-439D2F9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264-2EBF-4E61-B055-C82173F0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3562-BC1A-42C3-B158-2563D7A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CBFD-F84A-4E8E-BECB-C0B8B354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21A0-396E-49B1-AFC3-2E1465AB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B4DB-E040-4B27-8F67-F0728722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7618-9353-4AA2-AF42-89406C5A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85D6-24D4-4628-80E5-7BBB9E2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1D3C-DA38-4351-8B7B-3805378B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9166-0197-47C3-9903-19247E1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C23-F011-453B-BB0A-B68F8A6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BAE8-9782-45BB-95BE-CD3521D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EA06-D2F8-4082-9349-EAE5F39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58E3-124C-4ECA-BAD5-12A7392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30D0-5D8E-4586-B4DE-512078E5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5044-542B-402A-B120-A67A026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2061-83ED-4DAC-9D5C-3E364A27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BBF3-4EDD-4834-9065-E3556C2A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891B-25F7-4094-9E7E-BF4CBCB1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B5C4-E643-4E04-B9E8-A89B65F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73E8-3086-42C1-8B02-6A31AFB9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475-9193-4697-BEE2-4DACCBB2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B788-D38A-453C-8BFB-4488A61A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7D4B-3F37-46DC-B17F-ACC3DDB6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1982-1FBA-4867-8221-9ED10AB4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41C6-759E-479D-93AE-DBAA5A6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A901-6FD6-443D-9ADE-3D79B6E9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9F4D-2769-4198-83B5-98453C7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493C-590C-4AC1-8225-6DF459CD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D5A7-91BC-475B-ABAB-7397C777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8F2F-52A7-4D9E-B2EF-3DBD3FF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BE7-AB06-451B-AE21-3C3493AD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00D-1096-4608-9395-7F76F8B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AEB-9221-4B97-B981-E58A8CA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071-0344-4F09-8743-EEEFCA0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105-1267-4A4E-BF81-3ADC1FAB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3463-3A80-4A0A-B9C7-52867AD7C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799-7A4F-4F25-B87C-6A9CD5D9D7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BD8C-244C-4E31-94D4-64A2A2A6C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E14-C4B5-424F-ADF9-6241943C1E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0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952-2A7C-44EC-BB5F-2316D5B8CA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4051-5B22-47F6-9A06-E9EC9C0DDA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0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62A7-2496-43D9-AB97-1A008D72B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69C-8029-46DE-B244-2316A2AA22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81bd"/>
                </a:solidFill>
                <a:latin typeface="Calibri"/>
                <a:cs typeface="Times New Roman"/>
              </a:rPr>
              <a:t>الهيكل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imes New Roman"/>
              </a:rPr>
              <a:t> المؤسس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66320" y="365724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15 – 17 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فبراير/شباط 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يكل التنظيمي ل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عدد الحكومات الأعضاء لدى الصندو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18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مجلس الصندوق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32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 عضواً. المجلس الرئيسي لإدارة الصند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الجمعية العمومية للصندو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أعضاء ممثلين. تنعقد الجمعية العمومية كل 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 سنوات، وتقوم باستعراض وتقييم السياسات والعمليات، كما تقوم بتعديل وثيقة تأسيس الصندوق (بناءً على توصية المجلس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سكرتارية الصندو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رأسها الرئيس التنفيذي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صندوق، وتقوم بإدارة الصندوق، وتقييم المشروعات وعرضها على الرئيس التنفيذي و/أو المجلس للموافقة علي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يكل التنظيمي ل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وكالات الصندو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عمل الميداني، والخضوع للمساءلة أمام المجلس بشأن أنشطة المشروعات التي تقوم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الهيئة الاستشارية العلمية والفنية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قوم باستعراض ومراجعة المشروعات وتقديم </a:t>
            </a:r>
            <a:r>
              <a:rPr b="0" lang="ar-LB" sz="2200" spc="-1" strike="noStrike">
                <a:solidFill>
                  <a:srgbClr val="000000"/>
                </a:solidFill>
                <a:latin typeface="Calibri"/>
                <a:cs typeface="Arial"/>
              </a:rPr>
              <a:t>النصائح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لازم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مكتب التقييم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بع المجلس مباشرة؛ ويقوم بمراجعة واستعراض أعمال الصندوق، ويقوم بتقييم مدى فعالية هذه الأعمال“ ويضع معاييراً للتقييم؛ كما يتيح رقابة الجودة من أجل رصد وتقييم الوكالات المعن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منظمات المجتمع المدني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شارك على مستوى السياسات والمشروعا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990720"/>
            <a:ext cx="9144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طار المؤسس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-35640" y="1371600"/>
            <a:ext cx="9172440" cy="4284720"/>
            <a:chOff x="-35640" y="1371600"/>
            <a:chExt cx="9172440" cy="4284720"/>
          </a:xfrm>
        </p:grpSpPr>
        <p:sp>
          <p:nvSpPr>
            <p:cNvPr id="220" name="AutoShape 7"/>
            <p:cNvSpPr/>
            <p:nvPr/>
          </p:nvSpPr>
          <p:spPr>
            <a:xfrm>
              <a:off x="281160" y="1371600"/>
              <a:ext cx="863424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8"/>
            <p:cNvGrpSpPr/>
            <p:nvPr/>
          </p:nvGrpSpPr>
          <p:grpSpPr>
            <a:xfrm>
              <a:off x="2558160" y="2260440"/>
              <a:ext cx="720360" cy="292320"/>
              <a:chOff x="2558160" y="2260440"/>
              <a:chExt cx="720360" cy="292320"/>
            </a:xfrm>
          </p:grpSpPr>
          <p:sp>
            <p:nvSpPr>
              <p:cNvPr id="222" name="Freeform 9"/>
              <p:cNvSpPr/>
              <p:nvPr/>
            </p:nvSpPr>
            <p:spPr>
              <a:xfrm>
                <a:off x="3232800" y="2260440"/>
                <a:ext cx="45360" cy="290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0"/>
              <p:cNvSpPr/>
              <p:nvPr/>
            </p:nvSpPr>
            <p:spPr>
              <a:xfrm flipV="1">
                <a:off x="3232800" y="2504880"/>
                <a:ext cx="4536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2558160" y="2260440"/>
                <a:ext cx="720360" cy="4608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"/>
              <p:cNvSpPr/>
              <p:nvPr/>
            </p:nvSpPr>
            <p:spPr>
              <a:xfrm flipV="1">
                <a:off x="3232800" y="2260440"/>
                <a:ext cx="4536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3"/>
              <p:cNvSpPr/>
              <p:nvPr/>
            </p:nvSpPr>
            <p:spPr>
              <a:xfrm>
                <a:off x="2558160" y="2306520"/>
                <a:ext cx="67464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>
                <a:off x="2558160" y="2306520"/>
                <a:ext cx="108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"/>
              <p:cNvSpPr/>
              <p:nvPr/>
            </p:nvSpPr>
            <p:spPr>
              <a:xfrm>
                <a:off x="2558160" y="255096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"/>
              <p:cNvSpPr/>
              <p:nvPr/>
            </p:nvSpPr>
            <p:spPr>
              <a:xfrm flipV="1">
                <a:off x="3232800" y="230616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 flipH="1">
                <a:off x="2558160" y="230652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9"/>
            <p:cNvSpPr/>
            <p:nvPr/>
          </p:nvSpPr>
          <p:spPr>
            <a:xfrm>
              <a:off x="2728080" y="23572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6"/>
            <p:cNvGrpSpPr/>
            <p:nvPr/>
          </p:nvGrpSpPr>
          <p:grpSpPr>
            <a:xfrm>
              <a:off x="286920" y="2463840"/>
              <a:ext cx="1383480" cy="777600"/>
              <a:chOff x="286920" y="2463840"/>
              <a:chExt cx="1383480" cy="777600"/>
            </a:xfrm>
          </p:grpSpPr>
          <p:grpSp>
            <p:nvGrpSpPr>
              <p:cNvPr id="233" name="Group 24"/>
              <p:cNvGrpSpPr/>
              <p:nvPr/>
            </p:nvGrpSpPr>
            <p:grpSpPr>
              <a:xfrm>
                <a:off x="286920" y="2463840"/>
                <a:ext cx="1383480" cy="777600"/>
                <a:chOff x="286920" y="2463840"/>
                <a:chExt cx="1383480" cy="777600"/>
              </a:xfrm>
            </p:grpSpPr>
            <p:sp>
              <p:nvSpPr>
                <p:cNvPr id="234" name="Freeform 20"/>
                <p:cNvSpPr/>
                <p:nvPr/>
              </p:nvSpPr>
              <p:spPr>
                <a:xfrm>
                  <a:off x="1624680" y="2463840"/>
                  <a:ext cx="45360" cy="777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1"/>
                <p:cNvSpPr/>
                <p:nvPr/>
              </p:nvSpPr>
              <p:spPr>
                <a:xfrm flipV="1">
                  <a:off x="1624680" y="319536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22"/>
                <p:cNvSpPr/>
                <p:nvPr/>
              </p:nvSpPr>
              <p:spPr>
                <a:xfrm>
                  <a:off x="286920" y="2463840"/>
                  <a:ext cx="1383480" cy="46080"/>
                </a:xfrm>
                <a:custGeom>
                  <a:avLst/>
                  <a:gdLst>
                    <a:gd name="textAreaLeft" fmla="*/ 0 w 1383480"/>
                    <a:gd name="textAreaRight" fmla="*/ 1383840 w 1383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23"/>
                <p:cNvSpPr/>
                <p:nvPr/>
              </p:nvSpPr>
              <p:spPr>
                <a:xfrm flipV="1">
                  <a:off x="1624680" y="24638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8" name="Picture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920" y="2508120"/>
                <a:ext cx="133776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9" name="Rectangle 27"/>
            <p:cNvSpPr/>
            <p:nvPr/>
          </p:nvSpPr>
          <p:spPr>
            <a:xfrm>
              <a:off x="416880" y="25639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8"/>
            <p:cNvSpPr/>
            <p:nvPr/>
          </p:nvSpPr>
          <p:spPr>
            <a:xfrm>
              <a:off x="620640" y="28382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9"/>
            <p:cNvSpPr/>
            <p:nvPr/>
          </p:nvSpPr>
          <p:spPr>
            <a:xfrm>
              <a:off x="550080" y="30211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0"/>
            <p:cNvSpPr/>
            <p:nvPr/>
          </p:nvSpPr>
          <p:spPr>
            <a:xfrm>
              <a:off x="1109880" y="30211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0"/>
            <p:cNvGrpSpPr/>
            <p:nvPr/>
          </p:nvGrpSpPr>
          <p:grpSpPr>
            <a:xfrm>
              <a:off x="3903480" y="2827080"/>
              <a:ext cx="1384560" cy="1054440"/>
              <a:chOff x="3903480" y="2827080"/>
              <a:chExt cx="1384560" cy="1054440"/>
            </a:xfrm>
          </p:grpSpPr>
          <p:sp>
            <p:nvSpPr>
              <p:cNvPr id="244" name="Freeform 31"/>
              <p:cNvSpPr/>
              <p:nvPr/>
            </p:nvSpPr>
            <p:spPr>
              <a:xfrm>
                <a:off x="5242680" y="2827440"/>
                <a:ext cx="45000" cy="1052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2"/>
              <p:cNvSpPr/>
              <p:nvPr/>
            </p:nvSpPr>
            <p:spPr>
              <a:xfrm flipV="1">
                <a:off x="5242680" y="3835080"/>
                <a:ext cx="4500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3"/>
              <p:cNvSpPr/>
              <p:nvPr/>
            </p:nvSpPr>
            <p:spPr>
              <a:xfrm>
                <a:off x="3903480" y="2827440"/>
                <a:ext cx="1384560" cy="45720"/>
              </a:xfrm>
              <a:custGeom>
                <a:avLst/>
                <a:gdLst>
                  <a:gd name="textAreaLeft" fmla="*/ 0 w 1384560"/>
                  <a:gd name="textAreaRight" fmla="*/ 1384920 w 1384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34"/>
              <p:cNvSpPr/>
              <p:nvPr/>
            </p:nvSpPr>
            <p:spPr>
              <a:xfrm flipV="1">
                <a:off x="5242680" y="2827080"/>
                <a:ext cx="45000" cy="4572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5"/>
              <p:cNvSpPr/>
              <p:nvPr/>
            </p:nvSpPr>
            <p:spPr>
              <a:xfrm>
                <a:off x="3903480" y="2873160"/>
                <a:ext cx="133920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36"/>
              <p:cNvSpPr/>
              <p:nvPr/>
            </p:nvSpPr>
            <p:spPr>
              <a:xfrm>
                <a:off x="3903480" y="2873160"/>
                <a:ext cx="108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37"/>
              <p:cNvSpPr/>
              <p:nvPr/>
            </p:nvSpPr>
            <p:spPr>
              <a:xfrm>
                <a:off x="3903480" y="387972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8"/>
              <p:cNvSpPr/>
              <p:nvPr/>
            </p:nvSpPr>
            <p:spPr>
              <a:xfrm flipV="1">
                <a:off x="5242680" y="2873160"/>
                <a:ext cx="108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9"/>
              <p:cNvSpPr/>
              <p:nvPr/>
            </p:nvSpPr>
            <p:spPr>
              <a:xfrm flipH="1">
                <a:off x="3903480" y="287316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41"/>
            <p:cNvSpPr/>
            <p:nvPr/>
          </p:nvSpPr>
          <p:spPr>
            <a:xfrm>
              <a:off x="4414680" y="32018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2"/>
            <p:cNvSpPr/>
            <p:nvPr/>
          </p:nvSpPr>
          <p:spPr>
            <a:xfrm>
              <a:off x="4177800" y="338436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52"/>
            <p:cNvGrpSpPr/>
            <p:nvPr/>
          </p:nvGrpSpPr>
          <p:grpSpPr>
            <a:xfrm>
              <a:off x="5627520" y="2568600"/>
              <a:ext cx="1501560" cy="3068640"/>
              <a:chOff x="5627520" y="2568600"/>
              <a:chExt cx="1501560" cy="3068640"/>
            </a:xfrm>
          </p:grpSpPr>
          <p:sp>
            <p:nvSpPr>
              <p:cNvPr id="256" name="Freeform 43"/>
              <p:cNvSpPr/>
              <p:nvPr/>
            </p:nvSpPr>
            <p:spPr>
              <a:xfrm>
                <a:off x="7084800" y="2568600"/>
                <a:ext cx="43920" cy="3066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4"/>
              <p:cNvSpPr/>
              <p:nvPr/>
            </p:nvSpPr>
            <p:spPr>
              <a:xfrm flipV="1">
                <a:off x="7084800" y="5590800"/>
                <a:ext cx="4392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5"/>
              <p:cNvSpPr/>
              <p:nvPr/>
            </p:nvSpPr>
            <p:spPr>
              <a:xfrm>
                <a:off x="5627880" y="2568600"/>
                <a:ext cx="1501200" cy="46080"/>
              </a:xfrm>
              <a:custGeom>
                <a:avLst/>
                <a:gdLst>
                  <a:gd name="textAreaLeft" fmla="*/ 0 w 1501200"/>
                  <a:gd name="textAreaRight" fmla="*/ 1501560 w 1501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6"/>
              <p:cNvSpPr/>
              <p:nvPr/>
            </p:nvSpPr>
            <p:spPr>
              <a:xfrm flipV="1">
                <a:off x="7084800" y="2568600"/>
                <a:ext cx="4392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47"/>
              <p:cNvSpPr/>
              <p:nvPr/>
            </p:nvSpPr>
            <p:spPr>
              <a:xfrm>
                <a:off x="5627880" y="2614680"/>
                <a:ext cx="145692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48"/>
              <p:cNvSpPr/>
              <p:nvPr/>
            </p:nvSpPr>
            <p:spPr>
              <a:xfrm>
                <a:off x="5627880" y="2614680"/>
                <a:ext cx="1080" cy="30207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49"/>
              <p:cNvSpPr/>
              <p:nvPr/>
            </p:nvSpPr>
            <p:spPr>
              <a:xfrm>
                <a:off x="5627880" y="5635440"/>
                <a:ext cx="145692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0"/>
              <p:cNvSpPr/>
              <p:nvPr/>
            </p:nvSpPr>
            <p:spPr>
              <a:xfrm flipV="1">
                <a:off x="7084800" y="2614320"/>
                <a:ext cx="1440" cy="30207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51"/>
              <p:cNvSpPr/>
              <p:nvPr/>
            </p:nvSpPr>
            <p:spPr>
              <a:xfrm flipH="1">
                <a:off x="5627520" y="2614680"/>
                <a:ext cx="14569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53"/>
            <p:cNvSpPr/>
            <p:nvPr/>
          </p:nvSpPr>
          <p:spPr>
            <a:xfrm>
              <a:off x="5757840" y="26733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5764680" y="2948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5"/>
            <p:cNvSpPr/>
            <p:nvPr/>
          </p:nvSpPr>
          <p:spPr>
            <a:xfrm>
              <a:off x="5814000" y="29430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6"/>
            <p:cNvSpPr/>
            <p:nvPr/>
          </p:nvSpPr>
          <p:spPr>
            <a:xfrm>
              <a:off x="5764680" y="32227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5814000" y="3217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8"/>
            <p:cNvSpPr/>
            <p:nvPr/>
          </p:nvSpPr>
          <p:spPr>
            <a:xfrm>
              <a:off x="5764680" y="3497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9"/>
            <p:cNvSpPr/>
            <p:nvPr/>
          </p:nvSpPr>
          <p:spPr>
            <a:xfrm>
              <a:off x="5812920" y="34923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0"/>
            <p:cNvSpPr/>
            <p:nvPr/>
          </p:nvSpPr>
          <p:spPr>
            <a:xfrm>
              <a:off x="5762880" y="37670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1"/>
            <p:cNvSpPr/>
            <p:nvPr/>
          </p:nvSpPr>
          <p:spPr>
            <a:xfrm>
              <a:off x="5764680" y="40482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2"/>
            <p:cNvSpPr/>
            <p:nvPr/>
          </p:nvSpPr>
          <p:spPr>
            <a:xfrm>
              <a:off x="5814720" y="40431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3"/>
            <p:cNvSpPr/>
            <p:nvPr/>
          </p:nvSpPr>
          <p:spPr>
            <a:xfrm>
              <a:off x="5764680" y="43210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4"/>
            <p:cNvSpPr/>
            <p:nvPr/>
          </p:nvSpPr>
          <p:spPr>
            <a:xfrm>
              <a:off x="5814000" y="43164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5"/>
            <p:cNvSpPr/>
            <p:nvPr/>
          </p:nvSpPr>
          <p:spPr>
            <a:xfrm>
              <a:off x="5764680" y="4595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66"/>
            <p:cNvSpPr/>
            <p:nvPr/>
          </p:nvSpPr>
          <p:spPr>
            <a:xfrm>
              <a:off x="5814720" y="45910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7"/>
            <p:cNvSpPr/>
            <p:nvPr/>
          </p:nvSpPr>
          <p:spPr>
            <a:xfrm>
              <a:off x="5764680" y="4870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8"/>
            <p:cNvSpPr/>
            <p:nvPr/>
          </p:nvSpPr>
          <p:spPr>
            <a:xfrm>
              <a:off x="5814720" y="48657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9"/>
            <p:cNvSpPr/>
            <p:nvPr/>
          </p:nvSpPr>
          <p:spPr>
            <a:xfrm>
              <a:off x="5764680" y="51465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0"/>
            <p:cNvSpPr/>
            <p:nvPr/>
          </p:nvSpPr>
          <p:spPr>
            <a:xfrm>
              <a:off x="5815440" y="51418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1"/>
            <p:cNvSpPr/>
            <p:nvPr/>
          </p:nvSpPr>
          <p:spPr>
            <a:xfrm>
              <a:off x="5764680" y="5421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72"/>
            <p:cNvSpPr/>
            <p:nvPr/>
          </p:nvSpPr>
          <p:spPr>
            <a:xfrm>
              <a:off x="5814360" y="54165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79"/>
            <p:cNvGrpSpPr/>
            <p:nvPr/>
          </p:nvGrpSpPr>
          <p:grpSpPr>
            <a:xfrm>
              <a:off x="7538040" y="2469960"/>
              <a:ext cx="1362600" cy="1689120"/>
              <a:chOff x="7538040" y="2469960"/>
              <a:chExt cx="1362600" cy="1689120"/>
            </a:xfrm>
          </p:grpSpPr>
          <p:grpSp>
            <p:nvGrpSpPr>
              <p:cNvPr id="286" name="Group 77"/>
              <p:cNvGrpSpPr/>
              <p:nvPr/>
            </p:nvGrpSpPr>
            <p:grpSpPr>
              <a:xfrm>
                <a:off x="7538040" y="2469960"/>
                <a:ext cx="1362600" cy="1689120"/>
                <a:chOff x="7538040" y="2469960"/>
                <a:chExt cx="1362600" cy="1689120"/>
              </a:xfrm>
            </p:grpSpPr>
            <p:sp>
              <p:nvSpPr>
                <p:cNvPr id="287" name="Freeform 73"/>
                <p:cNvSpPr/>
                <p:nvPr/>
              </p:nvSpPr>
              <p:spPr>
                <a:xfrm>
                  <a:off x="8856720" y="2469960"/>
                  <a:ext cx="43560" cy="168912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74"/>
                <p:cNvSpPr/>
                <p:nvPr/>
              </p:nvSpPr>
              <p:spPr>
                <a:xfrm flipV="1">
                  <a:off x="8856720" y="4114440"/>
                  <a:ext cx="4356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75"/>
                <p:cNvSpPr/>
                <p:nvPr/>
              </p:nvSpPr>
              <p:spPr>
                <a:xfrm>
                  <a:off x="7538040" y="2469960"/>
                  <a:ext cx="1362600" cy="44640"/>
                </a:xfrm>
                <a:custGeom>
                  <a:avLst/>
                  <a:gdLst>
                    <a:gd name="textAreaLeft" fmla="*/ 0 w 1362600"/>
                    <a:gd name="textAreaRight" fmla="*/ 1362960 w 1362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76"/>
                <p:cNvSpPr/>
                <p:nvPr/>
              </p:nvSpPr>
              <p:spPr>
                <a:xfrm flipV="1">
                  <a:off x="8856720" y="2469960"/>
                  <a:ext cx="43560" cy="4464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1" name="Picture 7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38040" y="2512800"/>
                <a:ext cx="131868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Rectangle 80"/>
            <p:cNvSpPr/>
            <p:nvPr/>
          </p:nvSpPr>
          <p:spPr>
            <a:xfrm>
              <a:off x="7895520" y="25686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81"/>
            <p:cNvSpPr/>
            <p:nvPr/>
          </p:nvSpPr>
          <p:spPr>
            <a:xfrm>
              <a:off x="7862400" y="28432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2"/>
            <p:cNvSpPr/>
            <p:nvPr/>
          </p:nvSpPr>
          <p:spPr>
            <a:xfrm>
              <a:off x="7820640" y="30258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3"/>
            <p:cNvSpPr/>
            <p:nvPr/>
          </p:nvSpPr>
          <p:spPr>
            <a:xfrm>
              <a:off x="8052840" y="320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4"/>
            <p:cNvSpPr/>
            <p:nvPr/>
          </p:nvSpPr>
          <p:spPr>
            <a:xfrm>
              <a:off x="8305200" y="320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5"/>
            <p:cNvSpPr/>
            <p:nvPr/>
          </p:nvSpPr>
          <p:spPr>
            <a:xfrm>
              <a:off x="7832880" y="339228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7695360" y="3573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7948080" y="35733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8390160" y="35733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860796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865800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1"/>
            <p:cNvSpPr/>
            <p:nvPr/>
          </p:nvSpPr>
          <p:spPr>
            <a:xfrm>
              <a:off x="7760160" y="37558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7989120" y="393840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02"/>
            <p:cNvGrpSpPr/>
            <p:nvPr/>
          </p:nvGrpSpPr>
          <p:grpSpPr>
            <a:xfrm>
              <a:off x="2401560" y="4162320"/>
              <a:ext cx="1035720" cy="442800"/>
              <a:chOff x="2401560" y="4162320"/>
              <a:chExt cx="1035720" cy="442800"/>
            </a:xfrm>
          </p:grpSpPr>
          <p:sp>
            <p:nvSpPr>
              <p:cNvPr id="306" name="Freeform 93"/>
              <p:cNvSpPr/>
              <p:nvPr/>
            </p:nvSpPr>
            <p:spPr>
              <a:xfrm>
                <a:off x="3391560" y="4162320"/>
                <a:ext cx="45360" cy="4413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94"/>
              <p:cNvSpPr/>
              <p:nvPr/>
            </p:nvSpPr>
            <p:spPr>
              <a:xfrm flipV="1">
                <a:off x="3391560" y="4559040"/>
                <a:ext cx="4536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5"/>
              <p:cNvSpPr/>
              <p:nvPr/>
            </p:nvSpPr>
            <p:spPr>
              <a:xfrm>
                <a:off x="2401920" y="4162320"/>
                <a:ext cx="1035360" cy="44640"/>
              </a:xfrm>
              <a:custGeom>
                <a:avLst/>
                <a:gdLst>
                  <a:gd name="textAreaLeft" fmla="*/ 0 w 1035360"/>
                  <a:gd name="textAreaRight" fmla="*/ 1035720 w 1035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96"/>
              <p:cNvSpPr/>
              <p:nvPr/>
            </p:nvSpPr>
            <p:spPr>
              <a:xfrm flipV="1">
                <a:off x="3391560" y="4162320"/>
                <a:ext cx="45360" cy="4464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97"/>
              <p:cNvSpPr/>
              <p:nvPr/>
            </p:nvSpPr>
            <p:spPr>
              <a:xfrm>
                <a:off x="2401920" y="4206960"/>
                <a:ext cx="989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98"/>
              <p:cNvSpPr/>
              <p:nvPr/>
            </p:nvSpPr>
            <p:spPr>
              <a:xfrm>
                <a:off x="2401920" y="4206960"/>
                <a:ext cx="1080" cy="3967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99"/>
              <p:cNvSpPr/>
              <p:nvPr/>
            </p:nvSpPr>
            <p:spPr>
              <a:xfrm>
                <a:off x="2401920" y="460368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00"/>
              <p:cNvSpPr/>
              <p:nvPr/>
            </p:nvSpPr>
            <p:spPr>
              <a:xfrm flipV="1">
                <a:off x="3391560" y="4206960"/>
                <a:ext cx="1080" cy="3967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01"/>
              <p:cNvSpPr/>
              <p:nvPr/>
            </p:nvSpPr>
            <p:spPr>
              <a:xfrm flipH="1">
                <a:off x="2401560" y="420696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03"/>
            <p:cNvSpPr/>
            <p:nvPr/>
          </p:nvSpPr>
          <p:spPr>
            <a:xfrm>
              <a:off x="2576160" y="42577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4"/>
            <p:cNvSpPr/>
            <p:nvPr/>
          </p:nvSpPr>
          <p:spPr>
            <a:xfrm>
              <a:off x="2717640" y="44100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11"/>
            <p:cNvGrpSpPr/>
            <p:nvPr/>
          </p:nvGrpSpPr>
          <p:grpSpPr>
            <a:xfrm>
              <a:off x="286920" y="3619440"/>
              <a:ext cx="1425600" cy="777960"/>
              <a:chOff x="286920" y="3619440"/>
              <a:chExt cx="1425600" cy="777960"/>
            </a:xfrm>
          </p:grpSpPr>
          <p:grpSp>
            <p:nvGrpSpPr>
              <p:cNvPr id="318" name="Group 109"/>
              <p:cNvGrpSpPr/>
              <p:nvPr/>
            </p:nvGrpSpPr>
            <p:grpSpPr>
              <a:xfrm>
                <a:off x="286920" y="3619440"/>
                <a:ext cx="1425600" cy="777960"/>
                <a:chOff x="286920" y="3619440"/>
                <a:chExt cx="1425600" cy="777960"/>
              </a:xfrm>
            </p:grpSpPr>
            <p:sp>
              <p:nvSpPr>
                <p:cNvPr id="319" name="Freeform 105"/>
                <p:cNvSpPr/>
                <p:nvPr/>
              </p:nvSpPr>
              <p:spPr>
                <a:xfrm>
                  <a:off x="1666800" y="3619440"/>
                  <a:ext cx="45360" cy="7779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06"/>
                <p:cNvSpPr/>
                <p:nvPr/>
              </p:nvSpPr>
              <p:spPr>
                <a:xfrm flipV="1">
                  <a:off x="1666800" y="435276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07"/>
                <p:cNvSpPr/>
                <p:nvPr/>
              </p:nvSpPr>
              <p:spPr>
                <a:xfrm>
                  <a:off x="286920" y="3619440"/>
                  <a:ext cx="1425600" cy="46080"/>
                </a:xfrm>
                <a:custGeom>
                  <a:avLst/>
                  <a:gdLst>
                    <a:gd name="textAreaLeft" fmla="*/ 0 w 1425600"/>
                    <a:gd name="textAreaRight" fmla="*/ 1425960 w 1425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08"/>
                <p:cNvSpPr/>
                <p:nvPr/>
              </p:nvSpPr>
              <p:spPr>
                <a:xfrm flipV="1">
                  <a:off x="1666800" y="36194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3" name="Picture 1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920" y="3663720"/>
                <a:ext cx="13798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Rectangle 112"/>
            <p:cNvSpPr/>
            <p:nvPr/>
          </p:nvSpPr>
          <p:spPr>
            <a:xfrm>
              <a:off x="517680" y="37195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13"/>
            <p:cNvSpPr/>
            <p:nvPr/>
          </p:nvSpPr>
          <p:spPr>
            <a:xfrm>
              <a:off x="641520" y="39942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4"/>
            <p:cNvSpPr/>
            <p:nvPr/>
          </p:nvSpPr>
          <p:spPr>
            <a:xfrm>
              <a:off x="466920" y="41767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5"/>
            <p:cNvSpPr/>
            <p:nvPr/>
          </p:nvSpPr>
          <p:spPr>
            <a:xfrm>
              <a:off x="1231200" y="41767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22"/>
            <p:cNvGrpSpPr/>
            <p:nvPr/>
          </p:nvGrpSpPr>
          <p:grpSpPr>
            <a:xfrm>
              <a:off x="2175480" y="2773080"/>
              <a:ext cx="1379880" cy="1143360"/>
              <a:chOff x="2175480" y="2773080"/>
              <a:chExt cx="1379880" cy="1143360"/>
            </a:xfrm>
          </p:grpSpPr>
          <p:grpSp>
            <p:nvGrpSpPr>
              <p:cNvPr id="329" name="Group 120"/>
              <p:cNvGrpSpPr/>
              <p:nvPr/>
            </p:nvGrpSpPr>
            <p:grpSpPr>
              <a:xfrm>
                <a:off x="2175480" y="2773080"/>
                <a:ext cx="1379880" cy="1143360"/>
                <a:chOff x="2175480" y="2773080"/>
                <a:chExt cx="1379880" cy="1143360"/>
              </a:xfrm>
            </p:grpSpPr>
            <p:sp>
              <p:nvSpPr>
                <p:cNvPr id="330" name="Freeform 116"/>
                <p:cNvSpPr/>
                <p:nvPr/>
              </p:nvSpPr>
              <p:spPr>
                <a:xfrm>
                  <a:off x="3509640" y="2773440"/>
                  <a:ext cx="45360" cy="11430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17"/>
                <p:cNvSpPr/>
                <p:nvPr/>
              </p:nvSpPr>
              <p:spPr>
                <a:xfrm flipV="1">
                  <a:off x="3509640" y="387180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18"/>
                <p:cNvSpPr/>
                <p:nvPr/>
              </p:nvSpPr>
              <p:spPr>
                <a:xfrm>
                  <a:off x="2175480" y="2773440"/>
                  <a:ext cx="1379880" cy="45720"/>
                </a:xfrm>
                <a:custGeom>
                  <a:avLst/>
                  <a:gdLst>
                    <a:gd name="textAreaLeft" fmla="*/ 0 w 1379880"/>
                    <a:gd name="textAreaRight" fmla="*/ 1380240 w 13798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19"/>
                <p:cNvSpPr/>
                <p:nvPr/>
              </p:nvSpPr>
              <p:spPr>
                <a:xfrm flipV="1">
                  <a:off x="3509640" y="277308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4" name="Picture 121" descr=""/>
              <p:cNvPicPr/>
              <p:nvPr/>
            </p:nvPicPr>
            <p:blipFill>
              <a:blip r:embed="rId4"/>
              <a:stretch/>
            </p:blipFill>
            <p:spPr>
              <a:xfrm>
                <a:off x="2175480" y="2817720"/>
                <a:ext cx="133416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Rectangle 123"/>
            <p:cNvSpPr/>
            <p:nvPr/>
          </p:nvSpPr>
          <p:spPr>
            <a:xfrm>
              <a:off x="2386080" y="287316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24"/>
            <p:cNvSpPr/>
            <p:nvPr/>
          </p:nvSpPr>
          <p:spPr>
            <a:xfrm>
              <a:off x="2507760" y="31478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25"/>
            <p:cNvSpPr/>
            <p:nvPr/>
          </p:nvSpPr>
          <p:spPr>
            <a:xfrm>
              <a:off x="2593800" y="333036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6"/>
            <p:cNvSpPr/>
            <p:nvPr/>
          </p:nvSpPr>
          <p:spPr>
            <a:xfrm>
              <a:off x="2529720" y="35132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7"/>
            <p:cNvSpPr/>
            <p:nvPr/>
          </p:nvSpPr>
          <p:spPr>
            <a:xfrm>
              <a:off x="2381400" y="36972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28"/>
            <p:cNvSpPr/>
            <p:nvPr/>
          </p:nvSpPr>
          <p:spPr>
            <a:xfrm>
              <a:off x="1687680" y="4011480"/>
              <a:ext cx="24660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9"/>
            <p:cNvSpPr/>
            <p:nvPr/>
          </p:nvSpPr>
          <p:spPr>
            <a:xfrm>
              <a:off x="1676520" y="2855880"/>
              <a:ext cx="24660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30"/>
            <p:cNvSpPr/>
            <p:nvPr/>
          </p:nvSpPr>
          <p:spPr>
            <a:xfrm>
              <a:off x="3489480" y="3317760"/>
              <a:ext cx="423000" cy="763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1"/>
            <p:cNvSpPr/>
            <p:nvPr/>
          </p:nvSpPr>
          <p:spPr>
            <a:xfrm>
              <a:off x="5245560" y="3314520"/>
              <a:ext cx="404640" cy="763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32"/>
            <p:cNvSpPr/>
            <p:nvPr/>
          </p:nvSpPr>
          <p:spPr>
            <a:xfrm>
              <a:off x="7079040" y="3314520"/>
              <a:ext cx="459000" cy="763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3"/>
            <p:cNvSpPr/>
            <p:nvPr/>
          </p:nvSpPr>
          <p:spPr>
            <a:xfrm>
              <a:off x="2874240" y="3908520"/>
              <a:ext cx="75600" cy="24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4"/>
            <p:cNvSpPr/>
            <p:nvPr/>
          </p:nvSpPr>
          <p:spPr>
            <a:xfrm>
              <a:off x="2846160" y="2535120"/>
              <a:ext cx="73800" cy="247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5"/>
            <p:cNvSpPr/>
            <p:nvPr/>
          </p:nvSpPr>
          <p:spPr>
            <a:xfrm>
              <a:off x="320040" y="1430280"/>
              <a:ext cx="1361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توجي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إستراتيج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36"/>
            <p:cNvSpPr/>
            <p:nvPr/>
          </p:nvSpPr>
          <p:spPr>
            <a:xfrm>
              <a:off x="529200" y="1706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7"/>
            <p:cNvSpPr/>
            <p:nvPr/>
          </p:nvSpPr>
          <p:spPr>
            <a:xfrm>
              <a:off x="3676320" y="1506600"/>
              <a:ext cx="94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عمل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8"/>
            <p:cNvSpPr/>
            <p:nvPr/>
          </p:nvSpPr>
          <p:spPr>
            <a:xfrm>
              <a:off x="7486560" y="15066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39"/>
            <p:cNvSpPr/>
            <p:nvPr/>
          </p:nvSpPr>
          <p:spPr>
            <a:xfrm>
              <a:off x="1934640" y="284796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40"/>
            <p:cNvSpPr/>
            <p:nvPr/>
          </p:nvSpPr>
          <p:spPr>
            <a:xfrm>
              <a:off x="1942560" y="3390840"/>
              <a:ext cx="232920" cy="76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1"/>
            <p:cNvSpPr/>
            <p:nvPr/>
          </p:nvSpPr>
          <p:spPr>
            <a:xfrm>
              <a:off x="2169000" y="1562040"/>
              <a:ext cx="912600" cy="76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2"/>
            <p:cNvSpPr/>
            <p:nvPr/>
          </p:nvSpPr>
          <p:spPr>
            <a:xfrm>
              <a:off x="5719320" y="1562040"/>
              <a:ext cx="912240" cy="7632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52"/>
            <p:cNvGrpSpPr/>
            <p:nvPr/>
          </p:nvGrpSpPr>
          <p:grpSpPr>
            <a:xfrm>
              <a:off x="2558160" y="2260440"/>
              <a:ext cx="720360" cy="292320"/>
              <a:chOff x="2558160" y="2260440"/>
              <a:chExt cx="720360" cy="292320"/>
            </a:xfrm>
          </p:grpSpPr>
          <p:sp>
            <p:nvSpPr>
              <p:cNvPr id="356" name="Freeform 143"/>
              <p:cNvSpPr/>
              <p:nvPr/>
            </p:nvSpPr>
            <p:spPr>
              <a:xfrm>
                <a:off x="3232800" y="2260440"/>
                <a:ext cx="45360" cy="290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44"/>
              <p:cNvSpPr/>
              <p:nvPr/>
            </p:nvSpPr>
            <p:spPr>
              <a:xfrm flipV="1">
                <a:off x="3232800" y="2504880"/>
                <a:ext cx="4536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5"/>
              <p:cNvSpPr/>
              <p:nvPr/>
            </p:nvSpPr>
            <p:spPr>
              <a:xfrm>
                <a:off x="2558160" y="2260440"/>
                <a:ext cx="720360" cy="4608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46"/>
              <p:cNvSpPr/>
              <p:nvPr/>
            </p:nvSpPr>
            <p:spPr>
              <a:xfrm flipV="1">
                <a:off x="3232800" y="2260440"/>
                <a:ext cx="4536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47"/>
              <p:cNvSpPr/>
              <p:nvPr/>
            </p:nvSpPr>
            <p:spPr>
              <a:xfrm>
                <a:off x="2558160" y="2306520"/>
                <a:ext cx="67464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48"/>
              <p:cNvSpPr/>
              <p:nvPr/>
            </p:nvSpPr>
            <p:spPr>
              <a:xfrm>
                <a:off x="2558160" y="2306520"/>
                <a:ext cx="108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49"/>
              <p:cNvSpPr/>
              <p:nvPr/>
            </p:nvSpPr>
            <p:spPr>
              <a:xfrm>
                <a:off x="2558160" y="255096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50"/>
              <p:cNvSpPr/>
              <p:nvPr/>
            </p:nvSpPr>
            <p:spPr>
              <a:xfrm flipV="1">
                <a:off x="3232800" y="230616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51"/>
              <p:cNvSpPr/>
              <p:nvPr/>
            </p:nvSpPr>
            <p:spPr>
              <a:xfrm flipH="1">
                <a:off x="2558160" y="230652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153"/>
            <p:cNvSpPr/>
            <p:nvPr/>
          </p:nvSpPr>
          <p:spPr>
            <a:xfrm>
              <a:off x="2022840" y="2357280"/>
              <a:ext cx="201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60"/>
            <p:cNvGrpSpPr/>
            <p:nvPr/>
          </p:nvGrpSpPr>
          <p:grpSpPr>
            <a:xfrm>
              <a:off x="286920" y="2463840"/>
              <a:ext cx="1383480" cy="777600"/>
              <a:chOff x="286920" y="2463840"/>
              <a:chExt cx="1383480" cy="777600"/>
            </a:xfrm>
          </p:grpSpPr>
          <p:grpSp>
            <p:nvGrpSpPr>
              <p:cNvPr id="367" name="Group 158"/>
              <p:cNvGrpSpPr/>
              <p:nvPr/>
            </p:nvGrpSpPr>
            <p:grpSpPr>
              <a:xfrm>
                <a:off x="286920" y="2463840"/>
                <a:ext cx="1383480" cy="777600"/>
                <a:chOff x="286920" y="2463840"/>
                <a:chExt cx="1383480" cy="777600"/>
              </a:xfrm>
            </p:grpSpPr>
            <p:sp>
              <p:nvSpPr>
                <p:cNvPr id="368" name="Freeform 154"/>
                <p:cNvSpPr/>
                <p:nvPr/>
              </p:nvSpPr>
              <p:spPr>
                <a:xfrm>
                  <a:off x="1624680" y="2463840"/>
                  <a:ext cx="45360" cy="777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55"/>
                <p:cNvSpPr/>
                <p:nvPr/>
              </p:nvSpPr>
              <p:spPr>
                <a:xfrm flipV="1">
                  <a:off x="1624680" y="319536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56"/>
                <p:cNvSpPr/>
                <p:nvPr/>
              </p:nvSpPr>
              <p:spPr>
                <a:xfrm>
                  <a:off x="286920" y="2463840"/>
                  <a:ext cx="1383480" cy="46080"/>
                </a:xfrm>
                <a:custGeom>
                  <a:avLst/>
                  <a:gdLst>
                    <a:gd name="textAreaLeft" fmla="*/ 0 w 1383480"/>
                    <a:gd name="textAreaRight" fmla="*/ 1383840 w 1383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7"/>
                <p:cNvSpPr/>
                <p:nvPr/>
              </p:nvSpPr>
              <p:spPr>
                <a:xfrm flipV="1">
                  <a:off x="1624680" y="24638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159" descr=""/>
              <p:cNvPicPr/>
              <p:nvPr/>
            </p:nvPicPr>
            <p:blipFill>
              <a:blip r:embed="rId5"/>
              <a:stretch/>
            </p:blipFill>
            <p:spPr>
              <a:xfrm>
                <a:off x="286920" y="2508120"/>
                <a:ext cx="133776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161"/>
            <p:cNvSpPr/>
            <p:nvPr/>
          </p:nvSpPr>
          <p:spPr>
            <a:xfrm>
              <a:off x="304560" y="2563920"/>
              <a:ext cx="1437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جمعية العمومية ل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62"/>
            <p:cNvSpPr/>
            <p:nvPr/>
          </p:nvSpPr>
          <p:spPr>
            <a:xfrm>
              <a:off x="912240" y="28382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63"/>
            <p:cNvSpPr/>
            <p:nvPr/>
          </p:nvSpPr>
          <p:spPr>
            <a:xfrm>
              <a:off x="-35640" y="3021120"/>
              <a:ext cx="172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نقاط الاتصال السياس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64"/>
            <p:cNvSpPr/>
            <p:nvPr/>
          </p:nvSpPr>
          <p:spPr>
            <a:xfrm>
              <a:off x="1111680" y="30211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4"/>
            <p:cNvGrpSpPr/>
            <p:nvPr/>
          </p:nvGrpSpPr>
          <p:grpSpPr>
            <a:xfrm>
              <a:off x="3903480" y="2827080"/>
              <a:ext cx="1384560" cy="1054440"/>
              <a:chOff x="3903480" y="2827080"/>
              <a:chExt cx="1384560" cy="1054440"/>
            </a:xfrm>
          </p:grpSpPr>
          <p:sp>
            <p:nvSpPr>
              <p:cNvPr id="378" name="Freeform 165"/>
              <p:cNvSpPr/>
              <p:nvPr/>
            </p:nvSpPr>
            <p:spPr>
              <a:xfrm>
                <a:off x="5242680" y="2827440"/>
                <a:ext cx="45000" cy="1052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66"/>
              <p:cNvSpPr/>
              <p:nvPr/>
            </p:nvSpPr>
            <p:spPr>
              <a:xfrm flipV="1">
                <a:off x="5242680" y="3835080"/>
                <a:ext cx="4500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7"/>
              <p:cNvSpPr/>
              <p:nvPr/>
            </p:nvSpPr>
            <p:spPr>
              <a:xfrm>
                <a:off x="3903480" y="2827440"/>
                <a:ext cx="1384560" cy="45720"/>
              </a:xfrm>
              <a:custGeom>
                <a:avLst/>
                <a:gdLst>
                  <a:gd name="textAreaLeft" fmla="*/ 0 w 1384560"/>
                  <a:gd name="textAreaRight" fmla="*/ 1384920 w 1384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68"/>
              <p:cNvSpPr/>
              <p:nvPr/>
            </p:nvSpPr>
            <p:spPr>
              <a:xfrm flipV="1">
                <a:off x="5242680" y="2827080"/>
                <a:ext cx="45000" cy="4572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69"/>
              <p:cNvSpPr/>
              <p:nvPr/>
            </p:nvSpPr>
            <p:spPr>
              <a:xfrm>
                <a:off x="3903480" y="2873160"/>
                <a:ext cx="133920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70"/>
              <p:cNvSpPr/>
              <p:nvPr/>
            </p:nvSpPr>
            <p:spPr>
              <a:xfrm>
                <a:off x="3903480" y="2873160"/>
                <a:ext cx="108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71"/>
              <p:cNvSpPr/>
              <p:nvPr/>
            </p:nvSpPr>
            <p:spPr>
              <a:xfrm>
                <a:off x="3903480" y="387972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2"/>
              <p:cNvSpPr/>
              <p:nvPr/>
            </p:nvSpPr>
            <p:spPr>
              <a:xfrm flipV="1">
                <a:off x="5242680" y="2873160"/>
                <a:ext cx="108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73"/>
              <p:cNvSpPr/>
              <p:nvPr/>
            </p:nvSpPr>
            <p:spPr>
              <a:xfrm flipH="1">
                <a:off x="3903480" y="287316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Rectangle 175"/>
            <p:cNvSpPr/>
            <p:nvPr/>
          </p:nvSpPr>
          <p:spPr>
            <a:xfrm>
              <a:off x="4305960" y="3201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سكرتار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6"/>
            <p:cNvSpPr/>
            <p:nvPr/>
          </p:nvSpPr>
          <p:spPr>
            <a:xfrm>
              <a:off x="4317840" y="33843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186"/>
            <p:cNvGrpSpPr/>
            <p:nvPr/>
          </p:nvGrpSpPr>
          <p:grpSpPr>
            <a:xfrm>
              <a:off x="5627520" y="2568600"/>
              <a:ext cx="1501560" cy="3068640"/>
              <a:chOff x="5627520" y="2568600"/>
              <a:chExt cx="1501560" cy="3068640"/>
            </a:xfrm>
          </p:grpSpPr>
          <p:sp>
            <p:nvSpPr>
              <p:cNvPr id="390" name="Freeform 177"/>
              <p:cNvSpPr/>
              <p:nvPr/>
            </p:nvSpPr>
            <p:spPr>
              <a:xfrm>
                <a:off x="7084800" y="2568600"/>
                <a:ext cx="43920" cy="3066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78"/>
              <p:cNvSpPr/>
              <p:nvPr/>
            </p:nvSpPr>
            <p:spPr>
              <a:xfrm flipV="1">
                <a:off x="7084800" y="5590800"/>
                <a:ext cx="4392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9"/>
              <p:cNvSpPr/>
              <p:nvPr/>
            </p:nvSpPr>
            <p:spPr>
              <a:xfrm>
                <a:off x="5627880" y="2568600"/>
                <a:ext cx="1501200" cy="46080"/>
              </a:xfrm>
              <a:custGeom>
                <a:avLst/>
                <a:gdLst>
                  <a:gd name="textAreaLeft" fmla="*/ 0 w 1501200"/>
                  <a:gd name="textAreaRight" fmla="*/ 1501560 w 1501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80"/>
              <p:cNvSpPr/>
              <p:nvPr/>
            </p:nvSpPr>
            <p:spPr>
              <a:xfrm flipV="1">
                <a:off x="7084800" y="2568600"/>
                <a:ext cx="4392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81"/>
              <p:cNvSpPr/>
              <p:nvPr/>
            </p:nvSpPr>
            <p:spPr>
              <a:xfrm>
                <a:off x="5627880" y="2614680"/>
                <a:ext cx="145692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82"/>
              <p:cNvSpPr/>
              <p:nvPr/>
            </p:nvSpPr>
            <p:spPr>
              <a:xfrm>
                <a:off x="5627880" y="2614680"/>
                <a:ext cx="1080" cy="30207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83"/>
              <p:cNvSpPr/>
              <p:nvPr/>
            </p:nvSpPr>
            <p:spPr>
              <a:xfrm>
                <a:off x="5627880" y="5635440"/>
                <a:ext cx="145692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84"/>
              <p:cNvSpPr/>
              <p:nvPr/>
            </p:nvSpPr>
            <p:spPr>
              <a:xfrm flipV="1">
                <a:off x="7084800" y="2614320"/>
                <a:ext cx="1440" cy="30207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85"/>
              <p:cNvSpPr/>
              <p:nvPr/>
            </p:nvSpPr>
            <p:spPr>
              <a:xfrm flipH="1">
                <a:off x="5627520" y="2614680"/>
                <a:ext cx="14569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187"/>
            <p:cNvSpPr/>
            <p:nvPr/>
          </p:nvSpPr>
          <p:spPr>
            <a:xfrm>
              <a:off x="5571360" y="2673360"/>
              <a:ext cx="119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وكالات</a:t>
              </a:r>
              <a:r>
                <a:rPr b="0" lang="ar-EG" sz="1200" spc="-1" strike="noStrike">
                  <a:solidFill>
                    <a:srgbClr val="605631"/>
                  </a:solidFill>
                  <a:latin typeface="Arial"/>
                </a:rPr>
                <a:t> </a:t>
              </a: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88"/>
            <p:cNvSpPr/>
            <p:nvPr/>
          </p:nvSpPr>
          <p:spPr>
            <a:xfrm>
              <a:off x="5764680" y="2948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89"/>
            <p:cNvSpPr/>
            <p:nvPr/>
          </p:nvSpPr>
          <p:spPr>
            <a:xfrm>
              <a:off x="5442480" y="2943000"/>
              <a:ext cx="213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رنامج الأمم المتحدة الإنمائ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0"/>
            <p:cNvSpPr/>
            <p:nvPr/>
          </p:nvSpPr>
          <p:spPr>
            <a:xfrm>
              <a:off x="5764680" y="32227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91"/>
            <p:cNvSpPr/>
            <p:nvPr/>
          </p:nvSpPr>
          <p:spPr>
            <a:xfrm>
              <a:off x="5482800" y="3217680"/>
              <a:ext cx="194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رنامج الأمم المتحدة للبيئ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92"/>
            <p:cNvSpPr/>
            <p:nvPr/>
          </p:nvSpPr>
          <p:spPr>
            <a:xfrm>
              <a:off x="5764680" y="3497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93"/>
            <p:cNvSpPr/>
            <p:nvPr/>
          </p:nvSpPr>
          <p:spPr>
            <a:xfrm>
              <a:off x="5642640" y="349236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دو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94"/>
            <p:cNvSpPr/>
            <p:nvPr/>
          </p:nvSpPr>
          <p:spPr>
            <a:xfrm>
              <a:off x="5449680" y="3767040"/>
              <a:ext cx="164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أفريقي للتن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95"/>
            <p:cNvSpPr/>
            <p:nvPr/>
          </p:nvSpPr>
          <p:spPr>
            <a:xfrm>
              <a:off x="5764680" y="40482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6"/>
            <p:cNvSpPr/>
            <p:nvPr/>
          </p:nvSpPr>
          <p:spPr>
            <a:xfrm>
              <a:off x="5518800" y="4043160"/>
              <a:ext cx="164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إسلامي للتن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97"/>
            <p:cNvSpPr/>
            <p:nvPr/>
          </p:nvSpPr>
          <p:spPr>
            <a:xfrm>
              <a:off x="5764680" y="43210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8"/>
            <p:cNvSpPr/>
            <p:nvPr/>
          </p:nvSpPr>
          <p:spPr>
            <a:xfrm>
              <a:off x="5434200" y="4316400"/>
              <a:ext cx="22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أوروبي للإنشاء والتعمي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99"/>
            <p:cNvSpPr/>
            <p:nvPr/>
          </p:nvSpPr>
          <p:spPr>
            <a:xfrm>
              <a:off x="5764680" y="4595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0"/>
            <p:cNvSpPr/>
            <p:nvPr/>
          </p:nvSpPr>
          <p:spPr>
            <a:xfrm>
              <a:off x="5739120" y="459108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فا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01"/>
            <p:cNvSpPr/>
            <p:nvPr/>
          </p:nvSpPr>
          <p:spPr>
            <a:xfrm>
              <a:off x="5764680" y="4870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02"/>
            <p:cNvSpPr/>
            <p:nvPr/>
          </p:nvSpPr>
          <p:spPr>
            <a:xfrm>
              <a:off x="5470200" y="4865760"/>
              <a:ext cx="197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نك التنمية للدول الأمريك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03"/>
            <p:cNvSpPr/>
            <p:nvPr/>
          </p:nvSpPr>
          <p:spPr>
            <a:xfrm>
              <a:off x="5764680" y="51465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4"/>
            <p:cNvSpPr/>
            <p:nvPr/>
          </p:nvSpPr>
          <p:spPr>
            <a:xfrm>
              <a:off x="5420880" y="5141880"/>
              <a:ext cx="238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 الدولي للتنمية الزرا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05"/>
            <p:cNvSpPr/>
            <p:nvPr/>
          </p:nvSpPr>
          <p:spPr>
            <a:xfrm>
              <a:off x="5764680" y="5421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06"/>
            <p:cNvSpPr/>
            <p:nvPr/>
          </p:nvSpPr>
          <p:spPr>
            <a:xfrm>
              <a:off x="5336280" y="5416560"/>
              <a:ext cx="275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منظمة الأمم المتحدة للتنمية الصنا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213"/>
            <p:cNvGrpSpPr/>
            <p:nvPr/>
          </p:nvGrpSpPr>
          <p:grpSpPr>
            <a:xfrm>
              <a:off x="7538040" y="2469960"/>
              <a:ext cx="1362600" cy="1689120"/>
              <a:chOff x="7538040" y="2469960"/>
              <a:chExt cx="1362600" cy="1689120"/>
            </a:xfrm>
          </p:grpSpPr>
          <p:grpSp>
            <p:nvGrpSpPr>
              <p:cNvPr id="420" name="Group 211"/>
              <p:cNvGrpSpPr/>
              <p:nvPr/>
            </p:nvGrpSpPr>
            <p:grpSpPr>
              <a:xfrm>
                <a:off x="7538040" y="2469960"/>
                <a:ext cx="1362600" cy="1689120"/>
                <a:chOff x="7538040" y="2469960"/>
                <a:chExt cx="1362600" cy="1689120"/>
              </a:xfrm>
            </p:grpSpPr>
            <p:sp>
              <p:nvSpPr>
                <p:cNvPr id="421" name="Freeform 207"/>
                <p:cNvSpPr/>
                <p:nvPr/>
              </p:nvSpPr>
              <p:spPr>
                <a:xfrm>
                  <a:off x="8856720" y="2469960"/>
                  <a:ext cx="43560" cy="168912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08"/>
                <p:cNvSpPr/>
                <p:nvPr/>
              </p:nvSpPr>
              <p:spPr>
                <a:xfrm flipV="1">
                  <a:off x="8856720" y="4114440"/>
                  <a:ext cx="4356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9"/>
                <p:cNvSpPr/>
                <p:nvPr/>
              </p:nvSpPr>
              <p:spPr>
                <a:xfrm>
                  <a:off x="7538040" y="2469960"/>
                  <a:ext cx="1362600" cy="44640"/>
                </a:xfrm>
                <a:custGeom>
                  <a:avLst/>
                  <a:gdLst>
                    <a:gd name="textAreaLeft" fmla="*/ 0 w 1362600"/>
                    <a:gd name="textAreaRight" fmla="*/ 1362960 w 1362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10"/>
                <p:cNvSpPr/>
                <p:nvPr/>
              </p:nvSpPr>
              <p:spPr>
                <a:xfrm flipV="1">
                  <a:off x="8856720" y="2469960"/>
                  <a:ext cx="43560" cy="4464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5" name="Picture 212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8040" y="2512800"/>
                <a:ext cx="131868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Rectangle 214"/>
            <p:cNvSpPr/>
            <p:nvPr/>
          </p:nvSpPr>
          <p:spPr>
            <a:xfrm>
              <a:off x="7751160" y="256860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مشروع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15"/>
            <p:cNvSpPr/>
            <p:nvPr/>
          </p:nvSpPr>
          <p:spPr>
            <a:xfrm>
              <a:off x="7767720" y="28432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16"/>
            <p:cNvSpPr/>
            <p:nvPr/>
          </p:nvSpPr>
          <p:spPr>
            <a:xfrm>
              <a:off x="7544880" y="3025800"/>
              <a:ext cx="159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نقاط الاتصال المعنية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بالعمليات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17"/>
            <p:cNvSpPr/>
            <p:nvPr/>
          </p:nvSpPr>
          <p:spPr>
            <a:xfrm>
              <a:off x="8054640" y="320832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19"/>
            <p:cNvSpPr/>
            <p:nvPr/>
          </p:nvSpPr>
          <p:spPr>
            <a:xfrm>
              <a:off x="7543080" y="3392280"/>
              <a:ext cx="1357560" cy="10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نقا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 الاتصال المعني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بتنسيق الاتفاقيات، والوكالا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الحكومية الأخرى، والمجتم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المدني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0"/>
            <p:cNvSpPr/>
            <p:nvPr/>
          </p:nvSpPr>
          <p:spPr>
            <a:xfrm>
              <a:off x="769716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1"/>
            <p:cNvSpPr/>
            <p:nvPr/>
          </p:nvSpPr>
          <p:spPr>
            <a:xfrm>
              <a:off x="795060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2"/>
            <p:cNvSpPr/>
            <p:nvPr/>
          </p:nvSpPr>
          <p:spPr>
            <a:xfrm>
              <a:off x="8390880" y="3573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23"/>
            <p:cNvSpPr/>
            <p:nvPr/>
          </p:nvSpPr>
          <p:spPr>
            <a:xfrm>
              <a:off x="860796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24"/>
            <p:cNvSpPr/>
            <p:nvPr/>
          </p:nvSpPr>
          <p:spPr>
            <a:xfrm>
              <a:off x="865872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25"/>
            <p:cNvSpPr/>
            <p:nvPr/>
          </p:nvSpPr>
          <p:spPr>
            <a:xfrm>
              <a:off x="7761960" y="375588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26"/>
            <p:cNvSpPr/>
            <p:nvPr/>
          </p:nvSpPr>
          <p:spPr>
            <a:xfrm>
              <a:off x="7989840" y="39384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236"/>
            <p:cNvGrpSpPr/>
            <p:nvPr/>
          </p:nvGrpSpPr>
          <p:grpSpPr>
            <a:xfrm>
              <a:off x="2401560" y="4162320"/>
              <a:ext cx="1035720" cy="442800"/>
              <a:chOff x="2401560" y="4162320"/>
              <a:chExt cx="1035720" cy="442800"/>
            </a:xfrm>
          </p:grpSpPr>
          <p:sp>
            <p:nvSpPr>
              <p:cNvPr id="439" name="Freeform 227"/>
              <p:cNvSpPr/>
              <p:nvPr/>
            </p:nvSpPr>
            <p:spPr>
              <a:xfrm>
                <a:off x="3391560" y="4162320"/>
                <a:ext cx="45360" cy="4413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28"/>
              <p:cNvSpPr/>
              <p:nvPr/>
            </p:nvSpPr>
            <p:spPr>
              <a:xfrm flipV="1">
                <a:off x="3391560" y="4559040"/>
                <a:ext cx="4536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29"/>
              <p:cNvSpPr/>
              <p:nvPr/>
            </p:nvSpPr>
            <p:spPr>
              <a:xfrm>
                <a:off x="2401920" y="4162320"/>
                <a:ext cx="1035360" cy="44640"/>
              </a:xfrm>
              <a:custGeom>
                <a:avLst/>
                <a:gdLst>
                  <a:gd name="textAreaLeft" fmla="*/ 0 w 1035360"/>
                  <a:gd name="textAreaRight" fmla="*/ 1035720 w 1035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30"/>
              <p:cNvSpPr/>
              <p:nvPr/>
            </p:nvSpPr>
            <p:spPr>
              <a:xfrm flipV="1">
                <a:off x="3391560" y="4162320"/>
                <a:ext cx="45360" cy="4464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31"/>
              <p:cNvSpPr/>
              <p:nvPr/>
            </p:nvSpPr>
            <p:spPr>
              <a:xfrm>
                <a:off x="2401920" y="4206960"/>
                <a:ext cx="989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32"/>
              <p:cNvSpPr/>
              <p:nvPr/>
            </p:nvSpPr>
            <p:spPr>
              <a:xfrm>
                <a:off x="2401920" y="4206960"/>
                <a:ext cx="1080" cy="3967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33"/>
              <p:cNvSpPr/>
              <p:nvPr/>
            </p:nvSpPr>
            <p:spPr>
              <a:xfrm>
                <a:off x="2401920" y="460368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34"/>
              <p:cNvSpPr/>
              <p:nvPr/>
            </p:nvSpPr>
            <p:spPr>
              <a:xfrm flipV="1">
                <a:off x="3391560" y="4206960"/>
                <a:ext cx="1080" cy="3967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5"/>
              <p:cNvSpPr/>
              <p:nvPr/>
            </p:nvSpPr>
            <p:spPr>
              <a:xfrm flipH="1">
                <a:off x="2401560" y="420696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237"/>
            <p:cNvSpPr/>
            <p:nvPr/>
          </p:nvSpPr>
          <p:spPr>
            <a:xfrm>
              <a:off x="2467440" y="425772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مكت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التقييم</a:t>
              </a: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38"/>
            <p:cNvSpPr/>
            <p:nvPr/>
          </p:nvSpPr>
          <p:spPr>
            <a:xfrm>
              <a:off x="2720160" y="44100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45"/>
            <p:cNvGrpSpPr/>
            <p:nvPr/>
          </p:nvGrpSpPr>
          <p:grpSpPr>
            <a:xfrm>
              <a:off x="286920" y="3587760"/>
              <a:ext cx="1425600" cy="984240"/>
              <a:chOff x="286920" y="3587760"/>
              <a:chExt cx="1425600" cy="984240"/>
            </a:xfrm>
          </p:grpSpPr>
          <p:grpSp>
            <p:nvGrpSpPr>
              <p:cNvPr id="451" name="Group 243"/>
              <p:cNvGrpSpPr/>
              <p:nvPr/>
            </p:nvGrpSpPr>
            <p:grpSpPr>
              <a:xfrm>
                <a:off x="286920" y="3619440"/>
                <a:ext cx="1425600" cy="777960"/>
                <a:chOff x="286920" y="3619440"/>
                <a:chExt cx="1425600" cy="777960"/>
              </a:xfrm>
            </p:grpSpPr>
            <p:sp>
              <p:nvSpPr>
                <p:cNvPr id="452" name="Freeform 239"/>
                <p:cNvSpPr/>
                <p:nvPr/>
              </p:nvSpPr>
              <p:spPr>
                <a:xfrm>
                  <a:off x="1666800" y="3619440"/>
                  <a:ext cx="45360" cy="7779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40"/>
                <p:cNvSpPr/>
                <p:nvPr/>
              </p:nvSpPr>
              <p:spPr>
                <a:xfrm flipV="1">
                  <a:off x="1666800" y="435276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41"/>
                <p:cNvSpPr/>
                <p:nvPr/>
              </p:nvSpPr>
              <p:spPr>
                <a:xfrm>
                  <a:off x="286920" y="3619440"/>
                  <a:ext cx="1425600" cy="46080"/>
                </a:xfrm>
                <a:custGeom>
                  <a:avLst/>
                  <a:gdLst>
                    <a:gd name="textAreaLeft" fmla="*/ 0 w 1425600"/>
                    <a:gd name="textAreaRight" fmla="*/ 1425960 w 1425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42"/>
                <p:cNvSpPr/>
                <p:nvPr/>
              </p:nvSpPr>
              <p:spPr>
                <a:xfrm flipV="1">
                  <a:off x="1666800" y="36194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6" name="Picture 244" descr=""/>
              <p:cNvPicPr/>
              <p:nvPr/>
            </p:nvPicPr>
            <p:blipFill>
              <a:blip r:embed="rId7"/>
              <a:stretch/>
            </p:blipFill>
            <p:spPr>
              <a:xfrm>
                <a:off x="286920" y="3587760"/>
                <a:ext cx="1379880" cy="98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7" name="Rectangle 246"/>
            <p:cNvSpPr/>
            <p:nvPr/>
          </p:nvSpPr>
          <p:spPr>
            <a:xfrm>
              <a:off x="366840" y="3719520"/>
              <a:ext cx="76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اتفاقي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47"/>
            <p:cNvSpPr/>
            <p:nvPr/>
          </p:nvSpPr>
          <p:spPr>
            <a:xfrm>
              <a:off x="550080" y="39942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48"/>
            <p:cNvSpPr/>
            <p:nvPr/>
          </p:nvSpPr>
          <p:spPr>
            <a:xfrm>
              <a:off x="579960" y="4176720"/>
              <a:ext cx="103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نقاط الاتصال المعني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بتنسيق الاتفاقيا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49"/>
            <p:cNvSpPr/>
            <p:nvPr/>
          </p:nvSpPr>
          <p:spPr>
            <a:xfrm>
              <a:off x="1233000" y="417672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256"/>
            <p:cNvGrpSpPr/>
            <p:nvPr/>
          </p:nvGrpSpPr>
          <p:grpSpPr>
            <a:xfrm>
              <a:off x="2175480" y="2773080"/>
              <a:ext cx="1379880" cy="1143360"/>
              <a:chOff x="2175480" y="2773080"/>
              <a:chExt cx="1379880" cy="1143360"/>
            </a:xfrm>
          </p:grpSpPr>
          <p:grpSp>
            <p:nvGrpSpPr>
              <p:cNvPr id="462" name="Group 254"/>
              <p:cNvGrpSpPr/>
              <p:nvPr/>
            </p:nvGrpSpPr>
            <p:grpSpPr>
              <a:xfrm>
                <a:off x="2175480" y="2773080"/>
                <a:ext cx="1379880" cy="1143360"/>
                <a:chOff x="2175480" y="2773080"/>
                <a:chExt cx="1379880" cy="1143360"/>
              </a:xfrm>
            </p:grpSpPr>
            <p:sp>
              <p:nvSpPr>
                <p:cNvPr id="463" name="Freeform 250"/>
                <p:cNvSpPr/>
                <p:nvPr/>
              </p:nvSpPr>
              <p:spPr>
                <a:xfrm>
                  <a:off x="3509640" y="2773440"/>
                  <a:ext cx="45360" cy="11430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51"/>
                <p:cNvSpPr/>
                <p:nvPr/>
              </p:nvSpPr>
              <p:spPr>
                <a:xfrm flipV="1">
                  <a:off x="3509640" y="387180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52"/>
                <p:cNvSpPr/>
                <p:nvPr/>
              </p:nvSpPr>
              <p:spPr>
                <a:xfrm>
                  <a:off x="2175480" y="2773440"/>
                  <a:ext cx="1379880" cy="45720"/>
                </a:xfrm>
                <a:custGeom>
                  <a:avLst/>
                  <a:gdLst>
                    <a:gd name="textAreaLeft" fmla="*/ 0 w 1379880"/>
                    <a:gd name="textAreaRight" fmla="*/ 1380240 w 13798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53"/>
                <p:cNvSpPr/>
                <p:nvPr/>
              </p:nvSpPr>
              <p:spPr>
                <a:xfrm flipV="1">
                  <a:off x="3509640" y="277308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7" name="Picture 255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5480" y="2817720"/>
                <a:ext cx="133416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8" name="Rectangle 257"/>
            <p:cNvSpPr/>
            <p:nvPr/>
          </p:nvSpPr>
          <p:spPr>
            <a:xfrm>
              <a:off x="2203560" y="287316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مجلس 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8"/>
            <p:cNvSpPr/>
            <p:nvPr/>
          </p:nvSpPr>
          <p:spPr>
            <a:xfrm>
              <a:off x="2416320" y="31478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59"/>
            <p:cNvSpPr/>
            <p:nvPr/>
          </p:nvSpPr>
          <p:spPr>
            <a:xfrm>
              <a:off x="2488680" y="333036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مجل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60"/>
            <p:cNvSpPr/>
            <p:nvPr/>
          </p:nvSpPr>
          <p:spPr>
            <a:xfrm>
              <a:off x="2460600" y="3513240"/>
              <a:ext cx="59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أعضاء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61"/>
            <p:cNvSpPr/>
            <p:nvPr/>
          </p:nvSpPr>
          <p:spPr>
            <a:xfrm>
              <a:off x="2219040" y="3697200"/>
              <a:ext cx="110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 الأعض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62"/>
            <p:cNvSpPr/>
            <p:nvPr/>
          </p:nvSpPr>
          <p:spPr>
            <a:xfrm>
              <a:off x="1687680" y="4011480"/>
              <a:ext cx="24660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63"/>
            <p:cNvSpPr/>
            <p:nvPr/>
          </p:nvSpPr>
          <p:spPr>
            <a:xfrm>
              <a:off x="1676520" y="2855880"/>
              <a:ext cx="24660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4"/>
            <p:cNvSpPr/>
            <p:nvPr/>
          </p:nvSpPr>
          <p:spPr>
            <a:xfrm>
              <a:off x="3489480" y="3317760"/>
              <a:ext cx="423000" cy="763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5"/>
            <p:cNvSpPr/>
            <p:nvPr/>
          </p:nvSpPr>
          <p:spPr>
            <a:xfrm>
              <a:off x="5245560" y="3314520"/>
              <a:ext cx="404640" cy="763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6"/>
            <p:cNvSpPr/>
            <p:nvPr/>
          </p:nvSpPr>
          <p:spPr>
            <a:xfrm>
              <a:off x="7079040" y="3314520"/>
              <a:ext cx="459000" cy="763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7"/>
            <p:cNvSpPr/>
            <p:nvPr/>
          </p:nvSpPr>
          <p:spPr>
            <a:xfrm>
              <a:off x="2874240" y="3908520"/>
              <a:ext cx="75600" cy="24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8"/>
            <p:cNvSpPr/>
            <p:nvPr/>
          </p:nvSpPr>
          <p:spPr>
            <a:xfrm>
              <a:off x="2846160" y="2535120"/>
              <a:ext cx="73800" cy="247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69"/>
            <p:cNvSpPr/>
            <p:nvPr/>
          </p:nvSpPr>
          <p:spPr>
            <a:xfrm>
              <a:off x="562680" y="143028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70"/>
            <p:cNvSpPr/>
            <p:nvPr/>
          </p:nvSpPr>
          <p:spPr>
            <a:xfrm>
              <a:off x="529200" y="1706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71"/>
            <p:cNvSpPr/>
            <p:nvPr/>
          </p:nvSpPr>
          <p:spPr>
            <a:xfrm>
              <a:off x="3853080" y="15066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72"/>
            <p:cNvSpPr/>
            <p:nvPr/>
          </p:nvSpPr>
          <p:spPr>
            <a:xfrm>
              <a:off x="7320960" y="1506600"/>
              <a:ext cx="1058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إجراء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73"/>
            <p:cNvSpPr/>
            <p:nvPr/>
          </p:nvSpPr>
          <p:spPr>
            <a:xfrm>
              <a:off x="1934640" y="284796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4"/>
            <p:cNvSpPr/>
            <p:nvPr/>
          </p:nvSpPr>
          <p:spPr>
            <a:xfrm>
              <a:off x="1942560" y="3390840"/>
              <a:ext cx="232920" cy="76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5"/>
            <p:cNvSpPr/>
            <p:nvPr/>
          </p:nvSpPr>
          <p:spPr>
            <a:xfrm>
              <a:off x="2169000" y="1562040"/>
              <a:ext cx="912600" cy="76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6"/>
            <p:cNvSpPr/>
            <p:nvPr/>
          </p:nvSpPr>
          <p:spPr>
            <a:xfrm>
              <a:off x="5719320" y="1562040"/>
              <a:ext cx="912240" cy="7632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كالات ا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02920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أمم المتحدة الإنمائ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أمم المتحدة ل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دو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أدوار أساسية واسعة النطاق تم تحديدها في وثيقة إنشاء ا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6858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فا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منظمة الأمم المتحدة للتنمية الصن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دولي للتنمية الزر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فريق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سيو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وروبي للإنشاء والتعم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إسلام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Arial"/>
              </a:rPr>
              <a:t>لها حق الوصول إلى موارد الصندوق، وأُسندت إليها أدوار أكثر تحديداً بناء على احتياجات العمل المحددة لدى الصندو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5" descr="undp-l"/>
          <p:cNvPicPr/>
          <p:nvPr/>
        </p:nvPicPr>
        <p:blipFill>
          <a:blip r:embed="rId1"/>
          <a:stretch/>
        </p:blipFill>
        <p:spPr>
          <a:xfrm>
            <a:off x="8305920" y="1295280"/>
            <a:ext cx="68580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unep-logo-bl"/>
          <p:cNvPicPr/>
          <p:nvPr/>
        </p:nvPicPr>
        <p:blipFill>
          <a:blip r:embed="rId2"/>
          <a:stretch/>
        </p:blipFill>
        <p:spPr>
          <a:xfrm>
            <a:off x="8305920" y="2895480"/>
            <a:ext cx="657000" cy="7621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wbcube-m"/>
          <p:cNvPicPr/>
          <p:nvPr/>
        </p:nvPicPr>
        <p:blipFill>
          <a:blip r:embed="rId3"/>
          <a:stretch/>
        </p:blipFill>
        <p:spPr>
          <a:xfrm>
            <a:off x="8305920" y="411480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4"/>
          <a:stretch/>
        </p:blipFill>
        <p:spPr>
          <a:xfrm>
            <a:off x="4038480" y="609480"/>
            <a:ext cx="711360" cy="712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"/>
          <p:cNvPicPr/>
          <p:nvPr/>
        </p:nvPicPr>
        <p:blipFill>
          <a:blip r:embed="rId5"/>
          <a:stretch/>
        </p:blipFill>
        <p:spPr>
          <a:xfrm>
            <a:off x="4038480" y="2987640"/>
            <a:ext cx="668520" cy="66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6"/>
          <a:stretch/>
        </p:blipFill>
        <p:spPr>
          <a:xfrm>
            <a:off x="3809880" y="2286000"/>
            <a:ext cx="106200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"/>
          <p:cNvPicPr/>
          <p:nvPr/>
        </p:nvPicPr>
        <p:blipFill>
          <a:blip r:embed="rId7"/>
          <a:stretch/>
        </p:blipFill>
        <p:spPr>
          <a:xfrm>
            <a:off x="4191120" y="5638680"/>
            <a:ext cx="60156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"/>
          <p:cNvPicPr/>
          <p:nvPr/>
        </p:nvPicPr>
        <p:blipFill>
          <a:blip r:embed="rId8"/>
          <a:stretch/>
        </p:blipFill>
        <p:spPr>
          <a:xfrm>
            <a:off x="4038480" y="3733920"/>
            <a:ext cx="760680" cy="97452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16"/>
          <p:cNvGrpSpPr/>
          <p:nvPr/>
        </p:nvGrpSpPr>
        <p:grpSpPr>
          <a:xfrm>
            <a:off x="4038480" y="1371600"/>
            <a:ext cx="761760" cy="786960"/>
            <a:chOff x="4038480" y="1371600"/>
            <a:chExt cx="761760" cy="786960"/>
          </a:xfrm>
        </p:grpSpPr>
        <p:sp>
          <p:nvSpPr>
            <p:cNvPr id="500" name="Rectangle 15"/>
            <p:cNvSpPr/>
            <p:nvPr/>
          </p:nvSpPr>
          <p:spPr>
            <a:xfrm>
              <a:off x="4038480" y="1371600"/>
              <a:ext cx="761760" cy="78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13" descr=""/>
            <p:cNvPicPr/>
            <p:nvPr/>
          </p:nvPicPr>
          <p:blipFill>
            <a:blip r:embed="rId9"/>
            <a:stretch/>
          </p:blipFill>
          <p:spPr>
            <a:xfrm>
              <a:off x="4038480" y="1464840"/>
              <a:ext cx="761760" cy="64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2" name="Picture 14" descr=""/>
          <p:cNvPicPr/>
          <p:nvPr/>
        </p:nvPicPr>
        <p:blipFill>
          <a:blip r:embed="rId10"/>
          <a:stretch/>
        </p:blipFill>
        <p:spPr>
          <a:xfrm>
            <a:off x="3962520" y="4876920"/>
            <a:ext cx="99036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سؤولية القط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ينبغي أن تكون مشروعات الصندوق مدفوعة باعتبارات البلد المعن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ً على أولويات وطن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صممة لتدعيم التنمية المستد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كيف يتحقق ذلك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نقاط الاتصال السياسية وتلك الخاصة بالعملي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رسالة الإخبارية ل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شاركة منظمات المجتمع المدني والمجتمعات ال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أقل البلدان نموا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، و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ــ التكيف مع تغير المناخ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تأسيس هذين الصندوقين في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2001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وجب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ؤتمر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طراف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أمم المتحدة الإطارية المعنية بتغير المنا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هذان الصندوقان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يعتبر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أول صندوقان متعددا الأطراف لتنفيذ إجراءات تكيف ملموسة في البلدان النا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هذان الصندوقان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يتيح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للبلدان والمجتمعات المحلية المعرضة لمخاطر وكذلك الهيئات المنفذة التابعة لصندوق البيئة العالمية الموارد الأولية لتمويل محفظة رائدة لمشروعات التكيف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إدارة هذين الصندوقين بصورة مستقلة عن الصندوق الاستئماني لصندوق البيئة العال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778-059B-4B50-B1DF-8743EADD13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Cambodia"/>
          <p:cNvPicPr/>
          <p:nvPr/>
        </p:nvPicPr>
        <p:blipFill>
          <a:blip r:embed="rId1"/>
          <a:stretch/>
        </p:blipFill>
        <p:spPr>
          <a:xfrm>
            <a:off x="304920" y="1219320"/>
            <a:ext cx="182088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EG" sz="2500" spc="-1" strike="noStrike">
                <a:solidFill>
                  <a:srgbClr val="000000"/>
                </a:solidFill>
                <a:latin typeface="Calibri"/>
                <a:cs typeface="Arial"/>
              </a:rPr>
              <a:t>تمويل المانحين للصندوق الخاص بأقل البلدان نمواً، والصندوق الخاص بتغير المناخ</a:t>
            </a: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743200" y="13716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صندوق أقل البلدان نمواً ـ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 تعهدت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جهة مانحة بتقدي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تغير المناخ ـ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0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 تعهدت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جهة مانحة بتقدي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جمو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أكثر م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7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لغ التي تم تخصيصها أو الارتباط بتقديمها أو صر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شروعاً تمت الموافقة عليها في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أكثر م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اً نامياً من خلال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7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أقل البلدان نمواً بقيمة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215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7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تغير المناخ بقيمة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150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ايين دول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إنجاز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47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عمل وطني بشأن التكيف، وتم تمويل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48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رنامجاً (في بلدان أقل نمواً) بقيمة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ون دول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832-E81A-45F9-AC29-CE8E388F14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4649-C3C2-4B51-B0EC-742271B187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Maartin_2aerial"/>
          <p:cNvPicPr/>
          <p:nvPr/>
        </p:nvPicPr>
        <p:blipFill>
          <a:blip r:embed="rId1"/>
          <a:stretch/>
        </p:blipFill>
        <p:spPr>
          <a:xfrm>
            <a:off x="228600" y="1447920"/>
            <a:ext cx="205596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Arial"/>
              </a:rPr>
              <a:t>شكراً لاهتمامك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جز العرض التقدي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تاريخ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رسالة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مجالات تركيز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دور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يكل التنظيمي ل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طار المؤسسي ل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ؤولي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ريخ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تأسس الصندوق في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ؤتمر الأمم المتحدة المعني بالبيئة والتنم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قمة الأرض،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ثيقة إنشاء صندوق البيئة العالمية المعادة هيكلته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مارس/آذار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ديد موارد الصندوق الاستئماني لصندوق البيئة العالم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أولى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1994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ملياري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ثاني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1998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.75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ثالث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02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ات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رابع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06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3.13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10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34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دولي هو القيّم على الصندوق الاستئماني ل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سالة ا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360" y="1295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رسالة الصندوق هي أن يكون آلية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للتعاون الدول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من أجل إتاحة الموارد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تمويلية الجديدة والإضافية والمنح والقروض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بشروط ميسّرة للوفاء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بالتكاليف الإضافية المتفق عليها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لإجراءات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وتدابير تحقيق المنافع للبيئة العالمي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تركيز الصندوق والقضايا الشاملة التي يضطلع ب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343040" y="1981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جالات التركي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نفاد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طبقة الأوزو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فقط في البلدا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تي تمر بمرحلة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حوّل اقتصادي</a:t>
            </a:r>
            <a:r>
              <a:rPr b="0" lang="ar-LB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304920" y="1981080"/>
            <a:ext cx="3933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000000"/>
                </a:solidFill>
                <a:uFillTx/>
                <a:latin typeface="Calibri"/>
              </a:rPr>
              <a:t>القضايا الشا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سليمة للكيماويات وخفض كمية الزئب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نمية القدر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وابط بين صندوق البيئة العالمية والاتفاقيات البيئي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مثل صندوق البيئة العالمية ”الآلية المالية“ المكرسة لما يلي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تنوع البيولوج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تغير المناخ (اتفاقية الأمم المتحدة الإطارية المتعلقة بتغيّر المناخ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ستوكهولم بشأن الملوثات العضوية الصل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مثل صندوق البيئة العالمية ”آلية مكرسة“لما يلي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أمم المتحدة لمكافحة التصح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عاون صندوق البيئة العالمية على نحو وثيق مع الاتفاقيات والمعاهدات الأخرى لإحراز الأهداف المشتركة (المياه الدولية، بروتوكول مونتريال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ات تجديد موارد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62120" y="884160"/>
          <a:ext cx="79437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84160"/>
                    <a:ext cx="7943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لي النسبة المئوية للتمويل حسب مجال التركي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Chart 33" descr=""/>
          <p:cNvPicPr/>
          <p:nvPr/>
        </p:nvPicPr>
        <p:blipFill>
          <a:blip r:embed="rId1"/>
          <a:stretch/>
        </p:blipFill>
        <p:spPr>
          <a:xfrm>
            <a:off x="5943600" y="1450800"/>
            <a:ext cx="3200400" cy="2054520"/>
          </a:xfrm>
          <a:prstGeom prst="rect">
            <a:avLst/>
          </a:prstGeom>
          <a:ln w="0">
            <a:noFill/>
          </a:ln>
        </p:spPr>
      </p:pic>
      <p:pic>
        <p:nvPicPr>
          <p:cNvPr id="200" name="Chart 37" descr=""/>
          <p:cNvPicPr/>
          <p:nvPr/>
        </p:nvPicPr>
        <p:blipFill>
          <a:blip r:embed="rId2"/>
          <a:stretch/>
        </p:blipFill>
        <p:spPr>
          <a:xfrm>
            <a:off x="4876920" y="3584520"/>
            <a:ext cx="3200400" cy="2279880"/>
          </a:xfrm>
          <a:prstGeom prst="rect">
            <a:avLst/>
          </a:prstGeom>
          <a:ln w="0">
            <a:noFill/>
          </a:ln>
        </p:spPr>
      </p:pic>
      <p:pic>
        <p:nvPicPr>
          <p:cNvPr id="201" name="Chart 8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3200400" cy="2054520"/>
          </a:xfrm>
          <a:prstGeom prst="rect">
            <a:avLst/>
          </a:prstGeom>
          <a:ln w="0">
            <a:noFill/>
          </a:ln>
        </p:spPr>
      </p:pic>
      <p:pic>
        <p:nvPicPr>
          <p:cNvPr id="202" name="Chart 9" descr=""/>
          <p:cNvPicPr/>
          <p:nvPr/>
        </p:nvPicPr>
        <p:blipFill>
          <a:blip r:embed="rId4"/>
          <a:stretch/>
        </p:blipFill>
        <p:spPr>
          <a:xfrm>
            <a:off x="4340160" y="1146240"/>
            <a:ext cx="4498920" cy="464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5"/>
          <a:stretch/>
        </p:blipFill>
        <p:spPr>
          <a:xfrm>
            <a:off x="3657600" y="1247760"/>
            <a:ext cx="298440" cy="4390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1"/>
          <p:cNvSpPr/>
          <p:nvPr/>
        </p:nvSpPr>
        <p:spPr>
          <a:xfrm>
            <a:off x="533520" y="1230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التنوع البيول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533520" y="1916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تغيير المنا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33520" y="2602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ياه الدو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533520" y="45529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المواد المستنفدة لطبقة الأوز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533520" y="3886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متعددة مجالات التركي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33520" y="52689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كيماو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33520" y="3200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هور الأراض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ربط الجوانب المحلية بالجوانب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يعمل صندوق البيئة العالمية على إحراز تقدم على صعيد التنمية المستدامة لدى البلدان مع تحسين البيئة العالمية للجميع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كمال برامج المعونات الحا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ليس بديلاً عن التمويل المنتظم لعمليات التن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تعبئة الاستثمارات الإضاف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يسعى الصندوق إلى المشاركة في تمويل الاستثمارات، ومحاكاتها، ومتابعتها: لا يمكن للصندوق الاستئماني حل جميع المشكل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6:59Z</dcterms:created>
  <dc:creator>wb330903</dc:creator>
  <dc:description/>
  <dc:language>en-US</dc:language>
  <cp:lastModifiedBy>Lisa</cp:lastModifiedBy>
  <dcterms:modified xsi:type="dcterms:W3CDTF">2012-04-22T23:40:59Z</dcterms:modified>
  <cp:revision>177</cp:revision>
  <dc:subject/>
  <dc:title>GEF Orientation Session for New Council and Alternate Members</dc:title>
</cp:coreProperties>
</file>