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BD04-018B-4CE5-867C-F8CCC558D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524A-0829-4231-9CED-A601D7467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43000" y="40381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Taller de Circunscripción Ampliada del FM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6 a 8 de Marzo de 201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San José, Costa R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642d"/>
                </a:solidFill>
                <a:latin typeface="Calibri"/>
              </a:rPr>
              <a:t>Roles en el FMAM de los Miembros de Consejo y Puntos Focal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Políticos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antenerse al tanto de e informar a las partes interesadas (incluidos Puntos Focales de las Convenciones)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Facilitar las consultas dentro de los países acerca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ervir de puntos de enlace con los grupos de países representados en el FMAM a los que pertenecen sus países (circunscripciones), y con los miembros del Consejo del FMAM que representan a sus respectivos grupos de paí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Dar a conocer las opiniones de  sus gobiernos, y presentar a la Secretaría del FMAM comentarios y sugerencias sobre las políticas del FMAM existentes o futur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rvir de contacto principal con la Secretaría del FMAM, las Agencias del FMAM, y otras partes interesadas (incluidos los Puntos Focales de los Convenios y Convenciones) con respecto a las estrategias y prioridades ambientales del país y su relación con las actividades conexas del FMA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nsultar con y brindar información a las organizaciones de la sociedad civil (OSC) y otras partes interesadas acerca de ideas, ejecución, resultados e impactos de los proyect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Hacer conocer mejor el FMAM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ntegrar objetivos del FMAM en marcos nacionales de 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alizar el seguimiento de los proyectos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 relacionadas con el Programa de Apoyo a Paí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olicitar y organizar la Formulación de la Cartera Nacional de Proyectos (NPFE) y Diálogos con las diversas partes interesadas (ND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articipar activamente en  Talleres de Circunscripción Ampliada y Reuniones de Circunscripción (junto con el Punto Focal Político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Utilizar adecuadamente el apoyo proporcionado anualmente a los Puntos Focales Operativos (US$9,00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Responsabilidades relacionadas con las operacion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ndosar proyectos antes de que los organismos presenten la FIP a la Secretaría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Usar el sistema de información sobre gestión de proyectos del FMAM para ingresar conceptos de proyectos (Pre-PIF / actividad  voluntaria) y para el seguimiento de los proyectos y programas del FMAM, además de realizar el seguimiento en mayor detalle a través de sistemas de las Agenc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Colaborar en el monitoreo y la evalu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Trabajar con las Agencias en la elaboración de la ficha de identificación del proyecto (FIP/PIF) y responder a los comentarios contenidos en la hoja de revisión del proyecto de la Secretaría del FMAM, en cuanto correspon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articipar activamente en el ciclo de vida del proyecto, desde su creación hasta su culmin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Hacer efectiva la observancia de la política de visibilidad del FMA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Visibilidad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a visibilidad del FMAM es vital como garantía de que el FMAM sea conocido, reconocido y financi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El Consejo adoptó una decisión de política FMAM (</a:t>
            </a:r>
            <a:r>
              <a:rPr b="0" i="1" lang="es-CO" sz="3000" spc="-1" strike="noStrike">
                <a:solidFill>
                  <a:srgbClr val="000000"/>
                </a:solidFill>
                <a:latin typeface="Calibri"/>
              </a:rPr>
              <a:t>Documento FMAM/C.40/08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os Puntos Focales Operativos deb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Conocer el contenido de esa deci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Promover su aplic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Dar a conocer cualquier inobservancia a la Secretaría del FMAM para que ésta pueda adoptar medidas apropiad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1f497d"/>
                </a:solidFill>
                <a:latin typeface="Calibri"/>
              </a:rPr>
              <a:t>Propósito del ejercicio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Analizar el rol de cada persona en su mesa con respecto al FM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responsabilidad tiene el Miembro del Consejo  frente a su grupo de país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articipa el Punto Focal Político en las actividades del FMAM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eben hacer los Puntos Focales de los Convenios y Convenciones en preparación para las negociaciones de la Conferencia de las Part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Como se podría tener una participación más efectiva de la sociedad civil en actividades de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actividades podría realizar un  Punto Focal Operativo con su presupuesto  de US$9000 para apoyo directo/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ificultades se enfrentan al implementar el 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odría ayudar cada uno a dar mayor visibilidad a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responsabilidad tiene el Miembro del Consejo frente a su grupo de paíse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articipa el Punto Focal Político en las actividades del FMAM?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deben hacer los 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Puntos Focales de los Convenios y Convenciones</a:t>
            </a: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 en preparación para las negociaciones referentes al FMAM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Como se podría tener una participación más efectiva de la sociedad civil en actividades del FMAM?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actividades podría realizar un  Punto Focal Operativo con su presupuesto  de US$9000 para apoyo directo/plan de trabajo anual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dificultades se enfrentan al implementar el Plan de Trabajo Anual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odría ayudar cada uno a dar mayor visibilidad al FMAM?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3-02T17:14:57Z</dcterms:modified>
  <cp:revision>129</cp:revision>
  <dc:subject/>
  <dc:title>Focal Area and Cross Cutting Strategies – Chemicals</dc:title>
</cp:coreProperties>
</file>