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C16-7673-48F1-BCBE-2C8C3312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E601-DE1E-4763-BDA1-37B70562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6 a 8 de Marzo de 20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San José, Costa R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2T17:14:57Z</dcterms:modified>
  <cp:revision>129</cp:revision>
  <dc:subject/>
  <dc:title>Focal Area and Cross Cutting Strategies – Chemicals</dc:title>
</cp:coreProperties>
</file>