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8190-9913-407A-8F98-F56295AC7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0064-66BB-4C91-8541-2C91B7DD7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168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5650200"/>
              <a:ext cx="4593240" cy="43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8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8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39960"/>
              <a:ext cx="4593240" cy="43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43000" y="403812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898989"/>
                </a:solidFill>
                <a:latin typeface="Calibri"/>
              </a:rPr>
              <a:t>Taller de Circunscripción Ampliada del FM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898989"/>
                </a:solidFill>
                <a:latin typeface="Calibri"/>
              </a:rPr>
              <a:t>8 a 10 de mayo de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898989"/>
                </a:solidFill>
                <a:latin typeface="Calibri"/>
              </a:rPr>
              <a:t>Antigua y Barbu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53352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642d"/>
                </a:solidFill>
                <a:latin typeface="Calibri"/>
              </a:rPr>
              <a:t>Roles en el FMAM de los Miembros de Consejo y Puntos Focales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alibri"/>
              </a:rPr>
              <a:t>¿Cómo puede cada una de las partes interesadas ​ comprender mejor la labor del FMAM en su país?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1294920"/>
            <a:ext cx="8229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1f497d"/>
                </a:solidFill>
                <a:latin typeface="Calibri"/>
              </a:rPr>
              <a:t>¿Qué se hace para promover la coordinación dentro de su país? ¿El comité  de orientación del FMAM es un instrumento útil? </a:t>
            </a:r>
            <a:endParaRPr b="1" lang="en-US" sz="29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 u="sng">
                <a:solidFill>
                  <a:srgbClr val="1f497d"/>
                </a:solidFill>
                <a:uFillTx/>
                <a:latin typeface="Calibri"/>
              </a:rPr>
              <a:t>Directrices para Puntos Focales Políticos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Responsabilidad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Mantenerse al tanto de e informar a las partes interesadas (incluidos Puntos Focales de las Convenciones) de los asuntos relacionados con la estructura de gobierno del FMA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Facilitar las consultas dentro de los países acerca de los asuntos relacionados con la estructura de gobierno del FMA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Servir de puntos de enlace con los grupos de países representados en el FMAM a los que pertenecen sus países (circunscripciones), y con los miembros del Consejo del FMAM que representan a sus respectivos grupos de país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Dar a conocer las opiniones de  sus gobiernos, y presentar a la Secretaría del FMAM comentarios y sugerencias sobre las políticas del FMAM existentes o futur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 u="sng">
                <a:solidFill>
                  <a:srgbClr val="1f497d"/>
                </a:solidFill>
                <a:uFillTx/>
                <a:latin typeface="Calibri"/>
              </a:rPr>
              <a:t>Directrices para Puntos Focales Operativos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Responsabilidad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Servir de contacto principal con la Secretaría del FMAM, las Agencias del FMAM, y otras partes interesadas (incluidos los Puntos Focales de los Convenios y Convenciones) con respecto a las estrategias y prioridades ambientales del país y su relación con las actividades conexas del FMA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Consultar con y brindar información a las organizaciones de la sociedad civil (OSC) y otras partes interesadas acerca de ideas, ejecución, resultados e impactos de los proyect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Hacer conocer mejor el FMAM dentro del paí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Integrar objetivos del FMAM en marcos nacionales de polít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Realizar el seguimiento de los proyectos dentro del paí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 u="sng">
                <a:solidFill>
                  <a:srgbClr val="1f497d"/>
                </a:solidFill>
                <a:uFillTx/>
                <a:latin typeface="Calibri"/>
              </a:rPr>
              <a:t>Directrices para Puntos Focales Operativos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Responsabilidades relacionadas con el Programa de Apoyo a País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Solicitar y organizar la Formulación de la Cartera Nacional de Proyectos (NPFE) y Diálogos con las diversas partes interesadas (NDI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Participar activamente en  Talleres de Circunscripción Ampliada y Reuniones de Circunscripción (junto con el Punto Focal Político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Utilizar adecuadamente el apoyo proporcionado anualmente a los Puntos Focales Operativos (US$9,000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 u="sng">
                <a:solidFill>
                  <a:srgbClr val="1f497d"/>
                </a:solidFill>
                <a:uFillTx/>
                <a:latin typeface="Calibri"/>
              </a:rPr>
              <a:t>Directrices para Puntos Focales Operativos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Responsabilidades relacionadas con las operacion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Endosar proyectos antes de que los organismos presenten la FIP a la Secretaría del FMA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Usar el sistema de información sobre gestión de proyectos del FMAM para ingresar conceptos de proyectos (Pre-PIF / actividad  voluntaria) y para el seguimiento de los proyectos y programas del FMAM, además de realizar el seguimiento en mayor detalle a través de sistemas de las Agenci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Colaborar en el monitoreo y la evalu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Trabajar con las Agencias en la elaboración de la ficha de identificación del proyecto (FIP/PIF) y responder a los comentarios contenidos en la hoja de revisión del proyecto de la Secretaría del FMAM, en cuanto correspond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Participar activamente en el ciclo de vida del proyecto, desde su creación hasta su culmina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Hacer efectiva la observancia de la política de visibilidad del FMA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Visibilidad d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La visibilidad del FMAM es vital como garantía de que el FMAM sea conocido, reconocido y financiad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El Consejo adoptó una decisión de política FMAM (</a:t>
            </a:r>
            <a:r>
              <a:rPr b="0" i="1" lang="es-CO" sz="3000" spc="-1" strike="noStrike">
                <a:solidFill>
                  <a:srgbClr val="000000"/>
                </a:solidFill>
                <a:latin typeface="Calibri"/>
              </a:rPr>
              <a:t>Documento FMAM/C.40/08</a:t>
            </a: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Los Puntos Focales Operativos debe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Conocer el contenido de esa decis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Promover su aplicac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Dar a conocer cualquier inobservancia a la Secretaría del FMAM para que ésta pueda adoptar medidas apropiada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800" spc="-1" strike="noStrike">
                <a:solidFill>
                  <a:srgbClr val="00642d"/>
                </a:solidFill>
                <a:latin typeface="Calibri"/>
              </a:rPr>
              <a:t>Gracias por su atención</a:t>
            </a:r>
            <a:br>
              <a:rPr sz="4800"/>
            </a:br>
            <a:br>
              <a:rPr sz="3600"/>
            </a:b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¿Preguntas?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1f497d"/>
                </a:solidFill>
                <a:latin typeface="Calibri"/>
              </a:rPr>
              <a:t>Propósito del ejercicio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Analizar el rol de cada persona en su mesa con respecto al FMA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¿Qué responsabilidad tiene el Miembro del Consejo  frente a su grupo de paíse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¿Cómo participa el Punto Focal Político en las actividades del FMAM?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¿Qué deben hacer los Puntos Focales de los Convenios y Convenciones en preparación para las negociaciones de la Conferencia de las Parte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Como se podría tener una participación más efectiva de la sociedad civil en actividades del FMAM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¿Qué actividades podría realizar un  Punto Focal Operativo con su presupuesto  de US$9000 para apoyo directo/plan de trabajo anual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¿Qué dificultades se enfrentan al implementar el Plan de Trabajo Anual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¿Cómo podría ayudar cada uno a dar mayor visibilidad al FMAM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¿Qué se hace para promover la coordinación dentro de su país? ¿El comité  de orientación del FMAM es un instrumento útil?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f497d"/>
                </a:solidFill>
                <a:latin typeface="Calibri"/>
              </a:rPr>
              <a:t>¿Qué responsabilidad tiene el Miembro del Consejo frente a su grupo de países?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1f497d"/>
                </a:solidFill>
                <a:latin typeface="Calibri"/>
              </a:rPr>
              <a:t>¿Cómo participa el Punto Focal Político en las actividades del FMAM?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1f497d"/>
                </a:solidFill>
                <a:latin typeface="Calibri"/>
              </a:rPr>
              <a:t>¿Qué deben hacer los </a:t>
            </a:r>
            <a:r>
              <a:rPr b="1" lang="es-ES" sz="2900" spc="-1" strike="noStrike">
                <a:solidFill>
                  <a:srgbClr val="1f497d"/>
                </a:solidFill>
                <a:latin typeface="Calibri"/>
              </a:rPr>
              <a:t>Puntos Focales de los Convenios y Convenciones</a:t>
            </a:r>
            <a:r>
              <a:rPr b="1" lang="es-ES_tradnl" sz="2900" spc="-1" strike="noStrike">
                <a:solidFill>
                  <a:srgbClr val="1f497d"/>
                </a:solidFill>
                <a:latin typeface="Calibri"/>
              </a:rPr>
              <a:t> en preparación para las negociaciones referentes al FMAM? </a:t>
            </a:r>
            <a:endParaRPr b="1" lang="en-US" sz="29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3520" y="14475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1f497d"/>
                </a:solidFill>
                <a:latin typeface="Calibri"/>
              </a:rPr>
              <a:t>¿</a:t>
            </a:r>
            <a:r>
              <a:rPr b="1" lang="es-ES" sz="2900" spc="-1" strike="noStrike">
                <a:solidFill>
                  <a:srgbClr val="1f497d"/>
                </a:solidFill>
                <a:latin typeface="Calibri"/>
              </a:rPr>
              <a:t>Como se podría tener una participación más efectiva de la sociedad civil en actividades del FMAM?</a:t>
            </a:r>
            <a:endParaRPr b="1" lang="en-US" sz="29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1f497d"/>
                </a:solidFill>
                <a:latin typeface="Calibri"/>
              </a:rPr>
              <a:t>¿Qué actividades podría realizar un  Punto Focal Operativo con su presupuesto  de US$9000 para apoyo directo/plan de trabajo anual? 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f497d"/>
                </a:solidFill>
                <a:latin typeface="Calibri"/>
              </a:rPr>
              <a:t>¿Qué dificultades se enfrentan al implementar el Plan de Trabajo Anual?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1f497d"/>
                </a:solidFill>
                <a:latin typeface="Calibri"/>
              </a:rPr>
              <a:t>¿Cómo podría ayudar cada uno a dar mayor visibilidad al FMAM? 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wb350798</cp:lastModifiedBy>
  <dcterms:modified xsi:type="dcterms:W3CDTF">2012-06-06T15:19:06Z</dcterms:modified>
  <cp:revision>137</cp:revision>
  <dc:subject/>
  <dc:title>Focal Area and Cross Cutting Strategies – Chemicals</dc:title>
</cp:coreProperties>
</file>