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7D9-D27D-4FF4-A88A-8D5CE3873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6D2-D550-4BCB-A667-FFEDA2AC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9:06Z</dcterms:modified>
  <cp:revision>137</cp:revision>
  <dc:subject/>
  <dc:title>Focal Area and Cross Cutting Strategies – Chemicals</dc:title>
</cp:coreProperties>
</file>