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EFDB-2A88-4C87-B0A5-29B823B40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5F1C-C5DC-499F-A4CF-1520A7DF5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9"/>
          <p:cNvGrpSpPr/>
          <p:nvPr/>
        </p:nvGrpSpPr>
        <p:grpSpPr>
          <a:xfrm>
            <a:off x="0" y="152280"/>
            <a:ext cx="9144000" cy="1247760"/>
            <a:chOff x="0" y="152280"/>
            <a:chExt cx="9144000" cy="1247760"/>
          </a:xfrm>
        </p:grpSpPr>
        <p:pic>
          <p:nvPicPr>
            <p:cNvPr id="40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8000" y="155160"/>
              <a:ext cx="9107640" cy="60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le 5"/>
          <p:cNvSpPr/>
          <p:nvPr/>
        </p:nvSpPr>
        <p:spPr>
          <a:xfrm>
            <a:off x="685800" y="3809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le 1"/>
          <p:cNvSpPr/>
          <p:nvPr/>
        </p:nvSpPr>
        <p:spPr>
          <a:xfrm>
            <a:off x="685800" y="228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Thank you for your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8 to 10 May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Antigua and Barbu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Roles and Responsibilities of Council Members and Focal Point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How could each stakeholder better understand the work of the GEF in their country?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What is done to promote coordination within your country? Is a GEF steering committee a useful tool?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Stakeholder Roles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cuss the role of each stakeholder at your table with respect to the G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is the responsibility of the Council Member to their constituenc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is the political focal point involved in GEF activitie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should convention focal points do in preparation for COP negotiations concerning the GEF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are some specific ways for CSOs to become more involved in GEF activitie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are the activities that an OFP could do with their $9,000 direct support/annual work plan budge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challenges are faced when implementing the Annual Work Pla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could each stakeholder assist with the visibility of the GEF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could each stakeholder better understand the work of the GEF in their countr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is done to promote coordination within your country? Is a GEF steering committee a useful tool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What is the responsibility of the Council Member to their constituency?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How is the political focal point involved in GEF activities?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What should convention focal points do in preparation for COP negotiations concerning the GEF?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What are some specific ways for CSOs to become more involved in GEF activities?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What are the activities that an OFP could do with their $9,000 direct support/annual work plan budget?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What challenges are faced when implementing the Annual Work Plan?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How could each stakeholder assist with the visibility of the GEF?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wb350798</cp:lastModifiedBy>
  <dcterms:modified xsi:type="dcterms:W3CDTF">2012-06-06T14:58:21Z</dcterms:modified>
  <cp:revision>84</cp:revision>
  <dc:subject/>
  <dc:title>Focal Area and Cross Cutting Strategies – Chemicals</dc:title>
</cp:coreProperties>
</file>