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00C3-2450-446D-8D4C-087F79E45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7E33-3F90-4A08-97BB-2E9912F7B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155160"/>
              <a:ext cx="9107640" cy="60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8 to 10 May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ntigua and Barb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Roles and Responsibilities of Council Members and Focal Point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ow could each stakeholder better understand the work of the GEF in their country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is done to promote coordination within your country? Is a GEF steering committee a useful tool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takeholder Role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 the role of each stakeholder at your table with respect to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the responsibility of the Council Member to their constituenc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is the political focal point involved in GEF activiti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should convention focal points do in preparation for COP negotiations concerning the GEF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are some specific ways for CSOs to become more involved in GEF activiti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are the activities that an OFP could do with their $9,000 direct support/annual work plan budge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challenges are faced when implementing the Annual Work Pl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could each stakeholder assist with the visibility of the GEF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could each stakeholder better understand the work of the GEF in their countr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done to promote coordination within your country? Is a GEF steering committee a useful too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is the responsibility of the Council Member to their constituency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How is the political focal point involved in GEF activities?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should convention focal points do in preparation for COP negotiations concerning the GEF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are some specific ways for CSOs to become more involved in GEF activities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are the activities that an OFP could do with their $9,000 direct support/annual work plan budget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hat challenges are faced when implementing the Annual Work Plan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ow could each stakeholder assist with the visibility of the GEF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4:58:21Z</dcterms:modified>
  <cp:revision>84</cp:revision>
  <dc:subject/>
  <dc:title>Focal Area and Cross Cutting Strategies – Chemicals</dc:title>
</cp:coreProperties>
</file>