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F1CF-7F4A-4BC1-A7B7-B9BEB9CE3B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9D2B-A5F1-4F5E-A77C-E40F2EE16D5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A28F-3BDE-47D8-8786-72C758EF02D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EE8-91A7-43E8-B5AC-DB9B0A06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58E-7EA4-4C13-9EB8-135B7FBF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284-1E76-400F-BDDB-D3251C93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737-5202-41AC-9BC7-3E2D98C9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BC4E-F52A-4CEB-A7DD-B4BD8BCF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D139-2365-4804-B39C-F02562EA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B7E4-88D2-406D-BF9A-9242E6A8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6AC9-3E53-441F-8798-5EB554EC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824E-95ED-43A1-926D-3500AEE8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A7C4-1A32-4F05-A2C4-C59E404D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260B-B9F2-42EB-9EB5-C98FAB88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8CD-1835-413A-8BD6-D4EFDFCF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5951-2079-49B9-86F5-D397F328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758C-838F-4F2E-B45A-7574E0A3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CFE1-AFCB-48B4-B566-B3973817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2A47-CE6A-4CF3-93DA-B420686D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9F6C-2B0F-4FDE-A956-47B400D0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1861-A558-40C5-964A-044FFFF8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9BAC3-12BB-4562-A11E-D1757A6E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E88B5-37BA-4337-AB83-2B0C9C33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BE888-12F0-4BF3-AE37-9A875762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5FF4-3392-4199-8194-A11406D8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993-30CC-486C-9C84-6E1540BD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754CB-8797-4DD7-B30A-ADEE59A7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92527-41CD-4A26-ABE3-A95A912C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199E9-12C6-463E-910B-7D2AC52B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B20EE-DF5F-4AB2-9720-45759C25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2909-16D5-4E16-AE72-306D6E4C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78B06-F658-445C-8EC3-98B7629D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A5ECB-B059-41CF-8417-6DA9EB33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C9E-992E-4CA7-AAA6-8CF3F4D4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C907-CCC7-4969-BA7E-9F9C2F18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37E-FA89-4E9B-BEF6-C26061F2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DDCE-2B3B-4716-97BA-C57928A0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139-5086-4180-BF14-2BDB4784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226-E3E0-4233-B317-B84C8594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BA13-CA3C-4E33-A45A-8D75B45348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4C0E-DFF5-4ECA-88C2-46D5C0CDDC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223B-D006-41F0-AC48-42EB7A4E8B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380880" y="12952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520" y="9907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1523880"/>
          <a:ext cx="7848720" cy="4122720"/>
        </p:xfrm>
        <a:graphic>
          <a:graphicData uri="http://schemas.openxmlformats.org/drawingml/2006/table">
            <a:tbl>
              <a:tblPr/>
              <a:tblGrid>
                <a:gridCol w="3351240"/>
                <a:gridCol w="2557440"/>
                <a:gridCol w="1940040"/>
              </a:tblGrid>
              <a:tr h="70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Projects Implemente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hart 5" descr=""/>
          <p:cNvPicPr/>
          <p:nvPr/>
        </p:nvPicPr>
        <p:blipFill>
          <a:blip r:embed="rId1"/>
          <a:stretch/>
        </p:blipFill>
        <p:spPr>
          <a:xfrm>
            <a:off x="536400" y="914400"/>
            <a:ext cx="7845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Chart 4" descr=""/>
          <p:cNvPicPr/>
          <p:nvPr/>
        </p:nvPicPr>
        <p:blipFill>
          <a:blip r:embed="rId1"/>
          <a:stretch/>
        </p:blipFill>
        <p:spPr>
          <a:xfrm>
            <a:off x="231840" y="304920"/>
            <a:ext cx="8759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3520" y="114300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Lisa</cp:lastModifiedBy>
  <dcterms:modified xsi:type="dcterms:W3CDTF">2012-04-22T23:39:19Z</dcterms:modified>
  <cp:revision>68</cp:revision>
  <dc:subject/>
  <dc:title>GEF Small Grants Program</dc:title>
</cp:coreProperties>
</file>