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1D0-382F-4ABE-9595-427DE8799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E2C1-6BBA-43B9-B56B-6B2355F07E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1BB3-94E4-4F1F-B0A6-710A6B14A2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DFD-08F1-4092-9D8C-DB5F2E22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882-83ED-4B48-B1DA-7DAEA6DA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2EC-D4E1-4010-BB43-4DCCBB7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1BE-9534-4E73-8B1E-4F86C7F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5FE-12CD-4E1E-B501-674E6642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F057-89B9-4CA5-81EB-0768840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377D-765C-4AE7-BB9A-12B69C0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8ED-17E8-4773-8D34-7B57B783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2004-863F-4021-8EE8-85E1F8D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6A1-8290-42D2-BABB-FE2DF572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6F4E-2078-4CDA-AE22-9270979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0C5-B5F6-4A6E-BF39-45709C0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18B5-7A6C-4DA4-BD97-52011CC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FB1-829C-474B-8014-A721760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2C5-3180-4135-B344-CFA944C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C549-CF43-4170-9928-CB6C5738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9DA3-63FE-4614-8241-5000CDA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41D7-B8A9-48D1-8C60-D230B956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1E64-E823-4B92-80FA-525A8AC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65FC-F651-46DC-B5F9-2C749FA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BA47-83E7-46FE-A959-4C0BCB0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38EC-93A6-40D3-99D0-B8351C31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8A-BE87-40B2-B1BA-56DAC91D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0A89-46E2-4BDA-9E7A-8A64B163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FB99-ADF2-43A2-80BB-9BEB49C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C983-80C1-4131-B50C-D58E930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E8E5-1ACF-4B51-A975-D16BE9D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F91E-3E35-4E12-8C9C-BD5A0A9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80F0-F687-4E21-9955-6095CE8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7204-357E-4AAE-BE8E-754CDB6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2DD-F682-460A-9052-EA6BCEE1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B2C-9D39-40B9-9C4F-0EA8C0BB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25B-910B-4BDF-8D9A-8627A13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3F7-C3DB-4B3E-8CCF-2DFC59F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EB1-C7BE-4EC7-8692-F2E41EF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E4A-CFAC-4A9F-A095-1AADDFF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AF46-3D9C-4FA8-8D1C-5F8A5EF04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2C9-050E-41E0-AD9E-1E9BF6819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363-8485-4F5F-B8CD-C2F02EE31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80880" y="1295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523880"/>
          <a:ext cx="7848720" cy="4122720"/>
        </p:xfrm>
        <a:graphic>
          <a:graphicData uri="http://schemas.openxmlformats.org/drawingml/2006/table">
            <a:tbl>
              <a:tblPr/>
              <a:tblGrid>
                <a:gridCol w="3351240"/>
                <a:gridCol w="2557440"/>
                <a:gridCol w="1940040"/>
              </a:tblGrid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Projects Implemen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hart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784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14300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Lisa</cp:lastModifiedBy>
  <dcterms:modified xsi:type="dcterms:W3CDTF">2012-04-22T23:39:19Z</dcterms:modified>
  <cp:revision>68</cp:revision>
  <dc:subject/>
  <dc:title>GEF Small Grants Program</dc:title>
</cp:coreProperties>
</file>