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1DA-CF8B-4CF7-8D8C-1B3DD59B7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362-B9C7-4D9D-B8C1-19E6E27C1C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5D5-52F7-430D-AB8F-E3F12E4DD9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F68-B71B-48E5-B1D8-021CC66E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36F-9E06-4F2D-8B77-DC036DD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F3A-FB46-46DF-8494-2BB17168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3FF-953A-4804-9F74-D7A83CF4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74EE-32AA-4CF7-AEAF-3E5586BA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85DD-ECFD-40A3-8483-D54D1AF8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5E7-48D4-415D-8AE2-9FA1C5D7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8940-3D46-483D-909D-00ED871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9F76-0239-4484-A2A2-ABAE373F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6CD5-D0F4-42E8-AC2B-60221932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08F6-EB82-4E9F-83F0-D2C6498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CCB-C03E-4450-9C57-8FE457D2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EA3A-407D-4B11-AACA-14BB458E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BC2-EDCD-4356-A9BB-802F674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5286-8C1F-4E37-AA3F-FAD5C0D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A80-2AAD-4160-BA22-E4DB9843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895D-8D8D-48BF-8537-025C3954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CE1F-E230-4B68-A3B2-CD925269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4708-6CB7-4864-A284-53CE000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F9C5-4CEE-40DC-BC4F-861D8E4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317E-00AC-40A6-AF83-959CE7C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4EB4-E400-44DB-B3CA-BD280797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BAD-9265-4BCF-A2D3-4B614B5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8CD14-7987-4686-B16F-60CD2DD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CBD4-948F-4F73-9FA3-ABD5803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E7D5-D109-4132-8B66-0EDFEDE5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3DF7-C3E3-45F9-A88A-8BB9BC1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88186-A715-4094-B4B5-11C2202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92FA-A2D8-45CE-BADC-740817D7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ED67-C0B2-4256-BA3C-F63FCD01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2F4-5091-425F-89C9-175A33D3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0A4-049B-4F3A-BF8B-EBD7561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7D3-FE2B-48CF-98C9-39A33E1B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2C1-F236-466A-9824-56B305C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B61-B8A5-48A7-B3ED-0287272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B0E-8B97-474E-A9D3-EAA594A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F755-79BA-43FE-9F7D-D107BE83D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965-24BF-42F7-BFB1-A7B455D30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9EE-031C-4390-A70E-559FCC7D2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80880" y="12952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523880"/>
          <a:ext cx="7848720" cy="4122720"/>
        </p:xfrm>
        <a:graphic>
          <a:graphicData uri="http://schemas.openxmlformats.org/drawingml/2006/table">
            <a:tbl>
              <a:tblPr/>
              <a:tblGrid>
                <a:gridCol w="3351240"/>
                <a:gridCol w="2557440"/>
                <a:gridCol w="1940040"/>
              </a:tblGrid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Projects Implemen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hart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784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hart 4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75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14300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Lisa</cp:lastModifiedBy>
  <dcterms:modified xsi:type="dcterms:W3CDTF">2012-04-22T23:39:19Z</dcterms:modified>
  <cp:revision>68</cp:revision>
  <dc:subject/>
  <dc:title>GEF Small Grants Program</dc:title>
</cp:coreProperties>
</file>