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235-AD55-447E-B9A3-F494FEBF352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BAE-49B8-4D75-8F25-5CC594D06F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097D-F84D-4767-B254-E480A14C00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5E31-DEDA-4FA1-A9EA-7A0A7CE59A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3B8-AD4C-4B37-840F-2DB46F3EE1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038-05AA-4818-8AAA-C30EA59B219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3A6-BE5E-4358-8841-5B3FDAC069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0D31-FB59-4AFF-B113-9D201194F9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792-AF08-440C-831A-6EC2AD3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12C-93AD-4746-A3A7-2FC8F9E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A63-69B2-4E0F-8478-8430F288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EBD-5087-4434-AC06-A5233C63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13D2-0F3A-46CB-90A9-D6A9235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82C-836C-47C9-9C83-89D17B3F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450F-B381-446D-96A4-D91130A6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1325-3171-4FD6-93E1-6AF89C63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9BD-571C-462C-B7F4-3A50D6C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0F5-2ACC-4BCA-A1C3-1ADB7799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4936-BB97-4D24-9195-3769D29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88B-8C48-47BE-8CB6-72E8DD9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B93A-8737-49A3-9FBC-4DE6998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2A1-86FB-4971-A722-B5EA159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355-2302-4598-8773-C61CB1F9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25E6-EC6C-467E-B069-E34C8E72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966-064B-4722-96E1-F2A4F432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C426-45B4-4D91-A0DC-61F2A0CD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AE01-F498-4064-8312-BC8E9CB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1C1E-F51D-4E28-AB05-3D5BAFB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27B6-0B2F-4469-86B1-FF9925B9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4AA6-6950-47D5-8553-81173DCB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E5-A6FE-41F9-837B-0B8ED73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824F-47EB-4AF2-9E15-709130D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E7EB-3253-4B77-A434-C36A48E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0A5A-A147-46E6-BCF9-1F25ADA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CD34-5979-4B02-960C-4B27EA1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AE24-95E0-493E-8642-72F2AF9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46C2-9EB4-4D07-BDC7-2D613F0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90D4-B358-4F75-BFEB-8A707B0A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6236-279C-469E-B4FB-A72CF974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9486-39FF-42D3-B0C9-D7994C42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023D-7924-4EF7-8A55-20A6F1E6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1B4-2C77-4285-8FA7-8980E57E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7DAB-AA56-4442-8A13-1A44003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E2E5-FCE3-4925-96C9-2FF54AA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9EAC-82FD-4A40-910D-9318D0A7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D622-D95A-46DF-8856-5CCD8EB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4823-EA1E-43A8-A7FB-B4BA596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D042-46B9-4A81-BB46-DEB5D6B4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5933-203D-4D13-9C32-C5C01B4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4C9D-8115-4307-B322-36B946B3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F857-BCA1-407D-AD0B-B61DAFD3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AAA-83FA-4E0A-A261-1D6D2FE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F1F-9312-43A6-B9AB-577A35D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F8A-D905-4361-AA23-B7800FB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219-362A-44CA-88F7-F039D21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E27-2214-455E-98EE-69A18C7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386-A095-4C92-826B-34789CF2EE0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134-E3CA-49EC-A1C6-FB98DCA12A1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DFA-B536-438D-AA6C-AB19F1D9B3C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C4E-08E6-463F-9801-65B619A208A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cs typeface="Arial"/>
              </a:rPr>
              <a:t>شراكة صندوق البيئة العالمية مع منظمات المجتمع المدني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038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17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فبراير/شباط 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2012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نظمات المجتمع المدني:</a:t>
            </a:r>
            <a:r>
              <a:rPr b="0" lang="ar-SA" sz="40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السياسات والمشارك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1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يعمل صندوق البيئة العالمية بصورة نشطة على إشراك منظمات المجتمع المدني في برامجه مشروعاته وسياس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5128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تشارك منظمات المجتمع المدني في صندوق البيئة العالمية من خلال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والمشاركة في مشروعات الصندوق؛ و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 algn="r" rtl="1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الانخراط في عمليات وإجراءات السياسات من خلال الجمعية العمومية للصندوق ومجلسه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 algn="r" rtl="1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السياسات المحددة التي يتبناها مجلس الصندوق، ووضع الأساس لانخراط منظمات المجتمع المدني في أنشطة الصندوق على مستويين متميزين هما المشروعات والسياسة الدولية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ما هو المجتمع المدن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قر صندوق البيئة العالمية بالتعريف الخاص بالمجموعات الكبرى الذي اتفقت عليه الحكومات في مؤتمر الأمم المتحدة المعني بالبيئة والتن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يتألف المجتمع المدني من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مجموعات كبرى: المنظمات غير الحكومية، والمزارعين، والنساء، والمجتمع العلمي والفني، والشباب والأطفال، والشعوب الأصلية ومجتمعاتها المحلية، ودوائر أنشطة الأعمال والتجارة والصناعة، والعمال والنقابات العمالية، والسلطات المحلية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SzPct val="12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في هذا السياق، فإن المبدأ الأساسي الذي تم اعتماده في اجتماعات مجلس صندوق البيئة العالمية في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99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F/C.3/5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هو أن منظمات المجتمع المدني/المنظمات غير الحكومية التي تحضر/تراقب اجتماعات المجلس تُعرف بأنها منظمات غير هادفة للربح يتصل نطاق اختصاصها وخبراتها وتجاربها العملية وقدراتها بعمل الصندوق.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7800" indent="-30780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سياسات صندوق البيئة العالمية المعنية بانخراط منظمات المجتمع المدني على مستوى المشروع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في المشروعات التي يمولها صندوق البيئة العالمي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سياسة التي اعتمدها مجلس الصندوق في أبريل/نيسا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6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تضمن مشاركة الجمهور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عمليات مترابطة وغالباً ما تكون متداخلة</a:t>
            </a: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نشر المعلوم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شا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6600" indent="-2314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شاركة أصحاب المصلح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نطبق ذلك على جميع مجالات تركيز الصندوق وبرامجه ومشروعاته؛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طرح التفصيلي لمبررات انخراط الجمهور وشروط ذلك ومبادئ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عزيز المطلب العملي بشأن انخراط أصحاب المصلحة وإشراكهم في تصميم وتنفيذ وتقييم الأنشطة التي يمولها الصندو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3680" indent="-283680" algn="r" rt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سياسات صندوق البيئة العالمية ــ مستوى السياسات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تشاور مجلس الصندوق مع منظمات المجتمع المدني بما فيها منظمات الشعوب الأصلية قبل أي اجتماع له بما في ذلك الاجتماعات الخاصة بعمليات تجديد موارد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يجب التمتع بعضوية شبكة منظمات المجتمع المدني والمنظمات غير الحكومية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  و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ar-LB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نطبق المعايير التالية على اختيار المشاركين الذين ستتم رعايته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ضمان تمثيل جغرافي واسع النطا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متع بالكفاءة المطلوبة للنظر في أجندة الصندو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توازن بين الممثلين الدوليين والوطنيين والمحليين ــ واتساع نطاق وجهات النظر والتجارب العم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r" rtl="1">
              <a:spcBef>
                <a:spcPts val="476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مراعاة الحضور السابق لمنظمات المجتمع المدني في اجتماعات المجلس، والعمل على التناوب بين هذه المنظم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مبررات إشراك الجمهور في المشروعات التي يمولها صندوق البيئة العالم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إشراك الجمهور يعمل على تحسين أداء المشروعات وآثارها من خلال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زيادة مسؤولية البلد المستفيد عن نواتج المشروعات والمساءلة بشأ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تلبية الاحتياجات الاجتماعية والاقتصادية للمتضرر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بناء شراكات بين الهيئات التنفيذية للمشروعات وأصحاب المصلح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5160" indent="-265320" algn="r" rtl="1">
              <a:lnSpc>
                <a:spcPct val="8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cs typeface="ＭＳ Ｐゴシック"/>
              </a:rPr>
              <a:t>الاستفادة من المهارات والخبرات والتجارب والمعارف لا سيما تلك التي تتمتع بها المنظمات غير الحكومية، والمجموعات المجتمعية والمحلية، والقطاع الخاص في تصميم وتنفيذ وتقييم أنشطة المشروعات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ctr" rtl="1"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شكراً على اهتمامك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Lisa</cp:lastModifiedBy>
  <dcterms:modified xsi:type="dcterms:W3CDTF">2012-04-23T00:02:28Z</dcterms:modified>
  <cp:revision>82</cp:revision>
  <dc:subject/>
  <dc:title>GEF’s Partnership with Civil Society Organizations</dc:title>
</cp:coreProperties>
</file>