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84AB-FED6-4A9D-9033-1C0F0A4FD43A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28DE-1E9D-43CE-BA24-E263CDB596D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FCC0-A6EF-4D38-8E9B-B53F0AEA2BA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3474-9774-4ECA-84FA-6E807927124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014B-F9CE-455E-9974-3D95EAADAB2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2EDA-4922-44AA-90F3-1E07B331895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3F61-DE30-44AA-B045-88794463829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30D0-752A-47A4-AB13-D53FD8A341E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9836-DFA1-4E00-91E7-76F6EE37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A93-9B38-4B03-8AC6-966D71A0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7BD-A4E8-4648-895E-C2A9573A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F099-7231-4C98-BD5F-95CABB8F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2DD1-073F-4357-891C-CF44EC3D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3F21-CA01-4984-8F37-4D840BD9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15D8-BD72-4F65-904C-95ED424A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E349-EE7D-4770-8BD4-47E144C5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ED79-00C0-4692-AA57-3CD9A3F7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DC25-CF8E-4F3F-A4C6-41EDA4B3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679C-DDAE-4AB5-B670-901F1ABE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3886-B4E3-4442-88D7-7CAB276B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14A7-4C5F-499D-9874-C41B5D9A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E49E-40A2-468F-AF16-C499B5FC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EB07-F536-41EC-8B93-0F953927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CD43-168B-44D2-83FC-C5BBE0FF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38CD-5674-46A7-B82B-E102CBB0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C7CEF-034A-4F4A-A1E7-0CC6BC1E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842FF-CCBB-47D5-BE22-62252E96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4C112-2759-4895-A71F-4F8B071A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F03DA-7F96-47EA-90F4-30AD3F7A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FAA77-9853-4472-A17F-CA7B6A0E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080E-1CA7-49EF-9510-EF6D210A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9CE0C-EC10-4870-8615-4D5D991F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02872-9DAC-4823-81E8-895AB826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6D304-D514-46E2-9A02-B06D9554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4EBD0-5512-4D30-B6F2-F8762350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53E50-252D-49FD-924E-750F49E4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E1320-A7ED-48D7-BC4E-BA82BA73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6E285-9126-46FB-95A6-FA4BA581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2685A-F21C-475B-8DCA-7BB8AA59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2EB3D-D0D6-4934-A1AA-9CBF851E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7AC82-0153-47AE-8D88-FCD87611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D49-DE8D-40D7-BC8B-0E8391E3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FAD50-99F3-47CB-BF8F-56594961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680A4-20B8-43D7-90ED-8E177F87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701B8-6A1E-47A4-AD84-0E4D7752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25E77-1159-41EC-8260-A660F6E6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08356-BF5F-424D-B06C-85968C12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35CE8-549F-4073-9DC1-C1AFAF0B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8DBEB-5927-476C-B5ED-221FD320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14629-ED09-4982-9806-6AFA85CE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4A3C3-AC14-41CE-A0AF-671616DC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8DE-544F-47DD-BD99-96E56539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5C36-08AE-4481-BED3-8494C5BC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F768-D4CB-4389-9717-F285507C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FB4-3C68-4B19-B4E3-73724E26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F48-69DC-4B18-A7BB-88AA7EB3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0337-DE00-4412-88CB-4B2843771F9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28CC-416A-4F3F-B34A-2C60E99AF3B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0A7D-58E0-4E2B-AFD4-0191052861E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51AF-4325-4D8D-BEA8-0D35437CC73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gef.org/gef/csos" TargetMode="External"/><Relationship Id="rId2" Type="http://schemas.openxmlformats.org/officeDocument/2006/relationships/hyperlink" Target="http://www.gefngo.org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  <a:cs typeface="Arial"/>
              </a:rPr>
              <a:t>شراكة صندوق البيئة العالمية مع منظمات المجتمع المدني</a:t>
            </a:r>
            <a:br>
              <a:rPr sz="3600"/>
            </a:br>
            <a:br>
              <a:rPr sz="18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0384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15</a:t>
            </a: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17</a:t>
            </a: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 فبراير/شباط </a:t>
            </a: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2012</a:t>
            </a: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642d"/>
                </a:solidFill>
                <a:latin typeface="Calibri"/>
                <a:cs typeface="Arial"/>
              </a:rPr>
              <a:t>البحر الميت</a:t>
            </a: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منظمات المجتمع المدني:</a:t>
            </a:r>
            <a:r>
              <a:rPr b="0" lang="ar-SA" sz="40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السياسات والمشارك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3160" y="16002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58080" indent="-251280" algn="r" rtl="1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يعمل صندوق البيئة العالمية بصورة نشطة على إشراك منظمات المجتمع المدني في برامجه مشروعاته وسياسات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251280" algn="r" rtl="1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تشارك منظمات المجتمع المدني في صندوق البيئة العالمية من خلال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 algn="r" rtl="1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الانخراط والمشاركة في مشروعات الصندوق؛ و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 algn="r" rtl="1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الانخراط في عمليات وإجراءات السياسات من خلال الجمعية العمومية للصندوق ومجلسه.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 algn="r" rtl="1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السياسات المحددة التي يتبناها مجلس الصندوق، ووضع الأساس لانخراط منظمات المجتمع المدني في أنشطة الصندوق على مستويين متميزين هما المشروعات والسياسة الدولية.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7800" indent="-307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ما هو المجتمع المدني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7800" indent="-3078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SzPct val="12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يقر صندوق البيئة العالمية بالتعريف الخاص بالمجموعات الكبرى الذي اتفقت عليه الحكومات في مؤتمر الأمم المتحدة المعني بالبيئة والتنمية في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992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7800" indent="-3078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SzPct val="12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يتألف المجتمع المدني من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مجموعات كبرى: المنظمات غير الحكومية، والمزارعين، والنساء، والمجتمع العلمي والفني، والشباب والأطفال، والشعوب الأصلية ومجتمعاتها المحلية، ودوائر أنشطة الأعمال والتجارة والصناعة، والعمال والنقابات العمالية، والسلطات المحلية.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7800" indent="-3078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SzPct val="12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في هذا السياق، فإن المبدأ الأساسي الذي تم اعتماده في اجتماعات مجلس صندوق البيئة العالمية في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995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F/C.3/5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هو أن منظمات المجتمع المدني/المنظمات غير الحكومية التي تحضر/تراقب اجتماعات المجلس تُعرف بأنها منظمات غير هادفة للربح يتصل نطاق اختصاصها وخبراتها وتجاربها العملية وقدراتها بعمل الصندوق.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7800" indent="-307800" algn="r" rtl="1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سياسات صندوق البيئة العالمية المعنية بانخراط منظمات المجتمع المدني على مستوى المشروع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3680" indent="-28368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إشراك الجمهور في المشروعات التي يمولها صندوق البيئة العالمية</a:t>
            </a:r>
            <a:r>
              <a:rPr b="0" lang="ar-SA" sz="27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6600" indent="-2314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السياسة التي اعتمدها مجلس الصندوق في أبريل/نيسا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996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3680" indent="-28368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تتضمن مشاركة الجمهور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ar-SA" sz="2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عمليات مترابطة وغالباً ما تكون متداخلة</a:t>
            </a:r>
            <a:r>
              <a:rPr b="0" lang="ar-SA" sz="27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6600" indent="-2314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نشر المعلوم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6600" indent="-2314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التشاو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6600" indent="-2314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مشاركة أصحاب المصلح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3680" indent="-28368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ينطبق ذلك على جميع مجالات تركيز الصندوق وبرامجه ومشروعاته؛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3680" indent="-28368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الطرح التفصيلي لمبررات انخراط الجمهور وشروط ذلك ومبادئه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3680" indent="-28368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تعزيز المطلب العملي بشأن انخراط أصحاب المصلحة وإشراكهم في تصميم وتنفيذ وتقييم الأنشطة التي يمولها الصندوق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3680" indent="-283680" algn="r" rtl="1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سياسات صندوق البيئة العالمية ــ مستوى السياسات العالمي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 algn="r" rtl="1">
              <a:spcBef>
                <a:spcPts val="476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يتشاور مجلس الصندوق مع منظمات المجتمع المدني بما فيها منظمات الشعوب الأصلية قبل أي اجتماع له بما في ذلك الاجتماعات الخاصة بعمليات تجديد موارده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r" rtl="1">
              <a:spcBef>
                <a:spcPts val="388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يجب التمتع بعضوية شبكة منظمات المجتمع المدني والمنظمات غير الحكومية</a:t>
            </a:r>
            <a:r>
              <a:rPr b="0" lang="ar-LB" sz="1600" spc="-1" strike="noStrike">
                <a:solidFill>
                  <a:srgbClr val="000000"/>
                </a:solidFill>
                <a:latin typeface="Calibri"/>
                <a:ea typeface="Arial"/>
              </a:rPr>
              <a:t>. 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"/>
              </a:rPr>
              <a:t>http://www.thegef.org/gef/csos</a:t>
            </a:r>
            <a:r>
              <a:rPr b="0" lang="ar-LB" sz="1600" spc="-1" strike="noStrike">
                <a:solidFill>
                  <a:srgbClr val="000000"/>
                </a:solidFill>
                <a:latin typeface="Calibri"/>
                <a:ea typeface="Arial"/>
              </a:rPr>
              <a:t>  و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"/>
              </a:rPr>
              <a:t>www.gefngo.org</a:t>
            </a:r>
            <a:r>
              <a:rPr b="0" lang="ar-LB" sz="16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r" rtl="1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spcBef>
                <a:spcPts val="476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تنطبق المعايير التالية على اختيار المشاركين الذين ستتم رعايتهم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r" rtl="1">
              <a:spcBef>
                <a:spcPts val="476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ضمان تمثيل جغرافي واسع النطا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r" rtl="1">
              <a:spcBef>
                <a:spcPts val="476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التمتع بالكفاءة المطلوبة للنظر في أجندة الصندو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r" rtl="1">
              <a:spcBef>
                <a:spcPts val="476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التوازن بين الممثلين الدوليين والوطنيين والمحليين ــ واتساع نطاق وجهات النظر والتجارب العمل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r" rtl="1">
              <a:spcBef>
                <a:spcPts val="476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مراعاة الحضور السابق لمنظمات المجتمع المدني في اجتماعات المجلس، والعمل على التناوب بين هذه المنظمات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مبررات إشراك الجمهور في المشروعات التي يمولها صندوق البيئة العالمي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5080" indent="-325080" algn="r" rtl="1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إشراك الجمهور يعمل على تحسين أداء المشروعات وآثارها من خلال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532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زيادة مسؤولية البلد المستفيد عن نواتج المشروعات والمساءلة بشأن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532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532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تلبية الاحتياجات الاجتماعية والاقتصادية للمتضرر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532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532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بناء شراكات بين الهيئات التنفيذية للمشروعات وأصحاب المصلح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532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532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الاستفادة من المهارات والخبرات والتجارب والمعارف لا سيما تلك التي تتمتع بها المنظمات غير الحكومية، والمجموعات المجتمعية والمحلية، والقطاع الخاص في تصميم وتنفيذ وتقييم أنشطة المشروعات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08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ctr" rtl="1"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شكراً على اهتمامك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7:35:08Z</dcterms:created>
  <dc:creator>wb350798</dc:creator>
  <dc:description/>
  <dc:language>en-US</dc:language>
  <cp:lastModifiedBy>Lisa</cp:lastModifiedBy>
  <dcterms:modified xsi:type="dcterms:W3CDTF">2012-04-23T00:02:28Z</dcterms:modified>
  <cp:revision>82</cp:revision>
  <dc:subject/>
  <dc:title>GEF’s Partnership with Civil Society Organizations</dc:title>
</cp:coreProperties>
</file>