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0684-5D91-4E31-94AB-BCF6C6EC5F1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DF54-154C-4971-97B3-208DEB181D3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72E1-4605-4B7A-93C5-13150A87A7A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C1BD-2B38-4D8A-8972-44FDB38CC7C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2A9E-7EC6-479F-AD77-D7CDE2D90B1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D9A5-8662-4496-A571-2EDEB38054E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4D2C-9CE8-4056-9A5A-7F1D9F40F8F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F5FA-598E-42E1-92A1-0B69A30E97F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874-6B1E-49C6-B275-1F16A71F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76FF-675A-4F83-AC40-C68E1984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D8B-EE5C-4C0A-AF3D-DF5DB748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A1B-48D2-42F5-8E74-CE1580F5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89F5-5442-4546-AA61-89AE81BE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2C9F-2690-431B-9D9C-3C7D67EE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5F39-816E-4088-9535-A4D493CF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BE4B-7273-41FE-861C-469F2ECB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D515-96ED-4667-A01B-DA941036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E793-F508-4395-92E2-4FE51E17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F66A-8AF2-4D65-B66F-FD552AC0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133-5645-40C3-833A-5B537E84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D720-587D-4245-9A31-1B62FC7A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33B5-8E15-45BF-BD12-E04E5323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EFE0-D070-4B50-AB22-70574D18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1732-9AF3-462D-80C4-710EFEFF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13F4-60D3-40CB-87B6-C37B54F9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4FFBE-CBA8-467D-894F-BEA792C8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E3742-87F4-41EB-8FFC-C7425B74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E1547-D51E-42EE-AB3C-8DBB9FC3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694F0-9517-4732-A060-E63E63CB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C0939-2C10-4327-AD68-6E90F73A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DFA-CA82-42B8-A617-135A1060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BA238-878B-4654-BCCA-B0346331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85C2-92C4-4800-97CC-BBBA2B1F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308EB-0C11-45AC-990C-6F025EF4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7534B-807D-4D53-A258-9A807310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3CE60-BD3D-427B-BD7B-77DC45DE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EF34B-0A8A-4C4A-BF32-BE3B3C8E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A0B93-5331-48F1-8F34-B2312D09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00088-B35B-4EDD-AD62-EE6FFC80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08738-304E-4EFC-A1F2-1C902166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D42A8-54B0-4C97-B79B-B123B37B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F46-EB19-47D7-8681-45272675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81480-8A5B-4E2A-BCFF-1698327D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CA66D-E3B0-4550-AFB7-27761D63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238D8-FC91-4737-9B69-82DC3E1A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2C847-E343-4531-9DBB-CAE43CA4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04B17-B162-4F4F-9D95-933B0624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B4794-1140-4AA3-B913-E8CC68F1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DF933-A380-4630-BDD6-28D27568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CA934-55EC-4488-8E30-CA900CAB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4677A-6F71-4F2C-81E0-0E5C1479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02F-6B30-4361-BB40-6D31DF51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275D-94AC-4F9D-9937-37DE2463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4924-1392-42A7-A88D-D5692382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E6B-3377-488F-9ACB-5B479917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C2A-DEE4-4C29-BF5A-4D5B2971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5C2F-3A20-4BDD-B198-7CC367C3986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4C1D-671E-4B4C-A991-DD4EBA3FB14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F304-1B66-484A-9310-97D88D0DF92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A778-B16F-459A-B927-361FEF74E61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gef.org/gef/csos" TargetMode="External"/><Relationship Id="rId2" Type="http://schemas.openxmlformats.org/officeDocument/2006/relationships/hyperlink" Target="http://www.gefngo.org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  <a:cs typeface="Arial"/>
              </a:rPr>
              <a:t>شراكة صندوق البيئة العالمية مع منظمات المجتمع المدني</a:t>
            </a:r>
            <a:br>
              <a:rPr sz="3600"/>
            </a:br>
            <a:br>
              <a:rPr sz="18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0384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15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17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 فبراير/شباط 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2012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642d"/>
                </a:solidFill>
                <a:latin typeface="Calibri"/>
                <a:cs typeface="Arial"/>
              </a:rPr>
              <a:t>البحر الميت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منظمات المجتمع المدني:</a:t>
            </a:r>
            <a:r>
              <a:rPr b="0" lang="ar-SA" sz="40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السياسات والمشارك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1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58080" indent="-251280" algn="r" rtl="1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يعمل صندوق البيئة العالمية بصورة نشطة على إشراك منظمات المجتمع المدني في برامجه مشروعاته وسياسات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251280" algn="r" rtl="1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تشارك منظمات المجتمع المدني في صندوق البيئة العالمية من خلال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 algn="r" rtl="1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الانخراط والمشاركة في مشروعات الصندوق؛ و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 algn="r" rtl="1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الانخراط في عمليات وإجراءات السياسات من خلال الجمعية العمومية للصندوق ومجلسه.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 algn="r" rtl="1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السياسات المحددة التي يتبناها مجلس الصندوق، ووضع الأساس لانخراط منظمات المجتمع المدني في أنشطة الصندوق على مستويين متميزين هما المشروعات والسياسة الدولية.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7800" indent="-307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ما هو المجتمع المدني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7800" indent="-3078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SzPct val="12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يقر صندوق البيئة العالمية بالتعريف الخاص بالمجموعات الكبرى الذي اتفقت عليه الحكومات في مؤتمر الأمم المتحدة المعني بالبيئة والتنمية في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992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7800" indent="-3078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SzPct val="12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يتألف المجتمع المدني من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مجموعات كبرى: المنظمات غير الحكومية، والمزارعين، والنساء، والمجتمع العلمي والفني، والشباب والأطفال، والشعوب الأصلية ومجتمعاتها المحلية، ودوائر أنشطة الأعمال والتجارة والصناعة، والعمال والنقابات العمالية، والسلطات المحلية.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7800" indent="-3078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SzPct val="12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في هذا السياق، فإن المبدأ الأساسي الذي تم اعتماده في اجتماعات مجلس صندوق البيئة العالمية في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995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F/C.3/5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هو أن منظمات المجتمع المدني/المنظمات غير الحكومية التي تحضر/تراقب اجتماعات المجلس تُعرف بأنها منظمات غير هادفة للربح يتصل نطاق اختصاصها وخبراتها وتجاربها العملية وقدراتها بعمل الصندوق.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7800" indent="-307800" algn="r" rtl="1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سياسات صندوق البيئة العالمية المعنية بانخراط منظمات المجتمع المدني على مستوى المشروع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3680" indent="-28368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إشراك الجمهور في المشروعات التي يمولها صندوق البيئة العالمية</a:t>
            </a:r>
            <a:r>
              <a:rPr b="0" lang="ar-SA" sz="27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6600" indent="-2314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السياسة التي اعتمدها مجلس الصندوق في أبريل/نيسا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996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3680" indent="-28368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تتضمن مشاركة الجمهور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ar-SA" sz="2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عمليات مترابطة وغالباً ما تكون متداخلة</a:t>
            </a:r>
            <a:r>
              <a:rPr b="0" lang="ar-SA" sz="27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6600" indent="-2314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نشر المعلوم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6600" indent="-2314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التشاو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6600" indent="-2314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مشاركة أصحاب المصلح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3680" indent="-28368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ينطبق ذلك على جميع مجالات تركيز الصندوق وبرامجه ومشروعاته؛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3680" indent="-28368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الطرح التفصيلي لمبررات انخراط الجمهور وشروط ذلك ومبادئه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3680" indent="-28368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تعزيز المطلب العملي بشأن انخراط أصحاب المصلحة وإشراكهم في تصميم وتنفيذ وتقييم الأنشطة التي يمولها الصندوق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3680" indent="-283680" algn="r" rtl="1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سياسات صندوق البيئة العالمية ــ مستوى السياسات العالمي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r" rtl="1">
              <a:spcBef>
                <a:spcPts val="476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يتشاور مجلس الصندوق مع منظمات المجتمع المدني بما فيها منظمات الشعوب الأصلية قبل أي اجتماع له بما في ذلك الاجتماعات الخاصة بعمليات تجديد موارده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r" rtl="1">
              <a:spcBef>
                <a:spcPts val="388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يجب التمتع بعضوية شبكة منظمات المجتمع المدني والمنظمات غير الحكومية</a:t>
            </a:r>
            <a:r>
              <a:rPr b="0" lang="ar-LB" sz="1600" spc="-1" strike="noStrike">
                <a:solidFill>
                  <a:srgbClr val="000000"/>
                </a:solidFill>
                <a:latin typeface="Calibri"/>
                <a:ea typeface="Arial"/>
              </a:rPr>
              <a:t>.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www.thegef.org/gef/csos</a:t>
            </a:r>
            <a:r>
              <a:rPr b="0" lang="ar-LB" sz="1600" spc="-1" strike="noStrike">
                <a:solidFill>
                  <a:srgbClr val="000000"/>
                </a:solidFill>
                <a:latin typeface="Calibri"/>
                <a:ea typeface="Arial"/>
              </a:rPr>
              <a:t>  و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www.gefngo.org</a:t>
            </a:r>
            <a:r>
              <a:rPr b="0" lang="ar-LB" sz="1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r" rtl="1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spcBef>
                <a:spcPts val="476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تنطبق المعايير التالية على اختيار المشاركين الذين ستتم رعايتهم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r" rtl="1">
              <a:spcBef>
                <a:spcPts val="476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ضمان تمثيل جغرافي واسع النطا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r" rtl="1">
              <a:spcBef>
                <a:spcPts val="476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التمتع بالكفاءة المطلوبة للنظر في أجندة الصندو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r" rtl="1">
              <a:spcBef>
                <a:spcPts val="476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التوازن بين الممثلين الدوليين والوطنيين والمحليين ــ واتساع نطاق وجهات النظر والتجارب العمل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r" rtl="1">
              <a:spcBef>
                <a:spcPts val="476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مراعاة الحضور السابق لمنظمات المجتمع المدني في اجتماعات المجلس، والعمل على التناوب بين هذه المنظمات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مبررات إشراك الجمهور في المشروعات التي يمولها صندوق البيئة العالمي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5080" indent="-325080" algn="r" rtl="1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إشراك الجمهور يعمل على تحسين أداء المشروعات وآثارها من خلال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زيادة مسؤولية البلد المستفيد عن نواتج المشروعات والمساءلة بشأن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تلبية الاحتياجات الاجتماعية والاقتصادية للمتضرر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بناء شراكات بين الهيئات التنفيذية للمشروعات وأصحاب المصلح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الاستفادة من المهارات والخبرات والتجارب والمعارف لا سيما تلك التي تتمتع بها المنظمات غير الحكومية، والمجموعات المجتمعية والمحلية، والقطاع الخاص في تصميم وتنفيذ وتقييم أنشطة المشروعات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08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ctr" rtl="1"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شكراً على اهتمامك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7:35:08Z</dcterms:created>
  <dc:creator>wb350798</dc:creator>
  <dc:description/>
  <dc:language>en-US</dc:language>
  <cp:lastModifiedBy>Lisa</cp:lastModifiedBy>
  <dcterms:modified xsi:type="dcterms:W3CDTF">2012-04-23T00:02:28Z</dcterms:modified>
  <cp:revision>82</cp:revision>
  <dc:subject/>
  <dc:title>GEF’s Partnership with Civil Society Organizations</dc:title>
</cp:coreProperties>
</file>