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8B9-C204-4CD4-A3C0-5D676A4BD1C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05F3-A96D-41A1-AA49-5D72AD9E92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483-6348-45C1-ABCB-196E6FCC70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C145-1FB7-411B-8B1A-FFB127D8EC0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51A-D76E-4F4F-B690-2DCF84C347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F67-DBE7-4DD1-B257-63594AECA7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93DC-BF78-4B25-928C-DD79D6948E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732-BABC-460E-9D8A-A70F1F07EC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15A-ADB2-4121-81F2-13F002A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35B-D2AF-4F71-87BA-3F348BB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E8E-49FD-4611-B23D-FB3C0D9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0B5-C453-43AB-BD08-CB76F41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E1D3-C659-4B30-9139-AB3A61C2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3612-393B-4608-A5F1-0477237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8BC-9A3A-42D2-9C05-C4B901E0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178-6BDA-4879-BE36-F764A0C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623D-8CB8-474E-ADF8-D7C6A0A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7BE6-B7AB-414E-A99E-A7DD49F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1F0-3665-4771-8F29-BDD3579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FCE-6AD4-4428-B652-410E248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B70-B706-4D41-90F8-7CE7AA4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22C1-EBA3-4086-AC4A-A404213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0C5-C850-45D8-8D94-7A1FA51E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D488-2FAB-475D-86CE-639F4F97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79B-6041-44B1-96AE-1E7D286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5FA0-2FE8-4AAD-92EC-EB47D54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3D1F-693C-4129-B012-CECC853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00A8-17BF-4FA1-B3BF-831B8A5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9A57-2DC0-485A-B099-CD177F7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2C72-B41E-4872-A9AE-279916EA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AE3-47BA-484B-918A-E0DC6C2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51AA-558D-44CF-8CCC-7E72575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D2F1-3265-4670-8BF4-586BF35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282E-A84F-4AC1-8B96-811E856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9503-86B3-416F-A0B9-C273619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8E1B-35E7-4A09-A494-7EED80EA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A0E4-DFAD-4088-997F-74F415B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ABFE-0806-4D14-BF01-23FD7E1D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588-213E-427A-9D98-1867824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30A-8C39-4835-8D0E-DD52BB18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89F-E484-4245-8DF7-35821E0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5EB-B95F-408C-BB3E-C8F8D94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5D6-0461-4031-A829-AD4E149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5BF-58A3-4901-A850-1DD739F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92D-C16B-4DBD-BAE1-9187A741F93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769-5DC1-4AB3-89C8-80042CCA500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9FF-DF94-444F-963D-0519BA0378E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2T23:39:49Z</dcterms:modified>
  <cp:revision>77</cp:revision>
  <dc:subject/>
  <dc:title>GEF’s Partnership with Civil Society Organizations</dc:title>
</cp:coreProperties>
</file>