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791B-E964-4408-9C7B-E4C967188556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AC4C-155E-4F4F-AAFC-14A6D52CB43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C53F-90F7-4B3A-A08D-7171363AF20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2B04-35BF-41E7-8C88-512CE1DC913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E055-4623-4239-B4FF-0300C746F33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7D5F-1891-4C2F-8A80-6FE85D62275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D143-A78C-4073-86CF-5F52423FEDF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FE97-236C-43E8-AB7A-A73C7D1156D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F173-3170-4313-8785-7E218C89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320-929C-40A4-9B79-8C89A139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F8D-A28D-43A7-979F-332839C7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E73D-AFF2-433E-B686-14534AC4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983D-6854-4AF5-B538-CE89B1EA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B829-FFEC-42F2-B453-3C5CB780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424B-79F2-4F5C-85E3-B9121C5F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83A9-0617-460E-9FA3-EFE63E5D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57E2-93FD-4C54-9C9C-D18375B5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EC8F-D160-470E-BF5D-C8F84BDC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882B-4E3A-4135-80D8-82D2160F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1798-99E2-4D0D-A4F1-E808706A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6BA7-B82E-4958-BCA8-5859E8F0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B9C0-C0E5-4293-93C6-AEE2EEAC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654D-7565-431C-AA73-F945F87C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7E61-045D-41DD-9875-A6143CC7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AB3A-FD5D-4660-BE9A-A7DB42E7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20DD4-2F08-4C30-A407-1CE78E76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FC69D-7BFC-4CE4-B57E-5DE0E5F0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6AE69-BCAC-4231-AF02-5183C1A0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A94A-3AA7-471D-AE54-AA2223BB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C3F5E-92E0-43EB-8180-CCCC7A70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9B0-ACFD-45E1-8824-19BAA3D9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EBD7D-11D3-48BE-94B7-1FF75D34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B2471-A03D-43D5-98FD-9A1EF314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38A1F-FC62-45C7-A118-FD19725F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B6970-B8A2-422B-97B2-0E006751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3F1E3-3E85-4129-BF4B-545E519D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19F04-4B87-4CB2-A461-B0B31F18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82E7C-32BA-415A-8D77-EC0E202A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DA7-B0BA-483B-898B-153CC24D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A2A-C087-4171-BC43-A6ED0060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384-1530-441B-8E68-3B0B1144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8C0-6C51-4906-9523-2119DD6C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1C6-6126-4BFF-8EED-E74FB3B2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6DA-56C0-4F77-B579-9FCF2130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6394-F58C-4E66-B939-1A54593F271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5F38-3890-49EA-A79B-E662C7885B8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D2A0-D97B-4F2E-9FB4-9E8FC3F9A9D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gef.org/gef/csos" TargetMode="External"/><Relationship Id="rId2" Type="http://schemas.openxmlformats.org/officeDocument/2006/relationships/hyperlink" Target="http://www.gefngo.org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  <a:ea typeface="Arial"/>
              </a:rPr>
              <a:t>GEF’s Partnership with Civil Society Organizations </a:t>
            </a:r>
            <a:br>
              <a:rPr sz="3600"/>
            </a:br>
            <a:br>
              <a:rPr sz="18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ubtitle 4"/>
          <p:cNvSpPr/>
          <p:nvPr/>
        </p:nvSpPr>
        <p:spPr>
          <a:xfrm>
            <a:off x="1219320" y="40384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Civil Society Organizations: 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olicies and Particip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F actively engages CSOs in its programs, projects and polic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SOs participate in GEF through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olvement and participation in GEF projects; an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olvement in policy processes through the GEF Assembly and the Council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fic policies adopted by the GEF Council, setting the foundation for CSO engagement in GEF activities on two distinct levels, projects and international policy.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What is Civil Socie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352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recognizes the definition of major groups agreed by Governments at the United Nations Conference on Environment and Development (UNCED) in 199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vil society consists of nine major groups: Non-Governmental organizations, farmers, women, the scientific and technological community, youth and children, indigenous peoples and their communities, business and industry, workers and trade unions and local authoritie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is context the basic principle, as approved by the GEF Council in 1995 (GEF/C.3/5), is that CSOs/NGOs attending/observing Council meetings are defined as “non-profit organizations whose mandate, experience, expertise and capacity are relevant to the work of the GEF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GEF Policies Related to CSO involvement at the Project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ublic involvement in GEF-financed project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approved by the GEF Council in April 199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comprises three related and often overlapping process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ation dissem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ul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keholder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lies to all GEF focal areas programs and project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ells out the rationale, terms and principles for public involv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idifies operational requirement for stakeholder involvement and partnership in the design, implementation, and evaluation of GEF-financed activ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GEF Policies  - Global Policy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F Council consults with civil society organizations, including indigenous peoples organizations, before every Council including replenishment meeting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st be members of CSO NGO network.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www.thegef.org/gef/cso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nd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www.gefngo.org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llowing criteria applies to selection of sponsored participa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broad based geographic representation should be ensur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evant competencies for the GEF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lance among international, national and local representatives – and wide range of views and expert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t attendance of CSOs at Council meetings should be considered and rotation among CSOs should be sough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The Rationale for Public Involvement in GEF-financed Projec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improves the performance and impact of project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ing recipient country ownership of, and accountability for, project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ressing the social and economic needs of affected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ing partnerships among project executing agencies and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ing use of skills, experiences, and knowledge, specifically of non-governmental organizations (NGOs), community and local groups, and the private sector in the design, implementation and evaluation of project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7:35:08Z</dcterms:created>
  <dc:creator>wb350798</dc:creator>
  <dc:description/>
  <dc:language>en-US</dc:language>
  <cp:lastModifiedBy>Lisa</cp:lastModifiedBy>
  <dcterms:modified xsi:type="dcterms:W3CDTF">2012-04-22T23:39:49Z</dcterms:modified>
  <cp:revision>77</cp:revision>
  <dc:subject/>
  <dc:title>GEF’s Partnership with Civil Society Organizations</dc:title>
</cp:coreProperties>
</file>