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267-127E-4A8C-8BC1-53C341B83E2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429E-F6F5-4EBC-A423-9FE9F9EA8A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177-2F06-4FCB-9D5D-344343BF90C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A5C-870C-4C1F-B723-A2D408D4615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650-66A5-4ECA-8B5D-B2D04A4E23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F25-3D11-4148-9BE6-71959C7FC7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62F-F883-481D-B812-44C64688B1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83F-61A2-4243-BF13-AEE196A609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C44-8E72-4BE0-9409-BBCD4B5F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495-E807-4BC6-A7C5-E7E3940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EAE-7B10-4D95-8651-01D44BBF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2FC-2ED9-41BD-A4B1-BD91FDA4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ABC0-94A9-4720-81AF-F22AA6A7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CC09-8C25-416F-8F09-2342F7B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D6BF-092B-4D92-B9F0-FD45A9F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14B-F6D6-48C9-A778-4508E51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B8C-0B5E-40C1-8B4F-8A31A48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12B-7EE1-4648-90DE-DF51210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BD9-1EC2-4805-9C30-EA81B57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CC2-A520-4B7D-BA89-336F859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D56E-6AD8-4CBB-89B5-E6D0490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B50C-09B2-4075-950B-B301FA7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9B2E-F6B8-4A25-B169-B65E316C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8CEF-0AED-456C-8DE9-5290DF58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D90-E8DA-425A-9088-2F0EE9CA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6310-6DF2-4797-ADF9-078A7FC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80C2-0CCF-456C-AE4A-D2BC2B06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01B0-44D5-46E0-97DB-0750DE7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535A-3641-4728-89FD-8A43E94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1E8A-0612-463A-8DAE-097E0B8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1D9-03D3-4EAE-92A4-2CB88724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47E2-527C-4099-A8F7-8E0741C5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F9E5-0C22-40AD-B27D-2FF9CFC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F62D-DEF4-482D-80E5-E52F932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2126-9BCD-4934-98D8-CA732709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B4E3-E4FA-4CDF-B489-30C6C13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F92F-38D6-42A7-A817-CF66249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48C7-6D68-42B0-8A62-091887EA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122-5212-45BC-A7C5-37254148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FC0-B92B-43AF-A7C1-C8480D4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DBB-8171-4533-851E-996415F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A3B-BEB4-4DF9-BBB0-BF6BF27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55A-2796-476B-B8E8-9775CDD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155-3D2E-4F14-803B-01B182D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11E-72F0-4473-AA19-A0BC4CDBCAE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1D1-F80B-433C-AD75-372FD4D6CC3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A20E-250D-4116-96BD-94893C08B96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2T23:39:49Z</dcterms:modified>
  <cp:revision>77</cp:revision>
  <dc:subject/>
  <dc:title>GEF’s Partnership with Civil Society Organizations</dc:title>
</cp:coreProperties>
</file>