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2FB2-12E4-46BB-AEDA-1C1767ACB3B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698400"/>
            <a:ext cx="4646520" cy="3486240"/>
          </a:xfrm>
          <a:prstGeom prst="rect">
            <a:avLst/>
          </a:prstGeom>
          <a:ln w="0">
            <a:noFill/>
          </a:ln>
        </p:spPr>
      </p:sp>
      <p:sp>
        <p:nvSpPr>
          <p:cNvPr id="21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C2C2-7323-440D-90B6-9E4705AE65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9C69-BF3B-4E74-B561-70D7536E1C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FC8D-E344-48BC-96D7-F5B7B96AD7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6640" y="698400"/>
            <a:ext cx="4646520" cy="3486240"/>
          </a:xfrm>
          <a:prstGeom prst="rect">
            <a:avLst/>
          </a:prstGeom>
          <a:ln w="0">
            <a:noFill/>
          </a:ln>
        </p:spPr>
      </p:sp>
      <p:sp>
        <p:nvSpPr>
          <p:cNvPr id="2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846E-C42E-463F-975C-3F183BD610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2BB8-DAAF-4E68-B26D-588F87ED9D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396CB2BB-D14B-47A3-813F-714CE416709E}"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4EC-E939-45F1-B86A-3081C2706D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4F17-1B46-4F14-8768-ABBB5410CB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F588C-EC4A-489E-A73F-1E2FA2085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EA81F-E956-4F52-AB68-9F649A10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0FA3-4239-4253-8E68-61D55F11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2E946-A0E2-4522-AE11-F19DCB7B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A9F6-FE61-472C-8F20-9D1B7A1C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AB0C2-3F0A-43FC-8235-B783DB788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5D6E-09EA-4E07-8013-D08196B7B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3422-7902-4176-82E1-4F135C96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9544-0AEE-4B74-90D4-93F0C545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FF88-FFF1-4D20-9143-FA619224B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EBB14-A41A-4EBE-BEEE-0DAA929A5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678F2-CF94-42C5-8E5D-D58C85CE8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4D4B-D1B0-49B0-8233-B34B11EACAA2}"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17 to 19 Ap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8"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0"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1"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2"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4"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7"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8"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9"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0"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1"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2"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3"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228600" y="0"/>
            <a:ext cx="87631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5" name="Straight Connector 8"/>
          <p:cNvSpPr/>
          <p:nvPr/>
        </p:nvSpPr>
        <p:spPr>
          <a:xfrm>
            <a:off x="15228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6"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8"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0"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1"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3"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4"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3:50Z</dcterms:modified>
  <cp:revision>96</cp:revision>
  <dc:subject/>
  <dc:title>CBD Presentation</dc:title>
</cp:coreProperties>
</file>