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dt" idx="13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20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040" rIns="95040" tIns="47520" bIns="475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ftr" idx="14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 type="sldNum" idx="15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EEF89-1539-4886-9036-053527AE4A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907DA-1B69-44D4-B88B-838FF65146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A2799-63A1-4AAE-9769-10D89088AF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E06F-5B99-407F-A23C-6E9CFE7FE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C473-DAE8-491A-B3EA-29B44FFC2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A7EC-130F-4409-B22B-F2F3B889C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D544-0770-4AD6-BF2A-B1F1106C6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D432F-06DF-4AE4-A2EE-9B344A3DF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43392-1D68-4087-94C3-E3F1966B1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32D85-F2D3-4D9D-A9E7-B13E06640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FE96F-9558-4363-B477-9B9B385A1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3A1E4-384B-475E-9227-0970FF63E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B8EA7-D633-4183-A8FE-22EF0C33B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A7CA9-958B-455C-B2AE-651488C48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BACE-FBC5-447B-8A49-5B9A127FC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081F3-B48F-4CD9-9DC7-AA1B1E5F6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82242-FE0A-4684-B4E9-7EA5B364F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36891-FE74-4CEF-A622-BEB7516DC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12B7C-3E6F-42A6-AFDB-9F94FC83B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FF3D2-3F7F-4787-968E-E60A14FC1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2C010-50CB-4A83-ACFB-E5ECFBF50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F1E93-CC56-4123-8ED8-0FAC85308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DA6BD-2425-4C74-ACA9-FC3B208CC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1FE9E-C3B6-495F-91EA-E0B317015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A0274-66B3-4EE8-B327-620D0B00D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46EC-25B6-4767-99F2-A0C97CAC8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A1519-3F60-4370-B0CE-D48A8D859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B6CD6-4AB9-4178-8E69-4A5C871B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E587D-98C0-440B-954B-47426506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21E3D-C30B-4086-B34B-71DB2312D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67035-F454-469A-8FF8-E4FECC72D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A14B5-4CF6-4F24-AE08-22A427ED8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C54E9-8690-4BED-B3E6-D587161B9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D5D9C-C6AC-48F5-B38A-BA6242BF9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5BDA5-BF2F-4A58-89DA-B8179C415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F1FF2-F232-41CD-BF80-46B82E3A3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3B8C-D735-4998-A716-B6ABE1B19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72D3B-6FAE-498A-9639-C2516D6AB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32077-974E-403B-8F0D-9259517A5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97815-924F-4F37-A9E5-C6CC47AEF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257BF-C2E0-4740-9942-229842C45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38837-62B2-4449-8961-7DBA67480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5D132-75A8-4C72-9368-D689360A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95131-B664-4177-AA6A-534A0B53D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A6971-8B1F-46AA-BD19-ADC1536B2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68E04-E631-44BF-9466-833732CFC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1FEC-A365-463F-9C23-CBFDE46C6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BEBA-8CE3-4255-AD15-7D80FB447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A796-FA89-438A-9442-710C389E8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61CE-7EA8-4492-BA14-18C08E48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4861-7670-4C2A-AF9A-203940AC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8496E-10F4-4A8A-BCC0-30BFD371FE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6"/>
          <p:cNvGrpSpPr/>
          <p:nvPr/>
        </p:nvGrpSpPr>
        <p:grpSpPr>
          <a:xfrm>
            <a:off x="0" y="-28440"/>
            <a:ext cx="9144000" cy="1247760"/>
            <a:chOff x="0" y="-28440"/>
            <a:chExt cx="9144000" cy="1247760"/>
          </a:xfrm>
        </p:grpSpPr>
        <p:pic>
          <p:nvPicPr>
            <p:cNvPr id="42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-284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8000" y="-24480"/>
              <a:ext cx="9107640" cy="60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B2795-CEF7-4F7D-B91E-6AB162038F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6"/>
          <p:cNvGrpSpPr/>
          <p:nvPr/>
        </p:nvGrpSpPr>
        <p:grpSpPr>
          <a:xfrm>
            <a:off x="0" y="5610240"/>
            <a:ext cx="9144000" cy="1247760"/>
            <a:chOff x="0" y="5610240"/>
            <a:chExt cx="9144000" cy="1247760"/>
          </a:xfrm>
        </p:grpSpPr>
        <p:pic>
          <p:nvPicPr>
            <p:cNvPr id="86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02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8000" y="5613840"/>
              <a:ext cx="9107640" cy="60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6"/>
          <p:cNvGrpSpPr/>
          <p:nvPr/>
        </p:nvGrpSpPr>
        <p:grpSpPr>
          <a:xfrm>
            <a:off x="0" y="5610240"/>
            <a:ext cx="9144000" cy="1247760"/>
            <a:chOff x="0" y="5610240"/>
            <a:chExt cx="9144000" cy="1247760"/>
          </a:xfrm>
        </p:grpSpPr>
        <p:pic>
          <p:nvPicPr>
            <p:cNvPr id="130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02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8000" y="5613840"/>
              <a:ext cx="9107640" cy="60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817D8-E344-41A6-9F59-0BB7943ED5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6"/>
          <p:cNvGrpSpPr/>
          <p:nvPr/>
        </p:nvGrpSpPr>
        <p:grpSpPr>
          <a:xfrm>
            <a:off x="0" y="5610240"/>
            <a:ext cx="9144000" cy="1247760"/>
            <a:chOff x="0" y="5610240"/>
            <a:chExt cx="9144000" cy="1247760"/>
          </a:xfrm>
        </p:grpSpPr>
        <p:pic>
          <p:nvPicPr>
            <p:cNvPr id="174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02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8000" y="5613840"/>
              <a:ext cx="9107640" cy="60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Group 6"/>
          <p:cNvGrpSpPr/>
          <p:nvPr/>
        </p:nvGrpSpPr>
        <p:grpSpPr>
          <a:xfrm>
            <a:off x="0" y="5610240"/>
            <a:ext cx="9144000" cy="1247760"/>
            <a:chOff x="0" y="5610240"/>
            <a:chExt cx="9144000" cy="1247760"/>
          </a:xfrm>
        </p:grpSpPr>
        <p:pic>
          <p:nvPicPr>
            <p:cNvPr id="215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02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8000" y="5613840"/>
              <a:ext cx="9107640" cy="60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920" y="2130480"/>
            <a:ext cx="8153280" cy="14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42d"/>
                </a:solidFill>
                <a:latin typeface="Calibri"/>
                <a:ea typeface="Arial"/>
              </a:rPr>
              <a:t>System for a Transparent Allocation of Resources - ST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1066320" y="4038120"/>
            <a:ext cx="67057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42d"/>
                </a:solidFill>
                <a:latin typeface="Calibri"/>
              </a:rPr>
              <a:t>15 to 17 February 201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42d"/>
                </a:solidFill>
                <a:latin typeface="Calibri"/>
              </a:rPr>
              <a:t>Dead Sea, Jord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4"/>
          <p:cNvSpPr/>
          <p:nvPr/>
        </p:nvSpPr>
        <p:spPr>
          <a:xfrm>
            <a:off x="152280" y="1295280"/>
            <a:ext cx="8763120" cy="40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s will be approved on a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first-come first-served basi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the event of project cancellation </a:t>
            </a:r>
            <a:r>
              <a:rPr b="0" i="1" lang="en-US" sz="2400" spc="-1" strike="noStrike">
                <a:solidFill>
                  <a:srgbClr val="c00000"/>
                </a:solidFill>
                <a:latin typeface="Calibri"/>
              </a:rPr>
              <a:t>before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 the last six month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the GEF-5 (31 December 2013), resources will remain available to the country to be used in the same focal a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the event of project cancellation </a:t>
            </a:r>
            <a:r>
              <a:rPr b="0" i="1" lang="en-US" sz="2400" spc="-1" strike="noStrike">
                <a:solidFill>
                  <a:srgbClr val="c00000"/>
                </a:solidFill>
                <a:latin typeface="Calibri"/>
              </a:rPr>
              <a:t>aft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the last six month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the GEF-5 (1 January 2014), resources may be used in the same focal area or in others, at the discretion of the CEO and with the approval of the Counc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615240" y="304920"/>
            <a:ext cx="718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STAR Operational Procedures (1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20680" y="18360"/>
            <a:ext cx="72756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42d"/>
                </a:solidFill>
                <a:latin typeface="Calibri"/>
              </a:rPr>
              <a:t>STAR Operational Procedures (2)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5"/>
          <p:cNvSpPr/>
          <p:nvPr/>
        </p:nvSpPr>
        <p:spPr>
          <a:xfrm>
            <a:off x="380880" y="1447920"/>
            <a:ext cx="8610840" cy="43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untries classified as 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lexible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may use the full value of their allocation freel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without the need to respect the specific focal area amou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dorsement letters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must refer to current STAR allocation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each relevant focal area, including preparation costs (PPG) and Agency f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A revised letter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endorsement is required if an amount over 5% of the original is requested during the CEO endorsement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42d"/>
                </a:solidFill>
                <a:latin typeface="Calibri"/>
              </a:rPr>
              <a:t>STAR Operational Procedures (3)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5"/>
          <p:cNvSpPr/>
          <p:nvPr/>
        </p:nvSpPr>
        <p:spPr>
          <a:xfrm>
            <a:off x="152280" y="838080"/>
            <a:ext cx="8991720" cy="51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lexible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ountries, reference must be made to the total amount and to the individual amount for each focal area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Secretariats of the relevant convention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st be informed of 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lexible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ases in the endorsement let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the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June 2012 Council meeting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reports on the implementation experience of the STAR will be provi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the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June 2013 meet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the Council will discuss an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assessment of STAR design and implementatio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pared by the Office of Evaluation (OE), in addition to a report on progress in the development of indica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42d"/>
                </a:solidFill>
                <a:latin typeface="Calibri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361960" y="2133720"/>
            <a:ext cx="4343400" cy="761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 the ST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TextBox 5"/>
          <p:cNvSpPr/>
          <p:nvPr/>
        </p:nvSpPr>
        <p:spPr>
          <a:xfrm>
            <a:off x="2057400" y="358128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more detailed questions, please contact GEF 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1000" fill="hold"/>
                                        <p:tgtEl>
                                          <p:spTgt spid="3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1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42d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5335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ving from GEF4  to GEF5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F Council requested reforms in resource allocation framework (RAF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F evaluation office, through the consultations with recipient countries, provided useful com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presentation describes the new rules and operational procedures corresponding to the new resource allocation system, STA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28600" y="288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42d"/>
                </a:solidFill>
                <a:latin typeface="Calibri"/>
              </a:rPr>
              <a:t>Outline of the pres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560" y="1295280"/>
            <a:ext cx="8458200" cy="426744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 is new from GEF-4 RAF to GEF-5  ST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verall allocations of the GEF-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perational procedures of the ST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0520" y="2666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42d"/>
                </a:solidFill>
                <a:latin typeface="Calibri"/>
              </a:rPr>
              <a:t>What is new in the GEF-5  STA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42d"/>
                </a:solidFill>
                <a:latin typeface="Calibri"/>
              </a:rPr>
              <a:t>New allocation areas and countri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437920" y="1294920"/>
            <a:ext cx="304956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EF-4 RA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2514240" y="2057040"/>
            <a:ext cx="3049560" cy="380988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odiversity and Climate Ch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vidual  and group alloc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DC and SIDS in gro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638680" y="1294920"/>
            <a:ext cx="327672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EF-5 ST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5638680" y="2057400"/>
            <a:ext cx="3353040" cy="395136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odiversity, Climate Change, and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Land Degrad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countries have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individu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lloc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No group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oc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Placeholder 2"/>
          <p:cNvSpPr/>
          <p:nvPr/>
        </p:nvSpPr>
        <p:spPr>
          <a:xfrm>
            <a:off x="228600" y="2133720"/>
            <a:ext cx="182880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Placeholder 2"/>
          <p:cNvSpPr/>
          <p:nvPr/>
        </p:nvSpPr>
        <p:spPr>
          <a:xfrm>
            <a:off x="76320" y="3809880"/>
            <a:ext cx="2361960" cy="533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ALLOCA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42d"/>
                </a:solidFill>
                <a:latin typeface="Calibri"/>
              </a:rPr>
              <a:t>New r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437920" y="1294920"/>
            <a:ext cx="304956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EF-4 RA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2437920" y="2057040"/>
            <a:ext cx="3049560" cy="380988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% for BD and 15% for C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0% rule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-aside 10%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638320" y="1294920"/>
            <a:ext cx="342900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EF-5 ST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5638320" y="2057040"/>
            <a:ext cx="3429000" cy="380988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% for BD and LD,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11% for C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$2 M in CC, $1.5 M in BD, and $0.5 M in L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Flexibility for small countries  ($7 M ru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Set-aside 20%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ext Placeholder 2"/>
          <p:cNvSpPr/>
          <p:nvPr/>
        </p:nvSpPr>
        <p:spPr>
          <a:xfrm>
            <a:off x="152280" y="2209680"/>
            <a:ext cx="182880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C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Placeholder 2"/>
          <p:cNvSpPr/>
          <p:nvPr/>
        </p:nvSpPr>
        <p:spPr>
          <a:xfrm>
            <a:off x="76320" y="4724280"/>
            <a:ext cx="2209680" cy="609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Placeholder 2"/>
          <p:cNvSpPr/>
          <p:nvPr/>
        </p:nvSpPr>
        <p:spPr>
          <a:xfrm>
            <a:off x="152280" y="3429000"/>
            <a:ext cx="182880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Flo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42d"/>
                </a:solidFill>
                <a:latin typeface="Calibri"/>
              </a:rPr>
              <a:t>Programs not in the ST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762120" y="1676160"/>
            <a:ext cx="8076960" cy="419076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ational Wa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sistent Organic Pollutants and Sound Chemicals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rporate bud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untry Support Program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ional and global projects/progra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mall Grants Program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rth Fund (private secto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42d"/>
                </a:solidFill>
                <a:latin typeface="Calibri"/>
              </a:rPr>
              <a:t>Distribution of GEF-5 Resourc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7" name="Chart 4" descr=""/>
          <p:cNvPicPr/>
          <p:nvPr/>
        </p:nvPicPr>
        <p:blipFill>
          <a:blip r:embed="rId1"/>
          <a:stretch/>
        </p:blipFill>
        <p:spPr>
          <a:xfrm>
            <a:off x="2147444640" y="2147444640"/>
            <a:ext cx="39600" cy="39600"/>
          </a:xfrm>
          <a:prstGeom prst="rect">
            <a:avLst/>
          </a:prstGeom>
          <a:ln w="0">
            <a:noFill/>
          </a:ln>
        </p:spPr>
      </p:pic>
      <p:pic>
        <p:nvPicPr>
          <p:cNvPr id="288" name="Chart 5" descr=""/>
          <p:cNvPicPr/>
          <p:nvPr/>
        </p:nvPicPr>
        <p:blipFill>
          <a:blip r:embed="rId2"/>
          <a:stretch/>
        </p:blipFill>
        <p:spPr>
          <a:xfrm>
            <a:off x="298440" y="1517760"/>
            <a:ext cx="8547120" cy="4432320"/>
          </a:xfrm>
          <a:prstGeom prst="rect">
            <a:avLst/>
          </a:prstGeom>
          <a:ln w="0">
            <a:noFill/>
          </a:ln>
        </p:spPr>
      </p:pic>
      <p:sp>
        <p:nvSpPr>
          <p:cNvPr id="289" name="TextBox 1"/>
          <p:cNvSpPr/>
          <p:nvPr/>
        </p:nvSpPr>
        <p:spPr>
          <a:xfrm>
            <a:off x="457200" y="1676520"/>
            <a:ext cx="1738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$ Mill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42d"/>
                </a:solidFill>
                <a:latin typeface="Calibri"/>
              </a:rPr>
              <a:t>GEF-5 STAR Alloc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457200" y="533520"/>
          <a:ext cx="8305920" cy="5219640"/>
        </p:xfrm>
        <a:graphic>
          <a:graphicData uri="http://schemas.openxmlformats.org/drawingml/2006/table">
            <a:tbl>
              <a:tblPr/>
              <a:tblGrid>
                <a:gridCol w="2768760"/>
                <a:gridCol w="790560"/>
                <a:gridCol w="792000"/>
                <a:gridCol w="698400"/>
                <a:gridCol w="882720"/>
                <a:gridCol w="698400"/>
                <a:gridCol w="884520"/>
                <a:gridCol w="790560"/>
              </a:tblGrid>
              <a:tr h="295200">
                <a:tc rowSpan="3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F-4 RAF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F-5 ST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.1 Bill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plenishme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4.25 Bill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itial Allocatio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R Envelopes (M$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7400"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untri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C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C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exibl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fghanista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ou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3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8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.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lger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6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.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.0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gyp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3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.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5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4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.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ra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.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.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3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7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8.7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64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raq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ou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ou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5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0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Jorda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ou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ou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eban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ou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ou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7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2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74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iby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ou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ou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0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4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rocc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8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3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8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9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.7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akista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.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.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1.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yr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9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ou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3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1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unis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ou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.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urke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7.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.0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7.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eme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ou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ou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6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2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.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15:45:29Z</dcterms:created>
  <dc:creator>Peter Bjornsen</dc:creator>
  <dc:description/>
  <dc:language>en-US</dc:language>
  <cp:lastModifiedBy>wb350798</cp:lastModifiedBy>
  <dcterms:modified xsi:type="dcterms:W3CDTF">2012-04-10T16:55:28Z</dcterms:modified>
  <cp:revision>624</cp:revision>
  <dc:subject/>
  <dc:title>GEF</dc:title>
</cp:coreProperties>
</file>