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50E0-AD93-43B3-B3B7-F47EA56E13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D215-DC14-45B6-B02E-A03790623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3A36-CDFF-4357-903A-CE861B908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468-CB37-4520-B4FB-67C0F9B7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9DB-AD3B-4EF2-A373-9488C48B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7954-8BEF-4645-882D-F3ADC21D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208-5D9F-495C-A3F4-45D13304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13D0-8A93-441E-B2B5-E66670F1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78AD-A428-4363-B9E3-3B1407F1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60C7-033C-4115-8A3E-2D418583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D292-EEFD-4172-9D15-8DC09DE7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1837-3932-4918-9556-1B2DE65C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F9A5-A226-44F6-9F9E-E2D3F815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C0A9-F54D-426F-9365-0F76521C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788-669A-46C8-8FFB-1DC3E7AE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7BD7-9C59-4392-86D7-B74C7218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AB2E-B7B0-4CEE-82F7-61F2331E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38A0-21F3-4FB0-B1AE-68B288D5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5859-06E1-4967-B24D-C4D4133B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F9FA-208E-4040-91C8-6FF63251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B16E2-28A9-4AE6-A9FA-1F3E8E9D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4ECF9-3D8E-48D3-9F0F-D28356E1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00DB8-A1A6-441F-9B72-AA2DFF2D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314C9-E1ED-43AD-A8EB-6CFC631E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2999-E233-42AB-8BA5-8B69FC86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618-0906-4009-AC4C-E4DF0617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40232-A237-4E76-935A-42672205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26EF0-7EE8-4AF7-993E-5286E82E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49EEB-8845-4CB5-97DB-26EF41EE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AFD2C-3A5B-42F7-891E-E8460612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9D74A-01FD-48FE-9A49-F2883DE4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363AE-B4FE-4B34-B173-639A11EE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4FE0D-2C66-4D3B-9A19-DC46E702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6CD96-F612-437D-8AB5-DFD52DBC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54001-695B-4FCE-A996-E9C3083C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DB7A7-418E-4FD4-B56F-CD065E2F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D311-A8AA-40BA-B1FA-C186D884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AB05A-3BBF-42F6-A715-F2DF0B90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1FA14-3095-4D76-9CF1-5E7F3BB8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6552C-9899-43AA-9B41-D7A9A12E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7F2E3-DD8E-40F0-AD2E-00D995DE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EDC5C-F492-45FA-BF3D-F0B02AAA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616F1-E199-4339-A66C-1145BA6C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6E869-C2F2-48AC-8BE0-CBD7498C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E8DEA-D9A4-4A2B-9DD9-7C05F5D6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16E75-EA79-4A82-B2D3-26A9D6BF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284-0F2B-4ED8-B2AF-BB04C2DB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C57-D1AA-44CD-9A19-2B9B4EC3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7F6-8B99-4A1E-AD6B-00B420AD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4C5-D2C5-49F3-A240-F1BA8754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D72-708F-46AA-B609-F533F053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2F2D-5C22-43AB-9CE3-FC0F3A4A8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-2448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6BBE-0EDD-49E7-B9E9-7522508C5F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6C6E-7D03-4F11-943A-1CBA267C29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215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  <a:ea typeface="Arial"/>
              </a:rPr>
              <a:t>System for a Transparent Allocation of Resources - 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066320" y="40381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152280" y="1295280"/>
            <a:ext cx="87631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will be approved on a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irst-come first-served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31 December 2013), resources will remain available to the country to be used in the same focal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1 January 2014), resources may be used in the same focal area or in others, at the discretion of the CEO and with the approval of the Cou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15240" y="304920"/>
            <a:ext cx="71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1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20680" y="18360"/>
            <a:ext cx="72756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STAR Operational Procedures (2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380880" y="1447920"/>
            <a:ext cx="8610840" cy="43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ies classified as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l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ay use the full value of their allocation free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ithout the need to respect the specific focal area am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orsement letter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ust refer to current STAR alloc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each relevant focal area, including preparation costs (PPG) and Agency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 revised lett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endorsement is required if an amount over 5% of the original is requested during the CEO endorse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STAR Operational Procedures (3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152280" y="838080"/>
            <a:ext cx="899172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l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untries, reference must be made to the total amount and to the individual amount for each focal are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ecretariats of the relevant conven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informed of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l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ses in the endorsement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June 2012 Council meet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reports on the implementation experience of the STAR will be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June 2013 mee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Council will discuss an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ssessment of STAR design and implement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ed by the Office of Evaluation (OE), in addition to a report on progress in the development of indic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361960" y="2133720"/>
            <a:ext cx="4343400" cy="761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 the S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5"/>
          <p:cNvSpPr/>
          <p:nvPr/>
        </p:nvSpPr>
        <p:spPr>
          <a:xfrm>
            <a:off x="2057400" y="3581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more detailed questions, please contact GE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ing from GEF4  to GEF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Council requested reforms in resource allocation framework (RA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evaluation office, through the consultations with recipient countries, provided useful 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resentation describes the new rules and operational procedures corresponding to the new resource allocation system, ST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288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Outline of the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560" y="1295280"/>
            <a:ext cx="8458200" cy="426744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new from GEF-4 RAF to GEF-5  S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erall allocations of the GEF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erational procedures of the S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What is new in the GEF-5  ST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New allocation areas and countr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514240" y="2057040"/>
            <a:ext cx="3049560" cy="3809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 and Climate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  and group al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DC and SIDS in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638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638680" y="2057400"/>
            <a:ext cx="3353040" cy="39513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, Climate Change,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and Degra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countries hav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l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grou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Placeholder 2"/>
          <p:cNvSpPr/>
          <p:nvPr/>
        </p:nvSpPr>
        <p:spPr>
          <a:xfrm>
            <a:off x="228600" y="213372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Placeholder 2"/>
          <p:cNvSpPr/>
          <p:nvPr/>
        </p:nvSpPr>
        <p:spPr>
          <a:xfrm>
            <a:off x="76320" y="3809880"/>
            <a:ext cx="236196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New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437920" y="2057040"/>
            <a:ext cx="3049560" cy="3809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15% for C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% rul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-aside 10%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63832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638320" y="2057040"/>
            <a:ext cx="3429000" cy="38098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LD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1% for C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$2 M in CC, $1.5 M in BD, and $0.5 M in 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lexibility for small countries  ($7 M ru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t-aside 20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Placeholder 2"/>
          <p:cNvSpPr/>
          <p:nvPr/>
        </p:nvSpPr>
        <p:spPr>
          <a:xfrm>
            <a:off x="15228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Placeholder 2"/>
          <p:cNvSpPr/>
          <p:nvPr/>
        </p:nvSpPr>
        <p:spPr>
          <a:xfrm>
            <a:off x="76320" y="4724280"/>
            <a:ext cx="220968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Placeholder 2"/>
          <p:cNvSpPr/>
          <p:nvPr/>
        </p:nvSpPr>
        <p:spPr>
          <a:xfrm>
            <a:off x="15228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Programs not in the 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62120" y="1676160"/>
            <a:ext cx="8076960" cy="4190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Wa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istent Organic Pollutants and Sound Chemicals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porate bu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 Support Program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and global projects/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Grants Program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th Fund (private sect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Distribution of GEF-5 Resour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Chart 4" descr=""/>
          <p:cNvPicPr/>
          <p:nvPr/>
        </p:nvPicPr>
        <p:blipFill>
          <a:blip r:embed="rId1"/>
          <a:stretch/>
        </p:blipFill>
        <p:spPr>
          <a:xfrm>
            <a:off x="2147444640" y="2147444640"/>
            <a:ext cx="39600" cy="39600"/>
          </a:xfrm>
          <a:prstGeom prst="rect">
            <a:avLst/>
          </a:prstGeom>
          <a:ln w="0">
            <a:noFill/>
          </a:ln>
        </p:spPr>
      </p:pic>
      <p:pic>
        <p:nvPicPr>
          <p:cNvPr id="288" name="Chart 5" descr=""/>
          <p:cNvPicPr/>
          <p:nvPr/>
        </p:nvPicPr>
        <p:blipFill>
          <a:blip r:embed="rId2"/>
          <a:stretch/>
        </p:blipFill>
        <p:spPr>
          <a:xfrm>
            <a:off x="298440" y="1517760"/>
            <a:ext cx="8547120" cy="443232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"/>
          <p:cNvSpPr/>
          <p:nvPr/>
        </p:nvSpPr>
        <p:spPr>
          <a:xfrm>
            <a:off x="45720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$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42d"/>
                </a:solidFill>
                <a:latin typeface="Calibri"/>
              </a:rPr>
              <a:t>GEF-5 STAR Allo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533520"/>
          <a:ext cx="8305920" cy="5219640"/>
        </p:xfrm>
        <a:graphic>
          <a:graphicData uri="http://schemas.openxmlformats.org/drawingml/2006/table">
            <a:tbl>
              <a:tblPr/>
              <a:tblGrid>
                <a:gridCol w="2768760"/>
                <a:gridCol w="790560"/>
                <a:gridCol w="792000"/>
                <a:gridCol w="698400"/>
                <a:gridCol w="882720"/>
                <a:gridCol w="698400"/>
                <a:gridCol w="884520"/>
                <a:gridCol w="790560"/>
              </a:tblGrid>
              <a:tr h="29520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-4 RA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-5 S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.1 Bill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lenish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25 Bill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 Alloc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 Envelopes (M$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40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exi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fghanist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ge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gy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aq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ord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ban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by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roc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kist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y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unis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urke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m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wb350798</cp:lastModifiedBy>
  <dcterms:modified xsi:type="dcterms:W3CDTF">2012-04-10T16:55:28Z</dcterms:modified>
  <cp:revision>624</cp:revision>
  <dc:subject/>
  <dc:title>GEF</dc:title>
</cp:coreProperties>
</file>