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21B3-91FD-4A1F-8E21-57F412A43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239-24C3-4222-9F43-0CA47C9B6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1B5-8604-4B28-BD94-FC0D1E5C9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FA9-5BC6-48BC-9731-EC15F1A7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34B-9C46-4E74-A623-A664073F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F75-FD0F-4BFF-B01A-2A2C5D14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9AB-38BF-43EA-8F91-9E16C03A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A6FE-0386-4AA7-AAE3-2CF5DEF7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0CA4-1A2F-4908-8927-295E351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5883-C312-4ADF-9E67-F99DC01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957E-EE8E-4E89-A176-4A7DEFA8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AC0F-CBCB-4057-A641-EA889FBA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922-F1EC-4D8C-AB0D-AE9F56C7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B771-8E10-477C-9006-D181743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24B-4C57-4E31-B61A-BCE57A09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4498-C929-421E-B5B6-2E2DF14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A501-E065-47A3-BCBB-B0BDE45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B956-8408-47E2-9EDA-D38874D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116A-6D68-4227-9727-392789CD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26D-E782-4BF2-AD7F-3F216C40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8809-617F-4B96-A660-0E8BFC29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C684-44D5-4B13-B41E-D0FE907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4364-F0A2-4614-BC67-B5AAB867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76EE-4971-4C37-ABF3-E233327E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F85E-E086-487D-BC22-6775527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25B-211D-4503-BBCE-B9C41BC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7961-769E-44A5-A5D3-ABF0BA5B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7520-3A76-488B-8C20-FB99BC3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F25D-3902-4503-A503-1F3ACBA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C836-C977-4846-A90B-AB5F354A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2BC0-A83B-4CEF-8D9A-8C762548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BBE8-6A1B-4FC2-BCAB-8FC82970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CE25-B769-4AC6-9A96-6BFCE9C0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9FBF-3235-4ECB-8F85-D427FC21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B6F4-59BD-42C8-A576-56CCE8D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F8A3-7C7A-41D7-9EB6-3394619C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8D3-1E7B-45F2-9C95-B9ABA48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1995-B528-443B-88F7-51B5E16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FA37-3BD9-4F8E-96C2-5C68CC44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19F6-2361-435D-81BE-06333312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2DCA-9B1B-4880-9F4E-8F3F68D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A6FD-6F95-43F5-BD90-EC440F4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78DF-8CAE-45F3-BE36-C1B2894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73D2-8550-4803-BBA7-8F3D974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0CA9-C386-4F0B-9A21-D86656DC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0FC5-966D-4428-B66A-8E4A8F9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8AA-743F-4065-91D1-9ECBF677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E23-0BAD-4745-ACBC-F8F53AB3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E7F-F154-4AF8-9ED3-D2A5A221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54C-3C7A-4495-9024-2FB22E5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763-EE17-460D-B15E-DF047A6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0B2A-47D4-4715-81EB-9BC817FFD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144E-1CDE-4AE8-9444-3ABD76517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FBEB-42C1-42CB-BE7E-A8BACE097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5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20680" y="18360"/>
            <a:ext cx="7275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8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95280"/>
            <a:ext cx="8458200" cy="42674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2147444640" y="2147444640"/>
            <a:ext cx="39600" cy="39600"/>
          </a:xfrm>
          <a:prstGeom prst="rect">
            <a:avLst/>
          </a:prstGeom>
          <a:ln w="0">
            <a:noFill/>
          </a:ln>
        </p:spPr>
      </p:pic>
      <p:pic>
        <p:nvPicPr>
          <p:cNvPr id="288" name="Chart 5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533520"/>
          <a:ext cx="8305920" cy="5219640"/>
        </p:xfrm>
        <a:graphic>
          <a:graphicData uri="http://schemas.openxmlformats.org/drawingml/2006/table">
            <a:tbl>
              <a:tblPr/>
              <a:tblGrid>
                <a:gridCol w="2768760"/>
                <a:gridCol w="790560"/>
                <a:gridCol w="792000"/>
                <a:gridCol w="698400"/>
                <a:gridCol w="882720"/>
                <a:gridCol w="698400"/>
                <a:gridCol w="884520"/>
                <a:gridCol w="79056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4 RA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5 S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1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enish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5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loc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 Envelopes (M$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g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oc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nis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2-04-10T16:55:28Z</dcterms:modified>
  <cp:revision>624</cp:revision>
  <dc:subject/>
  <dc:title>GEF</dc:title>
</cp:coreProperties>
</file>