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CA47-5C76-4EA1-B9B1-4D054894E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B205-6CE5-47D3-8106-7E9E6900F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AB53-CF8E-4D5E-9C95-3A34517C8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719-DB05-4B5C-B4CC-D0D3422B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69B-B094-447D-89BB-C8CB3EC2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BCA-545A-4CCC-8990-8612A903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984-3116-4287-BE7F-ACC9BF4A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6E2A-A6B9-4181-8899-8AFC64E7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E4C6-12C3-4451-8D51-09B3820E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6E0A-BCC9-44BD-AE11-FAB29B1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1355-D3CC-4DBA-9A75-BE686948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1A22-A485-4A88-A767-434D7A93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7991-882A-4C76-8B26-A533D80C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D37C-04CB-4757-A3A8-0E284F51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387-E0BC-484C-9DE2-C64AA9AF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BD9E-80DC-4888-8361-1F629F6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8EE5-BBC1-4662-86A8-752451D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D752-7352-4854-AF54-31E1979F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6A1B-0F42-46A5-BE2B-5FB5B160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DBD0-DB80-4959-A12C-F6059314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9500-63C1-4BCD-B806-EBE99433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E61E-CA4F-42D9-BF7D-7F9E5AB5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C78A-701E-4034-A967-87AA2092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BBEC-6BF5-4948-8EDD-A287B73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4690-09A7-44F2-91AF-9ACB242A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284-B361-4319-B3A5-5AC20BE3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9675-93D7-484F-BF5D-E86F5611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1D47-8985-4497-88A4-A9AD4A6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661D-1669-4CE9-AF09-FAF8446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3F64-7849-4FC0-82F2-F6E4F4B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7FE3-02C2-425E-8DD2-2B9F733B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3E29-F809-411F-99E3-63A46D11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6CC1-83D7-460D-8DE7-AFAA6786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3D10-F937-402A-91C6-220D0E18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324F-BC03-456D-87AE-94614963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B05D3-E7E3-4835-B26D-99DBE21A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073-B73C-4C84-B8A3-1209E8A3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15A9-5ABB-4D6B-AFDA-61FEC73F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5AC3-57E5-4CB1-A02A-FD2F12D6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84A1-A542-42D4-B619-ACB3E3F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85B83-5457-4D20-80D8-9F46AFDF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3738-632E-444B-8580-0F67CB4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920D-74F6-433C-9987-2951B268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B6C4-20FF-469A-9FC9-94EC45BD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DB534-8166-42FA-8798-C297A435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21BF-F649-4351-843E-4240B0CE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D2E-8688-469F-B725-09F04C23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466-1D6F-4B72-A904-D732FBCF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BC0-C717-4A22-95E1-CD6C67F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7CF-0ECE-4B40-8C35-AB99B2A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C8C-45F4-4859-BB91-9B426077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FC5D-A4C9-49B0-A2D7-E93D78195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E7B6-1A0C-4989-A043-46FC7072F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1C47-8E68-4641-83D9-B1B49E8E8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Arial"/>
              </a:rPr>
              <a:t>نظام التخصيص الشفاف للموارد ــ 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ea typeface="Arial"/>
              </a:rPr>
              <a:t>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52280" y="1523880"/>
            <a:ext cx="876312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ستتم الموافقة على المشروعات ع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ساس الأسبق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قبل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ديسمبر/كانون الأول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ستظل الموارد متاحة للبلد العني لاستخدامها في نفس مجال التركي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بع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يناير/كانون الثان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قد تُستخدم الموارد في نفس مجال التركيز أو في مجالات تركيز أخرى حسبما يتراءى للرئيس التنفيذي للصندوق وبموافقة مجلس الصندو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33520" y="3049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الإجراءات العملية لنظام التخصيص الشفاف للموارد (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9400" y="-316080"/>
            <a:ext cx="741816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 </a:t>
            </a:r>
            <a:br>
              <a:rPr sz="4400"/>
            </a:b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موارد (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2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80880" y="1600200"/>
            <a:ext cx="861084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وز للبلدان المصنفة على أنها تتمتع "بمرونة في التصرف"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ن تستخدم كامل قيمة المبلغ المخصص لها بحر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دون الحاجة إلى الالتزام بالمبالغ المحددة لمجالات التركيز المعني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أن تشير خطابات التصديق إ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المخصصات الحالية ب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في كل مجال تركيز معني بما في ذلك تكاليف الإعداد (منحة إعداد المشروع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PPG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وأتعاب الهيئات المع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يشترط وجود خطاب تصديق منقح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إذا طُلب مبلغ يتجاوز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% من المبلغ الأصلي أثناء فترة تصديق الرئيس التنفيذ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</a:t>
            </a:r>
            <a:br>
              <a:rPr sz="3600"/>
            </a:b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 للموارد (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3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52280" y="1295280"/>
            <a:ext cx="899172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 للبلدان التي تتمتع بمرونة في التصرف في المخصصات، يجب الإشارة إلى إجمالي المبلغ والمبلغ الفردي لكل مجال تركيز على حد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إحاط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مانات الاتفاقيات المعن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الحالات التي تتمتع بمرونة في التصرف في خطاب التصدي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ات مجلس الصندوق في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تم تقديم تقارير عن خبرات وتجارب تنفيذ نظام التخصيص الشفاف للمو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ناقش المجلس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تقييماً لتصميم وتنفيذ 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أعده مكتب التقييم، بالإضافة إلى تقرير عن التقدم المحرز في إعداد المؤشرات المطلو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خطوات التا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361960" y="2133360"/>
            <a:ext cx="4343400" cy="1066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نفيذ نظام التخصيص الشفاف ل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لمزيد من الأسئلة والاستفسارات التفصيلية، يجرى الاتصال بسكرتارية صندوق البيئة العال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9903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نتقال من العملية الرابعة إلى العملية الخامسة لتجديد موارد الصندو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طلب مجلس الصندوق إدخال إصلاحات على إطار تخصيص الموارد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RAF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قدم مكتب التقييم لدى الصندوق، من خلال مشاورات مع البلدان المستفيدة، ملاحظات مفي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صف هذا العرض التقديمي القواعد الجديدة والإجراءات العملية التي تتماشى مع النظام الجديد لتخصيص الموارد (نظام التخصيص الشفاف للموارد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STA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وجز العرض التقديم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0520" y="1599840"/>
            <a:ext cx="8458200" cy="38862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ا الجديد من إطار تخصيص الموارد في العملية الرابعة لتجديد موارد الصندوق إلى نظام التخصيص الشفاف للموارد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خصصات الشاملة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جراءات العملية لنظام التخصيص الشفاف ل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ا الجديد في نظام التخصيص الشفاف للموارد في العملية الخامسة لتجديد موارد الصندوق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جالات التخصيص الجديدة والبلدان المعن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240" y="2057040"/>
            <a:ext cx="3049560" cy="38862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فردية وجماع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بلدان الأقل نمواً والدول النامية الجزر</a:t>
            </a:r>
            <a:r>
              <a:rPr b="0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ة الصغير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52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3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352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 و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تدهور الأراض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جميع البلدان لها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فرد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عدم وجود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ج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Placeholder 2"/>
          <p:cNvSpPr/>
          <p:nvPr/>
        </p:nvSpPr>
        <p:spPr>
          <a:xfrm>
            <a:off x="716292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ج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Placeholder 2"/>
          <p:cNvSpPr/>
          <p:nvPr/>
        </p:nvSpPr>
        <p:spPr>
          <a:xfrm>
            <a:off x="6781680" y="3809880"/>
            <a:ext cx="236232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</a:rPr>
              <a:t>المخصصا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قواعد الجديد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96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لا يوج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ـ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7636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7636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تدهور الأراضي،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1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ليونا دولار أمريكي في تغير المناخ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دولار في التنوع البيولوجي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0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في تدهور الأراض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رونة للبلدان الصغيرة (قاعدة الـ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ايين دولار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20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2"/>
          <p:cNvSpPr/>
          <p:nvPr/>
        </p:nvSpPr>
        <p:spPr>
          <a:xfrm>
            <a:off x="716292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قص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6781680" y="4724280"/>
            <a:ext cx="221004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واعد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16292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د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رامج التي ليست موجودة في نظام التخصيص الشفاف للموار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1600200"/>
            <a:ext cx="8076960" cy="4191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لوثات العضوية الثابتة والإدارة السليمة للكيماوي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وازنات المالية ل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رامج/المشروعات الإقليمية و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نح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أرض (قطاع خا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توزيع موارد العملية الخامسة لتجديد موارد صندوق البيئة العالم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Chart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ملايين الدولارات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مخصصات في إطار نظام التخصيص الشفاف للموارد في العملية الخامسة لتجديد موارد الصندو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62120" y="1371600"/>
          <a:ext cx="7848360" cy="4376880"/>
        </p:xfrm>
        <a:graphic>
          <a:graphicData uri="http://schemas.openxmlformats.org/drawingml/2006/table">
            <a:tbl>
              <a:tblPr/>
              <a:tblGrid>
                <a:gridCol w="744480"/>
                <a:gridCol w="839880"/>
                <a:gridCol w="660240"/>
                <a:gridCol w="839880"/>
                <a:gridCol w="512640"/>
                <a:gridCol w="787320"/>
                <a:gridCol w="847800"/>
                <a:gridCol w="2616120"/>
              </a:tblGrid>
              <a:tr h="531360">
                <a:tc rowSpan="3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ظام التخصيص الشفاف للموارد في العملية الخامس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طار تخصيص الموارد في العملية الرابع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5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جديد الموار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ظروفات نظام التخصيص الشفاف للموارد (بملايين الدولارات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خصصات الأولي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رونة في التصر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جمو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دهور الأراض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بلد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أفغان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جزائ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ص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ير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عرا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أرد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بن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يب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غر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باك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سور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ون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رك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يم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Lisa</cp:lastModifiedBy>
  <dcterms:modified xsi:type="dcterms:W3CDTF">2012-04-22T23:41:33Z</dcterms:modified>
  <cp:revision>629</cp:revision>
  <dc:subject/>
  <dc:title>GEF</dc:title>
</cp:coreProperties>
</file>