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4DD-ED57-49E6-8A0C-1E1896466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BA5E-4367-47C6-8B1C-BC1F48881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C64-965F-481B-BFF5-9A829B8C5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CBA-6AB9-49F7-9EEE-453EC2DD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FEB-AA93-4A30-B8B1-85F566A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3C6-F206-4484-B0F4-C736695E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AD1-7868-424A-A91A-5BE61328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2098-3A3D-44AE-9BDE-A1EDBF60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024-491B-41EA-A980-A219326E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7D5-8D00-4C40-A78D-104728D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AE3E-CE9E-4890-B740-BCE48999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03A-47A6-4823-95DC-0AD2F86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40C-1299-4657-A34D-28CB1A3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65E-6D0F-4D2D-A974-4CABCCD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0CF-534E-4573-B88C-DB608D2F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9354-9EF2-44CE-8C8D-F92B861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D160-895A-4628-B143-79BF42E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DE7A-2C4C-4B13-BB2D-10DC901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E04B-0397-497D-BBD8-7ED1D1D4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CFF-7DE5-4834-BA5E-18B5F336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BBB2-2A71-43B2-8EEB-FD2FBB7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4BE3-3F3E-43B5-ACD4-0EF1913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5CEF-2E41-4DD6-99EA-896BE2B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D635-9567-4392-B719-F217B2CE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6D58-4B56-4DD2-897A-10EF233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22E-C76A-45E3-8CEE-B5B6C23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492A-BDE5-41A1-99CB-0585E00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8788-AE90-48C7-B57F-D70A9FC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123F-C88B-4A51-830D-0641784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0781-0EB2-46ED-A6EA-62E8CC4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1B02-548E-4260-AD85-1740529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31F4-7DA4-4106-AF00-BBE50EC5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C69E-9E06-48D9-8284-DA528721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7175-F91E-414C-B665-11E8C0FD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085D-5D40-4F16-9474-5A08BAA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6934-D825-4432-B30B-41EF140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819-3D8C-4ABA-B357-1419FA20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2B39-DA11-418D-B8D8-3748F96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18DC-1359-41A8-8A2F-2FC94BD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1CB6-B210-4C10-BDDE-BF3E8D5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7B25-0625-4E1B-9503-FFD9087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08E3-1E18-4107-9918-9AF1584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63EB-F381-46FF-BEF1-51B92DE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F982-BBD2-4DC3-AB44-73966401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624C-F415-4012-B014-13257432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515F-5B01-4923-8A22-296C2F84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634-F1EC-4B39-B2C3-52F9DE2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57C-B69B-4639-B77F-7B390A5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9EC-D770-4208-9073-6D56917F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A4-4893-4028-B7B5-566477F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E98-4323-40B8-B72A-197B318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1D4-307A-4AE8-87A8-A07BE0D19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7DA-6659-4365-A8FF-64788E733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689-F68F-486A-B76C-927B7E09D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Arial"/>
              </a:rPr>
              <a:t>نظام التخصيص الشفاف للموارد ــ 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ea typeface="Arial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52280" y="152388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ستتم الموافقة على المشروعات ع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ساس الأسبق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قبل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يسمبر/كانون الأو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ستظل الموارد متاحة للبلد العني لاستخدامها في نفس مجال الترك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بع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يناير/كانون الثان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قد تُستخدم الموارد في نفس مجال التركيز أو في مجالات تركيز أخرى حسبما يتراءى للرئيس التنفيذي للصندوق وبموافقة مجلس الصند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الإجراءات العملية لنظام التخصيص الشفاف للموارد (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9400" y="-316080"/>
            <a:ext cx="74181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 </a:t>
            </a:r>
            <a:br>
              <a:rPr sz="4400"/>
            </a:b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موارد (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0880" y="1600200"/>
            <a:ext cx="861084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وز للبلدان المصنفة على أنها تتمتع "بمرونة في التصرف"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ن تستخدم كامل قيمة المبلغ المخصص لها بحر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ون الحاجة إلى الالتزام بالمبالغ المحددة لمجالات التركيز المعن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تشير خطابات التصديق إ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المخصصات الحالية ب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كل مجال تركيز معني بما في ذلك تكاليف الإعداد (منحة إعداد المشروع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PPG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وأتعاب الهيئ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يشترط وجود خطاب تصديق منقح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طُلب مبلغ يتجاوز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% من المبلغ الأصلي أثناء فترة تصديق الرئيس التنفي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</a:t>
            </a:r>
            <a:br>
              <a:rPr sz="3600"/>
            </a:b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 للموارد (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3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295280"/>
            <a:ext cx="899172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 للبلدان التي تتمتع بمرونة في التصرف في المخصصات، يجب الإشارة إلى إجمالي المبلغ والمبلغ الفردي لكل مجال تركيز على حد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إحاط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مانات الاتفاقيات المع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الحالات التي تتمتع بمرونة في التصرف في خطاب التصدي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ات مجلس الصندوق في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تم تقديم تقارير عن خبرات وتجارب تنفيذ نظام التخصيص الشفاف للمو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ناقش المجلس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تقييماً لتصميم وتنفيذ 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أعده مكتب التقييم، بالإضافة إلى تقرير عن التقدم المحرز في إعداد المؤشرات المطل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خطوات الت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61960" y="2133360"/>
            <a:ext cx="434340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نفيذ نظام التخصيص الشفاف ل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لمزيد من الأسئلة والاستفسارات التفصيلية، يجرى الاتصال بسكرتارية صندوق البيئة ال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9903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نتقال من العملية الرابعة إلى العملية الخامسة لتجديد موارد الصند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لب مجلس الصندوق إدخال إصلاحات على إطار تخصيص الموارد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RAF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دم مكتب التقييم لدى الصندوق، من خلال مشاورات مع البلدان المستفيدة، ملاحظات مف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صف هذا العرض التقديمي القواعد الجديدة والإجراءات العملية التي تتماشى مع النظام الجديد لتخصيص الموارد (نظام التخصيص الشفاف للموار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STA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وجز العرض التقديم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جديد من إطار تخصيص الموارد في العملية الرابعة لتجديد موارد الصندوق إلى نظام التخصيص الشفاف للموارد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خصصات الشاملة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 العملية ل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ا الجديد في نظام التخصيص الشفاف للموارد في العملية الخامسة لتجديد موارد الصندوق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جالات التخصيص الجديدة والبلدان المع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2057040"/>
            <a:ext cx="3049560" cy="3886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فردية وجماع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بلدان الأقل نمواً والدول النامية الجزر</a:t>
            </a:r>
            <a:r>
              <a:rPr b="0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ة الصغي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52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3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52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 و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تدهور الأراض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بلدان لها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فرد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دم وجو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Placeholder 2"/>
          <p:cNvSpPr/>
          <p:nvPr/>
        </p:nvSpPr>
        <p:spPr>
          <a:xfrm>
            <a:off x="716292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ج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"/>
          <p:cNvSpPr/>
          <p:nvPr/>
        </p:nvSpPr>
        <p:spPr>
          <a:xfrm>
            <a:off x="6781680" y="3809880"/>
            <a:ext cx="236232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قواعد الجديد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96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لا يوج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ـ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636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7636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تدهور الأراضي،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ليونا دولار أمريكي في تغير المناخ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دولار في التنوع البيولوجي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0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في تدهور الأراض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رونة للبلدان الصغيرة (قاعدة الـ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ايين دولار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2"/>
          <p:cNvSpPr/>
          <p:nvPr/>
        </p:nvSpPr>
        <p:spPr>
          <a:xfrm>
            <a:off x="716292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قص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6781680" y="4724280"/>
            <a:ext cx="221004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واعد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16292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رامج التي ليست موجودة في نظام التخصيص الشفاف للموار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600200"/>
            <a:ext cx="8076960" cy="4191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 والإدارة السليمة للكيماوي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وازنات المالية ل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/المشروعات الإقليمية و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نح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أرض (قطاع خا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توزيع موارد العملية الخامسة لتجديد موارد صندوق البيئة العال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Chart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ملايين الدولار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مخصصات في إطار نظام التخصيص الشفاف للموارد في العملية الخامسة لتجديد موارد الصندو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1371600"/>
          <a:ext cx="7848360" cy="4376880"/>
        </p:xfrm>
        <a:graphic>
          <a:graphicData uri="http://schemas.openxmlformats.org/drawingml/2006/table">
            <a:tbl>
              <a:tblPr/>
              <a:tblGrid>
                <a:gridCol w="744480"/>
                <a:gridCol w="839880"/>
                <a:gridCol w="660240"/>
                <a:gridCol w="839880"/>
                <a:gridCol w="512640"/>
                <a:gridCol w="787320"/>
                <a:gridCol w="847800"/>
                <a:gridCol w="2616120"/>
              </a:tblGrid>
              <a:tr h="531360">
                <a:tc rowSpan="3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ظام التخصيص الشفاف للموارد في العملية الخامس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طار تخصيص الموارد في العملية الرابع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5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جديد الموار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ظروفات نظام التخصيص الشفاف للموارد (بملايين الدولارات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خصصات الأول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رونة في التصر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جمو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دهور الأراض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لد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فغان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جزائ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ص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ير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را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أرد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بن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يب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غر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اك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ور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ون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رك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يم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Lisa</cp:lastModifiedBy>
  <dcterms:modified xsi:type="dcterms:W3CDTF">2012-04-22T23:41:33Z</dcterms:modified>
  <cp:revision>629</cp:revision>
  <dc:subject/>
  <dc:title>GEF</dc:title>
</cp:coreProperties>
</file>