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ftr" idx="14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 type="sldNum" idx="15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3B4C-BA26-4E03-B634-5D8FEE2813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D08C-0298-4E34-BDB0-02342CF2B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E328-546B-41BA-B50C-458A888F2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6DFB-7F23-45E3-816C-D9D03428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8A99-7449-4A9A-8C12-36E81099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801D-C0EF-4DB4-B221-A88B145C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46A6-8604-4F11-8B36-416368336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49CB-2E42-46D0-BF13-378504E71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DD66-8F6D-4AC9-85C8-61F99DED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BE52-2E38-4590-AB41-6B7F33F5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AD13-20E5-4CB9-B926-266010F7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8664-214A-4C2C-884E-B9796787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54B8-15AD-4307-A6A3-2BF25ABC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4943-63FD-41CB-973B-F2417AE1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4C12-309F-4AF2-8650-5E8E5159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F012-B3EA-415F-B8D7-F085B650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F7CD-4A6D-48D0-93CC-D4EDB917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A563-3536-4201-A20B-848EC864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1DB6-8125-4D35-8E2B-D1CF0420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39EA-863E-4FFA-8F7F-C5D3DBAD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F4C96-5C25-45F5-93D5-663580372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04C84-D2CB-4B4A-AE55-2D8A150D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8726D-835E-4E76-B8EB-3A8596C9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92CE4-9B22-4D58-A281-DFA7CE74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1B435-41DD-42CC-84F9-F75C72C5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28C5-70C9-44AE-BAAF-775AADCF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C2CA6-4487-4520-9463-D8F7A52D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B6924-47A9-419E-96DE-B691DEF1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317D6-52AB-4164-92B4-BF76E18D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2AC85-B94F-42A5-927E-3D97C770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9C3EA-4287-4A4B-8984-12309F29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E7ADC-09F9-447D-BEF7-DFA96B86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8E8B4-0D38-4008-96C7-6F361BE21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B2526-227C-4CD1-869C-B2CB97E7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46958-28AB-401F-BECB-9A41AEE6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3CB68-2EDE-4D4F-BF9B-E5547015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E0F8-865C-4E59-B7B1-490299CF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69A3E-495A-43EA-A8FE-CCCBED8C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89472-A4DC-4C38-926A-AFEC7032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A3687-45B7-4AFD-8A76-CBF0A9D8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6639E-CF41-42B7-A550-3DE39716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187A7-A093-4504-9C01-B2127EF4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2FF66-AE1D-4A52-9074-306A5A68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53340-4FCD-4544-BFCE-32D1556A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318B4-E20E-4B7D-98E6-D9D3CC7A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28A26-E22C-4438-8018-DAB6F9AF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79D9-32E5-4082-84C0-49E73F97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49EC-5275-4860-949F-643E942D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3E64-FA64-4DE8-8B0F-02BDDD64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8ED0-0A51-4158-A763-EC7F3D67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C0E6-F3C2-4FFE-9EBF-D506B640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6FB7-F582-4CD8-91B3-FBA25F4938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DF0F-0935-4C83-B369-6AAA482EA1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GEF-PPT-BG-AR.png"/>
          <p:cNvPicPr/>
          <p:nvPr/>
        </p:nvPicPr>
        <p:blipFill>
          <a:blip r:embed="rId2"/>
          <a:stretch/>
        </p:blipFill>
        <p:spPr>
          <a:xfrm>
            <a:off x="0" y="5611680"/>
            <a:ext cx="9144000" cy="12463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GEF-PPT-BG-AR.png"/>
          <p:cNvPicPr/>
          <p:nvPr/>
        </p:nvPicPr>
        <p:blipFill>
          <a:blip r:embed="rId2"/>
          <a:stretch/>
        </p:blipFill>
        <p:spPr>
          <a:xfrm>
            <a:off x="0" y="5611680"/>
            <a:ext cx="9144000" cy="12463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24EB-9D4E-46D5-8D85-B321969590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6" descr="GEF-PPT-BG-AR.png"/>
          <p:cNvPicPr/>
          <p:nvPr/>
        </p:nvPicPr>
        <p:blipFill>
          <a:blip r:embed="rId2"/>
          <a:stretch/>
        </p:blipFill>
        <p:spPr>
          <a:xfrm>
            <a:off x="0" y="5611680"/>
            <a:ext cx="9144000" cy="12463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GEF-PPT-BG-AR.png"/>
          <p:cNvPicPr/>
          <p:nvPr/>
        </p:nvPicPr>
        <p:blipFill>
          <a:blip r:embed="rId2"/>
          <a:stretch/>
        </p:blipFill>
        <p:spPr>
          <a:xfrm>
            <a:off x="0" y="5611680"/>
            <a:ext cx="9144000" cy="12463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2130480"/>
            <a:ext cx="8153280" cy="14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42d"/>
                </a:solidFill>
                <a:latin typeface="Calibri"/>
                <a:cs typeface="Arial"/>
              </a:rPr>
              <a:t>نظام التخصيص الشفاف للموارد ــ </a:t>
            </a:r>
            <a:r>
              <a:rPr b="1" lang="ar-SA" sz="4400" spc="-1" strike="noStrike">
                <a:solidFill>
                  <a:srgbClr val="00642d"/>
                </a:solidFill>
                <a:latin typeface="Calibri"/>
                <a:ea typeface="Arial"/>
              </a:rPr>
              <a:t>ST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066320" y="4038120"/>
            <a:ext cx="67057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Arial"/>
              </a:rPr>
              <a:t>حلقة العمل الموسعة على مستوى البلدان الأعضاء في صندوق البيئة العال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15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 –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17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 فبراير/شباط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2012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642d"/>
                </a:solidFill>
                <a:latin typeface="Calibri"/>
                <a:cs typeface="Arial"/>
              </a:rPr>
              <a:t>البحر الميت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Arial"/>
              </a:rPr>
              <a:t>، الأرد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152280" y="1523880"/>
            <a:ext cx="8763120" cy="41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ستتم الموافقة على المشروعات على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 أساس الأسبقي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في حالة إلغاء مشروع</a:t>
            </a:r>
            <a:r>
              <a:rPr b="0" i="1" lang="ar-SA" sz="2400" spc="-1" strike="noStrike">
                <a:solidFill>
                  <a:srgbClr val="c00000"/>
                </a:solidFill>
                <a:latin typeface="Calibri"/>
              </a:rPr>
              <a:t> قبل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 آخر ستة أشهر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من العملية الخامسة لتجديد موارد الصندوق (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31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ديسمبر/كانون الأول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)، ستظل الموارد متاحة للبلد العني لاستخدامها في نفس مجال التركي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في حالة إلغاء مشروع</a:t>
            </a:r>
            <a:r>
              <a:rPr b="0" i="1" lang="ar-SA" sz="2400" spc="-1" strike="noStrike">
                <a:solidFill>
                  <a:srgbClr val="c00000"/>
                </a:solidFill>
                <a:latin typeface="Calibri"/>
              </a:rPr>
              <a:t> بعد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آخر ستة أشهر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من العملية الخامسة لتجديد موارد الصندوق (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يناير/كانون الثاني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)، قد تُستخدم الموارد في نفس مجال التركيز أو في مجالات تركيز أخرى حسبما يتراءى للرئيس التنفيذي للصندوق وبموافقة مجلس الصندو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533520" y="30492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642d"/>
                </a:solidFill>
                <a:latin typeface="Calibri"/>
              </a:rPr>
              <a:t>الإجراءات العملية لنظام التخصيص الشفاف للموارد (</a:t>
            </a:r>
            <a:r>
              <a:rPr b="1" lang="ar-SA" sz="4000" spc="-1" strike="noStrike">
                <a:solidFill>
                  <a:srgbClr val="00642d"/>
                </a:solidFill>
                <a:latin typeface="Calibri"/>
              </a:rPr>
              <a:t>1</a:t>
            </a:r>
            <a:r>
              <a:rPr b="1" lang="ar-SA" sz="4000" spc="-1" strike="noStrike">
                <a:solidFill>
                  <a:srgbClr val="00642d"/>
                </a:solidFill>
                <a:latin typeface="Calibri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49400" y="-316080"/>
            <a:ext cx="7418160" cy="21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إجراءات العملية لنظام التخصيص الشفاف </a:t>
            </a:r>
            <a:br>
              <a:rPr sz="4400"/>
            </a:b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للموارد (</a:t>
            </a:r>
            <a:r>
              <a:rPr b="0" lang="ar-SA" sz="4400" spc="-1" strike="noStrike">
                <a:solidFill>
                  <a:srgbClr val="00642d"/>
                </a:solidFill>
                <a:latin typeface="Calibri"/>
                <a:ea typeface="Times New Roman"/>
              </a:rPr>
              <a:t>2</a:t>
            </a:r>
            <a:r>
              <a:rPr b="0" lang="ar-SA" sz="4400" spc="-1" strike="noStrike">
                <a:solidFill>
                  <a:srgbClr val="00642d"/>
                </a:solidFill>
                <a:latin typeface="Calibri"/>
                <a:ea typeface="Times New Roman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380880" y="1600200"/>
            <a:ext cx="8610840" cy="43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يجوز للبلدان المصنفة على أنها تتمتع "بمرونة في التصرف" 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أن تستخدم كامل قيمة المبلغ المخصص لها بحري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بدون الحاجة إلى الالتزام بالمبالغ المحددة لمجالات التركيز المعني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يجب أن تشير خطابات التصديق إلى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 المخصصات الحالية بنظام التخصيص الشفاف للموارد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في كل مجال تركيز معني بما في ذلك تكاليف الإعداد (منحة إعداد المشروع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PPG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) وأتعاب الهيئات المعن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يشترط وجود خطاب تصديق منقح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إذا طُلب مبلغ يتجاوز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% من المبلغ الأصلي أثناء فترة تصديق الرئيس التنفيذ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08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إجراءات العملية لنظام التخصيص الشفاف</a:t>
            </a:r>
            <a:br>
              <a:rPr sz="3600"/>
            </a:br>
            <a:r>
              <a:rPr b="0" lang="ar-SA" sz="3600" spc="-1" strike="noStrike">
                <a:solidFill>
                  <a:srgbClr val="00642d"/>
                </a:solidFill>
                <a:latin typeface="Calibri"/>
                <a:ea typeface="Times New Roman"/>
              </a:rPr>
              <a:t> للموارد (</a:t>
            </a:r>
            <a:r>
              <a:rPr b="0" lang="ar-SA" sz="3600" spc="-1" strike="noStrike">
                <a:solidFill>
                  <a:srgbClr val="00642d"/>
                </a:solidFill>
                <a:latin typeface="Calibri"/>
                <a:ea typeface="Times New Roman"/>
              </a:rPr>
              <a:t>3</a:t>
            </a:r>
            <a:r>
              <a:rPr b="0" lang="ar-SA" sz="3600" spc="-1" strike="noStrike">
                <a:solidFill>
                  <a:srgbClr val="00642d"/>
                </a:solidFill>
                <a:latin typeface="Calibri"/>
                <a:ea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152280" y="1295280"/>
            <a:ext cx="8991720" cy="54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بالنسبة للبلدان التي تتمتع بمرونة في التصرف في المخصصات، يجب الإشارة إلى إجمالي المبلغ والمبلغ الفردي لكل مجال تركيز على حد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يجب إحاطة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 أمانات الاتفاقيات المعني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بالحالات التي تتمتع بمرونة في التصرف في خطاب التصدي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بالنسبة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 لاجتماعات مجلس الصندوق في يونيو/حزيران 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2012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، سيتم تقديم تقارير عن خبرات وتجارب تنفيذ نظام التخصيص الشفاف للموار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بالنسبة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 لاجتماع يونيو/حزيران 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2013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، سيناقش المجلس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 تقييماً لتصميم وتنفيذ نظام التخصيص الشفاف للموارد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أعده مكتب التقييم، بالإضافة إلى تقرير عن التقدم المحرز في إعداد المؤشرات المطلوب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خطوات التال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2361960" y="2133360"/>
            <a:ext cx="4343400" cy="1066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نفيذ نظام التخصيص الشفاف للموار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5"/>
          <p:cNvSpPr/>
          <p:nvPr/>
        </p:nvSpPr>
        <p:spPr>
          <a:xfrm>
            <a:off x="2057400" y="35812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للمزيد من الأسئلة والاستفسارات التفصيلية، يجرى الاتصال بسكرتارية صندوق البيئة العالم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2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مقدم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0520" y="990360"/>
            <a:ext cx="8153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انتقال من العملية الرابعة إلى العملية الخامسة لتجديد موارد الصندو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طلب مجلس الصندوق إدخال إصلاحات على إطار تخصيص الموارد (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RAF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قدم مكتب التقييم لدى الصندوق، من خلال مشاورات مع البلدان المستفيدة، ملاحظات مفيد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يصف هذا العرض التقديمي القواعد الجديدة والإجراءات العملية التي تتماشى مع النظام الجديد لتخصيص الموارد (نظام التخصيص الشفاف للموارد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STAR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موجز العرض التقديمي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80520" y="1599840"/>
            <a:ext cx="8458200" cy="388620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 fontScale="96000"/>
          </a:bodyPr>
          <a:p>
            <a:pPr lvl="1" marL="713160" indent="-2743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ا الجديد من إطار تخصيص الموارد في العملية الرابعة لتجديد موارد الصندوق إلى نظام التخصيص الشفاف للموارد في العملية الخامسة لتجديد موارد الصندو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مخصصات الشاملة في العملية الخامسة لتجديد موارد الصندو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إجراءات العملية لنظام التخصيص الشفاف للموار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2666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ما الجديد في نظام التخصيص الشفاف للموارد في العملية الخامسة لتجديد موارد الصندوق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مجالات التخصيص الجديدة والبلدان المعن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 fontScale="75000"/>
          </a:bodyPr>
          <a:p>
            <a:pPr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إطار تخصيص الموارد في العملية الرابعة لتجديد موارد الصندو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28240" y="2057040"/>
            <a:ext cx="3049560" cy="38862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تنوع البيولوجي وتغير المنا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خصصات فردية وجماع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جميع البلدان الأقل نمواً والدول النامية الجزر</a:t>
            </a:r>
            <a:r>
              <a:rPr b="0" lang="ar-LB" sz="2400" spc="-1" strike="noStrike">
                <a:solidFill>
                  <a:srgbClr val="000000"/>
                </a:solidFill>
                <a:latin typeface="Calibri"/>
                <a:cs typeface="Arial"/>
              </a:rPr>
              <a:t>ي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ة الصغير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352680" y="1294920"/>
            <a:ext cx="327672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 fontScale="73000"/>
          </a:bodyPr>
          <a:p>
            <a:pPr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نظام التخصيص الشفاف للموارد في العملية الخامسة لتجديد موارد الصندو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352680" y="2057400"/>
            <a:ext cx="3353040" cy="395136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تنوع البيولوجي وتغير المناخ و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Arial"/>
              </a:rPr>
              <a:t>تدهور الأراض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جميع البلدان لها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خصصات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ea typeface="Arial"/>
              </a:rPr>
              <a:t> فرد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Arial"/>
              </a:rPr>
              <a:t>عدم وجود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خصصات جماع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 Placeholder 2"/>
          <p:cNvSpPr/>
          <p:nvPr/>
        </p:nvSpPr>
        <p:spPr>
          <a:xfrm>
            <a:off x="7162920" y="213372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جا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Placeholder 2"/>
          <p:cNvSpPr/>
          <p:nvPr/>
        </p:nvSpPr>
        <p:spPr>
          <a:xfrm>
            <a:off x="6781680" y="3809880"/>
            <a:ext cx="2362320" cy="533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</a:rPr>
              <a:t>المخصصا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قواعد الجديد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596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 fontScale="75000"/>
          </a:bodyPr>
          <a:p>
            <a:pPr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إطار تخصيص الموارد في العملية الرابعة لتجديد موارد الصندو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75960" y="2057040"/>
            <a:ext cx="3049560" cy="38098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10%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للتنوع البيولوجي و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15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% لتغير المناخ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لا يوج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قاعدة الـ 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50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%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تجنيب 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76360" y="1294920"/>
            <a:ext cx="34290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 fontScale="75000"/>
          </a:bodyPr>
          <a:p>
            <a:pPr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نظام التخصيص الشفاف للموارد في العملية الخامسة لتجديد موارد الصندو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276360" y="2057040"/>
            <a:ext cx="3429000" cy="38098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10%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للتنوع البيولوجي وتدهور الأراضي،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 و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11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% لتغير المناخ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25800" indent="-325800" algn="r" rtl="1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0000"/>
                </a:solidFill>
                <a:latin typeface="Calibri"/>
                <a:cs typeface="Arial"/>
              </a:rPr>
              <a:t>مليونا دولار أمريكي في تغير المناخ، و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1.5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 مليون دولار في التنوع البيولوجي، و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0.5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 مليون في تدهور الأراض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25800" indent="-325800" algn="r" rtl="1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0000"/>
                </a:solidFill>
                <a:latin typeface="Calibri"/>
                <a:cs typeface="Arial"/>
              </a:rPr>
              <a:t>مرونة للبلدان الصغيرة (قاعدة الـ 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7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 ملايين دولار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0000"/>
                </a:solidFill>
                <a:latin typeface="Calibri"/>
                <a:cs typeface="Arial"/>
              </a:rPr>
              <a:t>تجنيب 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20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 Placeholder 2"/>
          <p:cNvSpPr/>
          <p:nvPr/>
        </p:nvSpPr>
        <p:spPr>
          <a:xfrm>
            <a:off x="7162920" y="220968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حد الأقص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Placeholder 2"/>
          <p:cNvSpPr/>
          <p:nvPr/>
        </p:nvSpPr>
        <p:spPr>
          <a:xfrm>
            <a:off x="6781680" y="4724280"/>
            <a:ext cx="2210040" cy="609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قواعد أخر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Placeholder 2"/>
          <p:cNvSpPr/>
          <p:nvPr/>
        </p:nvSpPr>
        <p:spPr>
          <a:xfrm>
            <a:off x="7162920" y="342900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حد الأدن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برامج التي ليست موجودة في نظام التخصيص الشفاف للموار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62120" y="1600200"/>
            <a:ext cx="8076960" cy="41911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مياه الدول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ملوثات العضوية الثابتة والإدارة السليمة للكيماوي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موازنات المالية للمؤسس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برنامج المساندة القطر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برامج/المشروعات الإقليمية والعال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برنامج المنح الصغ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صندوق الأرض (قطاع خا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توزيع موارد العملية الخامسة لتجديد موارد صندوق البيئة العالم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Chart 5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"/>
          <p:cNvSpPr/>
          <p:nvPr/>
        </p:nvSpPr>
        <p:spPr>
          <a:xfrm>
            <a:off x="457200" y="1676520"/>
            <a:ext cx="1738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ملايين الدولارات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مخصصات في إطار نظام التخصيص الشفاف للموارد في العملية الخامسة لتجديد موارد الصندو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762120" y="1371600"/>
          <a:ext cx="7848360" cy="4376880"/>
        </p:xfrm>
        <a:graphic>
          <a:graphicData uri="http://schemas.openxmlformats.org/drawingml/2006/table">
            <a:tbl>
              <a:tblPr/>
              <a:tblGrid>
                <a:gridCol w="744480"/>
                <a:gridCol w="839880"/>
                <a:gridCol w="660240"/>
                <a:gridCol w="839880"/>
                <a:gridCol w="512640"/>
                <a:gridCol w="787320"/>
                <a:gridCol w="847800"/>
                <a:gridCol w="2616120"/>
              </a:tblGrid>
              <a:tr h="531360">
                <a:tc rowSpan="3"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نظام التخصيص الشفاف للموارد في العملية الخامسة لتجديد موارد الصندو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إطار تخصيص الموارد في العملية الرابعة لتجديد موارد الصندو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26640" rIns="26640" tIns="6120" bIns="0" anchor="b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25</a:t>
                      </a: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مليار دولا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جديد الموار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1</a:t>
                      </a: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مليار دولا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مظروفات نظام التخصيص الشفاف للموارد (بملايين الدولارات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مخصصات الأولي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مرونة في التصرف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مجمو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دهور الأراض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تنوع البيولوج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غير المنا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تنوع البيولوج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غير المنا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بلدا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أفغانستا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جزائ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.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.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مص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8.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إيرا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نع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عرا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نع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أرد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نع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بنا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نع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يبي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مغر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.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باكستا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سوري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ون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ركي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يم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5:45:29Z</dcterms:created>
  <dc:creator>Peter Bjornsen</dc:creator>
  <dc:description/>
  <dc:language>en-US</dc:language>
  <cp:lastModifiedBy>Lisa</cp:lastModifiedBy>
  <dcterms:modified xsi:type="dcterms:W3CDTF">2012-04-22T23:41:33Z</dcterms:modified>
  <cp:revision>629</cp:revision>
  <dc:subject/>
  <dc:title>GEF</dc:title>
</cp:coreProperties>
</file>