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1257120" y="717120"/>
            <a:ext cx="48020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0" y="9116640"/>
            <a:ext cx="317016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15"/>
          </p:nvPr>
        </p:nvSpPr>
        <p:spPr>
          <a:xfrm>
            <a:off x="4142880" y="9116640"/>
            <a:ext cx="317052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lang="ar-SA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DA4C9221-09E5-4B8C-8B89-3A4FC2588846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257480" y="7174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4143240" y="9117000"/>
            <a:ext cx="317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964913DB-13D0-40E0-9560-7DF1E25B4D15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Footer Placeholder 5"/>
          <p:cNvSpPr/>
          <p:nvPr/>
        </p:nvSpPr>
        <p:spPr>
          <a:xfrm>
            <a:off x="0" y="9117000"/>
            <a:ext cx="317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Arial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257480" y="7174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n-CL" sz="1200" spc="-1" strike="noStrike">
                <a:solidFill>
                  <a:srgbClr val="000000"/>
                </a:solidFill>
                <a:latin typeface="Arial"/>
              </a:rPr>
              <a:t>Mention two types of OFP endorsement letters on GEF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Header Placeholder 3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Arial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Footer Placeholder 5"/>
          <p:cNvSpPr/>
          <p:nvPr/>
        </p:nvSpPr>
        <p:spPr>
          <a:xfrm>
            <a:off x="0" y="9117000"/>
            <a:ext cx="317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Slide Number Placeholder 6"/>
          <p:cNvSpPr/>
          <p:nvPr/>
        </p:nvSpPr>
        <p:spPr>
          <a:xfrm>
            <a:off x="4143240" y="9117000"/>
            <a:ext cx="317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1D3BA4C3-212A-4830-8C80-8C73EE9DAB78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62B7-ED5F-4C8D-BFD2-87108B036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BEE3-9C20-46FC-90CF-18C2E11A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6CBA-D6A8-4A48-8120-201F7A7C8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CE6A-2825-427D-A038-A4C71182B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06D66-1B75-4F05-99AB-0B9D7F118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CC54-9780-4CBC-AFF0-8AED66C6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0C7F-985F-43A7-9567-BB432C16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AD82-7BC5-4D68-A0A3-BD4FF55A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DA92-377F-490C-8955-77CCD906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A5DA-D5BB-4709-ACA0-0E97444A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2C21-E250-4307-8BAF-BB704FDA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2724-ABF2-435F-99C6-B8BAAABF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67D9-2D69-442D-AF54-14362AEF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ABE6-8494-4483-A4AD-BA48DFC0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D410-8810-4B72-955C-624824D3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6567-54CF-4532-AE2E-47BEF5CA6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FF1CB-CC25-4AF0-A095-9E8AF19DA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1BA8D-6CFB-4A75-855F-62CC8CFE8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51A98-6DE1-4308-B0BC-031BEBCB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241F3-2E3A-4928-A69E-BDBC7CFE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25C6E-65A9-4BC7-8B3B-5499EAD2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078A2-A247-4FD0-ADA1-551A5E79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A697-0989-4231-B73E-094C7EB5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0BEB8-91E8-4F36-820D-C12086CB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FABD3-5AD2-4A32-8D78-336EDB84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385BB-3156-4E0E-B30D-B0B4D4F5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F2115-AD75-479E-B5E1-A0C35182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BCA4E-5EEC-4C4F-A416-8E528864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4E60D-4E0E-4D26-9453-5E95053C7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F1EAE-3DD1-4633-A265-68F63D9AE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026DC-18EE-49CD-A06B-13B273188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AA4CE-26D4-4EC9-A988-7FF54512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53DA0-2F84-430C-9496-C6575FE1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7DC9-9F2B-4D12-AABE-C5515B89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CFFC5-BC41-45DF-93DC-8E844B07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1351C-B6EF-4015-BEDB-180AD6A5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3B798-D29F-4544-B272-013C010F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5DAC2-0133-4473-AC52-D4708D69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0AE25-FBBC-4E84-AD1D-F459C767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2C505-5CDC-430C-9A85-38948327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092ED-89A7-404C-A0C9-25FCAF9F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117D9-F5AC-40C5-AC9B-19FE9015A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31A0C-95C2-4E62-9591-55371E898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34BB-3F15-4D8F-9E6A-2B20FF86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F5F3-5DB9-49B3-BE11-0EB987C9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7FE7-30BC-4EFD-9FCC-06CE7D72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8642-E3F4-4F21-BDCB-EA33833F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EE67-4E45-4A2C-A15B-76002AF9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B2F9D-D61F-456C-8A87-13D9C5522C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D4B5-0E61-460E-94E5-B674DC77930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E54C-E457-4722-ACA6-220FD527A75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97DC-09B7-4416-92F0-EEC6B068B1A5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DD55-2C78-4602-B869-238AB814AFA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1A0D-A99D-4E5D-86BC-32511D7DE6CA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6FED-BB38-453D-9986-99DFB22F1AD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C2EE-FACE-4A0F-86C9-D429781BAD6F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2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3.png"/><Relationship Id="rId15" Type="http://schemas.openxmlformats.org/officeDocument/2006/relationships/image" Target="../media/image28.png"/><Relationship Id="rId16" Type="http://schemas.openxmlformats.org/officeDocument/2006/relationships/image" Target="../media/image29.png"/><Relationship Id="rId17" Type="http://schemas.openxmlformats.org/officeDocument/2006/relationships/image" Target="../media/image23.png"/><Relationship Id="rId18" Type="http://schemas.openxmlformats.org/officeDocument/2006/relationships/image" Target="../media/image30.png"/><Relationship Id="rId19" Type="http://schemas.openxmlformats.org/officeDocument/2006/relationships/image" Target="../media/image30.png"/><Relationship Id="rId20" Type="http://schemas.openxmlformats.org/officeDocument/2006/relationships/image" Target="../media/image31.png"/><Relationship Id="rId21" Type="http://schemas.openxmlformats.org/officeDocument/2006/relationships/image" Target="../media/image32.png"/><Relationship Id="rId22" Type="http://schemas.openxmlformats.org/officeDocument/2006/relationships/image" Target="../media/image22.png"/><Relationship Id="rId2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دورة مش</a:t>
            </a:r>
            <a:r>
              <a:rPr b="1" lang="ar-LB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ا</a:t>
            </a:r>
            <a:r>
              <a:rPr b="1" lang="ar-SA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ر</a:t>
            </a:r>
            <a:r>
              <a:rPr b="1" lang="ar-LB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ي</a:t>
            </a:r>
            <a:r>
              <a:rPr b="1" lang="ar-SA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ع صندوق البيئة العالم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ubtitle 4"/>
          <p:cNvSpPr/>
          <p:nvPr/>
        </p:nvSpPr>
        <p:spPr>
          <a:xfrm>
            <a:off x="1219320" y="4267080"/>
            <a:ext cx="670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642d"/>
                </a:solidFill>
                <a:latin typeface="Calibri"/>
                <a:cs typeface="Times New Roman"/>
              </a:rPr>
              <a:t>حلقة العمل الموسعة على مستوى البلدان الأعضاء في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642d"/>
                </a:solidFill>
                <a:latin typeface="Calibri"/>
                <a:ea typeface="Times New Roman"/>
              </a:rPr>
              <a:t> صندوق البيئة العالمية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642d"/>
                </a:solidFill>
                <a:latin typeface="Calibri"/>
                <a:ea typeface="Times New Roman"/>
              </a:rPr>
              <a:t>15</a:t>
            </a:r>
            <a:r>
              <a:rPr b="1" lang="ar-SA" sz="3000" spc="-1" strike="noStrike">
                <a:solidFill>
                  <a:srgbClr val="00642d"/>
                </a:solidFill>
                <a:latin typeface="Calibri"/>
                <a:ea typeface="Times New Roman"/>
              </a:rPr>
              <a:t>– </a:t>
            </a:r>
            <a:r>
              <a:rPr b="1" lang="ar-SA" sz="3000" spc="-1" strike="noStrike">
                <a:solidFill>
                  <a:srgbClr val="00642d"/>
                </a:solidFill>
                <a:latin typeface="Calibri"/>
                <a:ea typeface="Times New Roman"/>
              </a:rPr>
              <a:t>17</a:t>
            </a:r>
            <a:r>
              <a:rPr b="1" lang="ar-EG" sz="3000" spc="-1" strike="noStrike">
                <a:solidFill>
                  <a:srgbClr val="00642d"/>
                </a:solidFill>
                <a:latin typeface="Calibri"/>
                <a:ea typeface="Times New Roman"/>
              </a:rPr>
              <a:t> </a:t>
            </a:r>
            <a:r>
              <a:rPr b="1" lang="ar-SA" sz="3000" spc="-1" strike="noStrike">
                <a:solidFill>
                  <a:srgbClr val="00642d"/>
                </a:solidFill>
                <a:latin typeface="Calibri"/>
                <a:cs typeface="Times New Roman"/>
              </a:rPr>
              <a:t>فبراير/شباط </a:t>
            </a:r>
            <a:r>
              <a:rPr b="1" lang="ar-SA" sz="3000" spc="-1" strike="noStrike">
                <a:solidFill>
                  <a:srgbClr val="00642d"/>
                </a:solidFill>
                <a:latin typeface="Calibri"/>
                <a:ea typeface="Times New Roman"/>
              </a:rPr>
              <a:t>2012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000" spc="-1" strike="noStrike">
                <a:solidFill>
                  <a:srgbClr val="00642d"/>
                </a:solidFill>
                <a:latin typeface="Calibri"/>
                <a:cs typeface="Times New Roman"/>
              </a:rPr>
              <a:t>البحر الميت</a:t>
            </a:r>
            <a:r>
              <a:rPr b="1" lang="ar-SA" sz="3000" spc="-1" strike="noStrike">
                <a:solidFill>
                  <a:srgbClr val="00642d"/>
                </a:solidFill>
                <a:latin typeface="Calibri"/>
                <a:cs typeface="Times New Roman"/>
              </a:rPr>
              <a:t>، الأردن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58ed5"/>
                </a:solidFill>
                <a:latin typeface="Calibri"/>
                <a:cs typeface="Arial"/>
              </a:rPr>
              <a:t>معايير مراجعة المشروعات متوسطة/كاملة الحج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040" y="1447920"/>
            <a:ext cx="70102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365760" indent="-3657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أهلية البلد 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عني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تحمله للمسؤول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760" indent="-3657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نافع البيئية العالم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760" indent="-3657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إستراتيجية مجال تركيز صندوق البيئة العالم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760" indent="-3657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يزة النسبية لهيئة الصندو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760" indent="-3657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وفر الموار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760" indent="-3657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وافق المشرو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760" indent="-3657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صميم المشرو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760" indent="-3657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مويل المشروع والتمويل المشترك للمشروع (خط الأساس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760" indent="-3657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رصد والتقييم؛ 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760" indent="-3657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رد الهيئة على الملاحظات والمراجعات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58ed5"/>
                </a:solidFill>
                <a:latin typeface="Calibri"/>
                <a:cs typeface="Arial"/>
              </a:rPr>
              <a:t>تصديق البلد المعني</a:t>
            </a:r>
            <a:br>
              <a:rPr sz="3200"/>
            </a:br>
            <a:r>
              <a:rPr b="0" lang="en-US" sz="3200" spc="-1" strike="noStrike">
                <a:solidFill>
                  <a:srgbClr val="558ed5"/>
                </a:solidFill>
                <a:latin typeface="Calibri"/>
                <a:ea typeface="Arial"/>
              </a:rPr>
              <a:t> </a:t>
            </a:r>
            <a:r>
              <a:rPr b="0" lang="ar-SA" sz="3200" spc="-1" strike="noStrike">
                <a:solidFill>
                  <a:srgbClr val="558ed5"/>
                </a:solidFill>
                <a:latin typeface="Calibri"/>
                <a:ea typeface="Arial"/>
              </a:rPr>
              <a:t>(من جانب </a:t>
            </a:r>
            <a:r>
              <a:rPr b="0" lang="ar-EG" sz="3200" spc="-1" strike="noStrike">
                <a:solidFill>
                  <a:srgbClr val="558ed5"/>
                </a:solidFill>
                <a:latin typeface="Calibri"/>
                <a:ea typeface="Arial"/>
              </a:rPr>
              <a:t>(نقطة) </a:t>
            </a:r>
            <a:r>
              <a:rPr b="0" lang="ar-SA" sz="3200" spc="-1" strike="noStrike">
                <a:solidFill>
                  <a:srgbClr val="558ed5"/>
                </a:solidFill>
                <a:latin typeface="Calibri"/>
                <a:cs typeface="Arial"/>
              </a:rPr>
              <a:t>مسؤول الاتصال المعني بالعمليات لدى البلد المعني</a:t>
            </a:r>
            <a:r>
              <a:rPr b="0" lang="ar-EG" sz="3200" spc="-1" strike="noStrike">
                <a:solidFill>
                  <a:srgbClr val="558ed5"/>
                </a:solidFill>
                <a:latin typeface="Calibri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468160"/>
            <a:ext cx="8229600" cy="30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 algn="r" rtl="1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يجب أن يصدق مسؤول</a:t>
            </a:r>
            <a:r>
              <a:rPr b="0" lang="ar-EG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(نقطة)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اتصال المعني بالعمليات على جميع نماذج تحديد المشروعات عند عرضها على الصندوق لاعتمادها (في حالة المشروعات كاملة الحجم) أو الموافقة (في حالة المشروعات المتوسطة الحجم التي تطلب منحة إعداد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 algn="r" rtl="1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بع المشروعات في مجالات تركيز التنوع البيولوجي وتغير المناخ وتدهور الأراضي قواعد نظام التخصيص الشفاف للموار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8377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 algn="r" rtl="1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لنسبة للمشروعات القائمة بذاتها، أتعاب قيمتها 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على مبلغ الصندوق المخصص للمشروع (منحة المشروع + منحة إعداد المشروع)*؛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 algn="r" rtl="1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اين أتعاب الهيئة بالنسبة للنُهج البرامجية حسب نوع الهيئة المقدمة للنُهج البرامجية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1013400" indent="-226080" algn="r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يئات  تتمتع بموافقة المجلس على المشروعات:  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13400" indent="-226080" algn="r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يئات بدون موافقة المجلس على المشروعات:   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 algn="r" rtl="1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ي حالة إلغاء المشروع، يتعين إعادة جميع مبالغ الأتعاب غير المستخدمة أو أية نسبة محددة إلى الصندوق الاستئماني لصندوق البيئة العالمية.*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إشارة إلى وثيقة مجلس الصندوق، "</a:t>
            </a:r>
            <a:r>
              <a:rPr b="0" i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دوار والميزات النسبية لهيئات صندوق البيئة العالمية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بالنسبة للإرشادات الخاصة بنسبة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أتعاب 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F/C.30/9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 algn="r" rtl="1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إشارة إلى وثيقة مجلس الصندوق، "</a:t>
            </a:r>
            <a:r>
              <a:rPr b="0" i="1" lang="ar-SA" sz="1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ترح مراجعة نظام الأتعاب</a:t>
            </a:r>
            <a:r>
              <a:rPr b="0" lang="ar-S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بالنسبة لإرشادات إعادة الأتعاب (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F/C.23/8/Rev.1</a:t>
            </a:r>
            <a:r>
              <a:rPr b="0" lang="ar-S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br>
              <a:rPr sz="1500"/>
            </a:br>
            <a:r>
              <a:rPr b="0" lang="ar-S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76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58ed5"/>
                </a:solidFill>
                <a:latin typeface="Calibri"/>
                <a:cs typeface="Arial"/>
              </a:rPr>
              <a:t>أتعاب الهيئ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58ed5"/>
                </a:solidFill>
                <a:latin typeface="Calibri"/>
                <a:cs typeface="Arial"/>
              </a:rPr>
              <a:t>النُهج البرامجية (</a:t>
            </a:r>
            <a:r>
              <a:rPr b="0" lang="ar-SA" sz="3600" spc="-1" strike="noStrike">
                <a:solidFill>
                  <a:srgbClr val="558ed5"/>
                </a:solidFill>
                <a:latin typeface="Calibri"/>
                <a:ea typeface="Arial"/>
              </a:rPr>
              <a:t>1</a:t>
            </a:r>
            <a:r>
              <a:rPr b="0" lang="ar-EG" sz="3600" spc="-1" strike="noStrike">
                <a:solidFill>
                  <a:srgbClr val="558ed5"/>
                </a:solidFill>
                <a:latin typeface="Calibri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160" y="2133720"/>
            <a:ext cx="792468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هناك نوعان من النُهج البرامجية حسب نوع هيئة الصندوق المقدمة للبرنامج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هيئات تتمتع بموافقة المجلس على المشروعات ــ هيئات الصندوق التي تستوفي معايير سلطة الموافقة المخولة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هيئات بدون موافقة المجلس على المشروعات ــ هيئات الصندوق التي لا تستوفي هذه المعايير، حيث يمكن عرض هذه البرامج بواسطة هيئة تنسيق برامج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Group 3" descr=""/>
          <p:cNvPicPr/>
          <p:nvPr/>
        </p:nvPicPr>
        <p:blipFill>
          <a:blip r:embed="rId1"/>
          <a:stretch/>
        </p:blipFill>
        <p:spPr>
          <a:xfrm>
            <a:off x="865080" y="189000"/>
            <a:ext cx="2719440" cy="585720"/>
          </a:xfrm>
          <a:prstGeom prst="rect">
            <a:avLst/>
          </a:prstGeom>
          <a:ln w="0">
            <a:noFill/>
          </a:ln>
        </p:spPr>
      </p:pic>
      <p:grpSp>
        <p:nvGrpSpPr>
          <p:cNvPr id="237" name="Rounded Rectangle 4"/>
          <p:cNvGrpSpPr/>
          <p:nvPr/>
        </p:nvGrpSpPr>
        <p:grpSpPr>
          <a:xfrm>
            <a:off x="878040" y="2316240"/>
            <a:ext cx="2511360" cy="718920"/>
            <a:chOff x="878040" y="2316240"/>
            <a:chExt cx="2511360" cy="718920"/>
          </a:xfrm>
        </p:grpSpPr>
        <p:pic>
          <p:nvPicPr>
            <p:cNvPr id="238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878040" y="2316240"/>
              <a:ext cx="251136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990720" y="2333520"/>
              <a:ext cx="2319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10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توافق الهيئات على فرادى نماذج تحديد المشروعات ضمن البرنامج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40" name="Group 28" descr=""/>
          <p:cNvPicPr/>
          <p:nvPr/>
        </p:nvPicPr>
        <p:blipFill>
          <a:blip r:embed="rId3"/>
          <a:stretch/>
        </p:blipFill>
        <p:spPr>
          <a:xfrm>
            <a:off x="5048280" y="195120"/>
            <a:ext cx="2475000" cy="481320"/>
          </a:xfrm>
          <a:prstGeom prst="rect">
            <a:avLst/>
          </a:prstGeom>
          <a:ln w="0">
            <a:noFill/>
          </a:ln>
        </p:spPr>
      </p:pic>
      <p:pic>
        <p:nvPicPr>
          <p:cNvPr id="241" name="Group 48" descr=""/>
          <p:cNvPicPr/>
          <p:nvPr/>
        </p:nvPicPr>
        <p:blipFill>
          <a:blip r:embed="rId4"/>
          <a:stretch/>
        </p:blipFill>
        <p:spPr>
          <a:xfrm>
            <a:off x="1925640" y="2919240"/>
            <a:ext cx="439560" cy="403560"/>
          </a:xfrm>
          <a:prstGeom prst="rect">
            <a:avLst/>
          </a:prstGeom>
          <a:ln w="0">
            <a:noFill/>
          </a:ln>
        </p:spPr>
      </p:pic>
      <p:pic>
        <p:nvPicPr>
          <p:cNvPr id="242" name="Group 51" descr=""/>
          <p:cNvPicPr/>
          <p:nvPr/>
        </p:nvPicPr>
        <p:blipFill>
          <a:blip r:embed="rId5"/>
          <a:stretch/>
        </p:blipFill>
        <p:spPr>
          <a:xfrm>
            <a:off x="1925640" y="633240"/>
            <a:ext cx="439560" cy="403560"/>
          </a:xfrm>
          <a:prstGeom prst="rect">
            <a:avLst/>
          </a:prstGeom>
          <a:ln w="0">
            <a:noFill/>
          </a:ln>
        </p:spPr>
      </p:pic>
      <p:pic>
        <p:nvPicPr>
          <p:cNvPr id="243" name="Group 58" descr=""/>
          <p:cNvPicPr/>
          <p:nvPr/>
        </p:nvPicPr>
        <p:blipFill>
          <a:blip r:embed="rId6"/>
          <a:stretch/>
        </p:blipFill>
        <p:spPr>
          <a:xfrm>
            <a:off x="1925640" y="3833640"/>
            <a:ext cx="439560" cy="403560"/>
          </a:xfrm>
          <a:prstGeom prst="rect">
            <a:avLst/>
          </a:prstGeom>
          <a:ln w="0">
            <a:noFill/>
          </a:ln>
        </p:spPr>
      </p:pic>
      <p:pic>
        <p:nvPicPr>
          <p:cNvPr id="244" name="Group 64" descr=""/>
          <p:cNvPicPr/>
          <p:nvPr/>
        </p:nvPicPr>
        <p:blipFill>
          <a:blip r:embed="rId7"/>
          <a:stretch/>
        </p:blipFill>
        <p:spPr>
          <a:xfrm>
            <a:off x="6040440" y="633240"/>
            <a:ext cx="439560" cy="403560"/>
          </a:xfrm>
          <a:prstGeom prst="rect">
            <a:avLst/>
          </a:prstGeom>
          <a:ln w="0">
            <a:noFill/>
          </a:ln>
        </p:spPr>
      </p:pic>
      <p:pic>
        <p:nvPicPr>
          <p:cNvPr id="245" name="Group 48" descr=""/>
          <p:cNvPicPr/>
          <p:nvPr/>
        </p:nvPicPr>
        <p:blipFill>
          <a:blip r:embed="rId8"/>
          <a:stretch/>
        </p:blipFill>
        <p:spPr>
          <a:xfrm>
            <a:off x="1925640" y="2004840"/>
            <a:ext cx="439560" cy="403560"/>
          </a:xfrm>
          <a:prstGeom prst="rect">
            <a:avLst/>
          </a:prstGeom>
          <a:ln w="0">
            <a:noFill/>
          </a:ln>
        </p:spPr>
      </p:pic>
      <p:grpSp>
        <p:nvGrpSpPr>
          <p:cNvPr id="246" name="Rounded Rectangle 4"/>
          <p:cNvGrpSpPr/>
          <p:nvPr/>
        </p:nvGrpSpPr>
        <p:grpSpPr>
          <a:xfrm>
            <a:off x="927000" y="3230640"/>
            <a:ext cx="2449440" cy="718920"/>
            <a:chOff x="927000" y="3230640"/>
            <a:chExt cx="2449440" cy="718920"/>
          </a:xfrm>
        </p:grpSpPr>
        <p:pic>
          <p:nvPicPr>
            <p:cNvPr id="247" name="Rounded Rectangle 4" descr=""/>
            <p:cNvPicPr/>
            <p:nvPr/>
          </p:nvPicPr>
          <p:blipFill>
            <a:blip r:embed="rId9"/>
            <a:stretch/>
          </p:blipFill>
          <p:spPr>
            <a:xfrm>
              <a:off x="927000" y="3230640"/>
              <a:ext cx="24494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990720" y="3247920"/>
              <a:ext cx="2319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يصادق رئيس الصندوق على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وثائق المشروعات النهائية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9" name="Rounded Rectangle 4"/>
          <p:cNvGrpSpPr/>
          <p:nvPr/>
        </p:nvGrpSpPr>
        <p:grpSpPr>
          <a:xfrm>
            <a:off x="927000" y="4145040"/>
            <a:ext cx="2449440" cy="718920"/>
            <a:chOff x="927000" y="4145040"/>
            <a:chExt cx="2449440" cy="718920"/>
          </a:xfrm>
        </p:grpSpPr>
        <p:pic>
          <p:nvPicPr>
            <p:cNvPr id="250" name="Rounded Rectangle 4" descr=""/>
            <p:cNvPicPr/>
            <p:nvPr/>
          </p:nvPicPr>
          <p:blipFill>
            <a:blip r:embed="rId10"/>
            <a:stretch/>
          </p:blipFill>
          <p:spPr>
            <a:xfrm>
              <a:off x="927000" y="4145040"/>
              <a:ext cx="24494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990720" y="4162320"/>
              <a:ext cx="2319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10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توافق الهيئة على المشروع النهائي حسب القواعد الداخلية الخاصة بها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2" name="Rounded Rectangle 4"/>
          <p:cNvGrpSpPr/>
          <p:nvPr/>
        </p:nvGrpSpPr>
        <p:grpSpPr>
          <a:xfrm>
            <a:off x="927000" y="5138640"/>
            <a:ext cx="2449440" cy="712800"/>
            <a:chOff x="927000" y="5138640"/>
            <a:chExt cx="2449440" cy="712800"/>
          </a:xfrm>
        </p:grpSpPr>
        <p:pic>
          <p:nvPicPr>
            <p:cNvPr id="253" name="Rounded Rectangle 4" descr=""/>
            <p:cNvPicPr/>
            <p:nvPr/>
          </p:nvPicPr>
          <p:blipFill>
            <a:blip r:embed="rId11"/>
            <a:stretch/>
          </p:blipFill>
          <p:spPr>
            <a:xfrm>
              <a:off x="927000" y="5138640"/>
              <a:ext cx="244944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990720" y="5153040"/>
              <a:ext cx="2319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10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تبدأ الهيئة في تنفيذ المشروع حتى إنجازه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5" name="Rounded Rectangle 4"/>
          <p:cNvGrpSpPr/>
          <p:nvPr/>
        </p:nvGrpSpPr>
        <p:grpSpPr>
          <a:xfrm>
            <a:off x="3670200" y="1249200"/>
            <a:ext cx="2449440" cy="1384560"/>
            <a:chOff x="3670200" y="1249200"/>
            <a:chExt cx="2449440" cy="1384560"/>
          </a:xfrm>
        </p:grpSpPr>
        <p:pic>
          <p:nvPicPr>
            <p:cNvPr id="256" name="Rounded Rectangle 4" descr=""/>
            <p:cNvPicPr/>
            <p:nvPr/>
          </p:nvPicPr>
          <p:blipFill>
            <a:blip r:embed="rId12"/>
            <a:stretch/>
          </p:blipFill>
          <p:spPr>
            <a:xfrm>
              <a:off x="3670200" y="1249200"/>
              <a:ext cx="2449440" cy="13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3733920" y="1266840"/>
              <a:ext cx="23191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10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يصادق </a:t>
              </a:r>
              <a:r>
                <a:rPr b="0" lang="ar-SA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 المجلس</a:t>
              </a: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على وثيقة إطار البرنامج من خلال عرض برنامج العمل، ويوافق على نماذج تحديد المشروعات المقدمة مع وثيقة إطار البرنامج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8" name="Rounded Rectangle 4"/>
          <p:cNvGrpSpPr/>
          <p:nvPr/>
        </p:nvGrpSpPr>
        <p:grpSpPr>
          <a:xfrm>
            <a:off x="847800" y="944640"/>
            <a:ext cx="2565360" cy="1122120"/>
            <a:chOff x="847800" y="944640"/>
            <a:chExt cx="2565360" cy="1122120"/>
          </a:xfrm>
        </p:grpSpPr>
        <p:pic>
          <p:nvPicPr>
            <p:cNvPr id="259" name="Rounded Rectangle 4" descr=""/>
            <p:cNvPicPr/>
            <p:nvPr/>
          </p:nvPicPr>
          <p:blipFill>
            <a:blip r:embed="rId13"/>
            <a:stretch/>
          </p:blipFill>
          <p:spPr>
            <a:xfrm>
              <a:off x="847800" y="944640"/>
              <a:ext cx="2565360" cy="11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990720" y="961920"/>
              <a:ext cx="23191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10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يوافق</a:t>
              </a:r>
              <a:r>
                <a:rPr b="0" lang="ar-SA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 المجلس</a:t>
              </a: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على وثيقة إطار البرنامج من خلال عرض برنامج العمل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61" name="Group 58" descr=""/>
          <p:cNvPicPr/>
          <p:nvPr/>
        </p:nvPicPr>
        <p:blipFill>
          <a:blip r:embed="rId14"/>
          <a:stretch/>
        </p:blipFill>
        <p:spPr>
          <a:xfrm>
            <a:off x="1925640" y="4748040"/>
            <a:ext cx="439560" cy="403560"/>
          </a:xfrm>
          <a:prstGeom prst="rect">
            <a:avLst/>
          </a:prstGeom>
          <a:ln w="0">
            <a:noFill/>
          </a:ln>
        </p:spPr>
      </p:pic>
      <p:grpSp>
        <p:nvGrpSpPr>
          <p:cNvPr id="262" name="Rounded Rectangle 4"/>
          <p:cNvGrpSpPr/>
          <p:nvPr/>
        </p:nvGrpSpPr>
        <p:grpSpPr>
          <a:xfrm>
            <a:off x="6400800" y="1328760"/>
            <a:ext cx="2462040" cy="1274760"/>
            <a:chOff x="6400800" y="1328760"/>
            <a:chExt cx="2462040" cy="1274760"/>
          </a:xfrm>
        </p:grpSpPr>
        <p:pic>
          <p:nvPicPr>
            <p:cNvPr id="263" name="Rounded Rectangle 4" descr=""/>
            <p:cNvPicPr/>
            <p:nvPr/>
          </p:nvPicPr>
          <p:blipFill>
            <a:blip r:embed="rId15"/>
            <a:stretch/>
          </p:blipFill>
          <p:spPr>
            <a:xfrm>
              <a:off x="6400800" y="1328760"/>
              <a:ext cx="246204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6477120" y="1343160"/>
              <a:ext cx="2319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10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يوافق</a:t>
              </a:r>
              <a:r>
                <a:rPr b="0" lang="ar-SA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 المجلس</a:t>
              </a: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على مجموعة تالية من نماذج تحديد المشروعات ضمن وثيقة إطار البرنامج من خلال برنامج العمل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65" name="Group 48" descr=""/>
          <p:cNvPicPr/>
          <p:nvPr/>
        </p:nvPicPr>
        <p:blipFill>
          <a:blip r:embed="rId16"/>
          <a:stretch/>
        </p:blipFill>
        <p:spPr>
          <a:xfrm>
            <a:off x="5357880" y="2614680"/>
            <a:ext cx="439560" cy="403200"/>
          </a:xfrm>
          <a:prstGeom prst="rect">
            <a:avLst/>
          </a:prstGeom>
          <a:ln w="0">
            <a:noFill/>
          </a:ln>
        </p:spPr>
      </p:pic>
      <p:pic>
        <p:nvPicPr>
          <p:cNvPr id="266" name="Group 58" descr=""/>
          <p:cNvPicPr/>
          <p:nvPr/>
        </p:nvPicPr>
        <p:blipFill>
          <a:blip r:embed="rId17"/>
          <a:stretch/>
        </p:blipFill>
        <p:spPr>
          <a:xfrm>
            <a:off x="6040440" y="3681360"/>
            <a:ext cx="439560" cy="403200"/>
          </a:xfrm>
          <a:prstGeom prst="rect">
            <a:avLst/>
          </a:prstGeom>
          <a:ln w="0">
            <a:noFill/>
          </a:ln>
        </p:spPr>
      </p:pic>
      <p:grpSp>
        <p:nvGrpSpPr>
          <p:cNvPr id="267" name="Rounded Rectangle 4"/>
          <p:cNvGrpSpPr/>
          <p:nvPr/>
        </p:nvGrpSpPr>
        <p:grpSpPr>
          <a:xfrm>
            <a:off x="5041800" y="3151080"/>
            <a:ext cx="2449440" cy="719280"/>
            <a:chOff x="5041800" y="3151080"/>
            <a:chExt cx="2449440" cy="719280"/>
          </a:xfrm>
        </p:grpSpPr>
        <p:pic>
          <p:nvPicPr>
            <p:cNvPr id="268" name="Rounded Rectangle 4" descr=""/>
            <p:cNvPicPr/>
            <p:nvPr/>
          </p:nvPicPr>
          <p:blipFill>
            <a:blip r:embed="rId18"/>
            <a:stretch/>
          </p:blipFill>
          <p:spPr>
            <a:xfrm>
              <a:off x="5041800" y="3151080"/>
              <a:ext cx="244944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5105520" y="3171960"/>
              <a:ext cx="23191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10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يصادق رئيس الصندوق على وثائق المشروعات النهائية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0" name="Rounded Rectangle 4"/>
          <p:cNvGrpSpPr/>
          <p:nvPr/>
        </p:nvGrpSpPr>
        <p:grpSpPr>
          <a:xfrm>
            <a:off x="5041800" y="4065480"/>
            <a:ext cx="2449440" cy="719280"/>
            <a:chOff x="5041800" y="4065480"/>
            <a:chExt cx="2449440" cy="719280"/>
          </a:xfrm>
        </p:grpSpPr>
        <p:pic>
          <p:nvPicPr>
            <p:cNvPr id="271" name="Rounded Rectangle 4" descr=""/>
            <p:cNvPicPr/>
            <p:nvPr/>
          </p:nvPicPr>
          <p:blipFill>
            <a:blip r:embed="rId19"/>
            <a:stretch/>
          </p:blipFill>
          <p:spPr>
            <a:xfrm>
              <a:off x="5041800" y="4065480"/>
              <a:ext cx="244944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5105520" y="4086360"/>
              <a:ext cx="23191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10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توافق الهيئة على المشروع النهائي حسب القواعد الداخلية الخاصة بها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3" name="Rounded Rectangle 4"/>
          <p:cNvGrpSpPr/>
          <p:nvPr/>
        </p:nvGrpSpPr>
        <p:grpSpPr>
          <a:xfrm>
            <a:off x="5041800" y="5059440"/>
            <a:ext cx="2449440" cy="755640"/>
            <a:chOff x="5041800" y="5059440"/>
            <a:chExt cx="2449440" cy="755640"/>
          </a:xfrm>
        </p:grpSpPr>
        <p:pic>
          <p:nvPicPr>
            <p:cNvPr id="274" name="Rounded Rectangle 4" descr=""/>
            <p:cNvPicPr/>
            <p:nvPr/>
          </p:nvPicPr>
          <p:blipFill>
            <a:blip r:embed="rId20"/>
            <a:stretch/>
          </p:blipFill>
          <p:spPr>
            <a:xfrm>
              <a:off x="5041800" y="5059440"/>
              <a:ext cx="24494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05520" y="5076720"/>
              <a:ext cx="2319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10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تبدأ الهيئة في تنفيذ المشروع حتى إنجازه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76" name="Group 58" descr=""/>
          <p:cNvPicPr/>
          <p:nvPr/>
        </p:nvPicPr>
        <p:blipFill>
          <a:blip r:embed="rId21"/>
          <a:stretch/>
        </p:blipFill>
        <p:spPr>
          <a:xfrm>
            <a:off x="6040440" y="4668840"/>
            <a:ext cx="439560" cy="409680"/>
          </a:xfrm>
          <a:prstGeom prst="rect">
            <a:avLst/>
          </a:prstGeom>
          <a:ln w="0">
            <a:noFill/>
          </a:ln>
        </p:spPr>
      </p:pic>
      <p:pic>
        <p:nvPicPr>
          <p:cNvPr id="277" name="Group 48" descr=""/>
          <p:cNvPicPr/>
          <p:nvPr/>
        </p:nvPicPr>
        <p:blipFill>
          <a:blip r:embed="rId22"/>
          <a:stretch/>
        </p:blipFill>
        <p:spPr>
          <a:xfrm>
            <a:off x="6802560" y="2614680"/>
            <a:ext cx="43956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1523520"/>
            <a:ext cx="784872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558ed5"/>
                </a:solidFill>
                <a:latin typeface="Calibri"/>
                <a:cs typeface="Arial"/>
              </a:rPr>
              <a:t>شكراً على اهتمامكم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موقع الويب الخاص بـصندوق البيئة العالمية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81bd"/>
                </a:solidFill>
                <a:latin typeface="Calibri"/>
                <a:ea typeface="Tahoma"/>
              </a:rPr>
              <a:t>www.thegef.o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58ed5"/>
                </a:solidFill>
                <a:latin typeface="Calibri"/>
                <a:cs typeface="Arial"/>
              </a:rPr>
              <a:t>دورة مشروعات صندوق البيئة العالمي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440" y="20570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دورة مشروعات صندوق البيئة العالمية هي عملية تتضمن العديد من الشركاء في الخط الأمامي:  بلدان، وهيئات تابعة لصندوق البيئة العالمية، وسكرتارية الصندوق، ومجلس الصندوق، وشركاء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هناك شركاء مهمين آخرين يعملون في الخطوط الخلفية: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قيم: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جنب الأموال من أجل المشروعات، كما يلتزم بتقديم وتحويل الأموال؛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هيئة الاستشارية العلمية والفنية: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تقوم بتصفية المشروعات في المراحل الأولى، وتقدم الإرشادات العلمية للمشروع أو البرنامج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كتب التقييم: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يُقيم المشروعات المنجزة والموضوعات المختارة، ويقوم بعمل مراجعة سنوية للأداء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كرتارية الاتفاقيات: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تقدم أيضاً إرشادات وملاحظات بشأن المشروعات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58ed5"/>
                </a:solidFill>
                <a:latin typeface="Calibri"/>
                <a:cs typeface="Arial"/>
              </a:rPr>
              <a:t>من فكرة المشروع إلى طلب التصديق/الموافق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فكرة المشروع ــ بلدان ــ التدريبات الوطنية لصياغة المشروعات (اختياري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صوّر المشروع ــ هيئات ــ نموذج تحديد المشروع ومنحة إعداد المشروع (نماذج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قيام سكرتاري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صندوق البيئة العالمية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 ب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ستعراض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 ومراجع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نموذج تحديد المشروعات ومنحة إعداد المشروعات، وإدراج برنامج العمل، وموافقة المجل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إعداد المشروع ــ هيئ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وثيقة المشروع ــ هيئات ــ مشروع كامل الحجم أو مشروع متوسط الحجم  (الهيئة المنفذة) (نماذج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قيام سكرتاري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صندوق البيئة العالمية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 بمراجعة واستعراض و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مشروعات وتصديق/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موافقة مدير الصندوق، وإحاطة المجل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79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558ed5"/>
                </a:solidFill>
                <a:latin typeface="Calibri"/>
                <a:cs typeface="Arial"/>
              </a:rPr>
              <a:t>سمات دورة المشروعات في إطار العملية الخامسة لتجديد موارد الصندو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621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ُقدم نموذج تحديد المشروع على أساس متجدد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8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شهراً للإعداد بالنسبة للمشروع كامل الحجم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  تبدأ من تاريخ موافقة المجلس على برنامج العمل حتى تصديق رئيس الصندوق على وثيقة المشروع النهائية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2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 شهراً للإعداد بالنسبة للمشروع متوسط الحجم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 تنطبق فقط على المشروعات متوسطة الحجم التي طلبت منحة إعداد؛ وتبدأ من تاريخ الموافقة على نموذج تحديد المشروع من جانب رئيس الصندوق حتى موافقته على الوثيقة النهائية للمشروع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يمكن عرض وثيقة إطار البرنامج للنُهج البرامجية فقط في اجتماعات المجلس المقرر عقدها مرتين في السنة (مايو/أيار ونوفمبر/تشرين الثاني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ar-SA" sz="2800" spc="-1" strike="noStrike">
                <a:solidFill>
                  <a:srgbClr val="558ed5"/>
                </a:solidFill>
                <a:latin typeface="Calibri"/>
                <a:cs typeface="Arial"/>
              </a:rPr>
              <a:t>الخطوة الأولى في دورة مشروعات صندوق البيئة العالمية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خطوات الرئيسية </a:t>
            </a:r>
            <a:r>
              <a:rPr b="1" lang="ar-SA" sz="2400" spc="-1" strike="noStrike">
                <a:solidFill>
                  <a:srgbClr val="558ed5"/>
                </a:solidFill>
                <a:latin typeface="Arial"/>
                <a:cs typeface="Times New Roman"/>
              </a:rPr>
              <a:t>للمشروع كامل الحج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جلس/السكرتاري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موافقة المجلس على برنامج العمل،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وي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ضمن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ذلك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نماذج تحديد المشروعات التي اعتمدها رئيس الصندوق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صديق رئيس الصندوق على وثيقة المشروع النهائي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هيئة صندوق البيئة العالمي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قيام هيئة صندوق البيئة العالمية بالموافقة على المشروع وبدء التنفيذ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إنجاز التنفيذ، والتقييم النهائي، والإقفال المالي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58ed5"/>
                </a:solidFill>
                <a:latin typeface="Calibri"/>
                <a:cs typeface="Arial"/>
              </a:rPr>
              <a:t>الخطوة الثانية في دورة مشروعات صندوق البيئة العالم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خطوات الرئيسية </a:t>
            </a:r>
            <a:r>
              <a:rPr b="0" lang="ar-SA" sz="2400" spc="-1" strike="noStrike">
                <a:solidFill>
                  <a:srgbClr val="558ed5"/>
                </a:solidFill>
                <a:latin typeface="Arial"/>
                <a:cs typeface="Times New Roman"/>
              </a:rPr>
              <a:t>للمشروع متوسط الحجم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وافقة من خطوة واحدة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موافقة رئيس الصندوق على وثيقة المشروع النهائية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وافقة الداخلية لهيئة الصندوق، وبدء التنفي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وافقة من خطوتين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في حالة طلب منحة إعداد المشروع، يتم عرض نموذج تحديد المشروع على رئيس الصندوق للموافقة عليه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وافقة رئيس الصندوق على وثيقة المشروع النهائية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وافقة الداخلية لهيئة الصندوق، وبدء التنفي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itle 1"/>
          <p:cNvSpPr/>
          <p:nvPr/>
        </p:nvSpPr>
        <p:spPr>
          <a:xfrm>
            <a:off x="2209680" y="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58ed5"/>
                </a:solidFill>
                <a:latin typeface="Calibri"/>
                <a:cs typeface="Times New Roman"/>
              </a:rPr>
              <a:t>المشروعات متوسطة الحجم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Content Placeholder 3" descr=""/>
          <p:cNvPicPr/>
          <p:nvPr/>
        </p:nvPicPr>
        <p:blipFill>
          <a:blip r:embed="rId1"/>
          <a:stretch/>
        </p:blipFill>
        <p:spPr>
          <a:xfrm>
            <a:off x="1371600" y="804960"/>
            <a:ext cx="2822400" cy="4522680"/>
          </a:xfrm>
          <a:prstGeom prst="rect">
            <a:avLst/>
          </a:prstGeom>
          <a:ln w="0">
            <a:noFill/>
          </a:ln>
        </p:spPr>
      </p:pic>
      <p:pic>
        <p:nvPicPr>
          <p:cNvPr id="194" name="Diagram 4" descr=""/>
          <p:cNvPicPr/>
          <p:nvPr/>
        </p:nvPicPr>
        <p:blipFill>
          <a:blip r:embed="rId2"/>
          <a:stretch/>
        </p:blipFill>
        <p:spPr>
          <a:xfrm>
            <a:off x="4572000" y="792000"/>
            <a:ext cx="2438280" cy="4535640"/>
          </a:xfrm>
          <a:prstGeom prst="rect">
            <a:avLst/>
          </a:prstGeom>
          <a:ln w="0">
            <a:noFill/>
          </a:ln>
        </p:spPr>
      </p:pic>
      <p:sp>
        <p:nvSpPr>
          <p:cNvPr id="195" name="TextBox 5"/>
          <p:cNvSpPr/>
          <p:nvPr/>
        </p:nvSpPr>
        <p:spPr>
          <a:xfrm>
            <a:off x="152280" y="5486400"/>
            <a:ext cx="495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*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افق هيئة صندوق البيئة العالمية على المشروع متوسط الحجم بعد موافقة رئيس الصندوق على المشروع، ويبدأ التنفي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58ed5"/>
                </a:solidFill>
                <a:latin typeface="Calibri"/>
                <a:cs typeface="Arial"/>
              </a:rPr>
              <a:t>الخطوة الثالثة في دورة مشروعات صندوق البيئة العالمي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النسبة للأنشطة الداعمة (مسارين)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وصول المباشر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(اتباع سياسة الوصول المباشر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يقدم البلد المعني مقترح الهيئة المنفذة للحصول على موافقة رئيس الصندوق عليه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يوقع رئيس الصندوق والبلد المعني على اتفاقية منحة، ويبدأ التنفي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تباع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الإجراءات القائمة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شأن تطبيق منحة الهيئة المنفذة من خلال الهيئات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دم 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هيئة مقترح الهيئة المنفذة للحصول على موافقة رئيس الصندوق عليه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بع الهيئة إجراءات الموافقة الداخلية الخاصة بها، ويبدأ التنفي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6"/>
          <p:cNvSpPr/>
          <p:nvPr/>
        </p:nvSpPr>
        <p:spPr>
          <a:xfrm>
            <a:off x="1371600" y="0"/>
            <a:ext cx="60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58ed5"/>
                </a:solidFill>
                <a:latin typeface="Calibri"/>
                <a:cs typeface="Times New Roman"/>
              </a:rPr>
              <a:t>تسريع وتيرة الأنشطة الداعم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" name="Group 3" descr=""/>
          <p:cNvPicPr/>
          <p:nvPr/>
        </p:nvPicPr>
        <p:blipFill>
          <a:blip r:embed="rId1"/>
          <a:stretch/>
        </p:blipFill>
        <p:spPr>
          <a:xfrm>
            <a:off x="1695600" y="652320"/>
            <a:ext cx="2400120" cy="871560"/>
          </a:xfrm>
          <a:prstGeom prst="rect">
            <a:avLst/>
          </a:prstGeom>
          <a:ln w="0">
            <a:noFill/>
          </a:ln>
        </p:spPr>
      </p:pic>
      <p:grpSp>
        <p:nvGrpSpPr>
          <p:cNvPr id="200" name="Rounded Rectangle 4"/>
          <p:cNvGrpSpPr/>
          <p:nvPr/>
        </p:nvGrpSpPr>
        <p:grpSpPr>
          <a:xfrm>
            <a:off x="1749600" y="3413160"/>
            <a:ext cx="2388960" cy="744480"/>
            <a:chOff x="1749600" y="3413160"/>
            <a:chExt cx="2388960" cy="744480"/>
          </a:xfrm>
        </p:grpSpPr>
        <p:pic>
          <p:nvPicPr>
            <p:cNvPr id="201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1749600" y="3413160"/>
              <a:ext cx="238896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1828800" y="3429000"/>
              <a:ext cx="2243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2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توافق هيئة الصندوق على الهيئة المنفذة بعد موافقة الرئيس***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3" name="Rounded Rectangle 4"/>
          <p:cNvGrpSpPr/>
          <p:nvPr/>
        </p:nvGrpSpPr>
        <p:grpSpPr>
          <a:xfrm>
            <a:off x="1689120" y="4552920"/>
            <a:ext cx="2376360" cy="854280"/>
            <a:chOff x="1689120" y="4552920"/>
            <a:chExt cx="2376360" cy="854280"/>
          </a:xfrm>
        </p:grpSpPr>
        <p:pic>
          <p:nvPicPr>
            <p:cNvPr id="204" name="Rounded Rectangle 4" descr=""/>
            <p:cNvPicPr/>
            <p:nvPr/>
          </p:nvPicPr>
          <p:blipFill>
            <a:blip r:embed="rId3"/>
            <a:stretch/>
          </p:blipFill>
          <p:spPr>
            <a:xfrm>
              <a:off x="1689120" y="4552920"/>
              <a:ext cx="237636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1752480" y="4572000"/>
              <a:ext cx="224316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2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تستكمل الهيئة الوطنية أعمال التنفيذ التي تقوم بها الهيئة المنفذة وترفع تقريراً للاتفاقية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6" name="Rounded Rectangle 4"/>
          <p:cNvGrpSpPr/>
          <p:nvPr/>
        </p:nvGrpSpPr>
        <p:grpSpPr>
          <a:xfrm>
            <a:off x="4462560" y="4552920"/>
            <a:ext cx="2498760" cy="897120"/>
            <a:chOff x="4462560" y="4552920"/>
            <a:chExt cx="2498760" cy="897120"/>
          </a:xfrm>
        </p:grpSpPr>
        <p:pic>
          <p:nvPicPr>
            <p:cNvPr id="207" name="Rounded Rectangle 4" descr=""/>
            <p:cNvPicPr/>
            <p:nvPr/>
          </p:nvPicPr>
          <p:blipFill>
            <a:blip r:embed="rId4"/>
            <a:stretch/>
          </p:blipFill>
          <p:spPr>
            <a:xfrm>
              <a:off x="4462560" y="4552920"/>
              <a:ext cx="249876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4572000" y="4572000"/>
              <a:ext cx="23194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2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تستكمل هيئة الصندوق أعمال التنفيذ التي تقوم بها الهيئة المنفذة، ويرفع البلد المعني تقارير للاتفاقية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" name="Rounded Rectangle 4"/>
          <p:cNvGrpSpPr/>
          <p:nvPr/>
        </p:nvGrpSpPr>
        <p:grpSpPr>
          <a:xfrm>
            <a:off x="4505400" y="3333600"/>
            <a:ext cx="2455920" cy="854280"/>
            <a:chOff x="4505400" y="3333600"/>
            <a:chExt cx="2455920" cy="854280"/>
          </a:xfrm>
        </p:grpSpPr>
        <p:pic>
          <p:nvPicPr>
            <p:cNvPr id="210" name="Rounded Rectangle 4" descr=""/>
            <p:cNvPicPr/>
            <p:nvPr/>
          </p:nvPicPr>
          <p:blipFill>
            <a:blip r:embed="rId5"/>
            <a:stretch/>
          </p:blipFill>
          <p:spPr>
            <a:xfrm>
              <a:off x="4505400" y="3333600"/>
              <a:ext cx="24559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4572000" y="3352680"/>
              <a:ext cx="23194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2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توافق هيئة الصندوق على الهيئة المنفذة بعد موافقة الرئيس***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2" name="Rounded Rectangle 4"/>
          <p:cNvGrpSpPr/>
          <p:nvPr/>
        </p:nvGrpSpPr>
        <p:grpSpPr>
          <a:xfrm>
            <a:off x="4505400" y="2419200"/>
            <a:ext cx="2455920" cy="635040"/>
            <a:chOff x="4505400" y="2419200"/>
            <a:chExt cx="2455920" cy="635040"/>
          </a:xfrm>
        </p:grpSpPr>
        <p:pic>
          <p:nvPicPr>
            <p:cNvPr id="213" name="Rounded Rectangle 4" descr=""/>
            <p:cNvPicPr/>
            <p:nvPr/>
          </p:nvPicPr>
          <p:blipFill>
            <a:blip r:embed="rId6"/>
            <a:stretch/>
          </p:blipFill>
          <p:spPr>
            <a:xfrm>
              <a:off x="4505400" y="2419200"/>
              <a:ext cx="245592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4572000" y="2438280"/>
              <a:ext cx="231948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2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تقدم هيئة الصندوق المقترح  للحصول على موافقة رئيس الصندوق عليه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5" name="Rounded Rectangle 4"/>
          <p:cNvGrpSpPr/>
          <p:nvPr/>
        </p:nvGrpSpPr>
        <p:grpSpPr>
          <a:xfrm>
            <a:off x="4505400" y="1432080"/>
            <a:ext cx="2455920" cy="634680"/>
            <a:chOff x="4505400" y="1432080"/>
            <a:chExt cx="2455920" cy="634680"/>
          </a:xfrm>
        </p:grpSpPr>
        <p:pic>
          <p:nvPicPr>
            <p:cNvPr id="216" name="Rounded Rectangle 4" descr=""/>
            <p:cNvPicPr/>
            <p:nvPr/>
          </p:nvPicPr>
          <p:blipFill>
            <a:blip r:embed="rId7"/>
            <a:stretch/>
          </p:blipFill>
          <p:spPr>
            <a:xfrm>
              <a:off x="4505400" y="1432080"/>
              <a:ext cx="2455920" cy="63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4572000" y="1447920"/>
              <a:ext cx="23194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2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تعرض الهيئة الوطنية مقترح الهيئة المنفذة على هيئة الصندوق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18" name="Group 28" descr=""/>
          <p:cNvPicPr/>
          <p:nvPr/>
        </p:nvPicPr>
        <p:blipFill>
          <a:blip r:embed="rId8"/>
          <a:stretch/>
        </p:blipFill>
        <p:spPr>
          <a:xfrm>
            <a:off x="4516560" y="652320"/>
            <a:ext cx="2396880" cy="792360"/>
          </a:xfrm>
          <a:prstGeom prst="rect">
            <a:avLst/>
          </a:prstGeom>
          <a:ln w="0">
            <a:noFill/>
          </a:ln>
        </p:spPr>
      </p:pic>
      <p:pic>
        <p:nvPicPr>
          <p:cNvPr id="219" name="Group 48" descr=""/>
          <p:cNvPicPr/>
          <p:nvPr/>
        </p:nvPicPr>
        <p:blipFill>
          <a:blip r:embed="rId9"/>
          <a:stretch/>
        </p:blipFill>
        <p:spPr>
          <a:xfrm>
            <a:off x="2687760" y="4170240"/>
            <a:ext cx="415800" cy="432000"/>
          </a:xfrm>
          <a:prstGeom prst="rect">
            <a:avLst/>
          </a:prstGeom>
          <a:ln w="0">
            <a:noFill/>
          </a:ln>
        </p:spPr>
      </p:pic>
      <p:pic>
        <p:nvPicPr>
          <p:cNvPr id="220" name="Group 51" descr=""/>
          <p:cNvPicPr/>
          <p:nvPr/>
        </p:nvPicPr>
        <p:blipFill>
          <a:blip r:embed="rId10"/>
          <a:stretch/>
        </p:blipFill>
        <p:spPr>
          <a:xfrm>
            <a:off x="2687760" y="2567160"/>
            <a:ext cx="493560" cy="583920"/>
          </a:xfrm>
          <a:prstGeom prst="rect">
            <a:avLst/>
          </a:prstGeom>
          <a:ln w="0">
            <a:noFill/>
          </a:ln>
        </p:spPr>
      </p:pic>
      <p:sp>
        <p:nvSpPr>
          <p:cNvPr id="221" name="TextBox 54"/>
          <p:cNvSpPr/>
          <p:nvPr/>
        </p:nvSpPr>
        <p:spPr>
          <a:xfrm>
            <a:off x="533520" y="5410080"/>
            <a:ext cx="620064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  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ع سكرتارية الصندوق إجراءات البنك الدولي عند الموافقة على المقترح مع تحقيق الهدف النهائي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المتمثل في إرسال اتفاقية المنحة للبلد المستفيد والتوقيع عليها من جانب رئيس الصندوق وهذا البلد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2" name="Group 58" descr=""/>
          <p:cNvPicPr/>
          <p:nvPr/>
        </p:nvPicPr>
        <p:blipFill>
          <a:blip r:embed="rId11"/>
          <a:stretch/>
        </p:blipFill>
        <p:spPr>
          <a:xfrm>
            <a:off x="5510160" y="4170240"/>
            <a:ext cx="439920" cy="401760"/>
          </a:xfrm>
          <a:prstGeom prst="rect">
            <a:avLst/>
          </a:prstGeom>
          <a:ln w="0">
            <a:noFill/>
          </a:ln>
        </p:spPr>
      </p:pic>
      <p:pic>
        <p:nvPicPr>
          <p:cNvPr id="223" name="Group 61" descr=""/>
          <p:cNvPicPr/>
          <p:nvPr/>
        </p:nvPicPr>
        <p:blipFill>
          <a:blip r:embed="rId12"/>
          <a:stretch/>
        </p:blipFill>
        <p:spPr>
          <a:xfrm>
            <a:off x="5430960" y="2951280"/>
            <a:ext cx="493560" cy="431640"/>
          </a:xfrm>
          <a:prstGeom prst="rect">
            <a:avLst/>
          </a:prstGeom>
          <a:ln w="0">
            <a:noFill/>
          </a:ln>
        </p:spPr>
      </p:pic>
      <p:pic>
        <p:nvPicPr>
          <p:cNvPr id="224" name="Group 64" descr=""/>
          <p:cNvPicPr/>
          <p:nvPr/>
        </p:nvPicPr>
        <p:blipFill>
          <a:blip r:embed="rId13"/>
          <a:stretch/>
        </p:blipFill>
        <p:spPr>
          <a:xfrm>
            <a:off x="5430960" y="1957320"/>
            <a:ext cx="493560" cy="511200"/>
          </a:xfrm>
          <a:prstGeom prst="rect">
            <a:avLst/>
          </a:prstGeom>
          <a:ln w="0">
            <a:noFill/>
          </a:ln>
        </p:spPr>
      </p:pic>
      <p:grpSp>
        <p:nvGrpSpPr>
          <p:cNvPr id="225" name="Rounded Rectangle 4"/>
          <p:cNvGrpSpPr/>
          <p:nvPr/>
        </p:nvGrpSpPr>
        <p:grpSpPr>
          <a:xfrm>
            <a:off x="1689120" y="1584360"/>
            <a:ext cx="2449440" cy="817560"/>
            <a:chOff x="1689120" y="1584360"/>
            <a:chExt cx="2449440" cy="817560"/>
          </a:xfrm>
        </p:grpSpPr>
        <p:pic>
          <p:nvPicPr>
            <p:cNvPr id="226" name="Rounded Rectangle 4" descr=""/>
            <p:cNvPicPr/>
            <p:nvPr/>
          </p:nvPicPr>
          <p:blipFill>
            <a:blip r:embed="rId14"/>
            <a:stretch/>
          </p:blipFill>
          <p:spPr>
            <a:xfrm>
              <a:off x="1689120" y="1584360"/>
              <a:ext cx="244944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1752480" y="1600200"/>
              <a:ext cx="23194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2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تقدم الهيئة الوطنية مقترح الهيئة المنفذة للحصول على موافقة رئيس الصندوق عليه*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5:24:26Z</dcterms:created>
  <dc:creator>wb155260</dc:creator>
  <dc:description/>
  <dc:language>en-US</dc:language>
  <cp:lastModifiedBy>Lisa</cp:lastModifiedBy>
  <cp:lastPrinted>2011-02-14T18:22:27Z</cp:lastPrinted>
  <dcterms:modified xsi:type="dcterms:W3CDTF">2012-04-22T23:42:05Z</dcterms:modified>
  <cp:revision>257</cp:revision>
  <dc:subject/>
  <dc:title>Slide 1</dc:title>
</cp:coreProperties>
</file>