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502C5CB-1A03-4E0F-B621-FE2DC7CB807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A1AE84E-5827-4BED-9EE6-E4BF535459D7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C92F2A4-6E28-4E68-BE96-13CB0CB6C33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45F-FEA0-4BDA-A0F1-A7810BF0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65E-D764-4782-BCD6-F43E9086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A39-E15F-40CF-9670-D67DFCE0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244-2FB4-4F7E-A380-63536C6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2803-004F-4528-83B6-53CFD5B9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3C2-EE2B-4AAA-A999-05E74E7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33D-ED07-449E-906E-2D7030A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66F-44AB-424B-A166-C2275F0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109-C528-482E-9289-B8402B3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89DA-0A0A-4343-8BB5-C053D67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7395-0974-4A9D-8739-CC1B21AF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EFE-133C-4675-903C-6AA0EEC6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1A7-116F-4664-8642-0041C6A8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8CCD-D21D-4A80-9694-FECCA7B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0C86-780A-412F-8C9E-7FEC0B6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5339-8A57-4FFF-A409-B1F738C1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E2D5-B9EF-46AF-AF4E-47127402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1232-A345-4114-9579-D07A6DE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1023-F399-4817-B4A6-5CF8215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8486-7FE2-42FF-81C6-ACD8B1C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C8D8-CF8E-42B1-8E8E-E0C42955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A2C3-4294-41AB-B59D-DED06705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195-3A74-4FEC-B60D-23AFDC33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677B-7C8E-48A5-B5E3-107B0E3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64EC-ADD4-49CA-B89A-FC0A293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E277-CF84-4F78-8CFB-E9FB3CAF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C6B6-5A6A-4E51-B675-203F4E3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8116-E96E-401E-9F1C-B5CBDECC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904F-A855-44FB-A6CA-02CDE6A2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F2D0-1C37-4B41-A4BC-70C1A7DE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634A-B0C4-4C3F-9E0C-85398A54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3D16-7B80-4476-8EBD-0D0730B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FA2E-7A09-4830-9225-C5669B5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C68-E49C-4C41-9C0D-C4EB3BE7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26FD-3C1A-4C4C-9656-303AD231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38D6-9F56-4349-BB9D-A7FA2B81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E097-948E-493E-ADAB-1FC9EB2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DB29-EA63-444B-94F5-B25223F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0FE1-310A-46E4-B703-AFD3039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0EFA-E97A-4302-8643-D16850D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476E-B6E7-4557-8E6D-8B81EB9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A55E-5B2A-4D4B-BE1B-47A2AD81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8959-591C-49E5-80DE-BDDA09AB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47F-448B-4EFB-A102-C09790C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E00-C828-4279-92D8-A2501BE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61D-D523-4FE7-AA82-55A8BE6B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713-C21C-49D9-9E5C-5EFA5E9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032-6B55-4930-98A1-7D5E085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456E-4DB3-475A-A0F1-41A6AB76D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4204-258E-47F3-9316-4851AC0582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BD04-CC78-46FE-88B6-2200BF26F81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5279-D839-4F9E-A6F9-08D51B4C336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898-7ABF-47D6-ACC2-CC51826A46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E065-7926-4D7D-BF26-B48C9F1A651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62C-910D-4A37-A663-CA584BFADD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41C4-4116-4D45-835F-CF8E1A43C26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3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3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دورة مش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ر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ي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ع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EG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عايير مراجعة المشروعات متوسطة/كاملة الحج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1447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لية البلد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ع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حمله للمسؤ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نافع البيئي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ستراتيجية مجال تركيز صندوق البيئ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زة النسبية لهيئة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فر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افق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ميم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المشروع والتمويل المشترك للمشروع (خط الأسا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صد والتقييم؛ 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د الهيئة على الملاحظات والمراجع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صديق البلد المعني</a:t>
            </a:r>
            <a:br>
              <a:rPr sz="32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ea typeface="Arial"/>
              </a:rPr>
              <a:t>(من جانب 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(نقطة)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مسؤول الاتصال المعني بالعمليات لدى البلد المعني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جب أن يصدق مسؤول</a:t>
            </a:r>
            <a:r>
              <a:rPr b="0" lang="ar-EG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نقطة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تصال المعني بالعمليات على جميع نماذج تحديد المشروعات عند عرضها على الصندوق لاعتمادها (في حالة المشروعات كاملة الحجم) أو الموافقة (في حالة المشروعات المتوسطة الحجم التي تطلب منحة إعدا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مشروعات في مجالات تركيز التنوع البيولوجي وتغير المناخ وتدهور الأراضي قواعد نظام التخصيص الشفاف للموار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نسبة للمشروعات القائمة بذاتها، أتعاب قيمتها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على مبلغ الصندوق المخصص للمشروع (منحة المشروع + منحة إعداد المشروع)*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اين أتعاب الهيئة بالنسبة للنُهج البرامجية حسب نوع الهيئة المقدمة للنُهج البرامج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 تتمتع بموافقة المجلس على المشروعات: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بدون موافقة المجلس على المشروعات: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إلغاء المشروع، يتعين إعادة جميع مبالغ الأتعاب غير المستخدمة أو أية نسبة محددة إلى الصندوق الاستئماني لصندوق البيئة العالمية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إشارة إلى وثيقة مجلس الصندوق، "</a:t>
            </a:r>
            <a:r>
              <a:rPr b="0" i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دوار والميزات النسبية لهيئات صندوق البيئة العالمية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لإرشادات الخاصة بنسب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أتعاب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30/9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إشارة إلى وثيقة مجلس الصندوق، "</a:t>
            </a:r>
            <a:r>
              <a:rPr b="0" i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ترح مراجعة نظام الأتعاب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إرشادات إعادة الأتعاب 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23/8/Rev.1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1500"/>
            </a:b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أتعاب الهيئ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نُهج البرامجية (</a:t>
            </a:r>
            <a:r>
              <a:rPr b="0" lang="ar-SA" sz="3600" spc="-1" strike="noStrike">
                <a:solidFill>
                  <a:srgbClr val="558ed5"/>
                </a:solidFill>
                <a:latin typeface="Calibri"/>
                <a:ea typeface="Arial"/>
              </a:rPr>
              <a:t>1</a:t>
            </a:r>
            <a:r>
              <a:rPr b="0" lang="ar-EG" sz="36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نوعان من النُهج البرامجية حسب نوع هيئة الصندوق المقدمة للبرنامج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تتمتع بموافقة المجلس على المشروعات ــ هيئات الصندوق التي تستوفي معايير سلطة الموافقة المخول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بدون موافقة المجلس على المشروعات ــ هيئات الصندوق التي لا تستوفي هذه المعايير، حيث يمكن عرض هذه البرامج بواسطة هيئة تنسيق برامج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roup 3" descr=""/>
          <p:cNvPicPr/>
          <p:nvPr/>
        </p:nvPicPr>
        <p:blipFill>
          <a:blip r:embed="rId1"/>
          <a:stretch/>
        </p:blipFill>
        <p:spPr>
          <a:xfrm>
            <a:off x="865080" y="189000"/>
            <a:ext cx="27194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37" name="Rounded Rectangle 4"/>
          <p:cNvGrpSpPr/>
          <p:nvPr/>
        </p:nvGrpSpPr>
        <p:grpSpPr>
          <a:xfrm>
            <a:off x="878040" y="2316240"/>
            <a:ext cx="2511360" cy="718920"/>
            <a:chOff x="878040" y="2316240"/>
            <a:chExt cx="2511360" cy="718920"/>
          </a:xfrm>
        </p:grpSpPr>
        <p:pic>
          <p:nvPicPr>
            <p:cNvPr id="238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878040" y="2316240"/>
              <a:ext cx="2511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23335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ات على فرادى نماذج تحديد المشروعات ضمن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Group 28" descr=""/>
          <p:cNvPicPr/>
          <p:nvPr/>
        </p:nvPicPr>
        <p:blipFill>
          <a:blip r:embed="rId3"/>
          <a:stretch/>
        </p:blipFill>
        <p:spPr>
          <a:xfrm>
            <a:off x="5048280" y="195120"/>
            <a:ext cx="2475000" cy="481320"/>
          </a:xfrm>
          <a:prstGeom prst="rect">
            <a:avLst/>
          </a:prstGeom>
          <a:ln w="0">
            <a:noFill/>
          </a:ln>
        </p:spPr>
      </p:pic>
      <p:pic>
        <p:nvPicPr>
          <p:cNvPr id="241" name="Group 48" descr=""/>
          <p:cNvPicPr/>
          <p:nvPr/>
        </p:nvPicPr>
        <p:blipFill>
          <a:blip r:embed="rId4"/>
          <a:stretch/>
        </p:blipFill>
        <p:spPr>
          <a:xfrm>
            <a:off x="1925640" y="2919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51" descr=""/>
          <p:cNvPicPr/>
          <p:nvPr/>
        </p:nvPicPr>
        <p:blipFill>
          <a:blip r:embed="rId5"/>
          <a:stretch/>
        </p:blipFill>
        <p:spPr>
          <a:xfrm>
            <a:off x="19256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3" name="Group 58" descr=""/>
          <p:cNvPicPr/>
          <p:nvPr/>
        </p:nvPicPr>
        <p:blipFill>
          <a:blip r:embed="rId6"/>
          <a:stretch/>
        </p:blipFill>
        <p:spPr>
          <a:xfrm>
            <a:off x="1925640" y="38336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4" name="Group 64" descr=""/>
          <p:cNvPicPr/>
          <p:nvPr/>
        </p:nvPicPr>
        <p:blipFill>
          <a:blip r:embed="rId7"/>
          <a:stretch/>
        </p:blipFill>
        <p:spPr>
          <a:xfrm>
            <a:off x="60404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5" name="Group 48" descr=""/>
          <p:cNvPicPr/>
          <p:nvPr/>
        </p:nvPicPr>
        <p:blipFill>
          <a:blip r:embed="rId8"/>
          <a:stretch/>
        </p:blipFill>
        <p:spPr>
          <a:xfrm>
            <a:off x="1925640" y="20048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46" name="Rounded Rectangle 4"/>
          <p:cNvGrpSpPr/>
          <p:nvPr/>
        </p:nvGrpSpPr>
        <p:grpSpPr>
          <a:xfrm>
            <a:off x="927000" y="3230640"/>
            <a:ext cx="2449440" cy="718920"/>
            <a:chOff x="927000" y="3230640"/>
            <a:chExt cx="2449440" cy="718920"/>
          </a:xfrm>
        </p:grpSpPr>
        <p:pic>
          <p:nvPicPr>
            <p:cNvPr id="247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927000" y="32306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32479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927000" y="4145040"/>
            <a:ext cx="2449440" cy="718920"/>
            <a:chOff x="927000" y="4145040"/>
            <a:chExt cx="2449440" cy="718920"/>
          </a:xfrm>
        </p:grpSpPr>
        <p:pic>
          <p:nvPicPr>
            <p:cNvPr id="250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450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90720" y="41623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927000" y="5138640"/>
            <a:ext cx="2449440" cy="712800"/>
            <a:chOff x="927000" y="5138640"/>
            <a:chExt cx="2449440" cy="712800"/>
          </a:xfrm>
        </p:grpSpPr>
        <p:pic>
          <p:nvPicPr>
            <p:cNvPr id="253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5138640"/>
              <a:ext cx="2449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515304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3670200" y="1249200"/>
            <a:ext cx="2449440" cy="1384560"/>
            <a:chOff x="3670200" y="1249200"/>
            <a:chExt cx="2449440" cy="1384560"/>
          </a:xfrm>
        </p:grpSpPr>
        <p:pic>
          <p:nvPicPr>
            <p:cNvPr id="256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670200" y="1249200"/>
              <a:ext cx="24494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33920" y="126684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، ويوافق على نماذج تحديد المشروعات المقدمة مع وثيقة إطار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Rounded Rectangle 4"/>
          <p:cNvGrpSpPr/>
          <p:nvPr/>
        </p:nvGrpSpPr>
        <p:grpSpPr>
          <a:xfrm>
            <a:off x="847800" y="944640"/>
            <a:ext cx="2565360" cy="1122120"/>
            <a:chOff x="847800" y="944640"/>
            <a:chExt cx="2565360" cy="1122120"/>
          </a:xfrm>
        </p:grpSpPr>
        <p:pic>
          <p:nvPicPr>
            <p:cNvPr id="259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847800" y="944640"/>
              <a:ext cx="2565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90720" y="961920"/>
              <a:ext cx="2319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" name="Group 58" descr=""/>
          <p:cNvPicPr/>
          <p:nvPr/>
        </p:nvPicPr>
        <p:blipFill>
          <a:blip r:embed="rId14"/>
          <a:stretch/>
        </p:blipFill>
        <p:spPr>
          <a:xfrm>
            <a:off x="1925640" y="47480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4"/>
          <p:cNvGrpSpPr/>
          <p:nvPr/>
        </p:nvGrpSpPr>
        <p:grpSpPr>
          <a:xfrm>
            <a:off x="6400800" y="1328760"/>
            <a:ext cx="2462040" cy="1274760"/>
            <a:chOff x="6400800" y="1328760"/>
            <a:chExt cx="2462040" cy="1274760"/>
          </a:xfrm>
        </p:grpSpPr>
        <p:pic>
          <p:nvPicPr>
            <p:cNvPr id="26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00800" y="1328760"/>
              <a:ext cx="24620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477120" y="134316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مجموعة تالية من نماذج تحديد المشروعات ضمن وثيقة إطار البرنامج من خلال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5" name="Group 48" descr=""/>
          <p:cNvPicPr/>
          <p:nvPr/>
        </p:nvPicPr>
        <p:blipFill>
          <a:blip r:embed="rId16"/>
          <a:stretch/>
        </p:blipFill>
        <p:spPr>
          <a:xfrm>
            <a:off x="5357880" y="2614680"/>
            <a:ext cx="43956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8" descr=""/>
          <p:cNvPicPr/>
          <p:nvPr/>
        </p:nvPicPr>
        <p:blipFill>
          <a:blip r:embed="rId17"/>
          <a:stretch/>
        </p:blipFill>
        <p:spPr>
          <a:xfrm>
            <a:off x="6040440" y="3681360"/>
            <a:ext cx="4395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Rounded Rectangle 4"/>
          <p:cNvGrpSpPr/>
          <p:nvPr/>
        </p:nvGrpSpPr>
        <p:grpSpPr>
          <a:xfrm>
            <a:off x="5041800" y="3151080"/>
            <a:ext cx="2449440" cy="719280"/>
            <a:chOff x="5041800" y="3151080"/>
            <a:chExt cx="2449440" cy="719280"/>
          </a:xfrm>
        </p:grpSpPr>
        <p:pic>
          <p:nvPicPr>
            <p:cNvPr id="268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041800" y="31510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05520" y="31719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041800" y="4065480"/>
            <a:ext cx="2449440" cy="719280"/>
            <a:chOff x="5041800" y="4065480"/>
            <a:chExt cx="2449440" cy="719280"/>
          </a:xfrm>
        </p:grpSpPr>
        <p:pic>
          <p:nvPicPr>
            <p:cNvPr id="271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654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05520" y="40863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Rounded Rectangle 4"/>
          <p:cNvGrpSpPr/>
          <p:nvPr/>
        </p:nvGrpSpPr>
        <p:grpSpPr>
          <a:xfrm>
            <a:off x="5041800" y="5059440"/>
            <a:ext cx="2449440" cy="755640"/>
            <a:chOff x="5041800" y="5059440"/>
            <a:chExt cx="2449440" cy="755640"/>
          </a:xfrm>
        </p:grpSpPr>
        <p:pic>
          <p:nvPicPr>
            <p:cNvPr id="274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5059440"/>
              <a:ext cx="2449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05520" y="5076720"/>
              <a:ext cx="231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6" name="Group 58" descr=""/>
          <p:cNvPicPr/>
          <p:nvPr/>
        </p:nvPicPr>
        <p:blipFill>
          <a:blip r:embed="rId21"/>
          <a:stretch/>
        </p:blipFill>
        <p:spPr>
          <a:xfrm>
            <a:off x="6040440" y="4668840"/>
            <a:ext cx="439560" cy="409680"/>
          </a:xfrm>
          <a:prstGeom prst="rect">
            <a:avLst/>
          </a:prstGeom>
          <a:ln w="0">
            <a:noFill/>
          </a:ln>
        </p:spPr>
      </p:pic>
      <p:pic>
        <p:nvPicPr>
          <p:cNvPr id="277" name="Group 48" descr=""/>
          <p:cNvPicPr/>
          <p:nvPr/>
        </p:nvPicPr>
        <p:blipFill>
          <a:blip r:embed="rId22"/>
          <a:stretch/>
        </p:blipFill>
        <p:spPr>
          <a:xfrm>
            <a:off x="6802560" y="2614680"/>
            <a:ext cx="439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Tahoma"/>
              </a:rPr>
              <a:t>www.thegef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ة مشروعات صندوق البيئة العالمية هي عملية تتضمن العديد من الشركاء في الخط الأمامي:  بلدان، وهيئات تابعة لصندوق البيئة العالمية، وسكرتارية الصندوق، ومجلس الصندوق، وشركا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شركاء مهمين آخرين يعملون في الخطوط الخلفية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نب الأموال من أجل المشروعات، كما يلتزم بتقديم وتحويل الأموال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يئة الاستشارية العلمية والفنية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وم بتصفية المشروعات في المراحل الأولى، وتقدم الإرشادات العلمية للمشروع أو البرنامج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 التقي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ُقيم المشروعات المنجزة والموضوعات المختارة، ويقوم بعمل مراجعة سنوية للأداء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كرتارية الاتفاقيات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دم أيضاً إرشادات وملاحظات بشأن المشروع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ن فكرة المشروع إلى طلب التصديق/الموافق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كرة المشروع ــ بلدان ــ التدريبات الوطنية لصياغة المشروعات (اختياري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صوّر المشروع ــ هيئات ــ نموذج تحديد المشروع ومنحة إعداد المشروع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ومراجع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نموذج تحديد المشروعات ومنحة إعداد المشروعات، وإدراج برنامج العمل، وموافق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شروع ــ ه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ثيقة المشروع ــ هيئات ــ مشروع كامل الحجم أو مشروع متوسط الحجم  (الهيئة المنفذة)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راجعة واستعراض و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وتصديق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مدير الصندوق، وإحاط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58ed5"/>
                </a:solidFill>
                <a:latin typeface="Calibri"/>
                <a:cs typeface="Arial"/>
              </a:rPr>
              <a:t>سمات دورة المشروعات في إطار العملية الخامسة لتجديد موارد ال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ُقدم نموذج تحديد المشروع على أساس متجد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شهراً للإعداد بالنسبة للمشروع كامل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تبدأ من تاريخ موافقة المجلس على برنامج العمل حتى تصديق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شهراً للإعداد بالنسبة 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نطبق فقط على المشروعات متوسطة الحجم التي طلبت منحة إعداد؛ وتبدأ من تاريخ الموافقة على نموذج تحديد المشروع من جانب رئيس الصندوق حتى موافقته على الوثيقة النهائية للمشروع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عرض وثيقة إطار البرنامج للنُهج البرامجية فقط في اجتماعات المجلس المقرر عقدها مرتين في السنة (مايو/أيار ونوفمبر/تشرين الثاني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أولى في دورة مشروعات صندوق البيئة العالم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1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كامل 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جلس/السكرتار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المجلس على برنامج العمل،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من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لك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اذج تحديد المشروعات التي اعتمدها رئيس الصندوق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رئيس الصندوق على وثيقة المشروع النه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ئة صندوق البيئة العالم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قيام هيئة صندوق البيئة العالمية بالموافقة على المشروع وبدء التنفيذ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جاز التنفيذ، والتقييم النهائي، والإقفال الما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نية في دورة مشروعات صندوق البيئة العال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0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ة واحد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ت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حالة طلب منحة إعداد المشروع، يتم عرض نموذج تحديد المشروع على رئيس الصندوق للموافقة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220968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مشروعات متوسطة الحج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1371600" y="804960"/>
            <a:ext cx="282240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Diagram 4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2438280" cy="4535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52280" y="54864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ق هيئة صندوق البيئة العالمية على المشروع متوسط الحجم بعد موافقة رئيس الصندوق على المشروع، ويبدأ التنفي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لثة في 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النسبة للأنشطة الداعمة (مساري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صول المباش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تباع سياسة الوصول المباش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دم البلد المعني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وقع رئيس الصندوق والبلد المعني على اتفاقية منحة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تباع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الإجراءات القائم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أن تطبيق منحة الهيئة المنفذة من خلال الهيئ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م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ة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هيئة إجراءات الموافقة الداخلية الخاصة بها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371600" y="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Times New Roman"/>
              </a:rPr>
              <a:t>تسريع وتيرة الأنشطة الداع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Group 3" descr=""/>
          <p:cNvPicPr/>
          <p:nvPr/>
        </p:nvPicPr>
        <p:blipFill>
          <a:blip r:embed="rId1"/>
          <a:stretch/>
        </p:blipFill>
        <p:spPr>
          <a:xfrm>
            <a:off x="1695600" y="652320"/>
            <a:ext cx="24001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4"/>
          <p:cNvGrpSpPr/>
          <p:nvPr/>
        </p:nvGrpSpPr>
        <p:grpSpPr>
          <a:xfrm>
            <a:off x="1749600" y="3413160"/>
            <a:ext cx="2388960" cy="744480"/>
            <a:chOff x="1749600" y="3413160"/>
            <a:chExt cx="2388960" cy="744480"/>
          </a:xfrm>
        </p:grpSpPr>
        <p:pic>
          <p:nvPicPr>
            <p:cNvPr id="201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749600" y="3413160"/>
              <a:ext cx="2388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28800" y="342900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Rounded Rectangle 4"/>
          <p:cNvGrpSpPr/>
          <p:nvPr/>
        </p:nvGrpSpPr>
        <p:grpSpPr>
          <a:xfrm>
            <a:off x="1689120" y="4552920"/>
            <a:ext cx="2376360" cy="854280"/>
            <a:chOff x="1689120" y="4552920"/>
            <a:chExt cx="2376360" cy="854280"/>
          </a:xfrm>
        </p:grpSpPr>
        <p:pic>
          <p:nvPicPr>
            <p:cNvPr id="204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89120" y="4552920"/>
              <a:ext cx="2376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2480" y="4572000"/>
              <a:ext cx="2243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الهيئة الوطنية أعمال التنفيذ التي تقوم بها الهيئة المنفذة وترفع تقريراً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Rounded Rectangle 4"/>
          <p:cNvGrpSpPr/>
          <p:nvPr/>
        </p:nvGrpSpPr>
        <p:grpSpPr>
          <a:xfrm>
            <a:off x="4462560" y="4552920"/>
            <a:ext cx="2498760" cy="897120"/>
            <a:chOff x="4462560" y="4552920"/>
            <a:chExt cx="2498760" cy="897120"/>
          </a:xfrm>
        </p:grpSpPr>
        <p:pic>
          <p:nvPicPr>
            <p:cNvPr id="207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462560" y="4552920"/>
              <a:ext cx="2498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72000" y="45720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هيئة الصندوق أعمال التنفيذ التي تقوم بها الهيئة المنفذة، ويرفع البلد المعني تقارير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Rounded Rectangle 4"/>
          <p:cNvGrpSpPr/>
          <p:nvPr/>
        </p:nvGrpSpPr>
        <p:grpSpPr>
          <a:xfrm>
            <a:off x="4505400" y="3333600"/>
            <a:ext cx="2455920" cy="854280"/>
            <a:chOff x="4505400" y="3333600"/>
            <a:chExt cx="2455920" cy="854280"/>
          </a:xfrm>
        </p:grpSpPr>
        <p:pic>
          <p:nvPicPr>
            <p:cNvPr id="210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333600"/>
              <a:ext cx="2455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0" y="33526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Rounded Rectangle 4"/>
          <p:cNvGrpSpPr/>
          <p:nvPr/>
        </p:nvGrpSpPr>
        <p:grpSpPr>
          <a:xfrm>
            <a:off x="4505400" y="2419200"/>
            <a:ext cx="2455920" cy="635040"/>
            <a:chOff x="4505400" y="2419200"/>
            <a:chExt cx="2455920" cy="635040"/>
          </a:xfrm>
        </p:grpSpPr>
        <p:pic>
          <p:nvPicPr>
            <p:cNvPr id="213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419200"/>
              <a:ext cx="2455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72000" y="24382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هيئة الصندوق المقترح  للحصول على موافقة رئيس الصندوق عليه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Rounded Rectangle 4"/>
          <p:cNvGrpSpPr/>
          <p:nvPr/>
        </p:nvGrpSpPr>
        <p:grpSpPr>
          <a:xfrm>
            <a:off x="4505400" y="1432080"/>
            <a:ext cx="2455920" cy="634680"/>
            <a:chOff x="4505400" y="1432080"/>
            <a:chExt cx="2455920" cy="634680"/>
          </a:xfrm>
        </p:grpSpPr>
        <p:pic>
          <p:nvPicPr>
            <p:cNvPr id="216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432080"/>
              <a:ext cx="245592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14479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عرض الهيئة الوطنية مقترح الهيئة المنفذة على هيئة الصندو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Group 28" descr=""/>
          <p:cNvPicPr/>
          <p:nvPr/>
        </p:nvPicPr>
        <p:blipFill>
          <a:blip r:embed="rId8"/>
          <a:stretch/>
        </p:blipFill>
        <p:spPr>
          <a:xfrm>
            <a:off x="4516560" y="652320"/>
            <a:ext cx="239688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48" descr=""/>
          <p:cNvPicPr/>
          <p:nvPr/>
        </p:nvPicPr>
        <p:blipFill>
          <a:blip r:embed="rId9"/>
          <a:stretch/>
        </p:blipFill>
        <p:spPr>
          <a:xfrm>
            <a:off x="2687760" y="4170240"/>
            <a:ext cx="41580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51" descr=""/>
          <p:cNvPicPr/>
          <p:nvPr/>
        </p:nvPicPr>
        <p:blipFill>
          <a:blip r:embed="rId10"/>
          <a:stretch/>
        </p:blipFill>
        <p:spPr>
          <a:xfrm>
            <a:off x="2687760" y="2567160"/>
            <a:ext cx="493560" cy="583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4"/>
          <p:cNvSpPr/>
          <p:nvPr/>
        </p:nvSpPr>
        <p:spPr>
          <a:xfrm>
            <a:off x="533520" y="5410080"/>
            <a:ext cx="62006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سكرتارية الصندوق إجراءات البنك الدولي عند الموافقة على المقترح مع تحقيق الهدف النهائ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المتمثل في إرسال اتفاقية المنحة للبلد المستفيد والتوقيع عليها من جانب رئيس الصندوق وهذا البلد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Group 58" descr=""/>
          <p:cNvPicPr/>
          <p:nvPr/>
        </p:nvPicPr>
        <p:blipFill>
          <a:blip r:embed="rId11"/>
          <a:stretch/>
        </p:blipFill>
        <p:spPr>
          <a:xfrm>
            <a:off x="5510160" y="4170240"/>
            <a:ext cx="439920" cy="4017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61" descr=""/>
          <p:cNvPicPr/>
          <p:nvPr/>
        </p:nvPicPr>
        <p:blipFill>
          <a:blip r:embed="rId12"/>
          <a:stretch/>
        </p:blipFill>
        <p:spPr>
          <a:xfrm>
            <a:off x="5430960" y="2951280"/>
            <a:ext cx="493560" cy="431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64" descr=""/>
          <p:cNvPicPr/>
          <p:nvPr/>
        </p:nvPicPr>
        <p:blipFill>
          <a:blip r:embed="rId13"/>
          <a:stretch/>
        </p:blipFill>
        <p:spPr>
          <a:xfrm>
            <a:off x="5430960" y="1957320"/>
            <a:ext cx="493560" cy="511200"/>
          </a:xfrm>
          <a:prstGeom prst="rect">
            <a:avLst/>
          </a:prstGeom>
          <a:ln w="0">
            <a:noFill/>
          </a:ln>
        </p:spPr>
      </p:pic>
      <p:grpSp>
        <p:nvGrpSpPr>
          <p:cNvPr id="225" name="Rounded Rectangle 4"/>
          <p:cNvGrpSpPr/>
          <p:nvPr/>
        </p:nvGrpSpPr>
        <p:grpSpPr>
          <a:xfrm>
            <a:off x="1689120" y="1584360"/>
            <a:ext cx="2449440" cy="817560"/>
            <a:chOff x="1689120" y="1584360"/>
            <a:chExt cx="2449440" cy="817560"/>
          </a:xfrm>
        </p:grpSpPr>
        <p:pic>
          <p:nvPicPr>
            <p:cNvPr id="226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584360"/>
              <a:ext cx="2449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52480" y="16002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الهيئة الوطنية مقترح الهيئة المنفذة للحصول على موافقة رئيس الصندوق عليه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Lisa</cp:lastModifiedBy>
  <cp:lastPrinted>2011-02-14T18:22:27Z</cp:lastPrinted>
  <dcterms:modified xsi:type="dcterms:W3CDTF">2012-04-22T23:42:05Z</dcterms:modified>
  <cp:revision>257</cp:revision>
  <dc:subject/>
  <dc:title>Slide 1</dc:title>
</cp:coreProperties>
</file>