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ar-S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C6D2460-3D84-44C7-A177-55267BA8610F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A899CAE-662B-41B8-AB2D-CB3C370C9F93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A581036-BD2A-4C50-934C-095CDDFEBA92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4A1-72AF-416F-9FFB-8E40B404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AA1-665C-44FC-933A-B09894E4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F09-D3AA-4C43-BEF5-19EA6EA1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334-0856-436B-93B7-A6D05203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7DD9-B0E7-4C08-AC3F-3954D36C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49B6-2847-4636-8A0F-0D7E1AC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E939-4448-46EE-B61D-EAD30B9D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E47D-0537-48D1-A0E2-4F2D4604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0528-5A28-4FEF-93C9-1E5F3B08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D79E-03EE-4A6F-ACD6-9505DE79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5127-9D6B-425E-9AAB-260DD459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F06-F1B4-4038-9079-4A25AEC2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242F-635A-4E9B-8769-E6D4480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20A5-A41D-4B08-8DB1-A2F70A6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3793-79AA-4ACD-9784-4553FF83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9237-5B0E-4D46-844F-223AEB60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4DEF-216B-42D2-9438-07D0B08A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5E4ED-935C-4CC2-82E1-DB99C167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3D77B-C66B-4628-BD3B-A6A195AD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670E-8F35-485A-A41A-269C4148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DCCF7-9F6D-439A-A42B-2CFE12B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6345-B549-411D-9959-7696513C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491-7430-4CD3-93B2-20EEDFA1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6BD4-14CB-4421-8A89-E73E199A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E993-877A-42CF-ACCD-BABE35D7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6923-D684-40EC-B218-EF828345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D22D-38F5-4C66-B08B-A62CA42A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0C5B-5D24-47E9-A8F7-98DB3578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B015-B805-462E-9592-6BDD570F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8B0E-B098-4EC8-A979-8E07FA11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EC4D-65DD-437D-BC56-9B94B834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8DC3D-4A38-4970-8E16-A47708B5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AB0FA-BA22-41F7-B545-CC2232C3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D27-BB8B-4A32-9CEE-B823A571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DAC23-87FE-4D04-982D-C86B5B31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09CF4-E5FA-4B56-A214-81798DAE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6D88-DCAC-45F8-9291-A642136C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9183D-EAAF-40E6-8BE9-B4DC4A3C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EE19B-22CA-46CA-8FEC-D89BF0C5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CEC1-638F-4F6F-8ED1-2B4BA3FD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99620-AA66-4791-8220-10407342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8A054-7F4A-41E5-A9DE-5BEE7137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FAF0-224C-4B28-A1D7-42A8192F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363-58F0-4D05-9837-D9148100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803-2855-4A0D-BEB0-8C22BF3A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990-B547-418A-86F1-CE06C60C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FB2-C249-4CCC-A81E-A45EFDE1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533-0042-4D18-AF2D-77667504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5D41-D5FC-45F9-BDAE-101D57A2AE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13C6-2432-49AA-A1BA-1D9F3CDC169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3956-1A29-4511-9CBC-1E67DFFB9A0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ACE5-006D-4B73-913C-FD025F959E7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78CA-708E-46F3-A4D7-3EE4DC78381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1F27-A2C9-4927-9412-89606352B915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CBB8-A67D-4BB6-9455-38EAA5C9F1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4197-4E0E-48A5-B28E-F12B5844BB71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3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23.png"/><Relationship Id="rId18" Type="http://schemas.openxmlformats.org/officeDocument/2006/relationships/image" Target="../media/image30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دورة مش</a:t>
            </a:r>
            <a:r>
              <a:rPr b="1" lang="ar-LB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ر</a:t>
            </a:r>
            <a:r>
              <a:rPr b="1" lang="ar-LB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ي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ع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–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EG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فبراير/شباط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معايير مراجعة المشروعات متوسطة/كاملة الحج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040" y="14479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لية البلد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عن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تحمله للمسؤو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نافع البيئية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ستراتيجية مجال تركيز صندوق البيئة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زة النسبية لهيئة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فر ا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افق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ميم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ويل المشروع والتمويل المشترك للمشروع (خط الأسا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صد والتقييم؛ 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د الهيئة على الملاحظات والمراجع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تصديق البلد المعني</a:t>
            </a:r>
            <a:br>
              <a:rPr sz="32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  <a:ea typeface="Arial"/>
              </a:rPr>
              <a:t>(من جانب </a:t>
            </a:r>
            <a:r>
              <a:rPr b="0" lang="ar-EG" sz="3200" spc="-1" strike="noStrike">
                <a:solidFill>
                  <a:srgbClr val="558ed5"/>
                </a:solidFill>
                <a:latin typeface="Calibri"/>
                <a:ea typeface="Arial"/>
              </a:rPr>
              <a:t>(نقطة)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مسؤول الاتصال المعني بالعمليات لدى البلد المعني</a:t>
            </a:r>
            <a:r>
              <a:rPr b="0" lang="ar-EG" sz="3200" spc="-1" strike="noStrike">
                <a:solidFill>
                  <a:srgbClr val="558ed5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جب أن يصدق مسؤول</a:t>
            </a:r>
            <a:r>
              <a:rPr b="0" lang="ar-EG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نقطة)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تصال المعني بالعمليات على جميع نماذج تحديد المشروعات عند عرضها على الصندوق لاعتمادها (في حالة المشروعات كاملة الحجم) أو الموافقة (في حالة المشروعات المتوسطة الحجم التي تطلب منحة إعداد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المشروعات في مجالات تركيز التنوع البيولوجي وتغير المناخ وتدهور الأراضي قواعد نظام التخصيص الشفاف للموار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نسبة للمشروعات القائمة بذاتها، أتعاب قيمتها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على مبلغ الصندوق المخصص للمشروع (منحة المشروع + منحة إعداد المشروع)*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اين أتعاب الهيئة بالنسبة للنُهج البرامجية حسب نوع الهيئة المقدمة للنُهج البرامجي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13400" indent="-226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ئات  تتمتع بموافقة المجلس على المشروعات: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13400" indent="-226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ئات بدون موافقة المجلس على المشروعات: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حالة إلغاء المشروع، يتعين إعادة جميع مبالغ الأتعاب غير المستخدمة أو أية نسبة محددة إلى الصندوق الاستئماني لصندوق البيئة العالمية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إشارة إلى وثيقة مجلس الصندوق، "</a:t>
            </a:r>
            <a:r>
              <a:rPr b="0" i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دوار والميزات النسبية لهيئات صندوق البيئة العالمية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بالنسبة للإرشادات الخاصة بنسبة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أتعاب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/C.30/9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إشارة إلى وثيقة مجلس الصندوق، "</a:t>
            </a:r>
            <a:r>
              <a:rPr b="0" i="1" lang="ar-SA" sz="1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ترح مراجعة نظام الأتعاب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بالنسبة لإرشادات إعادة الأتعاب (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/C.23/8/Rev.1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1500"/>
            </a:b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أتعاب الهيئ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النُهج البرامجية (</a:t>
            </a:r>
            <a:r>
              <a:rPr b="0" lang="ar-SA" sz="3600" spc="-1" strike="noStrike">
                <a:solidFill>
                  <a:srgbClr val="558ed5"/>
                </a:solidFill>
                <a:latin typeface="Calibri"/>
                <a:ea typeface="Arial"/>
              </a:rPr>
              <a:t>1</a:t>
            </a:r>
            <a:r>
              <a:rPr b="0" lang="ar-EG" sz="3600" spc="-1" strike="noStrike">
                <a:solidFill>
                  <a:srgbClr val="558ed5"/>
                </a:solidFill>
                <a:latin typeface="Calibri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ناك نوعان من النُهج البرامجية حسب نوع هيئة الصندوق المقدمة للبرنامج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ات تتمتع بموافقة المجلس على المشروعات ــ هيئات الصندوق التي تستوفي معايير سلطة الموافقة المخول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ات بدون موافقة المجلس على المشروعات ــ هيئات الصندوق التي لا تستوفي هذه المعايير، حيث يمكن عرض هذه البرامج بواسطة هيئة تنسيق برامج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Group 3" descr=""/>
          <p:cNvPicPr/>
          <p:nvPr/>
        </p:nvPicPr>
        <p:blipFill>
          <a:blip r:embed="rId1"/>
          <a:stretch/>
        </p:blipFill>
        <p:spPr>
          <a:xfrm>
            <a:off x="865080" y="189000"/>
            <a:ext cx="2719440" cy="585720"/>
          </a:xfrm>
          <a:prstGeom prst="rect">
            <a:avLst/>
          </a:prstGeom>
          <a:ln w="0">
            <a:noFill/>
          </a:ln>
        </p:spPr>
      </p:pic>
      <p:grpSp>
        <p:nvGrpSpPr>
          <p:cNvPr id="237" name="Rounded Rectangle 4"/>
          <p:cNvGrpSpPr/>
          <p:nvPr/>
        </p:nvGrpSpPr>
        <p:grpSpPr>
          <a:xfrm>
            <a:off x="878040" y="2316240"/>
            <a:ext cx="2511360" cy="718920"/>
            <a:chOff x="878040" y="2316240"/>
            <a:chExt cx="2511360" cy="718920"/>
          </a:xfrm>
        </p:grpSpPr>
        <p:pic>
          <p:nvPicPr>
            <p:cNvPr id="238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878040" y="2316240"/>
              <a:ext cx="25113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990720" y="23335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ات على فرادى نماذج تحديد المشروعات ضمن البرنامج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0" name="Group 28" descr=""/>
          <p:cNvPicPr/>
          <p:nvPr/>
        </p:nvPicPr>
        <p:blipFill>
          <a:blip r:embed="rId3"/>
          <a:stretch/>
        </p:blipFill>
        <p:spPr>
          <a:xfrm>
            <a:off x="5048280" y="195120"/>
            <a:ext cx="2475000" cy="481320"/>
          </a:xfrm>
          <a:prstGeom prst="rect">
            <a:avLst/>
          </a:prstGeom>
          <a:ln w="0">
            <a:noFill/>
          </a:ln>
        </p:spPr>
      </p:pic>
      <p:pic>
        <p:nvPicPr>
          <p:cNvPr id="241" name="Group 48" descr=""/>
          <p:cNvPicPr/>
          <p:nvPr/>
        </p:nvPicPr>
        <p:blipFill>
          <a:blip r:embed="rId4"/>
          <a:stretch/>
        </p:blipFill>
        <p:spPr>
          <a:xfrm>
            <a:off x="1925640" y="2919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2" name="Group 51" descr=""/>
          <p:cNvPicPr/>
          <p:nvPr/>
        </p:nvPicPr>
        <p:blipFill>
          <a:blip r:embed="rId5"/>
          <a:stretch/>
        </p:blipFill>
        <p:spPr>
          <a:xfrm>
            <a:off x="1925640" y="633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3" name="Group 58" descr=""/>
          <p:cNvPicPr/>
          <p:nvPr/>
        </p:nvPicPr>
        <p:blipFill>
          <a:blip r:embed="rId6"/>
          <a:stretch/>
        </p:blipFill>
        <p:spPr>
          <a:xfrm>
            <a:off x="1925640" y="38336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4" name="Group 64" descr=""/>
          <p:cNvPicPr/>
          <p:nvPr/>
        </p:nvPicPr>
        <p:blipFill>
          <a:blip r:embed="rId7"/>
          <a:stretch/>
        </p:blipFill>
        <p:spPr>
          <a:xfrm>
            <a:off x="6040440" y="633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5" name="Group 48" descr=""/>
          <p:cNvPicPr/>
          <p:nvPr/>
        </p:nvPicPr>
        <p:blipFill>
          <a:blip r:embed="rId8"/>
          <a:stretch/>
        </p:blipFill>
        <p:spPr>
          <a:xfrm>
            <a:off x="1925640" y="2004840"/>
            <a:ext cx="439560" cy="403560"/>
          </a:xfrm>
          <a:prstGeom prst="rect">
            <a:avLst/>
          </a:prstGeom>
          <a:ln w="0">
            <a:noFill/>
          </a:ln>
        </p:spPr>
      </p:pic>
      <p:grpSp>
        <p:nvGrpSpPr>
          <p:cNvPr id="246" name="Rounded Rectangle 4"/>
          <p:cNvGrpSpPr/>
          <p:nvPr/>
        </p:nvGrpSpPr>
        <p:grpSpPr>
          <a:xfrm>
            <a:off x="927000" y="3230640"/>
            <a:ext cx="2449440" cy="718920"/>
            <a:chOff x="927000" y="3230640"/>
            <a:chExt cx="2449440" cy="718920"/>
          </a:xfrm>
        </p:grpSpPr>
        <p:pic>
          <p:nvPicPr>
            <p:cNvPr id="247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927000" y="3230640"/>
              <a:ext cx="24494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32479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رئيس الصندوق على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وثائق المشروعات النهائية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Rounded Rectangle 4"/>
          <p:cNvGrpSpPr/>
          <p:nvPr/>
        </p:nvGrpSpPr>
        <p:grpSpPr>
          <a:xfrm>
            <a:off x="927000" y="4145040"/>
            <a:ext cx="2449440" cy="718920"/>
            <a:chOff x="927000" y="4145040"/>
            <a:chExt cx="2449440" cy="718920"/>
          </a:xfrm>
        </p:grpSpPr>
        <p:pic>
          <p:nvPicPr>
            <p:cNvPr id="250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45040"/>
              <a:ext cx="24494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990720" y="41623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ة على المشروع النهائي حسب القواعد الداخلية الخاصة بها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" name="Rounded Rectangle 4"/>
          <p:cNvGrpSpPr/>
          <p:nvPr/>
        </p:nvGrpSpPr>
        <p:grpSpPr>
          <a:xfrm>
            <a:off x="927000" y="5138640"/>
            <a:ext cx="2449440" cy="712800"/>
            <a:chOff x="927000" y="5138640"/>
            <a:chExt cx="2449440" cy="712800"/>
          </a:xfrm>
        </p:grpSpPr>
        <p:pic>
          <p:nvPicPr>
            <p:cNvPr id="253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27000" y="5138640"/>
              <a:ext cx="24494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990720" y="515304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بدأ الهيئة في تنفيذ المشروع حتى إنجازه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Rounded Rectangle 4"/>
          <p:cNvGrpSpPr/>
          <p:nvPr/>
        </p:nvGrpSpPr>
        <p:grpSpPr>
          <a:xfrm>
            <a:off x="3670200" y="1249200"/>
            <a:ext cx="2449440" cy="1384560"/>
            <a:chOff x="3670200" y="1249200"/>
            <a:chExt cx="2449440" cy="1384560"/>
          </a:xfrm>
        </p:grpSpPr>
        <p:pic>
          <p:nvPicPr>
            <p:cNvPr id="256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3670200" y="1249200"/>
              <a:ext cx="24494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733920" y="126684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وثيقة إطار البرنامج من خلال عرض برنامج العمل، ويوافق على نماذج تحديد المشروعات المقدمة مع وثيقة إطار البرنامج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8" name="Rounded Rectangle 4"/>
          <p:cNvGrpSpPr/>
          <p:nvPr/>
        </p:nvGrpSpPr>
        <p:grpSpPr>
          <a:xfrm>
            <a:off x="847800" y="944640"/>
            <a:ext cx="2565360" cy="1122120"/>
            <a:chOff x="847800" y="944640"/>
            <a:chExt cx="2565360" cy="1122120"/>
          </a:xfrm>
        </p:grpSpPr>
        <p:pic>
          <p:nvPicPr>
            <p:cNvPr id="259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847800" y="944640"/>
              <a:ext cx="256536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990720" y="961920"/>
              <a:ext cx="2319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وافق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وثيقة إطار البرنامج من خلال عرض برنامج العمل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" name="Group 58" descr=""/>
          <p:cNvPicPr/>
          <p:nvPr/>
        </p:nvPicPr>
        <p:blipFill>
          <a:blip r:embed="rId14"/>
          <a:stretch/>
        </p:blipFill>
        <p:spPr>
          <a:xfrm>
            <a:off x="1925640" y="4748040"/>
            <a:ext cx="439560" cy="4035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4"/>
          <p:cNvGrpSpPr/>
          <p:nvPr/>
        </p:nvGrpSpPr>
        <p:grpSpPr>
          <a:xfrm>
            <a:off x="6400800" y="1328760"/>
            <a:ext cx="2462040" cy="1274760"/>
            <a:chOff x="6400800" y="1328760"/>
            <a:chExt cx="2462040" cy="1274760"/>
          </a:xfrm>
        </p:grpSpPr>
        <p:pic>
          <p:nvPicPr>
            <p:cNvPr id="263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6400800" y="1328760"/>
              <a:ext cx="246204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477120" y="134316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وافق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مجموعة تالية من نماذج تحديد المشروعات ضمن وثيقة إطار البرنامج من خلال برنامج العمل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5" name="Group 48" descr=""/>
          <p:cNvPicPr/>
          <p:nvPr/>
        </p:nvPicPr>
        <p:blipFill>
          <a:blip r:embed="rId16"/>
          <a:stretch/>
        </p:blipFill>
        <p:spPr>
          <a:xfrm>
            <a:off x="5357880" y="2614680"/>
            <a:ext cx="439560" cy="403200"/>
          </a:xfrm>
          <a:prstGeom prst="rect">
            <a:avLst/>
          </a:prstGeom>
          <a:ln w="0">
            <a:noFill/>
          </a:ln>
        </p:spPr>
      </p:pic>
      <p:pic>
        <p:nvPicPr>
          <p:cNvPr id="266" name="Group 58" descr=""/>
          <p:cNvPicPr/>
          <p:nvPr/>
        </p:nvPicPr>
        <p:blipFill>
          <a:blip r:embed="rId17"/>
          <a:stretch/>
        </p:blipFill>
        <p:spPr>
          <a:xfrm>
            <a:off x="6040440" y="3681360"/>
            <a:ext cx="439560" cy="403200"/>
          </a:xfrm>
          <a:prstGeom prst="rect">
            <a:avLst/>
          </a:prstGeom>
          <a:ln w="0">
            <a:noFill/>
          </a:ln>
        </p:spPr>
      </p:pic>
      <p:grpSp>
        <p:nvGrpSpPr>
          <p:cNvPr id="267" name="Rounded Rectangle 4"/>
          <p:cNvGrpSpPr/>
          <p:nvPr/>
        </p:nvGrpSpPr>
        <p:grpSpPr>
          <a:xfrm>
            <a:off x="5041800" y="3151080"/>
            <a:ext cx="2449440" cy="719280"/>
            <a:chOff x="5041800" y="3151080"/>
            <a:chExt cx="2449440" cy="719280"/>
          </a:xfrm>
        </p:grpSpPr>
        <p:pic>
          <p:nvPicPr>
            <p:cNvPr id="268" name="Rounded Rectangle 4" descr=""/>
            <p:cNvPicPr/>
            <p:nvPr/>
          </p:nvPicPr>
          <p:blipFill>
            <a:blip r:embed="rId18"/>
            <a:stretch/>
          </p:blipFill>
          <p:spPr>
            <a:xfrm>
              <a:off x="5041800" y="3151080"/>
              <a:ext cx="2449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05520" y="317196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رئيس الصندوق على وثائق المشروعات النهائية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Rounded Rectangle 4"/>
          <p:cNvGrpSpPr/>
          <p:nvPr/>
        </p:nvGrpSpPr>
        <p:grpSpPr>
          <a:xfrm>
            <a:off x="5041800" y="4065480"/>
            <a:ext cx="2449440" cy="719280"/>
            <a:chOff x="5041800" y="4065480"/>
            <a:chExt cx="2449440" cy="719280"/>
          </a:xfrm>
        </p:grpSpPr>
        <p:pic>
          <p:nvPicPr>
            <p:cNvPr id="271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65480"/>
              <a:ext cx="2449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05520" y="408636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ة على المشروع النهائي حسب القواعد الداخلية الخاصة بها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Rounded Rectangle 4"/>
          <p:cNvGrpSpPr/>
          <p:nvPr/>
        </p:nvGrpSpPr>
        <p:grpSpPr>
          <a:xfrm>
            <a:off x="5041800" y="5059440"/>
            <a:ext cx="2449440" cy="755640"/>
            <a:chOff x="5041800" y="5059440"/>
            <a:chExt cx="2449440" cy="755640"/>
          </a:xfrm>
        </p:grpSpPr>
        <p:pic>
          <p:nvPicPr>
            <p:cNvPr id="274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41800" y="5059440"/>
              <a:ext cx="2449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05520" y="5076720"/>
              <a:ext cx="231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بدأ الهيئة في تنفيذ المشروع حتى إنجازه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6" name="Group 58" descr=""/>
          <p:cNvPicPr/>
          <p:nvPr/>
        </p:nvPicPr>
        <p:blipFill>
          <a:blip r:embed="rId21"/>
          <a:stretch/>
        </p:blipFill>
        <p:spPr>
          <a:xfrm>
            <a:off x="6040440" y="4668840"/>
            <a:ext cx="439560" cy="409680"/>
          </a:xfrm>
          <a:prstGeom prst="rect">
            <a:avLst/>
          </a:prstGeom>
          <a:ln w="0">
            <a:noFill/>
          </a:ln>
        </p:spPr>
      </p:pic>
      <p:pic>
        <p:nvPicPr>
          <p:cNvPr id="277" name="Group 48" descr=""/>
          <p:cNvPicPr/>
          <p:nvPr/>
        </p:nvPicPr>
        <p:blipFill>
          <a:blip r:embed="rId22"/>
          <a:stretch/>
        </p:blipFill>
        <p:spPr>
          <a:xfrm>
            <a:off x="6802560" y="2614680"/>
            <a:ext cx="43956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شكراً على اهتمامك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موقع الويب الخاص بـصندوق البيئة العالمية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  <a:ea typeface="Tahoma"/>
              </a:rPr>
              <a:t>www.thegef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دورة مشروعات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رة مشروعات صندوق البيئة العالمية هي عملية تتضمن العديد من الشركاء في الخط الأمامي:  بلدان، وهيئات تابعة لصندوق البيئة العالمية، وسكرتارية الصندوق، ومجلس الصندوق، وشركاء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هناك شركاء مهمين آخرين يعملون في الخطوط الخلفية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يم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نب الأموال من أجل المشروعات، كما يلتزم بتقديم وتحويل الأموال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يئة الاستشارية العلمية والفنية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وم بتصفية المشروعات في المراحل الأولى، وتقدم الإرشادات العلمية للمشروع أو البرنامج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 التقييم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ُقيم المشروعات المنجزة والموضوعات المختارة، ويقوم بعمل مراجعة سنوية للأداء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كرتارية الاتفاقيات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دم أيضاً إرشادات وملاحظات بشأن المشروعا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من فكرة المشروع إلى طلب التصديق/الموافق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كرة المشروع ــ بلدان ــ التدريبات الوطنية لصياغة المشروعات (اختياري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صوّر المشروع ــ هيئات ــ نموذج تحديد المشروع ومنحة إعداد المشروع (نماذج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سكرت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عراض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ومراجع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نموذج تحديد المشروعات ومنحة إعداد المشروعات، وإدراج برنامج العمل، وموافقة المجل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عداد المشروع ــ ه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ثيقة المشروع ــ هيئات ــ مشروع كامل الحجم أو مشروع متوسط الحجم  (الهيئة المنفذة) (نماذج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سكرت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مراجعة واستعراض و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ات وتصديق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فقة مدير الصندوق، وإحاطة المجل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58ed5"/>
                </a:solidFill>
                <a:latin typeface="Calibri"/>
                <a:cs typeface="Arial"/>
              </a:rPr>
              <a:t>سمات دورة المشروعات في إطار العملية الخامسة لتجديد موارد الصندو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ُقدم نموذج تحديد المشروع على أساس متجد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شهراً للإعداد بالنسبة للمشروع كامل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تبدأ من تاريخ موافقة المجلس على برنامج العمل حتى تصديق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شهراً للإعداد بالنسبة للمشروع متوسط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تنطبق فقط على المشروعات متوسطة الحجم التي طلبت منحة إعداد؛ وتبدأ من تاريخ الموافقة على نموذج تحديد المشروع من جانب رئيس الصندوق حتى موافقته على الوثيقة النهائية للمشروع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عرض وثيقة إطار البرنامج للنُهج البرامجية فقط في اجتماعات المجلس المقرر عقدها مرتين في السنة (مايو/أيار ونوفمبر/تشرين الثاني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أولى في دورة مشروعات صندوق البيئة العالمية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طوات الرئيسية </a:t>
            </a:r>
            <a:r>
              <a:rPr b="1" lang="ar-SA" sz="2400" spc="-1" strike="noStrike">
                <a:solidFill>
                  <a:srgbClr val="558ed5"/>
                </a:solidFill>
                <a:latin typeface="Arial"/>
                <a:cs typeface="Times New Roman"/>
              </a:rPr>
              <a:t>للمشروع كامل الحج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جلس/السكرتار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ة المجلس على برنامج العمل،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و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ضمن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لك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نماذج تحديد المشروعات التي اعتمدها رئيس الصندوق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رئيس الصندوق على وثيقة المشروع النهائ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ئة صندوق البيئة العالم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قيام هيئة صندوق البيئة العالمية بالموافقة على المشروع وبدء التنفيذ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جاز التنفيذ، والتقييم النهائي، والإقفال المال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ثانية في دورة مشروعات صندوق البيئة العال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طوات الرئيسية </a:t>
            </a:r>
            <a:r>
              <a:rPr b="0" lang="ar-SA" sz="2400" spc="-1" strike="noStrike">
                <a:solidFill>
                  <a:srgbClr val="558ed5"/>
                </a:solidFill>
                <a:latin typeface="Arial"/>
                <a:cs typeface="Times New Roman"/>
              </a:rPr>
              <a:t>للمشروع متوسط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افقة من خطوة واحد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ة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فقة الداخلية لهيئة الصندوق، وبدء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افقة من خطوتي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حالة طلب منحة إعداد المشروع، يتم عرض نموذج تحديد المشروع على رئيس الصندوق للموافقة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وافقة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فقة الداخلية لهيئة الصندوق، وبدء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le 1"/>
          <p:cNvSpPr/>
          <p:nvPr/>
        </p:nvSpPr>
        <p:spPr>
          <a:xfrm>
            <a:off x="220968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Times New Roman"/>
              </a:rPr>
              <a:t>المشروعات متوسطة الحج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1371600" y="804960"/>
            <a:ext cx="2822400" cy="4522680"/>
          </a:xfrm>
          <a:prstGeom prst="rect">
            <a:avLst/>
          </a:prstGeom>
          <a:ln w="0">
            <a:noFill/>
          </a:ln>
        </p:spPr>
      </p:pic>
      <p:pic>
        <p:nvPicPr>
          <p:cNvPr id="194" name="Diagram 4" descr=""/>
          <p:cNvPicPr/>
          <p:nvPr/>
        </p:nvPicPr>
        <p:blipFill>
          <a:blip r:embed="rId2"/>
          <a:stretch/>
        </p:blipFill>
        <p:spPr>
          <a:xfrm>
            <a:off x="4572000" y="792000"/>
            <a:ext cx="2438280" cy="4535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152280" y="54864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ق هيئة صندوق البيئة العالمية على المشروع متوسط الحجم بعد موافقة رئيس الصندوق على المشروع، ويبدأ التنفي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ثالثة في دورة مشروعات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النسبة للأنشطة الداعمة (مساري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صول المباش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تباع سياسة الوصول المباشر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قدم البلد المعني مقترح الهيئة المنفذة للحصول على موافقة رئيس الصندوق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وقع رئيس الصندوق والبلد المعني على اتفاقية منحة، ويبدأ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تباع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الإجراءات القائم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أن تطبيق منحة الهيئة المنفذة من خلال الهيئ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دم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ة مقترح الهيئة المنفذة للحصول على موافقة رئيس الصندوق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الهيئة إجراءات الموافقة الداخلية الخاصة بها، ويبدأ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"/>
          <p:cNvSpPr/>
          <p:nvPr/>
        </p:nvSpPr>
        <p:spPr>
          <a:xfrm>
            <a:off x="1371600" y="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Times New Roman"/>
              </a:rPr>
              <a:t>تسريع وتيرة الأنشطة الداعم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Group 3" descr=""/>
          <p:cNvPicPr/>
          <p:nvPr/>
        </p:nvPicPr>
        <p:blipFill>
          <a:blip r:embed="rId1"/>
          <a:stretch/>
        </p:blipFill>
        <p:spPr>
          <a:xfrm>
            <a:off x="1695600" y="652320"/>
            <a:ext cx="2400120" cy="871560"/>
          </a:xfrm>
          <a:prstGeom prst="rect">
            <a:avLst/>
          </a:prstGeom>
          <a:ln w="0">
            <a:noFill/>
          </a:ln>
        </p:spPr>
      </p:pic>
      <p:grpSp>
        <p:nvGrpSpPr>
          <p:cNvPr id="200" name="Rounded Rectangle 4"/>
          <p:cNvGrpSpPr/>
          <p:nvPr/>
        </p:nvGrpSpPr>
        <p:grpSpPr>
          <a:xfrm>
            <a:off x="1749600" y="3413160"/>
            <a:ext cx="2388960" cy="744480"/>
            <a:chOff x="1749600" y="3413160"/>
            <a:chExt cx="2388960" cy="744480"/>
          </a:xfrm>
        </p:grpSpPr>
        <p:pic>
          <p:nvPicPr>
            <p:cNvPr id="201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749600" y="3413160"/>
              <a:ext cx="23889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828800" y="342900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وافق هيئة الصندوق على الهيئة المنفذة بعد موافقة الرئيس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Rounded Rectangle 4"/>
          <p:cNvGrpSpPr/>
          <p:nvPr/>
        </p:nvGrpSpPr>
        <p:grpSpPr>
          <a:xfrm>
            <a:off x="1689120" y="4552920"/>
            <a:ext cx="2376360" cy="854280"/>
            <a:chOff x="1689120" y="4552920"/>
            <a:chExt cx="2376360" cy="854280"/>
          </a:xfrm>
        </p:grpSpPr>
        <p:pic>
          <p:nvPicPr>
            <p:cNvPr id="204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689120" y="4552920"/>
              <a:ext cx="237636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752480" y="4572000"/>
              <a:ext cx="22431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ستكمل الهيئة الوطنية أعمال التنفيذ التي تقوم بها الهيئة المنفذة وترفع تقريراً للاتفاقية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Rounded Rectangle 4"/>
          <p:cNvGrpSpPr/>
          <p:nvPr/>
        </p:nvGrpSpPr>
        <p:grpSpPr>
          <a:xfrm>
            <a:off x="4462560" y="4552920"/>
            <a:ext cx="2498760" cy="897120"/>
            <a:chOff x="4462560" y="4552920"/>
            <a:chExt cx="2498760" cy="897120"/>
          </a:xfrm>
        </p:grpSpPr>
        <p:pic>
          <p:nvPicPr>
            <p:cNvPr id="207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4462560" y="4552920"/>
              <a:ext cx="24987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572000" y="4572000"/>
              <a:ext cx="231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ستكمل هيئة الصندوق أعمال التنفيذ التي تقوم بها الهيئة المنفذة، ويرفع البلد المعني تقارير للاتفاقية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Rounded Rectangle 4"/>
          <p:cNvGrpSpPr/>
          <p:nvPr/>
        </p:nvGrpSpPr>
        <p:grpSpPr>
          <a:xfrm>
            <a:off x="4505400" y="3333600"/>
            <a:ext cx="2455920" cy="854280"/>
            <a:chOff x="4505400" y="3333600"/>
            <a:chExt cx="2455920" cy="854280"/>
          </a:xfrm>
        </p:grpSpPr>
        <p:pic>
          <p:nvPicPr>
            <p:cNvPr id="210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3333600"/>
              <a:ext cx="2455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0" y="335268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وافق هيئة الصندوق على الهيئة المنفذة بعد موافقة الرئيس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Rounded Rectangle 4"/>
          <p:cNvGrpSpPr/>
          <p:nvPr/>
        </p:nvGrpSpPr>
        <p:grpSpPr>
          <a:xfrm>
            <a:off x="4505400" y="2419200"/>
            <a:ext cx="2455920" cy="635040"/>
            <a:chOff x="4505400" y="2419200"/>
            <a:chExt cx="2455920" cy="635040"/>
          </a:xfrm>
        </p:grpSpPr>
        <p:pic>
          <p:nvPicPr>
            <p:cNvPr id="213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2419200"/>
              <a:ext cx="24559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572000" y="24382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دم هيئة الصندوق المقترح  للحصول على موافقة رئيس الصندوق عليه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Rounded Rectangle 4"/>
          <p:cNvGrpSpPr/>
          <p:nvPr/>
        </p:nvGrpSpPr>
        <p:grpSpPr>
          <a:xfrm>
            <a:off x="4505400" y="1432080"/>
            <a:ext cx="2455920" cy="634680"/>
            <a:chOff x="4505400" y="1432080"/>
            <a:chExt cx="2455920" cy="634680"/>
          </a:xfrm>
        </p:grpSpPr>
        <p:pic>
          <p:nvPicPr>
            <p:cNvPr id="216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1432080"/>
              <a:ext cx="245592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1447920"/>
              <a:ext cx="2319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عرض الهيئة الوطنية مقترح الهيئة المنفذة على هيئة الصندو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8" name="Group 28" descr=""/>
          <p:cNvPicPr/>
          <p:nvPr/>
        </p:nvPicPr>
        <p:blipFill>
          <a:blip r:embed="rId8"/>
          <a:stretch/>
        </p:blipFill>
        <p:spPr>
          <a:xfrm>
            <a:off x="4516560" y="652320"/>
            <a:ext cx="2396880" cy="792360"/>
          </a:xfrm>
          <a:prstGeom prst="rect">
            <a:avLst/>
          </a:prstGeom>
          <a:ln w="0">
            <a:noFill/>
          </a:ln>
        </p:spPr>
      </p:pic>
      <p:pic>
        <p:nvPicPr>
          <p:cNvPr id="219" name="Group 48" descr=""/>
          <p:cNvPicPr/>
          <p:nvPr/>
        </p:nvPicPr>
        <p:blipFill>
          <a:blip r:embed="rId9"/>
          <a:stretch/>
        </p:blipFill>
        <p:spPr>
          <a:xfrm>
            <a:off x="2687760" y="4170240"/>
            <a:ext cx="415800" cy="432000"/>
          </a:xfrm>
          <a:prstGeom prst="rect">
            <a:avLst/>
          </a:prstGeom>
          <a:ln w="0">
            <a:noFill/>
          </a:ln>
        </p:spPr>
      </p:pic>
      <p:pic>
        <p:nvPicPr>
          <p:cNvPr id="220" name="Group 51" descr=""/>
          <p:cNvPicPr/>
          <p:nvPr/>
        </p:nvPicPr>
        <p:blipFill>
          <a:blip r:embed="rId10"/>
          <a:stretch/>
        </p:blipFill>
        <p:spPr>
          <a:xfrm>
            <a:off x="2687760" y="2567160"/>
            <a:ext cx="493560" cy="5839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4"/>
          <p:cNvSpPr/>
          <p:nvPr/>
        </p:nvSpPr>
        <p:spPr>
          <a:xfrm>
            <a:off x="533520" y="5410080"/>
            <a:ext cx="62006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سكرتارية الصندوق إجراءات البنك الدولي عند الموافقة على المقترح مع تحقيق الهدف النهائ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المتمثل في إرسال اتفاقية المنحة للبلد المستفيد والتوقيع عليها من جانب رئيس الصندوق وهذا البلد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Group 58" descr=""/>
          <p:cNvPicPr/>
          <p:nvPr/>
        </p:nvPicPr>
        <p:blipFill>
          <a:blip r:embed="rId11"/>
          <a:stretch/>
        </p:blipFill>
        <p:spPr>
          <a:xfrm>
            <a:off x="5510160" y="4170240"/>
            <a:ext cx="439920" cy="4017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61" descr=""/>
          <p:cNvPicPr/>
          <p:nvPr/>
        </p:nvPicPr>
        <p:blipFill>
          <a:blip r:embed="rId12"/>
          <a:stretch/>
        </p:blipFill>
        <p:spPr>
          <a:xfrm>
            <a:off x="5430960" y="2951280"/>
            <a:ext cx="493560" cy="431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64" descr=""/>
          <p:cNvPicPr/>
          <p:nvPr/>
        </p:nvPicPr>
        <p:blipFill>
          <a:blip r:embed="rId13"/>
          <a:stretch/>
        </p:blipFill>
        <p:spPr>
          <a:xfrm>
            <a:off x="5430960" y="1957320"/>
            <a:ext cx="493560" cy="511200"/>
          </a:xfrm>
          <a:prstGeom prst="rect">
            <a:avLst/>
          </a:prstGeom>
          <a:ln w="0">
            <a:noFill/>
          </a:ln>
        </p:spPr>
      </p:pic>
      <p:grpSp>
        <p:nvGrpSpPr>
          <p:cNvPr id="225" name="Rounded Rectangle 4"/>
          <p:cNvGrpSpPr/>
          <p:nvPr/>
        </p:nvGrpSpPr>
        <p:grpSpPr>
          <a:xfrm>
            <a:off x="1689120" y="1584360"/>
            <a:ext cx="2449440" cy="817560"/>
            <a:chOff x="1689120" y="1584360"/>
            <a:chExt cx="2449440" cy="817560"/>
          </a:xfrm>
        </p:grpSpPr>
        <p:pic>
          <p:nvPicPr>
            <p:cNvPr id="226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1689120" y="1584360"/>
              <a:ext cx="24494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52480" y="160020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دم الهيئة الوطنية مقترح الهيئة المنفذة للحصول على موافقة رئيس الصندوق عليه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Lisa</cp:lastModifiedBy>
  <cp:lastPrinted>2011-02-14T18:22:27Z</cp:lastPrinted>
  <dcterms:modified xsi:type="dcterms:W3CDTF">2012-04-22T23:42:05Z</dcterms:modified>
  <cp:revision>257</cp:revision>
  <dc:subject/>
  <dc:title>Slide 1</dc:title>
</cp:coreProperties>
</file>