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2D1664A-F40F-4D9D-AE19-24230F4C0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FA0316E-E7DE-432F-871D-CBA73BEC9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7113180-7DFA-4097-B32E-1E1C13554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392-8ACB-4108-91CD-F60D439C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8CA-6463-4BDF-B86E-108D6E7E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BF7-D53C-4B16-A437-160D79AB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6CE-99D8-4930-B540-0B77AC18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F0DA-1B83-419B-B70E-A5E5B6A6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ED98-B9CE-4344-927A-644CF795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59B8-29C5-4170-904D-C82140C6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41F6-C377-4708-A3C3-9D5B32D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4252-7E90-4E4C-A59E-357CAD3B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59D1-6ED1-492F-8C41-40CE7C55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1C73-9F20-4A59-AB5F-FED5E7F7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8EB-00BC-46DA-AB35-F1ECE995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BECC-0D21-4CCB-A5E0-370715AF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7FBC-78EE-4736-BFF9-1D9B58B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8CB8-B946-41F3-B410-98C9C901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8C06-BE14-4092-A598-1077C156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3AE5-1A5D-4852-9067-27789DBE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652D-DB2B-4BD6-BACE-A319816A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92B5-EDA7-4852-8F71-F86EEFCE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9512-E6C2-400C-B924-2D8C633D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396D-34DA-4B37-B6B4-B4AED387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85C0-8D03-4CF0-9AA4-FDECC47C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F78-047F-4679-922F-E05F23BE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B474-EB38-4F58-9F02-2941436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2B73-67F5-4682-867C-25B979E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85E2-6352-45E4-AD66-44652E3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8FED-ED4D-4191-B830-2D70065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D114-11BD-4533-8E3B-77653AE9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10CD-2311-47A1-80E1-CED7CFA3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A303-4C93-4521-9F54-A6F597CF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BECE-F46A-4E4A-8DB4-637E3564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53495-1E67-437D-BF21-51F68B8C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591E-6BBC-44F5-AF16-6BBAC200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79E-5D02-4C31-97F2-B03BBBCB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939E-86F6-4CA7-8935-01FE5099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64B5-D3C7-45C3-BEBB-AE062D7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214F-F30A-4D79-B15F-7B177DB0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88A2-D996-48B9-8B3E-828A9F6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5215-F9AB-45ED-B53A-C25B2BF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BD68-CD3D-403A-B7CC-C507441C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74919-034B-4FB4-9D9B-1E21FEA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D759-9CC3-42E1-A572-DDF0173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D5F4-C207-4EA0-866C-700D5D63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745-E540-4656-AE89-5098FEF3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FD2-B327-4172-99B6-4BB32DAF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5AE-D287-432B-9C16-1798B66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F9B-9A05-4789-B68C-20A45B2C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83C-0EC6-40EB-B9AE-6CB28B38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EB8-22E1-4BAF-A6AE-86EBFB4D9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5024-F55E-47FF-A6A9-F1A4458D0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8641-94B1-4A42-A495-511DD052703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238E-AC91-4A77-BC6A-4691E23DA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38C-91BF-4075-93F7-8BA991387E6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0781-1ED7-426F-9818-C3BCD5388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E79D-0213-4A07-8808-113A45F4E93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811F-5BB5-411C-908E-484D24BB9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3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23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15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*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oles and Comparative Advantages of the GEF Agenc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  (GEF/C.30/9) for 10% fee guidelines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Group 3" descr=""/>
          <p:cNvPicPr/>
          <p:nvPr/>
        </p:nvPicPr>
        <p:blipFill>
          <a:blip r:embed="rId1"/>
          <a:stretch/>
        </p:blipFill>
        <p:spPr>
          <a:xfrm>
            <a:off x="933480" y="18900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234" name="Rounded Rectangle 4"/>
          <p:cNvGrpSpPr/>
          <p:nvPr/>
        </p:nvGrpSpPr>
        <p:grpSpPr>
          <a:xfrm>
            <a:off x="1000080" y="2498760"/>
            <a:ext cx="2449440" cy="665280"/>
            <a:chOff x="1000080" y="2498760"/>
            <a:chExt cx="2449440" cy="665280"/>
          </a:xfrm>
        </p:grpSpPr>
        <p:pic>
          <p:nvPicPr>
            <p:cNvPr id="235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000080" y="24987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066680" y="25146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7" name="Group 28" descr=""/>
          <p:cNvPicPr/>
          <p:nvPr/>
        </p:nvPicPr>
        <p:blipFill>
          <a:blip r:embed="rId3"/>
          <a:stretch/>
        </p:blipFill>
        <p:spPr>
          <a:xfrm>
            <a:off x="5121360" y="18900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238" name="Group 48" descr=""/>
          <p:cNvPicPr/>
          <p:nvPr/>
        </p:nvPicPr>
        <p:blipFill>
          <a:blip r:embed="rId4"/>
          <a:stretch/>
        </p:blipFill>
        <p:spPr>
          <a:xfrm>
            <a:off x="2000160" y="3097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1" descr=""/>
          <p:cNvPicPr/>
          <p:nvPr/>
        </p:nvPicPr>
        <p:blipFill>
          <a:blip r:embed="rId5"/>
          <a:stretch/>
        </p:blipFill>
        <p:spPr>
          <a:xfrm>
            <a:off x="20001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0" name="Group 58" descr=""/>
          <p:cNvPicPr/>
          <p:nvPr/>
        </p:nvPicPr>
        <p:blipFill>
          <a:blip r:embed="rId6"/>
          <a:stretch/>
        </p:blipFill>
        <p:spPr>
          <a:xfrm>
            <a:off x="2000160" y="40114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1" name="Group 64" descr=""/>
          <p:cNvPicPr/>
          <p:nvPr/>
        </p:nvPicPr>
        <p:blipFill>
          <a:blip r:embed="rId7"/>
          <a:stretch/>
        </p:blipFill>
        <p:spPr>
          <a:xfrm>
            <a:off x="61149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48" descr=""/>
          <p:cNvPicPr/>
          <p:nvPr/>
        </p:nvPicPr>
        <p:blipFill>
          <a:blip r:embed="rId8"/>
          <a:stretch/>
        </p:blipFill>
        <p:spPr>
          <a:xfrm>
            <a:off x="2000160" y="21826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43" name="Rounded Rectangle 4"/>
          <p:cNvGrpSpPr/>
          <p:nvPr/>
        </p:nvGrpSpPr>
        <p:grpSpPr>
          <a:xfrm>
            <a:off x="1000080" y="3413160"/>
            <a:ext cx="2449440" cy="665280"/>
            <a:chOff x="1000080" y="3413160"/>
            <a:chExt cx="2449440" cy="665280"/>
          </a:xfrm>
        </p:grpSpPr>
        <p:pic>
          <p:nvPicPr>
            <p:cNvPr id="244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1000080" y="34131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66680" y="34290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6" name="Rounded Rectangle 4"/>
          <p:cNvGrpSpPr/>
          <p:nvPr/>
        </p:nvGrpSpPr>
        <p:grpSpPr>
          <a:xfrm>
            <a:off x="993600" y="4237200"/>
            <a:ext cx="2517840" cy="779400"/>
            <a:chOff x="993600" y="4237200"/>
            <a:chExt cx="2517840" cy="779400"/>
          </a:xfrm>
        </p:grpSpPr>
        <p:pic>
          <p:nvPicPr>
            <p:cNvPr id="247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93600" y="423720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066680" y="43434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1000080" y="5224320"/>
            <a:ext cx="2449440" cy="779760"/>
            <a:chOff x="1000080" y="5224320"/>
            <a:chExt cx="2449440" cy="779760"/>
          </a:xfrm>
        </p:grpSpPr>
        <p:pic>
          <p:nvPicPr>
            <p:cNvPr id="250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1000080" y="5224320"/>
              <a:ext cx="244944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066680" y="5334120"/>
              <a:ext cx="231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3736800" y="1432080"/>
            <a:ext cx="2505240" cy="1353960"/>
            <a:chOff x="3736800" y="1432080"/>
            <a:chExt cx="2505240" cy="1353960"/>
          </a:xfrm>
        </p:grpSpPr>
        <p:pic>
          <p:nvPicPr>
            <p:cNvPr id="253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736800" y="1432080"/>
              <a:ext cx="25052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809880" y="1447920"/>
              <a:ext cx="23194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1000080" y="1127160"/>
            <a:ext cx="2455920" cy="1122480"/>
            <a:chOff x="1000080" y="1127160"/>
            <a:chExt cx="2455920" cy="1122480"/>
          </a:xfrm>
        </p:grpSpPr>
        <p:pic>
          <p:nvPicPr>
            <p:cNvPr id="256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1000080" y="1127160"/>
              <a:ext cx="2455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066680" y="1143000"/>
              <a:ext cx="23194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8" name="Group 58" descr=""/>
          <p:cNvPicPr/>
          <p:nvPr/>
        </p:nvPicPr>
        <p:blipFill>
          <a:blip r:embed="rId14"/>
          <a:stretch/>
        </p:blipFill>
        <p:spPr>
          <a:xfrm>
            <a:off x="2000160" y="49258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59" name="Rounded Rectangle 4"/>
          <p:cNvGrpSpPr/>
          <p:nvPr/>
        </p:nvGrpSpPr>
        <p:grpSpPr>
          <a:xfrm>
            <a:off x="6486480" y="1504800"/>
            <a:ext cx="2505240" cy="1281240"/>
            <a:chOff x="6486480" y="1504800"/>
            <a:chExt cx="2505240" cy="1281240"/>
          </a:xfrm>
        </p:grpSpPr>
        <p:pic>
          <p:nvPicPr>
            <p:cNvPr id="26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86480" y="1504800"/>
              <a:ext cx="25052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553080" y="1523880"/>
              <a:ext cx="231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2" name="Group 48" descr=""/>
          <p:cNvPicPr/>
          <p:nvPr/>
        </p:nvPicPr>
        <p:blipFill>
          <a:blip r:embed="rId16"/>
          <a:stretch/>
        </p:blipFill>
        <p:spPr>
          <a:xfrm>
            <a:off x="5425920" y="279252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63" name="Group 58" descr=""/>
          <p:cNvPicPr/>
          <p:nvPr/>
        </p:nvPicPr>
        <p:blipFill>
          <a:blip r:embed="rId17"/>
          <a:stretch/>
        </p:blipFill>
        <p:spPr>
          <a:xfrm>
            <a:off x="6114960" y="385920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64" name="Rounded Rectangle 4"/>
          <p:cNvGrpSpPr/>
          <p:nvPr/>
        </p:nvGrpSpPr>
        <p:grpSpPr>
          <a:xfrm>
            <a:off x="5114880" y="3333600"/>
            <a:ext cx="2449440" cy="671760"/>
            <a:chOff x="5114880" y="3333600"/>
            <a:chExt cx="2449440" cy="671760"/>
          </a:xfrm>
        </p:grpSpPr>
        <p:pic>
          <p:nvPicPr>
            <p:cNvPr id="265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114880" y="3333600"/>
              <a:ext cx="244944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181480" y="33526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Rounded Rectangle 4"/>
          <p:cNvGrpSpPr/>
          <p:nvPr/>
        </p:nvGrpSpPr>
        <p:grpSpPr>
          <a:xfrm>
            <a:off x="5108400" y="4164120"/>
            <a:ext cx="2517840" cy="772920"/>
            <a:chOff x="5108400" y="4164120"/>
            <a:chExt cx="2517840" cy="772920"/>
          </a:xfrm>
        </p:grpSpPr>
        <p:pic>
          <p:nvPicPr>
            <p:cNvPr id="268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108400" y="4164120"/>
              <a:ext cx="25178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1480" y="42670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114880" y="5187960"/>
            <a:ext cx="2449440" cy="798480"/>
            <a:chOff x="5114880" y="5187960"/>
            <a:chExt cx="2449440" cy="798480"/>
          </a:xfrm>
        </p:grpSpPr>
        <p:pic>
          <p:nvPicPr>
            <p:cNvPr id="271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114880" y="5187960"/>
              <a:ext cx="2449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81480" y="52578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3" name="Group 58" descr=""/>
          <p:cNvPicPr/>
          <p:nvPr/>
        </p:nvPicPr>
        <p:blipFill>
          <a:blip r:embed="rId21"/>
          <a:stretch/>
        </p:blipFill>
        <p:spPr>
          <a:xfrm>
            <a:off x="6114960" y="48466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74" name="Group 48" descr=""/>
          <p:cNvPicPr/>
          <p:nvPr/>
        </p:nvPicPr>
        <p:blipFill>
          <a:blip r:embed="rId22"/>
          <a:stretch/>
        </p:blipFill>
        <p:spPr>
          <a:xfrm>
            <a:off x="6877080" y="2792520"/>
            <a:ext cx="450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1200240" y="878040"/>
            <a:ext cx="2993760" cy="4529160"/>
          </a:xfrm>
          <a:prstGeom prst="rect">
            <a:avLst/>
          </a:prstGeom>
          <a:ln w="0">
            <a:noFill/>
          </a:ln>
        </p:spPr>
      </p:pic>
      <p:pic>
        <p:nvPicPr>
          <p:cNvPr id="190" name="Diagram 4" descr=""/>
          <p:cNvPicPr/>
          <p:nvPr/>
        </p:nvPicPr>
        <p:blipFill>
          <a:blip r:embed="rId2"/>
          <a:stretch/>
        </p:blipFill>
        <p:spPr>
          <a:xfrm>
            <a:off x="4584600" y="884160"/>
            <a:ext cx="2590920" cy="4516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447920" y="54100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Group 3" descr=""/>
          <p:cNvPicPr/>
          <p:nvPr/>
        </p:nvPicPr>
        <p:blipFill>
          <a:blip r:embed="rId1"/>
          <a:stretch/>
        </p:blipFill>
        <p:spPr>
          <a:xfrm>
            <a:off x="1695600" y="87804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196" name="Rounded Rectangle 4"/>
          <p:cNvGrpSpPr/>
          <p:nvPr/>
        </p:nvGrpSpPr>
        <p:grpSpPr>
          <a:xfrm>
            <a:off x="1689120" y="3638520"/>
            <a:ext cx="2444760" cy="744480"/>
            <a:chOff x="1689120" y="3638520"/>
            <a:chExt cx="2444760" cy="744480"/>
          </a:xfrm>
        </p:grpSpPr>
        <p:pic>
          <p:nvPicPr>
            <p:cNvPr id="197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689120" y="3638520"/>
              <a:ext cx="2444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752480" y="36576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Rounded Rectangle 4"/>
          <p:cNvGrpSpPr/>
          <p:nvPr/>
        </p:nvGrpSpPr>
        <p:grpSpPr>
          <a:xfrm>
            <a:off x="1663560" y="4784760"/>
            <a:ext cx="2481480" cy="847800"/>
            <a:chOff x="1663560" y="4784760"/>
            <a:chExt cx="2481480" cy="847800"/>
          </a:xfrm>
        </p:grpSpPr>
        <p:pic>
          <p:nvPicPr>
            <p:cNvPr id="20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63560" y="4784760"/>
              <a:ext cx="2481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52480" y="4800600"/>
              <a:ext cx="2286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2" name="Rounded Rectangle 4"/>
          <p:cNvGrpSpPr/>
          <p:nvPr/>
        </p:nvGrpSpPr>
        <p:grpSpPr>
          <a:xfrm>
            <a:off x="4505400" y="4784760"/>
            <a:ext cx="2475000" cy="896760"/>
            <a:chOff x="4505400" y="4784760"/>
            <a:chExt cx="2475000" cy="896760"/>
          </a:xfrm>
        </p:grpSpPr>
        <p:pic>
          <p:nvPicPr>
            <p:cNvPr id="203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505400" y="478476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0" y="48006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" name="Rounded Rectangle 4"/>
          <p:cNvGrpSpPr/>
          <p:nvPr/>
        </p:nvGrpSpPr>
        <p:grpSpPr>
          <a:xfrm>
            <a:off x="4505400" y="3565440"/>
            <a:ext cx="2449440" cy="847800"/>
            <a:chOff x="4505400" y="3565440"/>
            <a:chExt cx="2449440" cy="847800"/>
          </a:xfrm>
        </p:grpSpPr>
        <p:pic>
          <p:nvPicPr>
            <p:cNvPr id="206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565440"/>
              <a:ext cx="2449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0" y="35812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8" name="Rounded Rectangle 4"/>
          <p:cNvGrpSpPr/>
          <p:nvPr/>
        </p:nvGrpSpPr>
        <p:grpSpPr>
          <a:xfrm>
            <a:off x="4505400" y="2651040"/>
            <a:ext cx="2455920" cy="622440"/>
            <a:chOff x="4505400" y="2651040"/>
            <a:chExt cx="2455920" cy="622440"/>
          </a:xfrm>
        </p:grpSpPr>
        <p:pic>
          <p:nvPicPr>
            <p:cNvPr id="209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65104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0" y="26668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" name="Rounded Rectangle 4"/>
          <p:cNvGrpSpPr/>
          <p:nvPr/>
        </p:nvGrpSpPr>
        <p:grpSpPr>
          <a:xfrm>
            <a:off x="4505400" y="1657440"/>
            <a:ext cx="2449440" cy="622080"/>
            <a:chOff x="4505400" y="1657440"/>
            <a:chExt cx="2449440" cy="622080"/>
          </a:xfrm>
        </p:grpSpPr>
        <p:pic>
          <p:nvPicPr>
            <p:cNvPr id="212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657440"/>
              <a:ext cx="24494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572000" y="16765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4" name="Group 28" descr=""/>
          <p:cNvPicPr/>
          <p:nvPr/>
        </p:nvPicPr>
        <p:blipFill>
          <a:blip r:embed="rId8"/>
          <a:stretch/>
        </p:blipFill>
        <p:spPr>
          <a:xfrm>
            <a:off x="4511520" y="878040"/>
            <a:ext cx="2401920" cy="792000"/>
          </a:xfrm>
          <a:prstGeom prst="rect">
            <a:avLst/>
          </a:prstGeom>
          <a:ln w="0">
            <a:noFill/>
          </a:ln>
        </p:spPr>
      </p:pic>
      <p:pic>
        <p:nvPicPr>
          <p:cNvPr id="215" name="Group 48" descr=""/>
          <p:cNvPicPr/>
          <p:nvPr/>
        </p:nvPicPr>
        <p:blipFill>
          <a:blip r:embed="rId9"/>
          <a:stretch/>
        </p:blipFill>
        <p:spPr>
          <a:xfrm>
            <a:off x="2682720" y="43894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51" descr=""/>
          <p:cNvPicPr/>
          <p:nvPr/>
        </p:nvPicPr>
        <p:blipFill>
          <a:blip r:embed="rId10"/>
          <a:stretch/>
        </p:blipFill>
        <p:spPr>
          <a:xfrm>
            <a:off x="2682720" y="279252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4"/>
          <p:cNvSpPr/>
          <p:nvPr/>
        </p:nvSpPr>
        <p:spPr>
          <a:xfrm>
            <a:off x="7238880" y="2590920"/>
            <a:ext cx="152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GEF Secretariat will follow the World Bank procedures in approving the  proposal with final target of sending a Grant Agreement to the recipient country and to be signed between CEO and the countr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Group 58" descr=""/>
          <p:cNvPicPr/>
          <p:nvPr/>
        </p:nvPicPr>
        <p:blipFill>
          <a:blip r:embed="rId11"/>
          <a:stretch/>
        </p:blipFill>
        <p:spPr>
          <a:xfrm>
            <a:off x="5505480" y="43894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61" descr=""/>
          <p:cNvPicPr/>
          <p:nvPr/>
        </p:nvPicPr>
        <p:blipFill>
          <a:blip r:embed="rId12"/>
          <a:stretch/>
        </p:blipFill>
        <p:spPr>
          <a:xfrm>
            <a:off x="5425920" y="3170160"/>
            <a:ext cx="50508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64" descr=""/>
          <p:cNvPicPr/>
          <p:nvPr/>
        </p:nvPicPr>
        <p:blipFill>
          <a:blip r:embed="rId13"/>
          <a:stretch/>
        </p:blipFill>
        <p:spPr>
          <a:xfrm>
            <a:off x="5425920" y="2182680"/>
            <a:ext cx="505080" cy="517680"/>
          </a:xfrm>
          <a:prstGeom prst="rect">
            <a:avLst/>
          </a:prstGeom>
          <a:ln w="0">
            <a:noFill/>
          </a:ln>
        </p:spPr>
      </p:pic>
      <p:grpSp>
        <p:nvGrpSpPr>
          <p:cNvPr id="221" name="Rounded Rectangle 4"/>
          <p:cNvGrpSpPr/>
          <p:nvPr/>
        </p:nvGrpSpPr>
        <p:grpSpPr>
          <a:xfrm>
            <a:off x="1689120" y="1809720"/>
            <a:ext cx="2444760" cy="824040"/>
            <a:chOff x="1689120" y="1809720"/>
            <a:chExt cx="2444760" cy="824040"/>
          </a:xfrm>
        </p:grpSpPr>
        <p:pic>
          <p:nvPicPr>
            <p:cNvPr id="222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809720"/>
              <a:ext cx="2444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752480" y="18288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Expedited Enabl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2-04-10T16:55:51Z</dcterms:modified>
  <cp:revision>249</cp:revision>
  <dc:subject/>
  <dc:title>Slide 1</dc:title>
</cp:coreProperties>
</file>