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A513ACE-5FB3-4C63-8C0E-3CAE049E0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0D81D85-5487-4377-97D9-F15688A37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6E34916-E4B0-4B55-A951-E1CC280DB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5CA-5CA9-4C8C-9AEB-EB417270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3B5-F10D-48C8-AB1D-F7BD77F9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C16-0254-4186-9282-69CF16BC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146-B009-4EFF-BE26-5AE4D81E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72FB-3B4C-4720-8FE2-E830B4D1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C560-D6A2-4737-9110-BFDC32B5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B94F-2FB6-46C9-BDAF-78324F0B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B7FD-D263-4560-B72D-A88EE7A1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B711-C671-4D7B-8635-A88FF69B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D1F8-B56B-4873-8F9D-3598201D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B8A6-534E-451F-833A-4752049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236-E199-463A-9F8D-EBC34E10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A318-59A9-4FAA-8D74-10E14D7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10B-6E85-452C-B64D-DB83155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6B84-2F07-4E16-9B5D-D35BC275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EB4B-E93C-4EE3-A394-17EA2A2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9329-54D5-4187-81FB-54AF191A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B4A6-03BF-4FC5-A5A6-BFAF5613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C804-7289-4553-BBE9-7DB75407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FF57-845C-400E-B1E7-A5BA2D84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60B7-5B41-4D59-8C22-F84DD88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EC62-EE06-43E8-BBF9-3523C4AC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E84-34EA-47E1-8813-D5185A6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0231-DA1B-4D93-8CBD-AB8C5DE6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0190-53D2-496A-A5F4-DC658DC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D308-D70D-4B3B-B7AE-CDDF6EA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5E8B-ACF3-41EB-A713-4729B7D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B0A4-2A64-4793-A214-3C62C033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FB86-58B5-472E-809C-4EF0BC46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9828-3A74-4F38-B6B8-4A39EBBC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7753-73FC-41BF-9523-AC5FF4D8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9E72-869C-43F7-8958-D8C64BF5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3A93-38DD-4F1E-8365-37312BFE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54F-65D7-4133-B695-75E22B15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7C3D-1825-4A66-81BE-44A9D776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1BD4-9A3E-4CB6-94BC-A596E36F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52D3-E744-4F60-B011-FD346BCC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09DC-86E8-4F6E-BDFD-6EDBD209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84A0-E3BD-4C04-BB98-2E1F134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3337-7433-4723-8BF6-3C71D25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53966-DF9F-4472-AA9B-AB1757F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4618-1BA1-40D1-9F29-AAC23C3C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0291-9A7E-40BC-AEB5-79A45D0F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F90-2FAA-481B-B5DD-0619B34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3EF-5F2E-4280-B394-0B983413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5CA-F69A-4A57-B037-A61CF1F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813-9376-45E2-A489-E9FD1D7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9E8-9F1D-4B89-A71F-096B341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20B-6E4E-4D11-B78B-F688E145A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F1E7-999B-4B08-BCDC-B99A1B744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0AAB-256D-436A-B014-EAEADDF971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C8A5-9E09-44B0-878E-E8D3CBAAE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54DD-22FF-4B26-8B10-24F8DE22EF9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75A7-5E4D-4803-BD98-749D6EF6A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38D8-48FD-47B2-93F6-3F1C87CB9B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CE3D-22E8-41E9-A8E6-A3C551B71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3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23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15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*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oles and Comparative Advantages of the GEF Agenc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  (GEF/C.30/9) for 10% fee guidelines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Group 3" descr=""/>
          <p:cNvPicPr/>
          <p:nvPr/>
        </p:nvPicPr>
        <p:blipFill>
          <a:blip r:embed="rId1"/>
          <a:stretch/>
        </p:blipFill>
        <p:spPr>
          <a:xfrm>
            <a:off x="933480" y="18900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234" name="Rounded Rectangle 4"/>
          <p:cNvGrpSpPr/>
          <p:nvPr/>
        </p:nvGrpSpPr>
        <p:grpSpPr>
          <a:xfrm>
            <a:off x="1000080" y="2498760"/>
            <a:ext cx="2449440" cy="665280"/>
            <a:chOff x="1000080" y="2498760"/>
            <a:chExt cx="2449440" cy="665280"/>
          </a:xfrm>
        </p:grpSpPr>
        <p:pic>
          <p:nvPicPr>
            <p:cNvPr id="235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000080" y="24987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66680" y="25146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7" name="Group 28" descr=""/>
          <p:cNvPicPr/>
          <p:nvPr/>
        </p:nvPicPr>
        <p:blipFill>
          <a:blip r:embed="rId3"/>
          <a:stretch/>
        </p:blipFill>
        <p:spPr>
          <a:xfrm>
            <a:off x="5121360" y="18900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238" name="Group 48" descr=""/>
          <p:cNvPicPr/>
          <p:nvPr/>
        </p:nvPicPr>
        <p:blipFill>
          <a:blip r:embed="rId4"/>
          <a:stretch/>
        </p:blipFill>
        <p:spPr>
          <a:xfrm>
            <a:off x="2000160" y="3097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1" descr=""/>
          <p:cNvPicPr/>
          <p:nvPr/>
        </p:nvPicPr>
        <p:blipFill>
          <a:blip r:embed="rId5"/>
          <a:stretch/>
        </p:blipFill>
        <p:spPr>
          <a:xfrm>
            <a:off x="20001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0" name="Group 58" descr=""/>
          <p:cNvPicPr/>
          <p:nvPr/>
        </p:nvPicPr>
        <p:blipFill>
          <a:blip r:embed="rId6"/>
          <a:stretch/>
        </p:blipFill>
        <p:spPr>
          <a:xfrm>
            <a:off x="2000160" y="40114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1" name="Group 64" descr=""/>
          <p:cNvPicPr/>
          <p:nvPr/>
        </p:nvPicPr>
        <p:blipFill>
          <a:blip r:embed="rId7"/>
          <a:stretch/>
        </p:blipFill>
        <p:spPr>
          <a:xfrm>
            <a:off x="61149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48" descr=""/>
          <p:cNvPicPr/>
          <p:nvPr/>
        </p:nvPicPr>
        <p:blipFill>
          <a:blip r:embed="rId8"/>
          <a:stretch/>
        </p:blipFill>
        <p:spPr>
          <a:xfrm>
            <a:off x="2000160" y="21826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43" name="Rounded Rectangle 4"/>
          <p:cNvGrpSpPr/>
          <p:nvPr/>
        </p:nvGrpSpPr>
        <p:grpSpPr>
          <a:xfrm>
            <a:off x="1000080" y="3413160"/>
            <a:ext cx="2449440" cy="665280"/>
            <a:chOff x="1000080" y="3413160"/>
            <a:chExt cx="2449440" cy="665280"/>
          </a:xfrm>
        </p:grpSpPr>
        <p:pic>
          <p:nvPicPr>
            <p:cNvPr id="244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000080" y="34131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66680" y="34290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" name="Rounded Rectangle 4"/>
          <p:cNvGrpSpPr/>
          <p:nvPr/>
        </p:nvGrpSpPr>
        <p:grpSpPr>
          <a:xfrm>
            <a:off x="993600" y="4237200"/>
            <a:ext cx="2517840" cy="779400"/>
            <a:chOff x="993600" y="4237200"/>
            <a:chExt cx="2517840" cy="779400"/>
          </a:xfrm>
        </p:grpSpPr>
        <p:pic>
          <p:nvPicPr>
            <p:cNvPr id="247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93600" y="423720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066680" y="43434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1000080" y="5224320"/>
            <a:ext cx="2449440" cy="779760"/>
            <a:chOff x="1000080" y="5224320"/>
            <a:chExt cx="2449440" cy="779760"/>
          </a:xfrm>
        </p:grpSpPr>
        <p:pic>
          <p:nvPicPr>
            <p:cNvPr id="250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1000080" y="5224320"/>
              <a:ext cx="244944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066680" y="5334120"/>
              <a:ext cx="231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3736800" y="1432080"/>
            <a:ext cx="2505240" cy="1353960"/>
            <a:chOff x="3736800" y="1432080"/>
            <a:chExt cx="2505240" cy="1353960"/>
          </a:xfrm>
        </p:grpSpPr>
        <p:pic>
          <p:nvPicPr>
            <p:cNvPr id="253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736800" y="1432080"/>
              <a:ext cx="25052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809880" y="1447920"/>
              <a:ext cx="2319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1000080" y="1127160"/>
            <a:ext cx="2455920" cy="1122480"/>
            <a:chOff x="1000080" y="1127160"/>
            <a:chExt cx="2455920" cy="1122480"/>
          </a:xfrm>
        </p:grpSpPr>
        <p:pic>
          <p:nvPicPr>
            <p:cNvPr id="256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1000080" y="1127160"/>
              <a:ext cx="2455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066680" y="1143000"/>
              <a:ext cx="23194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8" name="Group 58" descr=""/>
          <p:cNvPicPr/>
          <p:nvPr/>
        </p:nvPicPr>
        <p:blipFill>
          <a:blip r:embed="rId14"/>
          <a:stretch/>
        </p:blipFill>
        <p:spPr>
          <a:xfrm>
            <a:off x="2000160" y="49258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59" name="Rounded Rectangle 4"/>
          <p:cNvGrpSpPr/>
          <p:nvPr/>
        </p:nvGrpSpPr>
        <p:grpSpPr>
          <a:xfrm>
            <a:off x="6486480" y="1504800"/>
            <a:ext cx="2505240" cy="1281240"/>
            <a:chOff x="6486480" y="1504800"/>
            <a:chExt cx="2505240" cy="1281240"/>
          </a:xfrm>
        </p:grpSpPr>
        <p:pic>
          <p:nvPicPr>
            <p:cNvPr id="26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86480" y="1504800"/>
              <a:ext cx="2505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53080" y="1523880"/>
              <a:ext cx="231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2" name="Group 48" descr=""/>
          <p:cNvPicPr/>
          <p:nvPr/>
        </p:nvPicPr>
        <p:blipFill>
          <a:blip r:embed="rId16"/>
          <a:stretch/>
        </p:blipFill>
        <p:spPr>
          <a:xfrm>
            <a:off x="5425920" y="279252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63" name="Group 58" descr=""/>
          <p:cNvPicPr/>
          <p:nvPr/>
        </p:nvPicPr>
        <p:blipFill>
          <a:blip r:embed="rId17"/>
          <a:stretch/>
        </p:blipFill>
        <p:spPr>
          <a:xfrm>
            <a:off x="6114960" y="385920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64" name="Rounded Rectangle 4"/>
          <p:cNvGrpSpPr/>
          <p:nvPr/>
        </p:nvGrpSpPr>
        <p:grpSpPr>
          <a:xfrm>
            <a:off x="5114880" y="3333600"/>
            <a:ext cx="2449440" cy="671760"/>
            <a:chOff x="5114880" y="3333600"/>
            <a:chExt cx="2449440" cy="671760"/>
          </a:xfrm>
        </p:grpSpPr>
        <p:pic>
          <p:nvPicPr>
            <p:cNvPr id="265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114880" y="3333600"/>
              <a:ext cx="244944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81480" y="33526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Rounded Rectangle 4"/>
          <p:cNvGrpSpPr/>
          <p:nvPr/>
        </p:nvGrpSpPr>
        <p:grpSpPr>
          <a:xfrm>
            <a:off x="5108400" y="4164120"/>
            <a:ext cx="2517840" cy="772920"/>
            <a:chOff x="5108400" y="4164120"/>
            <a:chExt cx="2517840" cy="772920"/>
          </a:xfrm>
        </p:grpSpPr>
        <p:pic>
          <p:nvPicPr>
            <p:cNvPr id="268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108400" y="4164120"/>
              <a:ext cx="25178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1480" y="42670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114880" y="5187960"/>
            <a:ext cx="2449440" cy="798480"/>
            <a:chOff x="5114880" y="5187960"/>
            <a:chExt cx="2449440" cy="798480"/>
          </a:xfrm>
        </p:grpSpPr>
        <p:pic>
          <p:nvPicPr>
            <p:cNvPr id="271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114880" y="5187960"/>
              <a:ext cx="2449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81480" y="52578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3" name="Group 58" descr=""/>
          <p:cNvPicPr/>
          <p:nvPr/>
        </p:nvPicPr>
        <p:blipFill>
          <a:blip r:embed="rId21"/>
          <a:stretch/>
        </p:blipFill>
        <p:spPr>
          <a:xfrm>
            <a:off x="6114960" y="48466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74" name="Group 48" descr=""/>
          <p:cNvPicPr/>
          <p:nvPr/>
        </p:nvPicPr>
        <p:blipFill>
          <a:blip r:embed="rId22"/>
          <a:stretch/>
        </p:blipFill>
        <p:spPr>
          <a:xfrm>
            <a:off x="6877080" y="2792520"/>
            <a:ext cx="450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1200240" y="878040"/>
            <a:ext cx="2993760" cy="452916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4" descr=""/>
          <p:cNvPicPr/>
          <p:nvPr/>
        </p:nvPicPr>
        <p:blipFill>
          <a:blip r:embed="rId2"/>
          <a:stretch/>
        </p:blipFill>
        <p:spPr>
          <a:xfrm>
            <a:off x="4584600" y="884160"/>
            <a:ext cx="2590920" cy="4516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447920" y="54100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Group 3" descr=""/>
          <p:cNvPicPr/>
          <p:nvPr/>
        </p:nvPicPr>
        <p:blipFill>
          <a:blip r:embed="rId1"/>
          <a:stretch/>
        </p:blipFill>
        <p:spPr>
          <a:xfrm>
            <a:off x="1695600" y="87804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196" name="Rounded Rectangle 4"/>
          <p:cNvGrpSpPr/>
          <p:nvPr/>
        </p:nvGrpSpPr>
        <p:grpSpPr>
          <a:xfrm>
            <a:off x="1689120" y="3638520"/>
            <a:ext cx="2444760" cy="744480"/>
            <a:chOff x="1689120" y="3638520"/>
            <a:chExt cx="2444760" cy="744480"/>
          </a:xfrm>
        </p:grpSpPr>
        <p:pic>
          <p:nvPicPr>
            <p:cNvPr id="197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689120" y="3638520"/>
              <a:ext cx="2444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752480" y="36576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Rounded Rectangle 4"/>
          <p:cNvGrpSpPr/>
          <p:nvPr/>
        </p:nvGrpSpPr>
        <p:grpSpPr>
          <a:xfrm>
            <a:off x="1663560" y="4784760"/>
            <a:ext cx="2481480" cy="847800"/>
            <a:chOff x="1663560" y="4784760"/>
            <a:chExt cx="2481480" cy="847800"/>
          </a:xfrm>
        </p:grpSpPr>
        <p:pic>
          <p:nvPicPr>
            <p:cNvPr id="20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63560" y="4784760"/>
              <a:ext cx="2481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52480" y="4800600"/>
              <a:ext cx="2286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2" name="Rounded Rectangle 4"/>
          <p:cNvGrpSpPr/>
          <p:nvPr/>
        </p:nvGrpSpPr>
        <p:grpSpPr>
          <a:xfrm>
            <a:off x="4505400" y="4784760"/>
            <a:ext cx="2475000" cy="896760"/>
            <a:chOff x="4505400" y="4784760"/>
            <a:chExt cx="2475000" cy="896760"/>
          </a:xfrm>
        </p:grpSpPr>
        <p:pic>
          <p:nvPicPr>
            <p:cNvPr id="203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505400" y="478476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0" y="48006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" name="Rounded Rectangle 4"/>
          <p:cNvGrpSpPr/>
          <p:nvPr/>
        </p:nvGrpSpPr>
        <p:grpSpPr>
          <a:xfrm>
            <a:off x="4505400" y="3565440"/>
            <a:ext cx="2449440" cy="847800"/>
            <a:chOff x="4505400" y="3565440"/>
            <a:chExt cx="2449440" cy="847800"/>
          </a:xfrm>
        </p:grpSpPr>
        <p:pic>
          <p:nvPicPr>
            <p:cNvPr id="206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565440"/>
              <a:ext cx="2449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0" y="35812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Rounded Rectangle 4"/>
          <p:cNvGrpSpPr/>
          <p:nvPr/>
        </p:nvGrpSpPr>
        <p:grpSpPr>
          <a:xfrm>
            <a:off x="4505400" y="2651040"/>
            <a:ext cx="2455920" cy="622440"/>
            <a:chOff x="4505400" y="2651040"/>
            <a:chExt cx="2455920" cy="622440"/>
          </a:xfrm>
        </p:grpSpPr>
        <p:pic>
          <p:nvPicPr>
            <p:cNvPr id="209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65104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0" y="26668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" name="Rounded Rectangle 4"/>
          <p:cNvGrpSpPr/>
          <p:nvPr/>
        </p:nvGrpSpPr>
        <p:grpSpPr>
          <a:xfrm>
            <a:off x="4505400" y="1657440"/>
            <a:ext cx="2449440" cy="622080"/>
            <a:chOff x="4505400" y="1657440"/>
            <a:chExt cx="2449440" cy="622080"/>
          </a:xfrm>
        </p:grpSpPr>
        <p:pic>
          <p:nvPicPr>
            <p:cNvPr id="212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657440"/>
              <a:ext cx="24494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572000" y="16765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4" name="Group 28" descr=""/>
          <p:cNvPicPr/>
          <p:nvPr/>
        </p:nvPicPr>
        <p:blipFill>
          <a:blip r:embed="rId8"/>
          <a:stretch/>
        </p:blipFill>
        <p:spPr>
          <a:xfrm>
            <a:off x="4511520" y="878040"/>
            <a:ext cx="2401920" cy="792000"/>
          </a:xfrm>
          <a:prstGeom prst="rect">
            <a:avLst/>
          </a:prstGeom>
          <a:ln w="0">
            <a:noFill/>
          </a:ln>
        </p:spPr>
      </p:pic>
      <p:pic>
        <p:nvPicPr>
          <p:cNvPr id="215" name="Group 48" descr=""/>
          <p:cNvPicPr/>
          <p:nvPr/>
        </p:nvPicPr>
        <p:blipFill>
          <a:blip r:embed="rId9"/>
          <a:stretch/>
        </p:blipFill>
        <p:spPr>
          <a:xfrm>
            <a:off x="2682720" y="43894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51" descr=""/>
          <p:cNvPicPr/>
          <p:nvPr/>
        </p:nvPicPr>
        <p:blipFill>
          <a:blip r:embed="rId10"/>
          <a:stretch/>
        </p:blipFill>
        <p:spPr>
          <a:xfrm>
            <a:off x="2682720" y="279252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4"/>
          <p:cNvSpPr/>
          <p:nvPr/>
        </p:nvSpPr>
        <p:spPr>
          <a:xfrm>
            <a:off x="7238880" y="2590920"/>
            <a:ext cx="152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GEF Secretariat will follow the World Bank procedures in approving the  proposal with final target of sending a Grant Agreement to the recipient country and to be signed between CEO and the count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Group 58" descr=""/>
          <p:cNvPicPr/>
          <p:nvPr/>
        </p:nvPicPr>
        <p:blipFill>
          <a:blip r:embed="rId11"/>
          <a:stretch/>
        </p:blipFill>
        <p:spPr>
          <a:xfrm>
            <a:off x="5505480" y="43894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61" descr=""/>
          <p:cNvPicPr/>
          <p:nvPr/>
        </p:nvPicPr>
        <p:blipFill>
          <a:blip r:embed="rId12"/>
          <a:stretch/>
        </p:blipFill>
        <p:spPr>
          <a:xfrm>
            <a:off x="5425920" y="3170160"/>
            <a:ext cx="50508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64" descr=""/>
          <p:cNvPicPr/>
          <p:nvPr/>
        </p:nvPicPr>
        <p:blipFill>
          <a:blip r:embed="rId13"/>
          <a:stretch/>
        </p:blipFill>
        <p:spPr>
          <a:xfrm>
            <a:off x="5425920" y="2182680"/>
            <a:ext cx="505080" cy="517680"/>
          </a:xfrm>
          <a:prstGeom prst="rect">
            <a:avLst/>
          </a:prstGeom>
          <a:ln w="0">
            <a:noFill/>
          </a:ln>
        </p:spPr>
      </p:pic>
      <p:grpSp>
        <p:nvGrpSpPr>
          <p:cNvPr id="221" name="Rounded Rectangle 4"/>
          <p:cNvGrpSpPr/>
          <p:nvPr/>
        </p:nvGrpSpPr>
        <p:grpSpPr>
          <a:xfrm>
            <a:off x="1689120" y="1809720"/>
            <a:ext cx="2444760" cy="824040"/>
            <a:chOff x="1689120" y="1809720"/>
            <a:chExt cx="2444760" cy="824040"/>
          </a:xfrm>
        </p:grpSpPr>
        <p:pic>
          <p:nvPicPr>
            <p:cNvPr id="222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809720"/>
              <a:ext cx="2444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752480" y="18288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Expedited Enabl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2-04-10T16:55:51Z</dcterms:modified>
  <cp:revision>249</cp:revision>
  <dc:subject/>
  <dc:title>Slide 1</dc:title>
</cp:coreProperties>
</file>