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0A381AB-A1AF-462D-8D18-FB8ED1E20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8F326FC-38CC-4F91-8DBB-460FCDD66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887C20A-9EBF-412B-90E6-795C86798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DA7-45FB-4804-9FB7-A5C186DB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6A2-18DB-4698-92B6-D1B1901F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3F0-258F-4810-8E86-1B2A69B7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914-8B44-4E4F-9150-084B5442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20A7-F574-4727-88DC-738B5763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EA22-8C0F-46DF-94DF-EEF1316C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ED18-70B7-4052-A04C-DD462E55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6C6B-2D60-4C8C-95E7-B93F708D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70EF-F9AB-4834-91A4-871E5E2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1F22-C04F-47A1-A494-62315735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3DE9-CD65-4EEE-BB4C-7440F65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848-EE7F-4CF5-B0B2-10B88B60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3593-813D-4298-8F0A-8C6FE68E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5C01-2015-430A-98E3-94A2C7FC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D903-0947-46EF-ADEA-F9C9DCE3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BFDC-A054-439D-AF58-E7589803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4FD7-294E-410B-A566-0DBDBE7F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A391-6FCB-453C-865F-EAC6F41C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01CC-6061-4873-809D-433D4708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6D07-66AE-4ACD-A5DE-E8C3E674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A109-F40F-43D9-B8F0-03D9E621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364E-3412-45E8-AB52-E5D326E0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293-4397-4065-8E96-0AAC476C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2B2A-51BD-4CC6-8EE6-D5827C98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D006-DC0C-4CEF-9052-3016921D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E72B-4F61-45F5-91C5-C7D3997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4E82-ED6E-4E8A-8E36-A018FA1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E00B-4A0A-46BC-ADC3-FD93D9A5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B037-3213-46E2-A41E-4B81E598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0312-4991-4EC2-9D94-219E13A3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542E-F271-4A54-88F1-C822E5AF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0342F-7C68-4098-9A66-ACE74C9E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433B-D178-4773-A409-E445BBA4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45C-AB6A-438D-831D-7CAD0333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C1D6-AEB0-445C-8DE4-8E67B534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4B8E-914A-44EC-8E1E-709D1785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C683-4D95-402C-8EBC-D3D04D79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5D28-E8A9-4B39-93DE-CF231B7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FCA5-7739-405A-8C0A-1DFB749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E409-4245-4535-B3CC-B9DC13E2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8128-044F-494C-BD26-EFE82D12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58FCF-321B-4F74-A3B4-1E394B58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0CA71-525B-4DE4-AE84-A5EA8725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260-BF41-4B7E-A83C-BB4056A8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BAD-5397-487B-91B1-F0F156CD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691-DC52-4260-9A14-5188BED0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D6D-C92F-42CC-8916-C8E60A4F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00D-8D4B-4857-B2DA-3E307B0E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4C2E-5A40-40AD-8A52-6974E821B3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8B88-BB9F-4DFB-A9DD-A18613323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EA51-1556-4D61-9B3F-ECBD5673583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8194-61BA-4785-99CD-5FD9FCE88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7D81-9929-4936-B34E-2FE055D6C5D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B8BD-2D09-4A41-99BE-ACCA1FB8F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AE61-13F9-4451-A557-6E3C34804DB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6A3F-F858-4B2E-AFBF-3ED8445B9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3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23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15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*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oles and Comparative Advantages of the GEF Agenc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  (GEF/C.30/9) for 10% fee guidelines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Group 3" descr=""/>
          <p:cNvPicPr/>
          <p:nvPr/>
        </p:nvPicPr>
        <p:blipFill>
          <a:blip r:embed="rId1"/>
          <a:stretch/>
        </p:blipFill>
        <p:spPr>
          <a:xfrm>
            <a:off x="933480" y="18900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234" name="Rounded Rectangle 4"/>
          <p:cNvGrpSpPr/>
          <p:nvPr/>
        </p:nvGrpSpPr>
        <p:grpSpPr>
          <a:xfrm>
            <a:off x="1000080" y="2498760"/>
            <a:ext cx="2449440" cy="665280"/>
            <a:chOff x="1000080" y="2498760"/>
            <a:chExt cx="2449440" cy="665280"/>
          </a:xfrm>
        </p:grpSpPr>
        <p:pic>
          <p:nvPicPr>
            <p:cNvPr id="235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000080" y="24987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066680" y="25146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7" name="Group 28" descr=""/>
          <p:cNvPicPr/>
          <p:nvPr/>
        </p:nvPicPr>
        <p:blipFill>
          <a:blip r:embed="rId3"/>
          <a:stretch/>
        </p:blipFill>
        <p:spPr>
          <a:xfrm>
            <a:off x="5121360" y="18900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238" name="Group 48" descr=""/>
          <p:cNvPicPr/>
          <p:nvPr/>
        </p:nvPicPr>
        <p:blipFill>
          <a:blip r:embed="rId4"/>
          <a:stretch/>
        </p:blipFill>
        <p:spPr>
          <a:xfrm>
            <a:off x="2000160" y="3097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1" descr=""/>
          <p:cNvPicPr/>
          <p:nvPr/>
        </p:nvPicPr>
        <p:blipFill>
          <a:blip r:embed="rId5"/>
          <a:stretch/>
        </p:blipFill>
        <p:spPr>
          <a:xfrm>
            <a:off x="20001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0" name="Group 58" descr=""/>
          <p:cNvPicPr/>
          <p:nvPr/>
        </p:nvPicPr>
        <p:blipFill>
          <a:blip r:embed="rId6"/>
          <a:stretch/>
        </p:blipFill>
        <p:spPr>
          <a:xfrm>
            <a:off x="2000160" y="40114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1" name="Group 64" descr=""/>
          <p:cNvPicPr/>
          <p:nvPr/>
        </p:nvPicPr>
        <p:blipFill>
          <a:blip r:embed="rId7"/>
          <a:stretch/>
        </p:blipFill>
        <p:spPr>
          <a:xfrm>
            <a:off x="61149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48" descr=""/>
          <p:cNvPicPr/>
          <p:nvPr/>
        </p:nvPicPr>
        <p:blipFill>
          <a:blip r:embed="rId8"/>
          <a:stretch/>
        </p:blipFill>
        <p:spPr>
          <a:xfrm>
            <a:off x="2000160" y="21826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43" name="Rounded Rectangle 4"/>
          <p:cNvGrpSpPr/>
          <p:nvPr/>
        </p:nvGrpSpPr>
        <p:grpSpPr>
          <a:xfrm>
            <a:off x="1000080" y="3413160"/>
            <a:ext cx="2449440" cy="665280"/>
            <a:chOff x="1000080" y="3413160"/>
            <a:chExt cx="2449440" cy="665280"/>
          </a:xfrm>
        </p:grpSpPr>
        <p:pic>
          <p:nvPicPr>
            <p:cNvPr id="244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1000080" y="34131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066680" y="34290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6" name="Rounded Rectangle 4"/>
          <p:cNvGrpSpPr/>
          <p:nvPr/>
        </p:nvGrpSpPr>
        <p:grpSpPr>
          <a:xfrm>
            <a:off x="993600" y="4237200"/>
            <a:ext cx="2517840" cy="779400"/>
            <a:chOff x="993600" y="4237200"/>
            <a:chExt cx="2517840" cy="779400"/>
          </a:xfrm>
        </p:grpSpPr>
        <p:pic>
          <p:nvPicPr>
            <p:cNvPr id="247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93600" y="423720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066680" y="43434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1000080" y="5224320"/>
            <a:ext cx="2449440" cy="779760"/>
            <a:chOff x="1000080" y="5224320"/>
            <a:chExt cx="2449440" cy="779760"/>
          </a:xfrm>
        </p:grpSpPr>
        <p:pic>
          <p:nvPicPr>
            <p:cNvPr id="250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1000080" y="5224320"/>
              <a:ext cx="244944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066680" y="5334120"/>
              <a:ext cx="231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3736800" y="1432080"/>
            <a:ext cx="2505240" cy="1353960"/>
            <a:chOff x="3736800" y="1432080"/>
            <a:chExt cx="2505240" cy="1353960"/>
          </a:xfrm>
        </p:grpSpPr>
        <p:pic>
          <p:nvPicPr>
            <p:cNvPr id="253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736800" y="1432080"/>
              <a:ext cx="25052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809880" y="1447920"/>
              <a:ext cx="23194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1000080" y="1127160"/>
            <a:ext cx="2455920" cy="1122480"/>
            <a:chOff x="1000080" y="1127160"/>
            <a:chExt cx="2455920" cy="1122480"/>
          </a:xfrm>
        </p:grpSpPr>
        <p:pic>
          <p:nvPicPr>
            <p:cNvPr id="256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1000080" y="1127160"/>
              <a:ext cx="2455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066680" y="1143000"/>
              <a:ext cx="23194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8" name="Group 58" descr=""/>
          <p:cNvPicPr/>
          <p:nvPr/>
        </p:nvPicPr>
        <p:blipFill>
          <a:blip r:embed="rId14"/>
          <a:stretch/>
        </p:blipFill>
        <p:spPr>
          <a:xfrm>
            <a:off x="2000160" y="49258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59" name="Rounded Rectangle 4"/>
          <p:cNvGrpSpPr/>
          <p:nvPr/>
        </p:nvGrpSpPr>
        <p:grpSpPr>
          <a:xfrm>
            <a:off x="6486480" y="1504800"/>
            <a:ext cx="2505240" cy="1281240"/>
            <a:chOff x="6486480" y="1504800"/>
            <a:chExt cx="2505240" cy="1281240"/>
          </a:xfrm>
        </p:grpSpPr>
        <p:pic>
          <p:nvPicPr>
            <p:cNvPr id="26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86480" y="1504800"/>
              <a:ext cx="25052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553080" y="1523880"/>
              <a:ext cx="231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2" name="Group 48" descr=""/>
          <p:cNvPicPr/>
          <p:nvPr/>
        </p:nvPicPr>
        <p:blipFill>
          <a:blip r:embed="rId16"/>
          <a:stretch/>
        </p:blipFill>
        <p:spPr>
          <a:xfrm>
            <a:off x="5425920" y="279252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63" name="Group 58" descr=""/>
          <p:cNvPicPr/>
          <p:nvPr/>
        </p:nvPicPr>
        <p:blipFill>
          <a:blip r:embed="rId17"/>
          <a:stretch/>
        </p:blipFill>
        <p:spPr>
          <a:xfrm>
            <a:off x="6114960" y="385920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64" name="Rounded Rectangle 4"/>
          <p:cNvGrpSpPr/>
          <p:nvPr/>
        </p:nvGrpSpPr>
        <p:grpSpPr>
          <a:xfrm>
            <a:off x="5114880" y="3333600"/>
            <a:ext cx="2449440" cy="671760"/>
            <a:chOff x="5114880" y="3333600"/>
            <a:chExt cx="2449440" cy="671760"/>
          </a:xfrm>
        </p:grpSpPr>
        <p:pic>
          <p:nvPicPr>
            <p:cNvPr id="265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114880" y="3333600"/>
              <a:ext cx="244944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181480" y="33526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Rounded Rectangle 4"/>
          <p:cNvGrpSpPr/>
          <p:nvPr/>
        </p:nvGrpSpPr>
        <p:grpSpPr>
          <a:xfrm>
            <a:off x="5108400" y="4164120"/>
            <a:ext cx="2517840" cy="772920"/>
            <a:chOff x="5108400" y="4164120"/>
            <a:chExt cx="2517840" cy="772920"/>
          </a:xfrm>
        </p:grpSpPr>
        <p:pic>
          <p:nvPicPr>
            <p:cNvPr id="268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108400" y="4164120"/>
              <a:ext cx="25178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1480" y="42670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114880" y="5187960"/>
            <a:ext cx="2449440" cy="798480"/>
            <a:chOff x="5114880" y="5187960"/>
            <a:chExt cx="2449440" cy="798480"/>
          </a:xfrm>
        </p:grpSpPr>
        <p:pic>
          <p:nvPicPr>
            <p:cNvPr id="271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114880" y="5187960"/>
              <a:ext cx="2449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81480" y="52578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3" name="Group 58" descr=""/>
          <p:cNvPicPr/>
          <p:nvPr/>
        </p:nvPicPr>
        <p:blipFill>
          <a:blip r:embed="rId21"/>
          <a:stretch/>
        </p:blipFill>
        <p:spPr>
          <a:xfrm>
            <a:off x="6114960" y="48466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74" name="Group 48" descr=""/>
          <p:cNvPicPr/>
          <p:nvPr/>
        </p:nvPicPr>
        <p:blipFill>
          <a:blip r:embed="rId22"/>
          <a:stretch/>
        </p:blipFill>
        <p:spPr>
          <a:xfrm>
            <a:off x="6877080" y="2792520"/>
            <a:ext cx="450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1200240" y="878040"/>
            <a:ext cx="2993760" cy="4529160"/>
          </a:xfrm>
          <a:prstGeom prst="rect">
            <a:avLst/>
          </a:prstGeom>
          <a:ln w="0">
            <a:noFill/>
          </a:ln>
        </p:spPr>
      </p:pic>
      <p:pic>
        <p:nvPicPr>
          <p:cNvPr id="190" name="Diagram 4" descr=""/>
          <p:cNvPicPr/>
          <p:nvPr/>
        </p:nvPicPr>
        <p:blipFill>
          <a:blip r:embed="rId2"/>
          <a:stretch/>
        </p:blipFill>
        <p:spPr>
          <a:xfrm>
            <a:off x="4584600" y="884160"/>
            <a:ext cx="2590920" cy="4516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1447920" y="54100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Group 3" descr=""/>
          <p:cNvPicPr/>
          <p:nvPr/>
        </p:nvPicPr>
        <p:blipFill>
          <a:blip r:embed="rId1"/>
          <a:stretch/>
        </p:blipFill>
        <p:spPr>
          <a:xfrm>
            <a:off x="1695600" y="87804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196" name="Rounded Rectangle 4"/>
          <p:cNvGrpSpPr/>
          <p:nvPr/>
        </p:nvGrpSpPr>
        <p:grpSpPr>
          <a:xfrm>
            <a:off x="1689120" y="3638520"/>
            <a:ext cx="2444760" cy="744480"/>
            <a:chOff x="1689120" y="3638520"/>
            <a:chExt cx="2444760" cy="744480"/>
          </a:xfrm>
        </p:grpSpPr>
        <p:pic>
          <p:nvPicPr>
            <p:cNvPr id="197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689120" y="3638520"/>
              <a:ext cx="24447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752480" y="36576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Rounded Rectangle 4"/>
          <p:cNvGrpSpPr/>
          <p:nvPr/>
        </p:nvGrpSpPr>
        <p:grpSpPr>
          <a:xfrm>
            <a:off x="1663560" y="4784760"/>
            <a:ext cx="2481480" cy="847800"/>
            <a:chOff x="1663560" y="4784760"/>
            <a:chExt cx="2481480" cy="847800"/>
          </a:xfrm>
        </p:grpSpPr>
        <p:pic>
          <p:nvPicPr>
            <p:cNvPr id="20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63560" y="4784760"/>
              <a:ext cx="2481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52480" y="4800600"/>
              <a:ext cx="2286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2" name="Rounded Rectangle 4"/>
          <p:cNvGrpSpPr/>
          <p:nvPr/>
        </p:nvGrpSpPr>
        <p:grpSpPr>
          <a:xfrm>
            <a:off x="4505400" y="4784760"/>
            <a:ext cx="2475000" cy="896760"/>
            <a:chOff x="4505400" y="4784760"/>
            <a:chExt cx="2475000" cy="896760"/>
          </a:xfrm>
        </p:grpSpPr>
        <p:pic>
          <p:nvPicPr>
            <p:cNvPr id="203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505400" y="478476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0" y="48006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" name="Rounded Rectangle 4"/>
          <p:cNvGrpSpPr/>
          <p:nvPr/>
        </p:nvGrpSpPr>
        <p:grpSpPr>
          <a:xfrm>
            <a:off x="4505400" y="3565440"/>
            <a:ext cx="2449440" cy="847800"/>
            <a:chOff x="4505400" y="3565440"/>
            <a:chExt cx="2449440" cy="847800"/>
          </a:xfrm>
        </p:grpSpPr>
        <p:pic>
          <p:nvPicPr>
            <p:cNvPr id="206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565440"/>
              <a:ext cx="2449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0" y="35812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8" name="Rounded Rectangle 4"/>
          <p:cNvGrpSpPr/>
          <p:nvPr/>
        </p:nvGrpSpPr>
        <p:grpSpPr>
          <a:xfrm>
            <a:off x="4505400" y="2651040"/>
            <a:ext cx="2455920" cy="622440"/>
            <a:chOff x="4505400" y="2651040"/>
            <a:chExt cx="2455920" cy="622440"/>
          </a:xfrm>
        </p:grpSpPr>
        <p:pic>
          <p:nvPicPr>
            <p:cNvPr id="209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65104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572000" y="26668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" name="Rounded Rectangle 4"/>
          <p:cNvGrpSpPr/>
          <p:nvPr/>
        </p:nvGrpSpPr>
        <p:grpSpPr>
          <a:xfrm>
            <a:off x="4505400" y="1657440"/>
            <a:ext cx="2449440" cy="622080"/>
            <a:chOff x="4505400" y="1657440"/>
            <a:chExt cx="2449440" cy="622080"/>
          </a:xfrm>
        </p:grpSpPr>
        <p:pic>
          <p:nvPicPr>
            <p:cNvPr id="212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657440"/>
              <a:ext cx="244944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572000" y="16765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4" name="Group 28" descr=""/>
          <p:cNvPicPr/>
          <p:nvPr/>
        </p:nvPicPr>
        <p:blipFill>
          <a:blip r:embed="rId8"/>
          <a:stretch/>
        </p:blipFill>
        <p:spPr>
          <a:xfrm>
            <a:off x="4511520" y="878040"/>
            <a:ext cx="2401920" cy="792000"/>
          </a:xfrm>
          <a:prstGeom prst="rect">
            <a:avLst/>
          </a:prstGeom>
          <a:ln w="0">
            <a:noFill/>
          </a:ln>
        </p:spPr>
      </p:pic>
      <p:pic>
        <p:nvPicPr>
          <p:cNvPr id="215" name="Group 48" descr=""/>
          <p:cNvPicPr/>
          <p:nvPr/>
        </p:nvPicPr>
        <p:blipFill>
          <a:blip r:embed="rId9"/>
          <a:stretch/>
        </p:blipFill>
        <p:spPr>
          <a:xfrm>
            <a:off x="2682720" y="43894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51" descr=""/>
          <p:cNvPicPr/>
          <p:nvPr/>
        </p:nvPicPr>
        <p:blipFill>
          <a:blip r:embed="rId10"/>
          <a:stretch/>
        </p:blipFill>
        <p:spPr>
          <a:xfrm>
            <a:off x="2682720" y="279252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4"/>
          <p:cNvSpPr/>
          <p:nvPr/>
        </p:nvSpPr>
        <p:spPr>
          <a:xfrm>
            <a:off x="7238880" y="2590920"/>
            <a:ext cx="152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GEF Secretariat will follow the World Bank procedures in approving the  proposal with final target of sending a Grant Agreement to the recipient country and to be signed between CEO and the countr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Group 58" descr=""/>
          <p:cNvPicPr/>
          <p:nvPr/>
        </p:nvPicPr>
        <p:blipFill>
          <a:blip r:embed="rId11"/>
          <a:stretch/>
        </p:blipFill>
        <p:spPr>
          <a:xfrm>
            <a:off x="5505480" y="43894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61" descr=""/>
          <p:cNvPicPr/>
          <p:nvPr/>
        </p:nvPicPr>
        <p:blipFill>
          <a:blip r:embed="rId12"/>
          <a:stretch/>
        </p:blipFill>
        <p:spPr>
          <a:xfrm>
            <a:off x="5425920" y="3170160"/>
            <a:ext cx="50508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64" descr=""/>
          <p:cNvPicPr/>
          <p:nvPr/>
        </p:nvPicPr>
        <p:blipFill>
          <a:blip r:embed="rId13"/>
          <a:stretch/>
        </p:blipFill>
        <p:spPr>
          <a:xfrm>
            <a:off x="5425920" y="2182680"/>
            <a:ext cx="505080" cy="517680"/>
          </a:xfrm>
          <a:prstGeom prst="rect">
            <a:avLst/>
          </a:prstGeom>
          <a:ln w="0">
            <a:noFill/>
          </a:ln>
        </p:spPr>
      </p:pic>
      <p:grpSp>
        <p:nvGrpSpPr>
          <p:cNvPr id="221" name="Rounded Rectangle 4"/>
          <p:cNvGrpSpPr/>
          <p:nvPr/>
        </p:nvGrpSpPr>
        <p:grpSpPr>
          <a:xfrm>
            <a:off x="1689120" y="1809720"/>
            <a:ext cx="2444760" cy="824040"/>
            <a:chOff x="1689120" y="1809720"/>
            <a:chExt cx="2444760" cy="824040"/>
          </a:xfrm>
        </p:grpSpPr>
        <p:pic>
          <p:nvPicPr>
            <p:cNvPr id="222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809720"/>
              <a:ext cx="24447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752480" y="18288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Expedited Enabl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2-04-10T16:55:51Z</dcterms:modified>
  <cp:revision>249</cp:revision>
  <dc:subject/>
  <dc:title>Slide 1</dc:title>
</cp:coreProperties>
</file>