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864-802F-49BF-923A-B1098AE03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F0F-043B-475F-99CF-C219C895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BED-A811-4E0E-9FA6-E1F9FA9C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1C6-2657-42AD-B78D-6CBCBE7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594-1F05-472F-AE8A-37EBECFE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44B-4C2C-47E2-B0FB-ACD38D2D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4DA0-D426-4310-838E-53134315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8449-EF5C-4AFD-9C49-6E2C02E8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40B-DB60-4539-9C20-8A3A479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78C2-EBB6-4785-8663-FB31D14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4C8C-5084-4397-BF41-D0EB2C32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13BD-7BE9-4BB5-9469-9D024732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004-584B-467B-8B8B-D6FB0B9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EF7-3DDC-40A3-8AA3-A9BB821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F16-BC18-4318-B04D-38AEF9B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D4EB-8A04-4A50-8C1D-B65D10DA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06E5-CEE5-44F0-A570-239C682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922D-F2BD-4AF0-A921-249CF578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59F8-9351-4DC7-8EEC-68BA5FFE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1044-1F1A-4428-867A-BDBFE629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A56E-1B47-4C9A-91E5-9B0AE93E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0660-9FD3-4F6A-8F7C-A0F4CC5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385F-7CE2-4F5C-A664-827237D6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621F-80B6-4997-9B5C-FA99B04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B85-A3FD-42E3-B891-435B967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86EE-CE74-4B94-A6AD-A4163DA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76CF-A42D-4146-80A2-BBF2A0F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8715-5A4B-49BF-8EE6-90C18895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CEBB-1765-4094-BAEA-9158538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D4B2-224A-43A8-8E40-C7E2C5D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4F5D-0F89-4882-8AF7-189C9B14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3B4D-6983-45CF-BE33-6ECBC496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C12-FDF8-4070-8C29-6922D7A3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F6E-56FE-46E5-8120-65AD67B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CFA-DFA9-4362-A10F-DE7BC0FB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61A-4F01-4E14-A3CE-14AE09A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EE4-F0E5-4614-AB0C-D57B01C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689-63DC-4DC5-9681-140327B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B17-D203-4450-B95E-B9382926A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814-1BD4-415D-97E4-598F6FF5B0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8E0-5AF1-4B16-A870-DA62A885A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2-04-10T16:56:10Z</dcterms:modified>
  <cp:revision>124</cp:revision>
  <dc:subject/>
  <dc:title>Slide Title Here</dc:title>
</cp:coreProperties>
</file>