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F667-975C-4DE6-A31D-44D70D9B9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589-3414-44F7-ABAE-19FC96268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77A-9B98-46F6-8A5E-9E927F0F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026-9DBB-4D76-BA09-E34A4E61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15B-BD64-44BE-936D-334F2D7F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5A3-009A-4A84-B5D0-9A95D34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661E-D6CD-4F0F-8170-CE6C0720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3D5C-EF59-426C-9EC0-7660FDD5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D0F-9A14-4F11-8920-38F6D42B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2C98-88CB-419F-8F27-5971591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CD61-AA34-4E9D-9C03-20B52E6A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BEE7-FC64-44D0-8CE5-E7C3ED2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32E3-3491-435F-9758-947AC1E4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36F-F970-4815-8B5C-73904075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4DE-8FAC-4466-B052-BACBE377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0DE4-7680-4714-8BAC-E6968BC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DE9F-A64D-4003-9AC9-8B42F2F1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B161-E69D-4174-8CF9-136A05CA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092A-1629-4906-80C9-0F33486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0CFD-42D4-467D-BFDA-CE9D62E9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B4D0-B6B3-42DB-A63E-2064C50D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47B2-A9A3-4A7D-91FF-681A80F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687C-44DC-4AFF-9242-949A79C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0F19-F530-4E20-BE74-A05E6245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015-D12E-42AF-A35B-5F9AEBE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F3B3-6264-4236-B9FB-791C6ECC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2745-BF9E-4D31-8BA0-43CB1C4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98A2-550B-4D16-83BF-924B2F0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809A-52B9-4347-9823-534A9C9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2528-61FE-4492-AB50-A2C61071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E920-62A8-4335-AA1B-34FE22FF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B9BF-ED04-4C85-A432-6A3217B1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B98-575F-44E3-9345-1859493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F64-ED0A-4324-AE34-9FB95A7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CA1-EBF8-4E9F-94F3-A702B2A0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FC9-E44F-49F6-9AD9-98F58C7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A1D-BB6F-457E-88E2-8F632F2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936-25FA-41EB-B6D6-8B9097A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B6E-0238-4EEB-89C6-47AC312B0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9ECE-8EF1-40BB-951F-CEB827CFD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3EED-5834-4D1C-A2AF-2AEDB3BCC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26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2-04-10T16:56:10Z</dcterms:modified>
  <cp:revision>124</cp:revision>
  <dc:subject/>
  <dc:title>Slide Title Here</dc:title>
</cp:coreProperties>
</file>