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5247-A7F1-4DF7-8A5C-D2EA57F4A4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08C2-4DEC-4E3B-BAEB-1E55434E3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87A-F3C9-4972-9940-91ACAB57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2A6-96E4-4B04-B27D-2496AF53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93C-695F-4CDB-AF00-04275999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7A3-4E41-4BFC-B855-1DCCE8AE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B0B4-C69B-448B-81D1-831666E9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EA2E-3C0C-4765-AD99-B0445B24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B585-964C-4208-892D-D9E8D2C8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0570-E5C0-497A-BB8D-7E9DEB5A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0E3E-B39F-4DEC-8B69-FFE34F68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15B1-B265-4FD2-82F9-E97F4345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166A-CB3E-4E6D-B6E1-C34D2718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9DB-CD44-430D-8D11-C8BC5FB0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6CE3-2297-4D79-813D-3CCECEA2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D84E-0915-4525-B0FF-550D570B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8F31-E6F2-4C5B-866E-89DD85F4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B997-174E-4F52-8E2F-F4C1A884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E0B8-3655-425D-ABD7-47754ED1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8CBA2-3782-43A3-B593-19745839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9D2B-9072-4950-8A4D-B3A6FDAF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CB91F-BB72-44BB-892B-664DDB2C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2528-AA12-45EF-94FA-FDAD474A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FEB84-A16A-4F8F-9FE8-DD017F93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89E-7EA9-47B8-B5B4-BCCFB275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E8448-85CF-4FB3-8B5E-AF8B8E06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63265-8F0B-45D5-B100-80077081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559D9-E97D-4722-A6D5-375A532D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39CF7-38AF-4D0B-9027-EFEB1040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400A-A0A9-4E0B-A2A7-7664CB30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D6B3-F801-4E56-9D87-AF309E7D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EF423-A285-4AE6-9F87-8E958DB4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5BA-2591-4B2B-9549-F324DCB6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F49-20CC-4925-A457-8A670C50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00D-8A67-48F4-B99C-EB3C6FDC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435-A21A-47EB-9876-07E34B28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DBF-F8AA-48B9-AA45-FA803F7B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1C0-1872-4F32-99A9-D09093F9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711D-4879-4623-86D5-8E202A0AB6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-2448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300E-6CCA-40C1-ABC4-72AA7CB9FA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9C6F-9196-4C95-8A37-EAD2B6B5DF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Mobilizing Resources through Programmatic Approa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tandards for GEF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matic approach will be pursued where there is a strong ratio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go Basin Forests – Pacific Islands – Energy in Af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 must be based on country pri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high level of political and economic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mitment for partnerships at national level across line ministries and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pen transparent process that encourages multi-stakeholder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THANK YOU FOR YOUR ATTENTION!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What a (GEF) program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GEF Program = a framework to facilitate results under common objectives and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hanced opportunities to generate synergies across GEF focal areas and with part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programmatic approach needs to be consistent with the GEF focal area strategies to maximize and scale up global environment benef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are different level of programs at the GEF – global, regional, national, thematic, multi-focal, single focal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inct from a multi-country project or a regional pro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ll GEF Focal areas have experiences with programs:</a:t>
            </a: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W: Strategic Partnerships on Fisheries in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D: CPP, S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C: Strategic Program on Energy for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FA: Coral Triangle Initiati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D, IW, CC, Adapt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FM: Congo Basin Strategic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 out of 33 were launched under GEF4 ($1.6 billion; leveraging $7.9 bill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P:  Strategic Investment Partn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PP:  Country Partnership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P:  Small Grants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dded Value of a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For the GE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ximize Global Benefits by mor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synergies: a cost efficient proce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hanc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GEF catalytic role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o leverage additional financ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sier to monitor and evaluat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Count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26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 mor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strategic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interaction with the GEF;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wards a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untry driven proces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pportunities to pool resources from various GEF focal are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pportunities to secure financing and mobiliz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Agenc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tter predictability - Less transaction co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More strategic interactions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ith countries based on Agency comparative advantag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42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rtnerships – Additional funding - Synergi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Institutional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reamlining the project cycle &amp; refining the programmatic approach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rom Projects to Programs: Clarifying the Programmatic Approach in the GEF Portfol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/C.33/6, March 21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Overall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ecu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r-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ustained impact on the global environment through integrating global environmental objectives into national or region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ateg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plans us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isburse large-scale GEF resources effectively and efficiently to countries and regions with enhanced accountability and overs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Refining the programmatic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PTION 1- Current Programmatic Approach with modification: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Multi-agency program with a Program Coordination Agenc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 Framework Document approval by the Council (+ PIFs if ready): resources are set a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IFs are approved 6 months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as regular projects (PIF – PPG – CEO Endorse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IF approval and CEO endorsement: ≤ 18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s: 9% for each participating a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ordination fee: case-by-case (indicative amount $500,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0880" y="380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PTION 2 - New Approach: Single Agency Program with a Qualifying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FD Approval by the Council (resources set as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FD contains project ideas (one p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IF step is skipped – Each QA follows its own project preparation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documents are submitted to the GEFSEC for endorsement/approval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FD approval and CEO endorsement: 18 month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y fee: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reparation grant can be approved by the CEO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Key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Program Framework Documen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including a Result Framework, a baseline, List of projects that contribute to the program goal and objectives, monitoring, indicators (+Monitoring bud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Annual Implementation Repor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f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wb350798</cp:lastModifiedBy>
  <dcterms:modified xsi:type="dcterms:W3CDTF">2012-04-10T16:56:10Z</dcterms:modified>
  <cp:revision>124</cp:revision>
  <dc:subject/>
  <dc:title>Slide Title Here</dc:title>
</cp:coreProperties>
</file>