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A1CF-A2CE-4449-8082-AB42F8DCFB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1811-CED1-4DD5-959C-418F53FC7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7256CD-D34E-402A-9694-F54A66D57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CD75-2353-44B5-8CF8-D48BAC134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FCEE-AC30-4B9E-83A7-DF4C7974A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FCC5-148B-4639-A6D2-02F931F94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BBD4-1195-490E-88C3-F35FC10F0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B8CA-35C4-45C4-A79B-83EFCD072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27 – 29 March 20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Tirana, Albani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Adaptation Plans (NAP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Lisa</cp:lastModifiedBy>
  <dcterms:modified xsi:type="dcterms:W3CDTF">2012-04-23T01:28:45Z</dcterms:modified>
  <cp:revision>491</cp:revision>
  <dc:subject/>
  <dc:title>Slide 1</dc:title>
</cp:coreProperties>
</file>