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400D-4091-4005-8BB6-2B5AE495092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491E-A842-499D-889F-ACB1BD447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FCF78A-3DE9-48C7-96C2-4C90BD9E1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4090-4BBB-48C5-B704-EDC62D9A1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C938-AAF9-4909-BE26-4EDAB5EE9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417F-BE2F-426D-95C9-89818E9D9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767D-B9BB-4AB6-87EB-024B45D2A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892C-2D25-4FD9-9618-78410FBB9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27 – 29 March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Tirana, Albani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28:45Z</dcterms:modified>
  <cp:revision>491</cp:revision>
  <dc:subject/>
  <dc:title>Slide 1</dc:title>
</cp:coreProperties>
</file>