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E51A-276A-4871-A679-D2033839EA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ED8A-41C6-493E-BABA-B3365BD75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C394DE-9F05-48BC-952E-95C29791A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E9AE-171F-4193-A1B6-32D5B6F76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1945-8577-4F42-9EE1-CB93E13BE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4187-7040-43A4-8E44-28BA570A7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6406-3190-4502-9A7E-99F79679D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0DE5-AE7B-4931-951B-4CE31621A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GEF Expanded Constituency Worksho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8-10 May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Antigua and Barbu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Adaptation Plans (NAP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Adaptation Plans (NAPs)</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6-06T14:52:25Z</dcterms:modified>
  <cp:revision>498</cp:revision>
  <dc:subject/>
  <dc:title>Slide 1</dc:title>
</cp:coreProperties>
</file>