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8FB7-0B99-4B88-8E08-FE8A4ED319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6811-05B1-4EAB-9B0C-D33449B44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FF2016-2CAC-47C8-A7F8-0865D02F6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2CEF-6376-4CC9-858C-3B406E72F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58B7-D5AB-4CCC-B199-3D8FCA06E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192E-82AF-40A9-A2CE-BFA7FA3C6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9299-220C-4F50-A699-6AB95D10F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13D9-C4D9-4A82-A821-EB1B2AD2A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GEF Expanded Constituency Worksho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8-10 May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Antigua and Barbu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Adaptation Plans (NAP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Adaptation Plans (NAPs)</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4:52:25Z</dcterms:modified>
  <cp:revision>498</cp:revision>
  <dc:subject/>
  <dc:title>Slide 1</dc:title>
</cp:coreProperties>
</file>