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0150-6D57-4667-B08E-DAAB5FCF43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13E6-BDF6-431C-A4FE-82B4E70D0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112EDD-D65A-449E-8184-D1CF974F8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E037-6B42-47D7-BCE9-39662FABE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2FBF-0525-4E5F-B335-8B968666D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36F2-1B47-4034-8F06-141D41377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5A2B-3B9F-4CBA-AB9D-A1863DC4B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511A-1C02-4488-AE25-C8EC2AEF7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6 –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San José, Costa Ric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3-07T11:22:34Z</dcterms:modified>
  <cp:revision>555</cp:revision>
  <dc:subject/>
  <dc:title>Slide 1</dc:title>
</cp:coreProperties>
</file>