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DBFA-9A41-457D-BDA3-7F8ABBD0E5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37B0-AACB-4C23-BD0D-66F57427F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192032-C91D-4332-B3A5-67B7F43CD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B5E1-68C8-4B52-B28F-25D5ED28B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FA7C-40CF-4C8B-8B4C-BE8983C2E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8C99-3F67-449A-B4B7-FACC123E5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50CC-1093-435D-ADA5-4E65E3A61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C30D-425B-4614-B9D3-7460C8959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6 –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San José, Costa Ric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3-07T11:22:34Z</dcterms:modified>
  <cp:revision>555</cp:revision>
  <dc:subject/>
  <dc:title>Slide 1</dc:title>
</cp:coreProperties>
</file>