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4DB0-C99F-4388-B392-93E61ED205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0A1A-8192-4CBD-8025-D34026C07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E33798-AB99-45B3-9FBF-E06461CA9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7E1E-FDB6-4A9B-921E-2677574AD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CA9F-2187-4565-8ED6-B4EB678C8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tes que no figuran en el Anexo I</a:t>
            </a:r>
            <a:r>
              <a:rPr b="0" lang="en-US" sz="1200" spc="-1" strike="noStrike">
                <a:solidFill>
                  <a:srgbClr val="000000"/>
                </a:solidFill>
                <a:latin typeface="Calibri"/>
              </a:rPr>
              <a:t> require funding to meet their obligations under Article 12, Paragraph 1 del Convenio: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del Convenio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FPMA and </a:t>
            </a:r>
            <a:r>
              <a:rPr b="0" lang="es-ES" sz="1200" spc="-1" strike="noStrike">
                <a:solidFill>
                  <a:srgbClr val="000000"/>
                </a:solidFill>
                <a:latin typeface="Calibri"/>
              </a:rPr>
              <a:t>Fondo especial para el cambio climátic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3D72-69B2-4517-AA8A-B5CBBA12D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9178-7404-4F9A-A99A-D3F4D88C4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FP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9BB1-6A24-413F-AC2C-CB851FC2B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ó a las Partes a elaborar y presentar propuestas de proyectos de adaptación de tecnologías.</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ó al FMAM a dar a conocer en mayor medida el program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alojamient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5:15:22Z</dcterms:modified>
  <cp:revision>557</cp:revision>
  <dc:subject/>
  <dc:title>Slide 1</dc:title>
</cp:coreProperties>
</file>