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988B-F225-4AD1-907F-9201B0DD6A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D42E-E834-42E8-931B-5BD8E04D5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2B66BC-E350-4950-9CA4-2CB4F1256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884D-9F08-455E-8BDC-D2873EC1C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7154-0400-41E9-B392-6794CD28F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tes que no figuran en el Anexo I</a:t>
            </a:r>
            <a:r>
              <a:rPr b="0" lang="en-US" sz="1200" spc="-1" strike="noStrike">
                <a:solidFill>
                  <a:srgbClr val="000000"/>
                </a:solidFill>
                <a:latin typeface="Calibri"/>
              </a:rPr>
              <a:t> require funding to meet their obligations under Article 12, Paragraph 1 del Convenio: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del Convenio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FPMA and </a:t>
            </a:r>
            <a:r>
              <a:rPr b="0" lang="es-ES" sz="1200" spc="-1" strike="noStrike">
                <a:solidFill>
                  <a:srgbClr val="000000"/>
                </a:solidFill>
                <a:latin typeface="Calibri"/>
              </a:rPr>
              <a:t>Fondo especial para el cambio climátic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6D59-63FE-4A7C-BC77-D26358BB1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D8D6-D2A0-4A17-A1BC-ABA0ED495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FP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539C-EDCD-4322-B53D-8B2C84C4F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6-06T15:15:22Z</dcterms:modified>
  <cp:revision>557</cp:revision>
  <dc:subject/>
  <dc:title>Slide 1</dc:title>
</cp:coreProperties>
</file>