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AD5B-0E5F-4385-9BDF-6D6C4394D7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9526-8C8A-4D90-B4B0-656458B72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C76F16-DBB3-4A8B-9A9D-FD537EC01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FC14-AD45-43B8-84BC-3F038C9B6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603F-3220-4714-91E4-EE8746F21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tes que no figuran en el Anexo I</a:t>
            </a:r>
            <a:r>
              <a:rPr b="0" lang="en-US" sz="1200" spc="-1" strike="noStrike">
                <a:solidFill>
                  <a:srgbClr val="000000"/>
                </a:solidFill>
                <a:latin typeface="Calibri"/>
              </a:rPr>
              <a:t> require funding to meet their obligations under Article 12, Paragraph 1 del Convenio: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del Convenio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FPMA and </a:t>
            </a:r>
            <a:r>
              <a:rPr b="0" lang="es-ES" sz="1200" spc="-1" strike="noStrike">
                <a:solidFill>
                  <a:srgbClr val="000000"/>
                </a:solidFill>
                <a:latin typeface="Calibri"/>
              </a:rPr>
              <a:t>Fondo especial para el cambio climátic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9700-D5E1-4FF8-9A79-CFAE65AAF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228A-DBDD-47C9-A637-20D2C4041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FP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F077-F333-4DE4-8596-708C16519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a a las Partes a elaborar y presentar propuestas de proyectos de tecnologías para la adaptación. </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a al FMAM a dar a conocer en mayor medida el programa de transferencia de tecnologí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país anfitrió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5:54:39Z</dcterms:modified>
  <cp:revision>559</cp:revision>
  <dc:subject/>
  <dc:title>Slide 1</dc:title>
</cp:coreProperties>
</file>