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C016-23D0-439D-9B7B-DD942CBBC3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0806-C5A4-48E9-9330-A935F79A9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127C79-AEA0-45FA-9518-B28FF16FE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7922-8E93-4492-A69B-92D83D767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89D8-D8AC-48AB-B465-DFBCA7ED7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0A5B-EEB3-47F8-A2B3-860C2A5F0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58B6-3F89-4CC1-8A07-FB31AAC55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B284-3310-49EE-B622-46854AE98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a a las Partes a elaborar y presentar propuestas de proyectos de tecnologías para la adaptación. </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a al FMAM a dar a conocer en mayor medida el programa de transferencia de tecnologí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país anfitrió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54:39Z</dcterms:modified>
  <cp:revision>559</cp:revision>
  <dc:subject/>
  <dc:title>Slide 1</dc:title>
</cp:coreProperties>
</file>