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537C-CB8F-4A66-9E75-8B8B92257A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2E82-C997-420A-858A-E8AB332B0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406B7E-7685-46AE-85CC-76A1CFE71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01A7-DC6A-4B86-B271-287514E09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2B79-D5E6-4219-8506-C3E0F90F5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87CC-928F-4E73-BE48-490F6C1E9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D85E-1F36-400A-9699-BEB4FA429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DEA1-4177-4B2A-8303-2C3E2EA0B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GEF Expanded Constituency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rPr>
              <a:t>17 to 19 April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rPr>
              <a:t>Ouagadougou, Burkina Faso</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2:04:53Z</dcterms:modified>
  <cp:revision>495</cp:revision>
  <dc:subject/>
  <dc:title>Slide 1</dc:title>
</cp:coreProperties>
</file>