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7DC2-E8AE-4135-9034-0F50450B8C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439C-E7AD-4E10-BEB5-FD9AA25A2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8DCE66-E590-4E6F-B926-E7A5563B0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0C69-A552-432B-B068-CDAE26DC7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8521-2485-4E42-BACB-3FEC21D8A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E050-5612-4A91-A472-8F2FFCEC4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9AA9-C3B3-4E2C-9E48-EBB639E9B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909-EE28-473B-B8F0-46CCCE836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17 to 19 April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Ouagadougou, Burkina Fas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2:04:53Z</dcterms:modified>
  <cp:revision>495</cp:revision>
  <dc:subject/>
  <dc:title>Slide 1</dc:title>
</cp:coreProperties>
</file>