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A6B0-00E7-4DFC-B7FB-6B27E1028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A9B9-E82B-4CB4-838A-AB9C9EC9B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AA0A-02CA-4E19-81F7-F664DBDE7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51D2-8401-4EBC-99A2-0C522069D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6A59-DA23-4A2B-BEDA-4E24981FF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23F9-2F0F-4958-A30B-3E2AAEF5D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105F2F7-C279-426A-8C87-93A9985AE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BEA8-F467-4382-A645-7B1F27623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DA04-53DC-4806-BE0F-118796C5F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5737-993B-4EEC-B829-F405BBC70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0F36-2ABA-41F3-B805-815D4A52B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FC82-4D19-45C9-87B9-ECA61E9DC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225F-686B-42C4-8212-1ED3FE45B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rdixon1@thegef.org" TargetMode="External"/><Relationship Id="rId2" Type="http://schemas.openxmlformats.org/officeDocument/2006/relationships/hyperlink" Target="mailto:bbiagini@thegef.org" TargetMode="External"/><Relationship Id="rId3" Type="http://schemas.openxmlformats.org/officeDocument/2006/relationships/hyperlink" Target="mailto:caoki@thegef.or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Coopération FEM-CCNUCC </a:t>
            </a:r>
            <a:br>
              <a:rPr sz="3000"/>
            </a:b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Tâches confiées par la 17</a:t>
            </a:r>
            <a:r>
              <a:rPr b="1" lang="fr-FR" sz="30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endParaRPr b="1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17 - 19 av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Ouagadougou, Burkina F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ommunications national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Organe subsidiaire de mise en œuvre (SBI) invite le FEM à continuer à rendre compte des activités de préparation des communications nationales des Parties non visées à l’Annexe I, en communiquant notamment les dates d’approbation des financements et de décaissement des f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veloppement 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et transfert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e technolog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76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BI salue les progrès accomplis par le FEM dans le cadre du Programme de Poznan, notamment les projets pilotes, les évaluations des besoins technologiques (EBT) et l’exécution à long terme du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t les Parties sont appelés à accélérer le processus de mise en œuvre des proj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BI encourage les Parties à élaborer et soumettre des projets à l’appui des technologies d’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st invité à sensibiliser l’opinion à l’exécution à long terme du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ctivités en cours (2012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pport du FEM à la 1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des parties : en prépa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éminaire de réflexion FEM-CCNUCC : mi-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33520" y="3581280"/>
            <a:ext cx="8105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ef d’équip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Climat et substances chimiques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, Robert Dixon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ixon1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ef, stratégie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 d’adaptation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t opérations, Bonizella Biagini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biagini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oordonnateur du modul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atténuation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du changement climatique, Chizuru Aoki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aoki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Le FEM est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un mécanisme financier de la CCNUCC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0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arties ont chargé le FEM de donner suite à 171 décisions de la Conférence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OP delegates.jpg"/>
          <p:cNvPicPr/>
          <p:nvPr/>
        </p:nvPicPr>
        <p:blipFill>
          <a:blip r:embed="rId1"/>
          <a:stretch/>
        </p:blipFill>
        <p:spPr>
          <a:xfrm>
            <a:off x="2438280" y="2590920"/>
            <a:ext cx="438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s de la 17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concernant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tion de coopération à long terme au titre de la Con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exécutif de la technologie (C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vert pour le climat – Rapport du Comité de tran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écanisme financier de la Convention (dont décisions sur le Fonds pour les PMA et sur d’autres ques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pour l’adaptation – Examen du Fonds pour l’adaptation (Protocole de Kyoto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munications nationales des Parties non visées à l’Annexe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veloppement et transfert de technologies : Entité hôte du Centre et du Réseau des technologies climatiques (CR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Les actions de coopération</a:t>
            </a: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à long terme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3716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est prié d’aider les Parties non visées à l’Annexe I à préparer leur premier rapport bienn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DD : Le FEM est encouragé à fournir des financements basés sur les résultats pour aider les pays à préparer leurs stratégies et plans d’action nationaux, à élaborer les politiques et mesures nécessaires, et à renforcer leurs capacité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est prié de participer aux activités du Centre et du réseau des technologies climatiqu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continuera de financer les activités de renforcement des capacité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technologique : CRTC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218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RTC : Centre et Réseau des technologies clima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012 : Appels à propositions pour accueillir le CR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est prié de prêter son concours, ce qui ne préjuge en rien du choix de l’entité hô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contribue déjà aux activités liées au CR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460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le cadre de l’exécution à long terme du Programme de Pozn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460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r le biais du projet BAfD-PNUE de centre régional pilote (Caisse du FEM et Fonds spéci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Fonds vert pour le climat (Fonds vert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nds indépendant de 100 milliards de dollars consacré au changement climat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et la CCNUCC prennent les mesures nécessaires pour mettre en place le secrétariat provisoire du Fonds v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ecrétariat provisoire: Il fournit un appui technique, administratif et logistique au Conseil du Fonds vert jusqu’à la création d’un secrétariat indépend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La Conférence des parties charge le FEM de 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availler avec les Entités d’exécution pour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simplifier davantage les procédur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assurer l’efficacité et l’efficience économiqu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mécanismes par lesquels les Parties non visées à l’Annexe I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eçoivent des financement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honorer leurs obligations résultant de la Convention, en veillant à ce que les fonds soient décaissés en temps voul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éliorer la transparence des procédures d’instruction des proj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eux définir le principe du coût additionnel (Fonds PMA/Fonds spé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ider financièrement les pays en développement à renforcer et créer des réseaux nationaux et régionaux d’observation et de suivi systémat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inuer à aider les Parties non visées à l’Annexe I à conduire ou actualiser leurs évaluations des besoins technologiques, selon les beso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 (suite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’agissant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u Fonds pour les PMA, le FEM est prié d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r à mieux définir les « bases de comparaison » à retenir pour les projets et les demandes à présenter pour accéder aux ressources du Fo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ompagner la préparation d’un programme à l’appui de la mise en œuvre des P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r à étudier les possibilités de simplification du cycle des projets du Fonds pour les P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eux informer les PMA sur le processus d’élaboration des proj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(suite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lans d’action nationaux d’adaptation (PAN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Nouvel outil présenté à la 16</a:t>
            </a:r>
            <a:r>
              <a:rPr b="0" lang="fr-FR" sz="2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Conférence, les PANA permettent aux pays en développement de « recenser leurs besoins d’adaptation à moyen et long terme et d’élaborer et mettre en œuvre des stratégies pour y satisfaire 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FEM est invité à voir comment utiliser le Fonds pour les PMA pour faciliter les activités de préparation des PANA dans ces p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pays développés parties à la Convention sont instamment priés de mobiliser des fonds pour aider les PMA à préparer des P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pays autres que les PMA sont invités à utiliser les modalités prévues pour les P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Lisa</cp:lastModifiedBy>
  <dcterms:modified xsi:type="dcterms:W3CDTF">2012-04-23T02:09:44Z</dcterms:modified>
  <cp:revision>632</cp:revision>
  <dc:subject/>
  <dc:title>Slide 1</dc:title>
</cp:coreProperties>
</file>