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E210-0637-4B17-B2F8-DD47D2BBF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976C-0C15-4F06-9D7F-E3D95D464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DEC9-AD50-4590-9619-8B79693F5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493E-19B6-4093-9CC0-1E435B99E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4E52-B039-43E8-9FE8-4AF5A7739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BEF-7B00-4F80-941B-AE2A49DF0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8BE9475-B0BF-4B87-8B37-E6AE71653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6EE5-D892-429F-8265-85BEBC697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FF4C-E40C-4A90-B004-BACA071E2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B4B0-2982-4F10-A1C6-584A6F149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C31C-80AA-4AF2-BEF8-B584BC9CB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A994-8C87-4E68-ACC1-C1D434597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C9F0-D9E9-45FE-95D5-31CE8D155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dixon1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caoki@thegef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Coopération FEM-CCNUCC </a:t>
            </a:r>
            <a:br>
              <a:rPr sz="3000"/>
            </a:b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Tâches confiées par la 17</a:t>
            </a:r>
            <a:r>
              <a:rPr b="1" lang="fr-FR" sz="30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17 - 19 av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unications national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rgane subsidiaire de mise en œuvre (SBI) invite le FEM à continuer à rendre compte des activités de préparation des communications nationales des Parties non visées à l’Annexe I, en communiquant notamment les dates d’approbation des financements et de décaissement des f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veloppement 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t transfer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e technolog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salue les progrès accomplis par le FEM dans le cadre du Programme de Poznan, notamment les projets pilotes, les évaluations des besoins technologiques (EBT) et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t les Parties sont appelés à accélérer le processus de mise en œuvre des proj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encourage les Parties à élaborer et soumettre des projets à l’appui des technologies d’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sensibiliser l’opinion à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vités en cours (2012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pport du FEM à la 1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des parties : en pré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éminaire de réflexion FEM-CCNUCC : mi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3581280"/>
            <a:ext cx="810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 d’équip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limat et substances chim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, Robert Dixon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ixon1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, stratégie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 d’adaptatio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t opérations, Bonizella Biagin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ordonnateur du modul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tténuation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changement climatique, Chizuru Aok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aok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Le FEM es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un mécanisme financier de la CCNUC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rties ont chargé le FEM de donner suite à 171 décisions de la Conférence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P delegates.jpg"/>
          <p:cNvPicPr/>
          <p:nvPr/>
        </p:nvPicPr>
        <p:blipFill>
          <a:blip r:embed="rId1"/>
          <a:stretch/>
        </p:blipFill>
        <p:spPr>
          <a:xfrm>
            <a:off x="2438280" y="2590920"/>
            <a:ext cx="438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s de la 17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concernant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tion de coopération à long terme au titre de la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exécutif de la technologie (C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vert pour le climat – Rapport du Comité de tran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canisme financier de la Convention (dont décisions sur le Fonds pour les PMA et sur d’autres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pour l’adaptation – Examen du Fonds pour l’adaptation (Protocole de Kyot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munications nationales des Parties non visées à l’Annexe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veloppement et transfert de technologies : Entité hôte du Centre et du Réseau des technologies climatiques (CR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Les actions de coopération</a:t>
            </a: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à long terme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’aider les Parties non visées à l’Annexe I à préparer leur premier rapport bienn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DD : Le FEM est encouragé à fournir des financements basés sur les résultats pour aider les pays à préparer leurs stratégies et plans d’action nationaux, à élaborer les politiques et mesures nécessaires, et à renforcer leur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e participer aux activités du Centre et du réseau des technologies climat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continuera de financer les activités de renforcement de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technologique : CRT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TC : Centre et Réseau des technologies cli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012 : Appels à propositions pour accueillir le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st prié de prêter son concours, ce qui ne préjuge en rien du choix de l’entité hô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contribue déjà aux activités liées au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e cadre de l’exécution à long terme du Programme de Poz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 le biais du projet BAfD-PNUE de centre régional pilote (Caisse du FEM et Fonds spéci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vert pour le climat (Fonds vert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indépendant de 100 milliards de dollars consacré au changement cli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t la CCNUCC prennent les mesures nécessaires pour mettre en place le secrétariat provisoire du Fonds 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crétariat provisoire: Il fournit un appui technique, administratif et logistique au Conseil du Fonds vert jusqu’à la création d’un secrétariat indépend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a Conférence des parties charge le FEM de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vailler avec les Entités d’exécution pour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implifier davantage les procédur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urer l’efficacité et l’efficience économ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mécanismes par lesquels les Parties non visées à l’Annexe I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eçoivent des financemen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honorer leurs obligations résultant de la Convention, en veillant à ce que les fonds soient décaissés en temps vou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transparence des procédures d’instruction des proj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eux définir le principe du coût additionnel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ider financièrement les pays en développement à renforcer et créer des réseaux nationaux et régionaux d’observation et de suivi systéma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inuer à aider les Parties non visées à l’Annexe I à conduire ou actualiser leurs évaluations des besoins technologiques, selon les beso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’agiss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u Fonds pour les PMA, le FEM est prié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mieux définir les « bases de comparaison » à retenir pour les projets et les demandes à présenter pour accéder aux ressources du F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ompagner la préparation d’un programme à l’appui de la mise en œuvre des P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étudier les possibilités de simplification du cycle des projets du Fonds pour les P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eux informer les PMA sur le processus d’élaboration d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lans d’action nationaux d’adaptation (PA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Nouvel outil présenté à la 16</a:t>
            </a:r>
            <a:r>
              <a:rPr b="0" lang="fr-FR" sz="2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Conférence, les PANA permettent aux pays en développement de « recenser leurs besoins d’adaptation à moyen et long terme et d’élaborer et mettre en œuvre des stratégies pour y satisfaire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FEM est invité à voir comment utiliser le Fonds pour les PMA pour faciliter les activités de préparation des PANA dans ces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développés parties à la Convention sont instamment priés de mobiliser des fonds pour aider les PMA à préparer d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autres que les PMA sont invités à utiliser les modalités prévues pour l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3T02:09:44Z</dcterms:modified>
  <cp:revision>632</cp:revision>
  <dc:subject/>
  <dc:title>Slide 1</dc:title>
</cp:coreProperties>
</file>