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6865-9DEA-4D34-8977-36F217032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AF2-F654-4224-BF45-149457E2F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9CB6-4262-4195-9EED-2EDF8245B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CCE-AF20-47F6-A5BA-5B79B2C87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4EBB-17C2-4568-AB33-2E3FB2053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F757-0FA7-4538-B660-39596642F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D28B4AC-1F72-4B0B-A931-4D9E08286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D61A-93E5-4B4F-822E-93355B521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C673-E5B5-4778-AE8F-6FA24D7E2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D8F-E529-42DA-B44B-CE70FF62A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BB86-A03E-41ED-9910-3F13025EC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364F-019B-4A9D-9CF0-B513190AC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 basen sur les P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389-1F85-4DFD-87BF-DA3872EC0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90720" y="43434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8-10 mai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ntigua-et-Barb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veloppement 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de coopération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ans nationaux pour l’adaptation aux changements clima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Les actions de coopération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à long terme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s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Plans nationaux pour l’adaptation (PNA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férence, les PNA permettent aux pays en développement de « recenser leurs besoins d’adaptation à moyen et long terme et d’élaborer et mettre en œuvre des stratégies pour y satisfaire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NA dans ces p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2-06-06T15:04:48Z</dcterms:modified>
  <cp:revision>648</cp:revision>
  <dc:subject/>
  <dc:title>Slide 1</dc:title>
</cp:coreProperties>
</file>