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37A6-3ECD-4A90-A5EE-AD0CAF02B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9A3A-EBF4-444D-BCCD-C42964281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8689-3E0E-44E4-A00B-77F0F31DC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DD63-4869-4888-9BC0-BA7E73787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06BC-66FD-44B1-9CDC-BEB957818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2424-5A5A-4B27-AE2B-43B1E68D1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7B6EE5B-B957-46A8-B607-09153F879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94B3-80FE-4E97-8B17-06BEEDF8E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2DD6-BCF3-42EA-981F-234839D0B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0527-17D7-410C-8183-47D162CD2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669B-02EF-4D2D-816B-A0DE720B3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D569-6C80-45E5-BCAB-3D351E107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e basen sur les P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9A45-EFB5-4020-8B06-F893C8AB7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8000" y="2880"/>
              <a:ext cx="9107640" cy="65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dixon1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caoki@thegef.or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Coopération FEM-CCNUCC </a:t>
            </a:r>
            <a:br>
              <a:rPr sz="3000"/>
            </a:b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Tâches confiées par la 17</a:t>
            </a:r>
            <a:r>
              <a:rPr b="1" lang="fr-FR" sz="30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90720" y="43434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8-10 mai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Antigua-et-Barb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ommunications national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Organe subsidiaire de mise en œuvre (SBI) invite le FEM à continuer à rendre compte des activités de préparation des communications nationales des Parties non visées à l’Annexe I, en communiquant notamment les dates d’approbation des financements et de décaissement des f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veloppement 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t transfer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e technolog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salue les progrès accomplis par le FEM dans le cadre du Programme de Poznan, notamment les projets pilotes, les évaluations des besoins technologiques (EBT) et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t les Parties sont appelés à accélérer le processus de mise en œuvre des proj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encourage les Parties à élaborer et soumettre des projets à l’appui des technologies d’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st invité à sensibiliser l’opinion à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ctivités en cours (2012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pport du FEM à la 1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des parties : en prépa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éminaire de réflexion FEM-CCNUCC : mi-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33520" y="3581280"/>
            <a:ext cx="810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 d’équip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Climat et substances chimiques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, Robert Dixon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ixon1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, stratégie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 d’adaptation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t opérations, Bonizella Biagin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ordonnateur du modul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atténuation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du changement climatique, Chizuru Aok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aok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Le FEM es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un mécanisme financier de la CCNUC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0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arties ont chargé le FEM de donner suite à 171 décisions de la Conférence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OP delegates.jpg"/>
          <p:cNvPicPr/>
          <p:nvPr/>
        </p:nvPicPr>
        <p:blipFill>
          <a:blip r:embed="rId1"/>
          <a:stretch/>
        </p:blipFill>
        <p:spPr>
          <a:xfrm>
            <a:off x="2438280" y="2590920"/>
            <a:ext cx="438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s de la 17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concernant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tion de coopération à long terme au titre de la Con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exécutif de la technologie (C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vert pour le climat – Rapport du Comité de tran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écanisme financier de la Convention (dont décisions sur le Fonds pour les PMA et sur d’autres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ans nationaux pour l’adaptation aux changements climat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pour l’adaptation – Examen du Fonds pour l’adaptation (Protocole de Kyot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munications nationales des Parties non visées à l’Annexe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veloppement et transfert de technologies : Entité hôte du Centre et du Réseau des technologies climatiques (CR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Les actions de coopération</a:t>
            </a: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à long terme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371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’aider les Parties non visées à l’Annexe I à préparer leur premier rapport bienn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DD : Le FEM est encouragé à fournir des financements basés sur les résultats pour aider les pays à préparer leurs stratégies et plans d’action nationaux, à élaborer les politiques et mesures nécessaires, et à renforcer leur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e participer aux activités du Centre et du réseau des technologies climatiq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continuera de financer les activités de renforcement de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technologique : CRT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TC : Centre et Réseau des technologies clima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012 : Appels à propositions pour accueillir le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st prié de prêter son concours, ce qui ne préjuge en rien du choix de l’entité hô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contribue déjà aux activités liées au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e cadre de l’exécution à long terme du Programme de Pozn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r le biais du projet BAsD-PNUE de centre régional pilote (Caisse du FEM et Fonds spéci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Fonds vert pour le climat (Fonds vert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nds indépendant de 100 milliards de dollars consacré au changement climat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t la CCNUCC prennent les mesures nécessaires pour mettre en place le secrétariat provisoire du Fonds v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ecrétariat provisoire: Il fournit un appui technique, administratif et logistique au Conseil du Fonds vert jusqu’à la création d’un secrétariat indépend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a Conférence des parties charge le FEM de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vailler avec les Entités d’exécution pour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implifier davantage les procédur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assurer l’efficacité et l’efficience économiqu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mécanismes par lesquels les Parties non visées à l’Annexe I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eçoivent des financemen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honorer leurs obligations résultant de la Convention, en veillant à ce que les fonds soient décaissés en temps vou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éliorer la transparence des procédures d’instruction des proj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eux définir le principe du coût additionnel (Fonds PMA/Fonds spé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ider financièrement les pays en développement à renforcer et créer des réseaux nationaux et régionaux d’observation et de suivi systématiques (Fonds PMA/Fonds spé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inuer à aider les Parties non visées à l’Annexe I à conduire ou actualiser leurs évaluations des besoins technologiques, selon les beso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 (suite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’agissant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u Fonds pour les PMA, le FEM est prié d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mieux définir les « bases de comparaison » à retenir pour les projets et les demandes à présenter pour accéder aux ressources du Fo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étudier les possibilités de simplification du cycle des projets du Fonds pour les P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eux informer les PMA sur le processus d’élaboration des proj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Plans nationaux pour l’adaptation (PNA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vel outil présenté à la 16</a:t>
            </a:r>
            <a:r>
              <a:rPr b="0" lang="fr-FR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nférence, les PNA permettent aux pays en développement de « recenser leurs besoins d’adaptation à moyen et long terme et d’élaborer et mettre en œuvre des stratégies pour y satisfaire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st invité à voir comment utiliser le Fonds pour les PMA pour faciliter les activités de préparation des PNA dans ces p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ys développés parties à la Convention sont instamment priés de mobiliser des fonds pour aider les PMA à préparer des P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ys autres que les PMA sont invités à utiliser les modalités prévues pour les P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2-06-06T15:04:48Z</dcterms:modified>
  <cp:revision>648</cp:revision>
  <dc:subject/>
  <dc:title>Slide 1</dc:title>
</cp:coreProperties>
</file>