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92EE-3E42-4FEA-BBE0-EF1A5D084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3FF6-C5B4-48BA-9F89-5F2880ACB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ADD6-3CF2-4BAE-8008-26D818717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9845-C50D-494B-B5C6-769554CA7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579A-A61C-4147-B00D-0585AA0B0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0FD7-E438-49D1-84E1-FF11779FB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4936B31-C95F-485F-B9CB-C836FB643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C886-7336-46E4-A443-8E37F7EB5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3855-8C07-421E-B2EC-AD7DEB91C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45A8-3230-4E4E-A0AC-540B2B526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9D5F-D0BD-4B44-8B05-7B823E96A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F7B4-9E47-4794-ABD7-5E29EA06C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e basen sur les P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4CE2-A1CE-4CAC-83ED-5004E07D5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8000" y="2880"/>
              <a:ext cx="9107640" cy="65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rdixon1@thegef.org" TargetMode="External"/><Relationship Id="rId2" Type="http://schemas.openxmlformats.org/officeDocument/2006/relationships/hyperlink" Target="mailto:bbiagini@thegef.org" TargetMode="External"/><Relationship Id="rId3" Type="http://schemas.openxmlformats.org/officeDocument/2006/relationships/hyperlink" Target="mailto:caoki@thegef.or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Coopération FEM-CCNUCC </a:t>
            </a:r>
            <a:br>
              <a:rPr sz="3000"/>
            </a:b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Tâches confiées par la 17</a:t>
            </a:r>
            <a:r>
              <a:rPr b="1" lang="fr-FR" sz="30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endParaRPr b="1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90720" y="43434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8-10 mai 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Antigua-et-Barbu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ommunications national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Organe subsidiaire de mise en œuvre (SBI) invite le FEM à continuer à rendre compte des activités de préparation des communications nationales des Parties non visées à l’Annexe I, en communiquant notamment les dates d’approbation des financements et de décaissement des f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veloppement 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et transfert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e technolog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76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BI salue les progrès accomplis par le FEM dans le cadre du Programme de Poznan, notamment les projets pilotes, les évaluations des besoins technologiques (EBT) et l’exécution à long terme du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t les Parties sont appelés à accélérer le processus de mise en œuvre des proj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BI encourage les Parties à élaborer et soumettre des projets à l’appui des technologies d’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st invité à sensibiliser l’opinion à l’exécution à long terme du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ctivités en cours (2012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pport du FEM à la 1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des parties : en prépa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éminaire de réflexion FEM-CCNUCC : mi-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33520" y="3581280"/>
            <a:ext cx="8105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ef d’équip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Climat et substances chimiques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, Robert Dixon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ixon1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ef, stratégie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 d’adaptation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t opérations, Bonizella Biagini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biagini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oordonnateur du modul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atténuation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du changement climatique, Chizuru Aoki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aoki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Le FEM est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un mécanisme financier de la CCNUCC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0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arties ont chargé le FEM de donner suite à 171 décisions de la Conférence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OP delegates.jpg"/>
          <p:cNvPicPr/>
          <p:nvPr/>
        </p:nvPicPr>
        <p:blipFill>
          <a:blip r:embed="rId1"/>
          <a:stretch/>
        </p:blipFill>
        <p:spPr>
          <a:xfrm>
            <a:off x="2438280" y="2590920"/>
            <a:ext cx="438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s de la 17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concernant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tion de coopération à long terme au titre de la Con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exécutif de la technologie (C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vert pour le climat – Rapport du Comité de tran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écanisme financier de la Convention (dont décisions sur le Fonds pour les PMA et sur d’autres ques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ans nationaux pour l’adaptation aux changements climat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pour l’adaptation – Examen du Fonds pour l’adaptation (Protocole de Kyoto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munications nationales des Parties non visées à l’Annexe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veloppement et transfert de technologies : Entité hôte du Centre et du Réseau des technologies climatiques (CR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Les actions de coopération</a:t>
            </a: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à long terme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3716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est prié d’aider les Parties non visées à l’Annexe I à préparer leur premier rapport bienn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DD : Le FEM est encouragé à fournir des financements basés sur les résultats pour aider les pays à préparer leurs stratégies et plans d’action nationaux, à élaborer les politiques et mesures nécessaires, et à renforcer leurs capacité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est prié de participer aux activités du Centre et du réseau des technologies climatiqu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continuera de financer les activités de renforcement des capacité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technologique : CRTC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218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RTC : Centre et Réseau des technologies clima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012 : Appels à propositions pour accueillir le CR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est prié de prêter son concours, ce qui ne préjuge en rien du choix de l’entité hô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contribue déjà aux activités liées au CR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460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le cadre de l’exécution à long terme du Programme de Pozn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460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r le biais du projet BAsD-PNUE de centre régional pilote (Caisse du FEM et Fonds spéci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Fonds vert pour le climat (Fonds vert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nds indépendant de 100 milliards de dollars consacré au changement climat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et la CCNUCC prennent les mesures nécessaires pour mettre en place le secrétariat provisoire du Fonds v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ecrétariat provisoire: Il fournit un appui technique, administratif et logistique au Conseil du Fonds vert jusqu’à la création d’un secrétariat indépend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La Conférence des parties charge le FEM de 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availler avec les Entités d’exécution pour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simplifier davantage les procédur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assurer l’efficacité et l’efficience économiqu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mécanismes par lesquels les Parties non visées à l’Annexe I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eçoivent des financement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honorer leurs obligations résultant de la Convention, en veillant à ce que les fonds soient décaissés en temps voul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éliorer la transparence des procédures d’instruction des proj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eux définir le principe du coût additionnel (Fonds PMA/Fonds spé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ider financièrement les pays en développement à renforcer et créer des réseaux nationaux et régionaux d’observation et de suivi systématiques (Fonds PMA/Fonds spé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inuer à aider les Parties non visées à l’Annexe I à conduire ou actualiser leurs évaluations des besoins technologiques, selon les beso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 (suite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’agissant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u Fonds pour les PMA, le FEM est prié d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r à mieux définir les « bases de comparaison » à retenir pour les projets et les demandes à présenter pour accéder aux ressources du Fo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r à étudier les possibilités de simplification du cycle des projets du Fonds pour les P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eux informer les PMA sur le processus d’élaboration des proj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Plans nationaux pour l’adaptation (PNA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uvel outil présenté à la 16</a:t>
            </a:r>
            <a:r>
              <a:rPr b="0" lang="fr-FR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nférence, les PNA permettent aux pays en développement de « recenser leurs besoins d’adaptation à moyen et long terme et d’élaborer et mettre en œuvre des stratégies pour y satisfaire 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st invité à voir comment utiliser le Fonds pour les PMA pour faciliter les activités de préparation des PNA dans ces p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ays développés parties à la Convention sont instamment priés de mobiliser des fonds pour aider les PMA à préparer des P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ays autres que les PMA sont invités à utiliser les modalités prévues pour les P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2-06-06T15:04:48Z</dcterms:modified>
  <cp:revision>648</cp:revision>
  <dc:subject/>
  <dc:title>Slide 1</dc:title>
</cp:coreProperties>
</file>