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1A04-9C04-4683-A110-3FC74C51696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511D-E659-49AE-BC93-DCFEAFB5911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UNCCD COP10</a:t>
            </a: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ecisions on Collaboration with the GE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Calibri"/>
              </a:rPr>
              <a:t>27 – 29 March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Calibri"/>
              </a:rPr>
              <a:t>Tirana, Alb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1f497d"/>
                </a:solidFill>
                <a:latin typeface="Calibri"/>
              </a:rPr>
              <a:t>Summary 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o GEF-UNCCD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10 High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Key elements of the COP Decisions on Collaboration with the G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s on the GEF Collaboration were taken at COP6 (Havana), COP7 (Nairobi), COP8 (Madrid), COP9 (Buenos Ai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6 called for a Memorandum of Understanding between the COP and the GEF Counc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was formally adopted at COP7 and has since being in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cover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ctivities between the GEF and UNCCD Secretariats, and the Global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Reporting to the COP on activities in the Land Degradation Focal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ion in GEF and UNCCD meetings (Council, Assembly, COPs, CRICs, and Reg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upport to affected country Parties for implementation of the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financing through Operational Program on Sustainable Land Management (OP15) in GEF-3, and LD Focal Area in GEF-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instrument was amended by the 3rd GEF Assembly, to include Land Degradation as a focal area, specifically desertification and defores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Council in 2006 agreed to recommend amendment of the GEF Instrument to include UNC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strument amended in 2010 by the 4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EF Assembly to say that the GEF is available to serve as a Financial Mechan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is a Financial Mechanism of the UNCC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42" name="Subtitle 6"/>
          <p:cNvSpPr/>
          <p:nvPr/>
        </p:nvSpPr>
        <p:spPr>
          <a:xfrm>
            <a:off x="380880" y="32767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provides financing to eligible affected country Parties for activities that support implementation of the Con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4 eligible Countries included in the STAR for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t-aside funds for Enabl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investment focuses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stainable Land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roduction systems – agriculture, rangelands, and forest landsc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784760" cy="38098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5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The GEF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Financial Mechanism of the UNC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Berlin Sans FB Demi"/>
              </a:rPr>
              <a:t>GEF Objectives in the Land Degradation Foc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1 Maintain or improve flow of agro-ecosystem services to sustaining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984807"/>
                </a:solidFill>
                <a:latin typeface="Calibri"/>
              </a:rPr>
              <a:t>Generate sustainable flows of forest ecosystem services in dry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3 Reduce pressures on natural resources from competing land uses in the wider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4 Increase capacity to apply adaptive management tools in Sustainable L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the UNCCD Ten-Year Strategy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OP10 Highligh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focus on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ing implementation of the 10-Year Strategy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of NAPs with the Strategy and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and use of GEF resources by eligible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assessment of LD and SLM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acts and indica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P10 Decision on GEF Collabor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support for enabling activities to enhance timely completion of NAP alignments and Reporting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GEF resources under the STAR by eligible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le Parties to harness synergies with other GEF funding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for increase allocation to the LD focal area by GEF do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the MoU for possible ame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29:23Z</dcterms:modified>
  <cp:revision>136</cp:revision>
  <dc:subject/>
  <dc:title>Focal Area and Cross Cutting Strategies – Chemicals</dc:title>
</cp:coreProperties>
</file>