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86CB-BE5B-4653-AF9B-D9F72CDEF7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9079-CD52-474F-AF6E-C1C762B26C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8 to10 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Antigua and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4:54:07Z</dcterms:modified>
  <cp:revision>140</cp:revision>
  <dc:subject/>
  <dc:title>Focal Area and Cross Cutting Strategies – Chemicals</dc:title>
</cp:coreProperties>
</file>