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60F-6385-40D3-A337-E60A2A58BC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DC41-7CD5-44CB-A682-C4FF7156D3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8 to10 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4:07Z</dcterms:modified>
  <cp:revision>140</cp:revision>
  <dc:subject/>
  <dc:title>Focal Area and Cross Cutting Strategies – Chemicals</dc:title>
</cp:coreProperties>
</file>