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C8B3-E268-4EDF-95F8-A1C322D4B7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B6F7-22E4-4587-B81E-B0BBA34368D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К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C-10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КООНБО 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ешения о сотрудничестве с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152388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Lucida Sans Unicode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2280" y="2514960"/>
            <a:ext cx="8991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взаимоотношений между ГЭФ и КООН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опросы, поднятые на КС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элементы решений КС о сотрудничестве с ГЭ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ения о сотрудничестве с ГЭФ принимались на КС-6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ава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йроб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8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дри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энос-Айре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КС-6 было предложено подписать Меморандум о взаимопонимании между КС и Советом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В был официально утвержден на КС-7 и с тех пор продолжает действов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МВ нашли отражение следующи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роприятия, совместно проводимые Секретариатами ГЭФ и КООНБО и Глобальным механиз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четы ГЭФ о мероприятиях в тематической области «деградация земель», представляемые К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мероприятиях ГЭФ и КООНБО (Совет, Ассамблея, КС, КРОК и в мероприятиях на уровне регионо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местная помощь затрагиваемым странам – Сторонам Конвенции в её осуществлен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 предоставлял финансирование в рамках Оперативной программы по устойчивому землепользованию (ОП15) в период ГЭФ-3 и в рамках тематической области «деградация земель» в период  ГЭФ-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3-й Ассамблее ГЭФ в Инструмент ГЭФ были внесены изменения и дополнения, предусматривавшие выделение вопросов деградации земель и, прежде всего, опустынивания и обезлесения, в отдельную тематическую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06 году Совет ГЭФ рекомендовал внести изменения в Инструмент ГЭФ, включив в него КООНБ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10 году на 4-й Ассамблее ГЭФ в Инструмент ГЭФ внесены поправки, предусматривающие назначение ГЭФ Финансовым механизмом КООНБ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ГЭФ является Финансовым механизмом КООНБО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1" descr="M:\Communications_GEFEXT\Logos\GEF\20 YEARS logo\20 years SEAL VERSION\GEF_seal_20_Final.png"/>
          <p:cNvPicPr/>
          <p:nvPr/>
        </p:nvPicPr>
        <p:blipFill>
          <a:blip r:embed="rId1"/>
          <a:stretch/>
        </p:blipFill>
        <p:spPr>
          <a:xfrm>
            <a:off x="2362320" y="1447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3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ЭФ предоставляет затрагиваемым странам – Сторонам Конвенции, имеющим право на получение помощи, финансирование на проведение мероприятий, способствующих осуществлению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-е пополнение ГЭФ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СПРР по тематической области ДЗ включены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страны, имеющие право на получение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резервированные ресурсы на финансирование стимулирующих меропри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м объектом инвестиций ГЭФ являетс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тойчивое земле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истемах производства – сельском хозяйстве, на пастбищах и в лесных ландшаф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84807"/>
                </a:solidFill>
                <a:uFillTx/>
                <a:latin typeface="Berlin Sans FB Demi"/>
              </a:rPr>
              <a:t>Задачи ГЭФ в тематической области «деградация зем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Поддерживать или расширять приток услуг сельскохозяйственных экосистем в целях поддержания источников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 Обеспечивать устойчивый приток услуг лесных экосистем  в засушливых райо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Снижать нагрузку на природные ресурсы, вызываемую конкурирующими видами землепользования  в масштабах ландшафта в цел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Наращивать потенциал применения механизмов адаптивного управления в сфере устойчивого земле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alibri"/>
                <a:ea typeface="Arial"/>
              </a:rPr>
              <a:t>ГЭФ и 10-летняя стратегия КООНБО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780080" cy="38102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Berlin Sans FB Demi"/>
              </a:rPr>
              <a:t>ГЭФ является финансовым механизмом КООН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новные вопросы,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днятые на КС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нтре вним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корение темпов осуществления 10-летней стратегии затрагиваемыми странами – Сторонами Конв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ие НПД с положениями Стратегии и четвертого отчетно-обзорного цик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 затрагиваемых стран – Сторон Конвенции, имеющих право на получение помощи, к ресурсам ГЭФ и их исполь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иторинг и оценка ДЗ и УЗП 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ы и показа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КС-10 по вопросу о сотрудничестве с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помощи, предоставляемой ГЭФ на проведение стимулирующих мероприятий, для обеспечения своевременного согласования НПД и представления отчетов затрагиваемыми странами – Сторонами Конв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редств ГЭФ странами – Сторонами Конвенции, имеющими право на получение помощи, в рамках СПР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транами – Сторонами Конвенции, имеющими право на получение помощи, синергии с другими механизмами финансирования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ыв к донорам ГЭФ увеличивать объем средств, предоставляемых для тематической области Д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МВ на предмет возможного внесения поправок и допол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5:17Z</dcterms:modified>
  <cp:revision>153</cp:revision>
  <dc:subject/>
  <dc:title>Focal Area and Cross Cutting Strategies – Chemicals</dc:title>
</cp:coreProperties>
</file>