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D0A8-2DA9-4629-B916-66BA033BBF7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2C46-C7E0-4DB3-8A07-4FED4E3CFF4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К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C-10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КООНБО </a:t>
            </a:r>
            <a:br>
              <a:rPr sz="3600"/>
            </a:b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Решения о сотрудничестве с ГЭФ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Subtitle 9"/>
          <p:cNvSpPr/>
          <p:nvPr/>
        </p:nvSpPr>
        <p:spPr>
          <a:xfrm>
            <a:off x="914400" y="426708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Расширенное совещание ГЭФ</a:t>
            </a:r>
            <a:br>
              <a:rPr sz="2800"/>
            </a:b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на уровне группы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Тирана, Алб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27 – 29 март 201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68360" y="152388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Lucida Sans Unicode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52280" y="2514960"/>
            <a:ext cx="899172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взаимоотношений между ГЭФ и КООН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вопросы, поднятые на КС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ючевые элементы решений КС о сотрудничестве с ГЭ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заимоотношения между ГЭФ и КООНБО 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шения о сотрудничестве с ГЭФ принимались на КС-6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ава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С-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7 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йроб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С-8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дри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С-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 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энос-Айре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КС-6 было предложено подписать Меморандум о взаимопонимании между КС и Советом ГЭ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В был официально утвержден на КС-7 и с тех пор продолжает действова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заимоотношения между ГЭФ и КООНБО 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МВ нашли отражение следующие вопросы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ероприятия, совместно проводимые Секретариатами ГЭФ и КООНБО и Глобальным механизм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четы ГЭФ о мероприятиях в тематической области «деградация земель», представляемые К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астие в мероприятиях ГЭФ и КООНБО (Совет, Ассамблея, КС, КРОК и в мероприятиях на уровне регионов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местная помощь затрагиваемым странам – Сторонам Конвенции в её осуществлен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заимоотношения между ГЭФ и КООНБО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ЭФ предоставлял финансирование в рамках Оперативной программы по устойчивому землепользованию (ОП15) в период ГЭФ-3 и в рамках тематической области «деградация земель» в период  ГЭФ-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3-й Ассамблее ГЭФ в Инструмент ГЭФ были внесены изменения и дополнения, предусматривавшие выделение вопросов деградации земель и, прежде всего, опустынивания и обезлесения, в отдельную тематическую обла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2006 году Совет ГЭФ рекомендовал внести изменения в Инструмент ГЭФ, включив в него КООНБ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2010 году на 4-й Ассамблее ГЭФ в Инструмент ГЭФ внесены поправки, предусматривающие назначение ГЭФ Финансовым механизмом КООНБ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Calibri"/>
              </a:rPr>
              <a:t>ГЭФ является Финансовым механизмом КООНБО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1" name="Picture 1" descr="M:\Communications_GEFEXT\Logos\GEF\20 YEARS logo\20 years SEAL VERSION\GEF_seal_20_Final.png"/>
          <p:cNvPicPr/>
          <p:nvPr/>
        </p:nvPicPr>
        <p:blipFill>
          <a:blip r:embed="rId1"/>
          <a:stretch/>
        </p:blipFill>
        <p:spPr>
          <a:xfrm>
            <a:off x="2362320" y="1447920"/>
            <a:ext cx="1946160" cy="1946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43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ЭФ предоставляет затрагиваемым странам – Сторонам Конвенции, имеющим право на получение помощи, финансирование на проведение мероприятий, способствующих осуществлению Конв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-е пополнение ГЭФ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 СПРР по тематической области ДЗ включены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4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страны, имеющие право на получение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Зарезервированные ресурсы на финансирование стимулирующих меропри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м объектом инвестиций ГЭФ является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стойчивое землепользование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истемах производства – сельском хозяйстве, на пастбищах и в лесных ландшафт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84807"/>
                </a:solidFill>
                <a:uFillTx/>
                <a:latin typeface="Berlin Sans FB Demi"/>
              </a:rPr>
              <a:t>Задачи ГЭФ в тематической области «деградация земел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1 </a:t>
            </a:r>
            <a:r>
              <a:rPr b="0" lang="ru-RU" sz="1600" spc="-1" strike="noStrike">
                <a:solidFill>
                  <a:srgbClr val="984807"/>
                </a:solidFill>
                <a:latin typeface="Calibri"/>
              </a:rPr>
              <a:t>Поддерживать или расширять приток услуг сельскохозяйственных экосистем в целях поддержания источников до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ru-RU" sz="1600" spc="-1" strike="noStrike">
                <a:solidFill>
                  <a:srgbClr val="984807"/>
                </a:solidFill>
                <a:latin typeface="Calibri"/>
              </a:rPr>
              <a:t> Обеспечивать устойчивый приток услуг лесных экосистем  в засушливых райо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3 </a:t>
            </a:r>
            <a:r>
              <a:rPr b="0" lang="ru-RU" sz="1600" spc="-1" strike="noStrike">
                <a:solidFill>
                  <a:srgbClr val="984807"/>
                </a:solidFill>
                <a:latin typeface="Calibri"/>
              </a:rPr>
              <a:t>Снижать нагрузку на природные ресурсы, вызываемую конкурирующими видами землепользования  в масштабах ландшафта в цел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4 </a:t>
            </a:r>
            <a:r>
              <a:rPr b="0" lang="ru-RU" sz="1600" spc="-1" strike="noStrike">
                <a:solidFill>
                  <a:srgbClr val="984807"/>
                </a:solidFill>
                <a:latin typeface="Calibri"/>
              </a:rPr>
              <a:t>Наращивать потенциал применения механизмов адаптивного управления в сфере устойчивого земле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Calibri"/>
                <a:ea typeface="Arial"/>
              </a:rPr>
              <a:t>ГЭФ и 10-летняя стратегия КООНБО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4780080" cy="38102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47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Berlin Sans FB Demi"/>
              </a:rPr>
              <a:t>ГЭФ является финансовым механизмом КООНБ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сновные вопросы,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однятые на КС-10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4479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центре вним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корение темпов осуществления 10-летней стратегии затрагиваемыми странами – Сторонами Конв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ование НПД с положениями Стратегии и четвертого отчетно-обзорного цик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уп затрагиваемых стран – Сторон Конвенции, имеющих право на получение помощи, к ресурсам ГЭФ и их исполь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ниторинг и оценка ДЗ и УЗП –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зультаты и показате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ение КС-10 по вопросу о сотрудничестве с ГЭФ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помощи, предоставляемой ГЭФ на проведение стимулирующих мероприятий, для обеспечения своевременного согласования НПД и представления отчетов затрагиваемыми странами – Сторонами Конвен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средств ГЭФ странами – Сторонами Конвенции, имеющими право на получение помощи, в рамках СПР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странами – Сторонами Конвенции, имеющими право на получение помощи, синергии с другими механизмами финансирования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зыв к донорам ГЭФ увеличивать объем средств, предоставляемых для тематической области Д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ение МВ на предмет возможного внесения поправок и допол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1:35:17Z</dcterms:modified>
  <cp:revision>153</cp:revision>
  <dc:subject/>
  <dc:title>Focal Area and Cross Cutting Strategies – Chemicals</dc:title>
</cp:coreProperties>
</file>