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1A7-AC15-4F26-890B-B3BB44DE8A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177-D33D-4CA0-A319-A37658B68F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o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6 – 8 de Marzo de 2012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3:44Z</dcterms:modified>
  <cp:revision>195</cp:revision>
  <dc:subject/>
  <dc:title>Focal Area and Cross Cutting Strategies – Chemicals</dc:title>
</cp:coreProperties>
</file>