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8C7A-2F4C-49A4-AFD0-67391E5CA64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051-734B-4297-BB33-A213ECF7034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Taller de Circunscripcio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6 – 8 de Marzo de 2012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Mundi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n sistemas de production: zonas agrícolas, de pastoreo y fore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de apoyo, a fin de promover la oportuna culminación del proceso de alineación de planes de acción nacionales y presentación de informes por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23:44Z</dcterms:modified>
  <cp:revision>195</cp:revision>
  <dc:subject/>
  <dc:title>Focal Area and Cross Cutting Strategies – Chemicals</dc:title>
</cp:coreProperties>
</file>