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1D2-319E-4AA9-978D-0610901D28D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79B1-65FC-43A5-A14E-79E193974AA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8 a10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Mundi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n sistemas de production: zonas agrícolas, de pastoreo y fores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de apoyo, a fin de promover la oportuna culminación del proceso de alineación de planes de acción nacionales y presentación de informes por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5:52Z</dcterms:modified>
  <cp:revision>199</cp:revision>
  <dc:subject/>
  <dc:title>Focal Area and Cross Cutting Strategies – Chemicals</dc:title>
</cp:coreProperties>
</file>