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0B9-4F28-4BD4-84D6-7769CEA239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200-A862-4E8D-897F-B10567E61A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Lima, Per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Glob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en sistemas de producción: zonas agrícolas, forestales y de pasto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habilitantes, a fin de promover la oportuna culminación del proceso de alineación de planes de acción nacionales y presentación de informes por parte de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5:00Z</dcterms:modified>
  <cp:revision>204</cp:revision>
  <dc:subject/>
  <dc:title>Focal Area and Cross Cutting Strategies – Chemicals</dc:title>
</cp:coreProperties>
</file>