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945D-FF80-41E0-901C-92D620D5EAF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B159-10C4-4D6E-AE1E-ED4847126AD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9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600"/>
              <a:ext cx="45932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898989"/>
                </a:solidFill>
                <a:latin typeface="Calibri"/>
              </a:rPr>
              <a:t>Taller de Circunscripción Ampliado del FM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898989"/>
                </a:solidFill>
                <a:latin typeface="Calibri"/>
              </a:rPr>
              <a:t>22 al 24 de mayo de 20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898989"/>
                </a:solidFill>
                <a:latin typeface="Calibri"/>
              </a:rPr>
              <a:t>Lima, Perú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COP-10 de la CNULD</a:t>
            </a:r>
            <a:br>
              <a:rPr sz="4000"/>
            </a:b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Decisiones sobre colaboración con el FMAM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Subtitle 9"/>
          <p:cNvSpPr/>
          <p:nvPr/>
        </p:nvSpPr>
        <p:spPr>
          <a:xfrm>
            <a:off x="609480" y="434340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¿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-6095880" y="11430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Resumen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. Antecedentes de las relaciones FMAM-CN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 Aspectos destacados de COP-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3. Elementos clave de las decisiones de la Conferencia de las Partes sobre elementos clave en materia de colaboración con 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1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 adoptaron decisiones sobre la colaboración con el FMAM en COP-6 (La Habana), COP-7 (Nairobi), COP-8 (Madrid), COP-9 (Buenos Air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 COP-6 se instó a elaborar un memorándum de entendimiento entre la Conferencia de las Partes y el Consejo del FMA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cho memorándum fue adoptado formalmente en COP-7 y desde entonces ha estado vigen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2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l memorándum de entendimiento abarca los siguientes aspecto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dades  conjuntas entre las Secretarías del FMAM y de la CNULD, y el Mecanismo Global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ministro de información, por parte del FMAM, a la Conferencia de las Partes, sobre actividades comprendidas en la esfera de actividad de degradación de la tierr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ción en reuniones del FMAM y de la CNULD (Consejo, Asamblea, Conferencia de las Partes,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Comité de Examen de la Aplicación de la Convención y reuniones regiona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oyo conjunto para los países Partes, para la implementación de la Convenció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3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Financiamiento del FMAM a través del programa operacional sobre gestión sostenible de la tierra (OP15) en el período de FMAM-3 y de la esfera de actividad de degradación de la tierra en el de FMAM-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El instrumento del FMAM fue enmendado por la tercera Asamblea del FMAM, para incluir como esfera de actividad la degradación de la tierra; específicamente la desertificación y la deforest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En 2006 el Consejo del FMAM acordó recomendar la enmienda del Instrumento del FMAM para incluir la CNU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El instrumento fue enmendado en 2010 por la cuarta Asamblea del FMAM declarar que el FMAM está disponible para desempeñarse como mecanismo de financiami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l FMAM es un mecanismo de financiamiento de la CNUL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05" name="Subtitle 6"/>
          <p:cNvSpPr/>
          <p:nvPr/>
        </p:nvSpPr>
        <p:spPr>
          <a:xfrm>
            <a:off x="380880" y="32767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El FMAM proporciona financiamiento para países Partes elegibles, para actividades de apoyo de la ejecución de la Conven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Reposición de recursos en FMAM-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ciento cuarenta y cuatro países elegibles incluidos en el sistema SATR para la esfera de degradación de la tier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reserva de fondos para actividades de apoy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En las inversiones del FMAM se hace hincapié en la 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gestión sostenible de la tierra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 en sistemas de producción: zonas agrícolas, forestales y de pastor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2743200" y="1600200"/>
            <a:ext cx="13525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Calibri"/>
              </a:rPr>
              <a:t>El FMAM es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Calibri"/>
              </a:rPr>
              <a:t>mecanismo de financiamiento de la CNU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84807"/>
                </a:solidFill>
                <a:uFillTx/>
                <a:latin typeface="Calibri"/>
              </a:rPr>
              <a:t>Objetivos del FMAM en la esfera de actividad de degradación de la t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1 Mantener o mejorar el flujo de servicios del ecosistema agrícola para mantener los medios de subsist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en-GB" sz="1600" spc="-1" strike="noStrike">
                <a:solidFill>
                  <a:srgbClr val="984807"/>
                </a:solidFill>
                <a:latin typeface="Calibri"/>
              </a:rPr>
              <a:t>Generar flujos sostenibles de ecosistemas forestales en tierras se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3 Reducir las presiones a las que están sometidos los recursos naturales por usos en pugna a nivel del paisa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4  Aumentar la capacidad de aplicación de instrumentos de ordenación adaptativa en materia de gestión sostenible de la tier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l FMAM y la Estrategia a 10 Años de la CNUL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49120" y="1143000"/>
            <a:ext cx="4780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Puntos más destacados de COP-10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pecial énfasis 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ance de los países Partes afectados en la implementación de la Estrategia a 10 añ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neación de los Programas de Acción Nacionales con la Estrategia y el cuarto proceso de presentación de inform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o a recursos del FMAM, y uso de los mismos, por los países Partes afectados elegibl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eguimiento y evaluación de temas de degradación de la tierra y gestión sostenible de la tierra: 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impactos e indica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Decisión adoptada en COP-10  sobre colaboración con el FMA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paldo del FMAM para actividades habilitantes, a fin de promover la oportuna culminación del proceso de alineación de planes de acción nacionales y presentación de informes por parte de los países Partes afecta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tilización de recursos del FMAM en el marco del sistema SATR, por los países Partes elegi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rovechamiento, por las Partes elegibles, de sinergias con otros servicios de financiamiento del FM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hortación a los donantes del FMAM a incrementar la asignación de financiamiento para la esfera de actividad de degradación de la tier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isión del contenido del memorándum de entendimiento, para considerar posibles enmien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6-06T15:55:00Z</dcterms:modified>
  <cp:revision>204</cp:revision>
  <dc:subject/>
  <dc:title>Focal Area and Cross Cutting Strategies – Chemicals</dc:title>
</cp:coreProperties>
</file>