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2716-1971-48F9-A7B7-3BFFFD5850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6F99-79EF-439F-9142-7524FF2270E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Lima, Per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Glob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en sistemas de producción: zonas agrícolas, forestales y de pastor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habilitantes, a fin de promover la oportuna culminación del proceso de alineación de planes de acción nacionales y presentación de informes por parte de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5:00Z</dcterms:modified>
  <cp:revision>204</cp:revision>
  <dc:subject/>
  <dc:title>Focal Area and Cross Cutting Strategies – Chemicals</dc:title>
</cp:coreProperties>
</file>