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1EA-324D-4063-BEFF-B9B9E6982E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2C9-4836-4D5E-B2F4-E422473CB1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17 to 19 Ap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5:25Z</dcterms:modified>
  <cp:revision>138</cp:revision>
  <dc:subject/>
  <dc:title>Focal Area and Cross Cutting Strategies – Chemicals</dc:title>
</cp:coreProperties>
</file>