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3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DF12-E31A-4434-BD8B-60D986CA2AD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5583-6CBA-4EAD-989D-60640F7E3C7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Header Placeholder 6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9"/>
          <p:cNvGrpSpPr/>
          <p:nvPr/>
        </p:nvGrpSpPr>
        <p:grpSpPr>
          <a:xfrm>
            <a:off x="0" y="152280"/>
            <a:ext cx="9144000" cy="1247760"/>
            <a:chOff x="0" y="152280"/>
            <a:chExt cx="9144000" cy="1247760"/>
          </a:xfrm>
        </p:grpSpPr>
        <p:pic>
          <p:nvPicPr>
            <p:cNvPr id="40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15228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7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152280"/>
              <a:ext cx="9119880" cy="60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itle 5"/>
          <p:cNvSpPr/>
          <p:nvPr/>
        </p:nvSpPr>
        <p:spPr>
          <a:xfrm>
            <a:off x="685800" y="3809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itle 1"/>
          <p:cNvSpPr/>
          <p:nvPr/>
        </p:nvSpPr>
        <p:spPr>
          <a:xfrm>
            <a:off x="685800" y="2286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42d"/>
                </a:solidFill>
                <a:latin typeface="Calibri"/>
              </a:rPr>
              <a:t>Thank you for your atten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UNCCD COP10</a:t>
            </a:r>
            <a:br>
              <a:rPr sz="3600"/>
            </a:b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Decisions on Collaboration with the GEF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9" name="Subtitle 9"/>
          <p:cNvSpPr/>
          <p:nvPr/>
        </p:nvSpPr>
        <p:spPr>
          <a:xfrm>
            <a:off x="914400" y="4267080"/>
            <a:ext cx="7315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98989"/>
                </a:solidFill>
                <a:latin typeface="Arial"/>
              </a:rPr>
              <a:t>17 to 19 April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98989"/>
                </a:solidFill>
                <a:latin typeface="Arial"/>
              </a:rPr>
              <a:t>Ouagadougou, Burkina F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640560" y="2657520"/>
            <a:ext cx="146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1f497d"/>
                </a:solidFill>
                <a:latin typeface="Calibri"/>
              </a:rPr>
              <a:t>Summary 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kground to GEF-UNCCD Re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P10 Highlig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Key elements of the COP Decisions on Collaboration with the GE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GEF and UNCCD Relations (1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isions on the GEF Collaboration were taken at COP6 (Havana), COP7 (Nairobi), COP8 (Madrid), COP9 (Buenos Air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P6 called for a Memorandum of Understanding between the COP and the GEF Counci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U was formally adopted at COP7 and has since being in fo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GEF and UNCCD Relations (2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U covers the follow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activities between the GEF and UNCCD Secretariats, and the Global Mechan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Reporting to the COP on activities in the Land Degradation Focal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cipation in GEF and UNCCD meetings (Council, Assembly, COPs, CRICs, and Region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support to affected country Parties for implementation of the Conv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GEF and UNCCD Relations (3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EF financing through Operational Program on Sustainable Land Management (OP15) in GEF-3, and LD Focal Area in GEF-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EF instrument was amended by the 3rd GEF Assembly, to include Land Degradation as a focal area, specifically desertification and deforest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EF Council in 2006 agreed to recommend amendment of the GEF Instrument to include UNCC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strument amended in 2010 by the 4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GEF Assembly to say that the GEF is available to serve as a Financial Mechanis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GEF is a Financial Mechanism of the UNCCD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4632480" y="1600200"/>
            <a:ext cx="1844640" cy="1533600"/>
          </a:xfrm>
          <a:prstGeom prst="rect">
            <a:avLst/>
          </a:prstGeom>
          <a:ln w="0">
            <a:noFill/>
          </a:ln>
        </p:spPr>
      </p:pic>
      <p:sp>
        <p:nvSpPr>
          <p:cNvPr id="142" name="Subtitle 6"/>
          <p:cNvSpPr/>
          <p:nvPr/>
        </p:nvSpPr>
        <p:spPr>
          <a:xfrm>
            <a:off x="380880" y="3276720"/>
            <a:ext cx="85345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provides financing to eligible affected country Parties for activities that support implementation of the Conven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-5 Replenishment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144 eligible Countries included in the STAR for 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et-aside funds for Enabl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investment focuses o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ustainable Land Manage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 production systems – agriculture, rangelands, and forest landsca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2666880" y="1600200"/>
            <a:ext cx="13525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4784760" cy="380988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sp>
        <p:nvSpPr>
          <p:cNvPr id="145" name="Up Arrow Callout 6"/>
          <p:cNvSpPr/>
          <p:nvPr/>
        </p:nvSpPr>
        <p:spPr>
          <a:xfrm>
            <a:off x="152280" y="4952880"/>
            <a:ext cx="5181840" cy="1752840"/>
          </a:xfrm>
          <a:prstGeom prst="upArrowCallout">
            <a:avLst>
              <a:gd name="adj1" fmla="val 23707"/>
              <a:gd name="adj2" fmla="val 41825"/>
              <a:gd name="adj3" fmla="val 25000"/>
              <a:gd name="adj4" fmla="val 70041"/>
            </a:avLst>
          </a:prstGeom>
          <a:solidFill>
            <a:srgbClr val="ffffff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Berlin Sans FB Demi"/>
              </a:rPr>
              <a:t>The GEF is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Berlin Sans FB Demi"/>
              </a:rPr>
              <a:t>Financial Mechanism of the UNC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eft Arrow Callout 8"/>
          <p:cNvSpPr/>
          <p:nvPr/>
        </p:nvSpPr>
        <p:spPr>
          <a:xfrm>
            <a:off x="5029200" y="1143000"/>
            <a:ext cx="3962520" cy="5486400"/>
          </a:xfrm>
          <a:prstGeom prst="leftArrowCallout">
            <a:avLst>
              <a:gd name="adj1" fmla="val 14424"/>
              <a:gd name="adj2" fmla="val 20031"/>
              <a:gd name="adj3" fmla="val 6620"/>
              <a:gd name="adj4" fmla="val 90411"/>
            </a:avLst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84807"/>
                </a:solidFill>
                <a:uFillTx/>
                <a:latin typeface="Berlin Sans FB Demi"/>
              </a:rPr>
              <a:t>GEF Objectives in the Land Degradation Foc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1 Maintain or improve flow of agro-ecosystem services to sustaining livelih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2 </a:t>
            </a:r>
            <a:r>
              <a:rPr b="0" lang="en-GB" sz="1800" spc="-1" strike="noStrike">
                <a:solidFill>
                  <a:srgbClr val="984807"/>
                </a:solidFill>
                <a:latin typeface="Calibri"/>
              </a:rPr>
              <a:t>Generate sustainable flows of forest ecosystem services in dry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3 Reduce pressures on natural resources from competing land uses in the wider landsc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4 Increase capacity to apply adaptive management tools in Sustainable Land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GEF and the UNCCD Ten-Year Strategy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OP10 Highlights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jor focus on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vancing implementation of the 10-Year Strategy by affected country Pa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ignment of NAPs with the Strategy and the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porting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ss and use of GEF resources by eligible affected country Pa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itoring and assessment of LD and SLM –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mpacts and indicato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COP10 Decision on GEF Collaboration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support for enabling activities to enhance timely completion of NAP alignments and Reporting by affected country Pa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tilization of GEF resources under the STAR by eligible country Pa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igible Parties to harness synergies with other GEF funding windo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l for increase allocation to the LD focal area by GEF don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visit the MoU for possible amend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Lisa</cp:lastModifiedBy>
  <dcterms:modified xsi:type="dcterms:W3CDTF">2012-04-23T02:05:25Z</dcterms:modified>
  <cp:revision>138</cp:revision>
  <dc:subject/>
  <dc:title>Focal Area and Cross Cutting Strategies – Chemicals</dc:title>
</cp:coreProperties>
</file>