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4343-031E-43A4-9357-9B4D97C8F4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067-2C95-44B4-B62A-8E8594E496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7B61-08B6-4D6D-AE21-E26030818D1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F94F-BACF-44F4-B7DB-EEDDBB0F87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10:24Z</dcterms:modified>
  <cp:revision>191</cp:revision>
  <dc:subject/>
  <dc:title>Focal Area and Cross Cutting Strategies – Chemicals</dc:title>
</cp:coreProperties>
</file>