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1EA-2BC2-4870-8E8A-BDFB58FE43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7F5-0D48-4FB5-BE49-E31EB7680AE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BB43-DAF8-47E9-A709-A74ACD0728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E22-7041-4695-BE16-7B72CACFEC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08:58Z</dcterms:modified>
  <cp:revision>193</cp:revision>
  <dc:subject/>
  <dc:title>Focal Area and Cross Cutting Strategies – Chemicals</dc:title>
</cp:coreProperties>
</file>