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10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CF0A-884D-405B-95AD-29C2211EA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33B-A874-4570-BBC8-68F4283D9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1786-92F8-4C88-AF74-86DFB899E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FC50-024D-4C52-ADD8-27B7237E6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1D3F-4E3D-485A-98F1-0A8415B715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A601-1176-4616-8D99-25580BD54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1300-AC56-48C9-B922-A4E76200D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035-BFFD-4B28-9BBA-D7504709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6D6-C935-4F57-900A-92E79BD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D1F-F688-440F-A6C1-94DF9EBB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33D-8A4B-4ED5-8F85-6769B88B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7B45-963C-45B3-A03B-38D85778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1435-AE15-4F96-B4ED-ECF4497D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31ED-3293-4E86-91EB-FC3B31F2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61BB-1530-4F7B-AF1F-C5C237AA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64BE-708C-4065-99EC-6B39CF81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8CF6-4F8F-43B5-90DE-B40D7C8F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93D9-9C30-44A1-8101-4A3EF1D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06F-46BE-49AF-B51B-0FE6996E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E241-894E-41C7-B365-0AAA8BA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D4AB-6BD5-408F-804E-5F319A00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7796-8BF7-4DC8-AA66-CF0C5BBA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15C0-A982-491E-B0C3-86C5BEAF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26EE-A66C-4EFD-B691-8138ED4B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705AF-E02F-4CCC-8E73-0CFE5FB0C9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31D92-98C7-44DE-B2CB-296229D96A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760F2-B668-4F1C-90C0-6953BF44B4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6A4E7-27C0-4E35-98D4-41E20769FE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21160-C7E3-4686-B645-62F300677D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D5B-4AF5-4203-BA2E-53B78C43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60B19-B393-4B37-AD7D-36A71ECE3F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D2661-55AE-4286-8FA8-9A77720CDA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2DE3C-DAF7-45C7-9E5C-A01F87A6C5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9E0FB-1647-4FFA-8FFB-DF0EAC46F7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325AC-D759-4CA1-B9DF-9ECBE041A3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5E031-D5C4-4B5B-940A-D8CAF6DA44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56050-ADCB-4DB1-A575-7EFD73DB4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0E1-330F-44EA-84B7-BE6E6BE7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DC5-A3B0-46E7-9261-AA97DD19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3C4-6E7B-4DBB-84DC-8C36D648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83A-D9BA-4982-B53C-438A529C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58C-4381-495C-B817-2740141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F4D-8ECA-4700-BBF8-2F00902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F1FA-974C-442F-B5A2-4AAD267008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BC19-F042-46F8-A121-6BC1E4B48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233B-7A5D-4203-99ED-89369A0A52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F4B9-9D11-4538-B250-0D46C1553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5A41-3A2A-4307-9FEB-A2B91A760830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2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nior Operations Evaluation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rdan, February 15 - 17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nual Monitoring Report (AMR) is the principal reporting instrument of the GEF Secretariat’s monitor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snap shot of the overall health of the GEF’s active portfolio of projects each fisca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is based on Agency PIR submis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68D8-24F0-41F1-B188-4FD55E3246F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45720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M&amp;E Policy in GEF 5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-4572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New policy approved by GEF Council in November 2010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CD15-97E6-47D9-A8EC-6BC744A3B59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BEC8-156A-4ECF-A271-2FC97DF0598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52968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0C75-AAD6-4B89-9B50-76AC294A836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0F4B-C977-4085-9CE9-2672FC15510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Knowledge management is a process for improving performance by learning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13EE-E8C0-493E-9E78-421C9C951DD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63360"/>
          <a:ext cx="9144000" cy="662940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62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rt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ey Roles and Responsibil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Counc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licy making on M&amp;E/ Oversight of M&amp;E functions / Enabling   environment for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Evaluation Offi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ependent GEF evaluation / Oversight of project and program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ersight of the relevance, performance, and overall quality of monitor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ting of minimum requirements for GEF M&amp;E/ Evaluative knowledge sharing and disse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blishing  results frameworks at the focal area and corporate level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portfolio monitoring across Agencies and focal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nd incorporating lessons from portfolio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view of GEF M&amp;E requirements in project and program propos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ordination of  partnership knowledge managemen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operational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itoring of the Agency GEF portfol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gency project, program, and portfolio progress, results, learning, and lessons/ Ensuring monitoring at the project and program level / Adaptive management of project and program implementation/ Systematic involvement of national partners and sharing of project M&amp;E information at the national level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evaluation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and program and/or corporate Agency independent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nstreaming of the GEF into relevant Agency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vise on scientific/technical matters in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to scientific and technical indicators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knowledge management and information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operational focal po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llaboration on M&amp;E at the portfolio, project, and program levels 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stakeholders (ie, NGOs, CSOs, academ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icipation in monitoring activities and mechanis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vision of views and perceptions to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123A-6E80-46BB-B8B8-07D3776D432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231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4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47B5-FF16-4ACD-8D6F-981E12ABC48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Is it any good or usefu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get value for money (or efforts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pay or do too muc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246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Resul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Will it la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7F9-F856-49B8-8809-446413819CF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527A-BF40-4048-949A-EC9ADC80511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Minimum Requirem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Concrete and fully budgeted M&amp;E plan by CEO endorsement for FSP and CEO approval for M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jects should align with GEF focal area results frame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5558-60B4-4C46-8A50-B7A966B7D4B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process/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fully established and data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07F-3184-4338-A826-79E0928E468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&amp;E minimum requirements 1 &amp;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: data on the evaluation itself (including TORs); basic project data, les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97EA-D49B-4B68-96C2-324854C0322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FB72-D3CE-4947-B190-E7A665F180F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volvement of operational focal poi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t the national lev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04E3-8B21-4ECF-91C2-24FCC8F9DBA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DFE5-BAE3-4F2E-B233-547A1D6D0E2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Evaluation planning for GEF-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AE3B-2064-4ADD-9D9D-1E1494BB6694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ountry Portfolio Evaluations: up to 15 during GEF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mpact Evaluations: main effort on International Waters and additional impact work on other foc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erformance Evaluations: APR continued and strengthened as well as independent process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ematic Evaluations: focal area strategies and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treams of evaluative evidence will enable a timely OPS5 for which less additional work should be needed than for OPS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and RBM in GEF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ing coverage of the reform process: GEF project cycle and modalities, direct access, STAR, paragraph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understanding of the catalytic role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3392-702A-45C3-AAAD-098DECC2E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 DATABA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3BBC-53A2-4E46-AF3F-B0A5638D7D3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AB7C-0205-4F48-97DD-B24745BA1D6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6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Office 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5867280" y="4800600"/>
            <a:ext cx="2971800" cy="64260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nnual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Country Portfolio 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7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Straight Arrow Connector 11"/>
          <p:cNvCxnSpPr>
            <a:stCxn id="298" idx="1"/>
          </p:cNvCxnSpPr>
          <p:nvPr/>
        </p:nvCxnSpPr>
        <p:spPr>
          <a:xfrm flipH="1">
            <a:off x="5333400" y="5124600"/>
            <a:ext cx="533880" cy="1335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3ABC-68FC-4BE0-BABB-60319B4E842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305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A817-A13C-4EC1-A899-12795E4C7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2CA5-02D2-403F-91A5-3A7D2DB84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M&amp;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of evaluation knowledge products would be the most useful for your work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6592-F189-4485-BD44-F4468CA222D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B5FF-3A8A-4980-B42B-54528B91A6E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one of the main instruments of Results Base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Evalu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a “reality check” on monitoring and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&amp;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F854-EFC4-49EA-9A8F-8A40A5F485B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B44A-985B-4628-A5F2-E8F3120C8E1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rtfolio lev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racking progress toward achieving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ndardized termin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chieving coherence across Focal A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rning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grating lessons in management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herent framework for improved decision-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4022640"/>
            <a:chOff x="1219320" y="1447920"/>
            <a:chExt cx="7467120" cy="40226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560"/>
              <a:ext cx="191556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800"/>
              <a:ext cx="3994200" cy="1416240"/>
            </a:xfrm>
            <a:prstGeom prst="rightArrow">
              <a:avLst>
                <a:gd name="adj1" fmla="val 50000"/>
                <a:gd name="adj2" fmla="val 705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142080" y="3965760"/>
              <a:ext cx="256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4120" y="445680"/>
              <a:ext cx="3600" cy="5076720"/>
            </a:xfrm>
            <a:prstGeom prst="bentConnector3">
              <a:avLst>
                <a:gd name="adj1" fmla="val 768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794120" y="4991760"/>
              <a:ext cx="21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41240" y="5562720"/>
            <a:ext cx="607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1B4C-215E-4F87-B41B-CC0D293E5BA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8076960" cy="8413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4BE7-DB79-4B50-AD64-BF5D64FFCAD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822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Lev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Report on Project Start, Project Delays, Project Cance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Project Implementation Report (PI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Tracking Too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ortfolio Overview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cal Area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to Annual Monitoring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Brace 6"/>
          <p:cNvSpPr/>
          <p:nvPr/>
        </p:nvSpPr>
        <p:spPr>
          <a:xfrm>
            <a:off x="5791320" y="2057400"/>
            <a:ext cx="1066680" cy="220968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2209680"/>
              <a:gd name="textAreaBottom" fmla="*/ 21819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5"/>
                  <a:pt x="10800" y="869"/>
                </a:cubicBezTo>
                <a:lnTo>
                  <a:pt x="10800" y="9931"/>
                </a:lnTo>
                <a:cubicBezTo>
                  <a:pt x="10800" y="10366"/>
                  <a:pt x="16200" y="10800"/>
                  <a:pt x="21600" y="10800"/>
                </a:cubicBezTo>
                <a:cubicBezTo>
                  <a:pt x="16200" y="10800"/>
                  <a:pt x="10800" y="11235"/>
                  <a:pt x="10800" y="11669"/>
                </a:cubicBezTo>
                <a:lnTo>
                  <a:pt x="10800" y="20731"/>
                </a:lnTo>
                <a:cubicBezTo>
                  <a:pt x="10800" y="211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858000" y="2895480"/>
            <a:ext cx="1066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ormation should be made available to Focal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4863-A902-4D67-A225-A371EEB6D41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2:04:19Z</dcterms:modified>
  <cp:revision>172</cp:revision>
  <dc:subject/>
  <dc:title>Slide 1</dc:title>
</cp:coreProperties>
</file>