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0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10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A7A3-AE65-4F81-B947-6B59AB095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e PIRs discuss project performance and include agency ratings that provide the basis of the analysis in the AMR on implementation progress and progress toward achieving development/global environment objectiv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D3CF-130E-4C59-A45A-F2B377DF2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728B-E39B-43F9-AB5E-0AE0C6496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9E5B-186E-4DB7-8336-49CAC1CC2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5C13-D1DC-4587-85E7-D1C88952FA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3921-9B06-4AE1-A65B-78B21233A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2DAC-5B19-469F-901D-42E1E8D9E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BF4-0760-4B6C-AD37-BD2274CA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AA5-B87C-4ED1-ADFC-4CA7E8C1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D89-85FA-47C1-A440-E587992F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30C-1493-47C0-933E-FE96B875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CEBE-6730-4A19-A15C-A7EDB3D3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4F14-D0F2-47F2-9548-A57B8DF1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E51D-E354-47EB-A55E-572DDC1E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89B6-591A-4FD2-B704-B49D99BF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06F7-1250-4375-89AE-B5227ED8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AA38-75DA-4F86-AF7E-B193A8A8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F013-6D9F-4C9B-A44C-A3AC0A75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0F7-5F38-4A8A-85E0-F6991757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8811-CDCD-4C40-8862-8E03698D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31F5-EDB8-408B-9942-77851D6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75CD-6F38-42F3-8E3C-719E6837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3408-10DC-4AF6-8EF9-19C858CF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D2A9-035D-40D3-B46B-40B5534D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190DB-0967-48AF-B3D1-F7B0EDCB44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7719C-E4C0-4DF3-98E6-711F3D4938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BC762-5363-4D5F-8E03-90046AC7BB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B46F4-B80C-497E-B004-96836CA89F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F405E-DC65-4B72-8834-A0B6224F43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EF4-A815-4E4A-8CC4-D68BF313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A2AF7-395D-4D50-97CF-3B6D19474F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A4F1A-5BC3-4017-9D02-C80F703B64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4B16F-A680-4DE6-A196-13DD409C32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730A8-5763-4FF0-9B14-0316EF59EF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8CAC7-BFEC-475F-9D28-FF91FD1581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3F756-6441-492C-B9F7-670825C563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1327A-5585-4637-ACE5-CF00BA716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DB8-AB2E-4D2A-B4EF-FE32C83C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B7D-168C-4699-9A98-95139C56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9AB-7B11-4D4F-84D1-D9D1459A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6C4-A737-49DF-9B53-E6980743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1FA-F3AD-49F4-8C02-0713000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AD9-CA7B-4835-B885-9DFA28D6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F107-F94D-4B4A-BB08-8A5EDA5E862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6D74-2126-4728-B7D4-F32EC8C568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190F-21E6-4D93-B0C7-2EAAAE6093B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6906-6543-400C-A4CD-0A0F8468B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7CCB-3F78-45BA-B5B6-66A7B88BFEC9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2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an Jose Portil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nior Operations Evaluation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rdan, February 15 - 17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nnual Monitoring Report (AMR) is the principal reporting instrument of the GEF Secretariat’s monitor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 snap shot of the overall health of the GEF’s active portfolio of projects each fiscal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is based on Agency PIR submis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934320" y="6248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CF74-BEAD-49A3-AFE7-731DAC622C7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45720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M&amp;E Policy in GEF 5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-4572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New policy approved by GEF Council in November 2010</a:t>
            </a:r>
            <a:br>
              <a:rPr sz="4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14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BB68-95C6-49B4-95CD-004373A82BA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7FA6-1581-4471-AB04-0EBD19B15B5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52968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s and performance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1F1E-2C19-47F8-8B8F-88EECBCB4EE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905120" y="10666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0D1B-9D38-4781-8308-310AEE1D182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Callout 4"/>
          <p:cNvGrpSpPr/>
          <p:nvPr/>
        </p:nvGrpSpPr>
        <p:grpSpPr>
          <a:xfrm>
            <a:off x="128520" y="268200"/>
            <a:ext cx="2816280" cy="1859040"/>
            <a:chOff x="128520" y="268200"/>
            <a:chExt cx="2816280" cy="1859040"/>
          </a:xfrm>
        </p:grpSpPr>
        <p:pic>
          <p:nvPicPr>
            <p:cNvPr id="222" name="Oval Callout 4" descr=""/>
            <p:cNvPicPr/>
            <p:nvPr/>
          </p:nvPicPr>
          <p:blipFill>
            <a:blip r:embed="rId2"/>
            <a:stretch/>
          </p:blipFill>
          <p:spPr>
            <a:xfrm>
              <a:off x="128520" y="268200"/>
              <a:ext cx="28162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0626200">
              <a:off x="790200" y="571680"/>
              <a:ext cx="1793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Knowledge management is a process for improving performance by learning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80E7-4917-41B6-AD2C-052B3C6C3AA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59400"/>
            <a:ext cx="74674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63360"/>
          <a:ext cx="9144000" cy="6629400"/>
        </p:xfrm>
        <a:graphic>
          <a:graphicData uri="http://schemas.openxmlformats.org/drawingml/2006/table">
            <a:tbl>
              <a:tblPr/>
              <a:tblGrid>
                <a:gridCol w="2857680"/>
                <a:gridCol w="6286320"/>
              </a:tblGrid>
              <a:tr h="62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rt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ey Roles and Responsibil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Counc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licy making on M&amp;E/ Oversight of M&amp;E functions / Enabling   environment for M&amp;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Evaluation Offi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ependent GEF evaluation / Oversight of project and program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ersight of the relevance, performance, and overall quality of monitor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tting of minimum requirements for GEF M&amp;E/ Evaluative knowledge sharing and disse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blishing  results frameworks at the focal area and corporate level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portfolio monitoring across Agencies and focal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rting on and incorporating lessons from portfolio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view of GEF M&amp;E requirements in project and program propos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ordination of  partnership knowledge managemen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Agency operational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itoring of the Agency GEF portfol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rting on Agency project, program, and portfolio progress, results, learning, and lessons/ Ensuring monitoring at the project and program level / Adaptive management of project and program implementation/ Systematic involvement of national partners and sharing of project M&amp;E information at the national level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Agency evaluation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and program and/or corporate Agency independent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nstreaming of the GEF into relevant Agency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vise on scientific/technical matters in M&amp;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 to scientific and technical indicators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 knowledge management and information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operational focal po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llaboration on M&amp;E at the portfolio, project, and program levels 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stakeholders (ie, NGOs, CSOs, academ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icipation in monitoring activities and mechanis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vision of views and perceptions to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22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662C-E3BF-40C6-BA97-11756DB6FE4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6"/>
          <p:cNvGrpSpPr/>
          <p:nvPr/>
        </p:nvGrpSpPr>
        <p:grpSpPr>
          <a:xfrm>
            <a:off x="5029200" y="1644480"/>
            <a:ext cx="3352680" cy="4451400"/>
            <a:chOff x="5029200" y="1644480"/>
            <a:chExt cx="3352680" cy="4451400"/>
          </a:xfrm>
        </p:grpSpPr>
        <p:pic>
          <p:nvPicPr>
            <p:cNvPr id="231" name="Group 15" descr=""/>
            <p:cNvPicPr/>
            <p:nvPr/>
          </p:nvPicPr>
          <p:blipFill>
            <a:blip r:embed="rId1"/>
            <a:stretch/>
          </p:blipFill>
          <p:spPr>
            <a:xfrm>
              <a:off x="5029200" y="1644480"/>
              <a:ext cx="335268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13"/>
            <p:cNvSpPr/>
            <p:nvPr/>
          </p:nvSpPr>
          <p:spPr>
            <a:xfrm>
              <a:off x="5768640" y="5130000"/>
              <a:ext cx="25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staina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5029200" y="5043240"/>
              <a:ext cx="3292920" cy="105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4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219320" y="1143000"/>
          <a:ext cx="3809880" cy="41148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A90-CC0D-49F6-B7A4-8957F0C62D0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25"/>
          <p:cNvSpPr/>
          <p:nvPr/>
        </p:nvSpPr>
        <p:spPr>
          <a:xfrm>
            <a:off x="2657520" y="1371600"/>
            <a:ext cx="1152360" cy="3600360"/>
          </a:xfrm>
          <a:prstGeom prst="downArrow">
            <a:avLst>
              <a:gd name="adj1" fmla="val 50000"/>
              <a:gd name="adj2" fmla="val 781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26"/>
          <p:cNvSpPr/>
          <p:nvPr/>
        </p:nvSpPr>
        <p:spPr>
          <a:xfrm>
            <a:off x="4724280" y="167652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27"/>
          <p:cNvSpPr/>
          <p:nvPr/>
        </p:nvSpPr>
        <p:spPr>
          <a:xfrm>
            <a:off x="4724280" y="2798640"/>
            <a:ext cx="719280" cy="93528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28"/>
          <p:cNvSpPr/>
          <p:nvPr/>
        </p:nvSpPr>
        <p:spPr>
          <a:xfrm>
            <a:off x="4724280" y="386568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9"/>
          <p:cNvSpPr/>
          <p:nvPr/>
        </p:nvSpPr>
        <p:spPr>
          <a:xfrm>
            <a:off x="5257800" y="3886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Is it any good or usefu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0"/>
          <p:cNvSpPr/>
          <p:nvPr/>
        </p:nvSpPr>
        <p:spPr>
          <a:xfrm>
            <a:off x="5257800" y="2819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Did I get value for money (or efforts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5257800" y="1676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Did I pay or do too muc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own Arrow 16"/>
          <p:cNvSpPr/>
          <p:nvPr/>
        </p:nvSpPr>
        <p:spPr>
          <a:xfrm rot="17497200">
            <a:off x="4713120" y="4672080"/>
            <a:ext cx="457200" cy="990360"/>
          </a:xfrm>
          <a:prstGeom prst="downArrow">
            <a:avLst>
              <a:gd name="adj1" fmla="val 50000"/>
              <a:gd name="adj2" fmla="val 44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2862360" y="2286000"/>
            <a:ext cx="1557000" cy="2590920"/>
            <a:chOff x="2862360" y="2286000"/>
            <a:chExt cx="1557000" cy="2590920"/>
          </a:xfrm>
        </p:grpSpPr>
        <p:sp>
          <p:nvSpPr>
            <p:cNvPr id="246" name="Right Brace 18"/>
            <p:cNvSpPr/>
            <p:nvPr/>
          </p:nvSpPr>
          <p:spPr>
            <a:xfrm>
              <a:off x="2862360" y="2286000"/>
              <a:ext cx="533160" cy="25909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3680 h 2590920"/>
                <a:gd name="textAreaBottom" fmla="*/ 25772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9"/>
            <p:cNvSpPr/>
            <p:nvPr/>
          </p:nvSpPr>
          <p:spPr>
            <a:xfrm rot="5400000">
              <a:off x="2912760" y="3141720"/>
              <a:ext cx="224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Resul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Rectangle 29"/>
          <p:cNvSpPr/>
          <p:nvPr/>
        </p:nvSpPr>
        <p:spPr>
          <a:xfrm>
            <a:off x="5257800" y="5029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Will it la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11FC-6B00-41C7-8404-68DF09992A6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Content Placeholder 4" descr=""/>
          <p:cNvPicPr/>
          <p:nvPr/>
        </p:nvPicPr>
        <p:blipFill>
          <a:blip r:embed="rId2"/>
          <a:stretch/>
        </p:blipFill>
        <p:spPr>
          <a:xfrm>
            <a:off x="1809720" y="895320"/>
            <a:ext cx="7108920" cy="550548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6"/>
          <p:cNvSpPr/>
          <p:nvPr/>
        </p:nvSpPr>
        <p:spPr>
          <a:xfrm>
            <a:off x="4191120" y="2819520"/>
            <a:ext cx="457200" cy="304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traight Connector 8"/>
          <p:cNvSpPr/>
          <p:nvPr/>
        </p:nvSpPr>
        <p:spPr>
          <a:xfrm flipV="1">
            <a:off x="5562000" y="2437920"/>
            <a:ext cx="228600" cy="381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traight Connector 10"/>
          <p:cNvSpPr/>
          <p:nvPr/>
        </p:nvSpPr>
        <p:spPr>
          <a:xfrm>
            <a:off x="6095880" y="3581280"/>
            <a:ext cx="3049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traight Connector 12"/>
          <p:cNvSpPr/>
          <p:nvPr/>
        </p:nvSpPr>
        <p:spPr>
          <a:xfrm>
            <a:off x="5791320" y="4343400"/>
            <a:ext cx="30456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traight Connector 14"/>
          <p:cNvSpPr/>
          <p:nvPr/>
        </p:nvSpPr>
        <p:spPr>
          <a:xfrm flipH="1">
            <a:off x="4038480" y="3886200"/>
            <a:ext cx="45720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onitoring and evaluation (M&amp;E) and results-based management (RBM) in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K ME datab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mate-Eval: community of practic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0EAB-B92B-47E0-BE65-105780533DB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152280" y="3585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&amp;E Minimum Requirem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Concrete and fully budgeted M&amp;E plan by CEO endorsement for FSP and CEO approval for M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jects should align with GEF focal area results frame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A546-A05B-42CB-A467-D8CE69AE7B4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189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 for process/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fully established and data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C9A6-6888-4AFC-BFD5-AF415115DBC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&amp;E minimum requirements 1 &amp;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: data on the evaluation itself (including TORs); basic project data, les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012C-49B8-4F55-B1FD-BA011195AB5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1371600" y="426960"/>
            <a:ext cx="79246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12193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10F9-90ED-41C9-8F71-28DF0D767F5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76680" y="358560"/>
            <a:ext cx="90680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volvement of operational focal poi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t the national lev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dentify major relevant stakeholder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meeting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sist with agend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country responses to these evalu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1F88-5C9A-4147-BCC2-8FD2FBFB16D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EC0C-4993-43A7-ABF6-7B72D9C9F66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Evaluation planning for GEF-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09E2-1E96-4E55-A5BB-F431C77B99B8}" type="slidenum">
              <a:rPr b="0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450800" y="231840"/>
            <a:ext cx="7693200" cy="7128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ountry Portfolio Evaluations: up to 15 during GEF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mpact Evaluations: main effort on International Waters and additional impact work on other focal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erformance Evaluations: APR continued and strengthened as well as independent process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hematic Evaluations: focal area strategies and 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streams of evaluative evidence will enable a timely OPS5 for which less additional work should be needed than for OPS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32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&amp;E and RBM in GEF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taining coverage of the reform process: GEF project cycle and modalities, direct access, STAR, paragraph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understanding of the catalytic role of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0D7C-B795-4533-8DB1-C52809EE0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SK ME DATABA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E526-2644-4E73-AA45-FE55C281470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ight Arrow 8"/>
          <p:cNvSpPr/>
          <p:nvPr/>
        </p:nvSpPr>
        <p:spPr>
          <a:xfrm rot="3333000">
            <a:off x="680760" y="35254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759880" cy="7920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1345-DE5D-4D03-A731-9EA22D4E745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48006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6" name="TextBox 5"/>
          <p:cNvSpPr/>
          <p:nvPr/>
        </p:nvSpPr>
        <p:spPr>
          <a:xfrm>
            <a:off x="5638680" y="2362320"/>
            <a:ext cx="289584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valuation Office 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valuation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5867280" y="4800600"/>
            <a:ext cx="2971800" cy="64260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nnual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Country Portfolio 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Straight Arrow Connector 9"/>
          <p:cNvCxnSpPr/>
          <p:nvPr/>
        </p:nvCxnSpPr>
        <p:spPr>
          <a:xfrm flipH="1">
            <a:off x="3809160" y="2513520"/>
            <a:ext cx="1753560" cy="6102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7" idx="1"/>
          </p:cNvCxnSpPr>
          <p:nvPr/>
        </p:nvCxnSpPr>
        <p:spPr>
          <a:xfrm flipH="1">
            <a:off x="4190400" y="3841920"/>
            <a:ext cx="1067400" cy="273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Straight Arrow Connector 11"/>
          <p:cNvCxnSpPr>
            <a:stCxn id="298" idx="1"/>
          </p:cNvCxnSpPr>
          <p:nvPr/>
        </p:nvCxnSpPr>
        <p:spPr>
          <a:xfrm flipH="1">
            <a:off x="5333400" y="5124600"/>
            <a:ext cx="533880" cy="1335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4BB4-9C2B-4F61-8785-52AE33C65AD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324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905120" cy="2577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305" name="Right Arrow 6"/>
          <p:cNvSpPr/>
          <p:nvPr/>
        </p:nvSpPr>
        <p:spPr>
          <a:xfrm rot="1623600">
            <a:off x="2200320" y="3165120"/>
            <a:ext cx="636480" cy="457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limate-E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56D0-090A-4D14-B25B-42CBABF06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5824-E4EB-4B8D-90C6-477D29A1A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about M&amp;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about Climate-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of Evalu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re you receiving GEF Eval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format of evaluation knowledge products would be the most useful for your work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8CCC-B804-48D2-A033-07C5AED22E0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84E5-A32F-43C6-A4E1-3DDF3785CC9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9" name="Title 1" descr=""/>
          <p:cNvPicPr/>
          <p:nvPr/>
        </p:nvPicPr>
        <p:blipFill>
          <a:blip r:embed="rId3"/>
          <a:stretch/>
        </p:blipFill>
        <p:spPr>
          <a:xfrm>
            <a:off x="1523880" y="274680"/>
            <a:ext cx="7467840" cy="102384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2952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is one of the main instruments of Results Base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Evalu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is a “reality check” on monitoring and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R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&amp;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RB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artners involved in GEF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F8CC-1A60-4DBB-88B3-E2EF1E49E6C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783A-7FD3-4BA2-809E-B7DE7765D0C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1219320" y="11430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rtfolio lev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racking progress toward achieving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ndardized termin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chieving coherence across Focal A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rning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grating lessons in management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herent framework for improved decision-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19320" y="1447920"/>
            <a:ext cx="7467120" cy="4022640"/>
            <a:chOff x="1219320" y="1447920"/>
            <a:chExt cx="7467120" cy="4022640"/>
          </a:xfrm>
        </p:grpSpPr>
        <p:sp>
          <p:nvSpPr>
            <p:cNvPr id="159" name="Text Box 5"/>
            <p:cNvSpPr/>
            <p:nvPr/>
          </p:nvSpPr>
          <p:spPr>
            <a:xfrm>
              <a:off x="121932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373716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255720" y="144792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65976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599508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1479600" y="2077560"/>
              <a:ext cx="191556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2782080" y="3493800"/>
              <a:ext cx="3994200" cy="1416240"/>
            </a:xfrm>
            <a:prstGeom prst="rightArrow">
              <a:avLst>
                <a:gd name="adj1" fmla="val 50000"/>
                <a:gd name="adj2" fmla="val 705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3142080" y="3965760"/>
              <a:ext cx="256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3824280" y="207756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429240" y="207756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9" name="AutoShape 15"/>
            <p:cNvCxnSpPr>
              <a:stCxn id="168" idx="2"/>
              <a:endCxn id="164" idx="2"/>
            </p:cNvCxnSpPr>
            <p:nvPr/>
          </p:nvCxnSpPr>
          <p:spPr>
            <a:xfrm rot="5400000">
              <a:off x="4974120" y="445680"/>
              <a:ext cx="3600" cy="5076720"/>
            </a:xfrm>
            <a:prstGeom prst="bentConnector3">
              <a:avLst>
                <a:gd name="adj1" fmla="val 768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Text Box 16"/>
            <p:cNvSpPr/>
            <p:nvPr/>
          </p:nvSpPr>
          <p:spPr>
            <a:xfrm>
              <a:off x="4794120" y="4991760"/>
              <a:ext cx="21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2541240" y="5562720"/>
            <a:ext cx="607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E35D-1B32-4221-93A3-5972D193F3C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8076960" cy="8413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77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80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B0A8-564F-41F2-8AE2-16AA4D54EF3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822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Lev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Report on Project Start, Project Delays, Project Cance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ubmission of Project Implementation Report (PI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ubmission of Tracking Too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ortfolio Overview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cal Area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ight Arrow 10"/>
          <p:cNvSpPr/>
          <p:nvPr/>
        </p:nvSpPr>
        <p:spPr>
          <a:xfrm>
            <a:off x="1447920" y="5029200"/>
            <a:ext cx="4572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to Annual Monitoring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own Arrow 16"/>
          <p:cNvSpPr/>
          <p:nvPr/>
        </p:nvSpPr>
        <p:spPr>
          <a:xfrm>
            <a:off x="3581280" y="4800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Brace 6"/>
          <p:cNvSpPr/>
          <p:nvPr/>
        </p:nvSpPr>
        <p:spPr>
          <a:xfrm>
            <a:off x="5791320" y="2057400"/>
            <a:ext cx="1066680" cy="220968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2209680"/>
              <a:gd name="textAreaBottom" fmla="*/ 21819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5"/>
                  <a:pt x="10800" y="869"/>
                </a:cubicBezTo>
                <a:lnTo>
                  <a:pt x="10800" y="9931"/>
                </a:lnTo>
                <a:cubicBezTo>
                  <a:pt x="10800" y="10366"/>
                  <a:pt x="16200" y="10800"/>
                  <a:pt x="21600" y="10800"/>
                </a:cubicBezTo>
                <a:cubicBezTo>
                  <a:pt x="16200" y="10800"/>
                  <a:pt x="10800" y="11235"/>
                  <a:pt x="10800" y="11669"/>
                </a:cubicBezTo>
                <a:lnTo>
                  <a:pt x="10800" y="20731"/>
                </a:lnTo>
                <a:cubicBezTo>
                  <a:pt x="10800" y="211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858000" y="2895480"/>
            <a:ext cx="1066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ormation should be made available to Focal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AF0F-53EB-4D71-9A88-25F7D68F304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2T22:04:19Z</dcterms:modified>
  <cp:revision>172</cp:revision>
  <dc:subject/>
  <dc:title>Slide 1</dc:title>
</cp:coreProperties>
</file>