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0.png" ContentType="image/png"/>
  <Override PartName="/ppt/media/image36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10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2AD8-CAEF-4378-98B4-715B69F41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he PIRs discuss project performance and include agency ratings that provide the basis of the analysis in the AMR on implementation progress and progress toward achieving development/global environment objectives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BB30-90F5-4F5A-9230-4F373E1B5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09CC-7259-4B01-8B5A-9A4D57CE0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C9C8-A417-490F-BEA8-AB9C0DAE3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0B1F-BDB8-4282-AF9B-82427885EF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B25C-F374-4642-9DE1-D81C6BB94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 implemented through GEF financing are the basis of the proposed RBM framework.  As such, tracking results begin from a project vantage point.  At a project level, results are tracked during implementation and evaluated upon project completion. While the tracking tools will be utilized during implementation it is important that the three major phases in a project’s evolution are linked:  (i) project design; (ii) implementation; and (iii) evaluation. Breaking down the project cycle into these three phases, highlights the learning and management aspect of the RBM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0D95-1EB4-4FFA-9169-A428046E8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F175-DB42-4FFB-8F72-75EF88E9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623-A9F1-4F73-BF09-4E1E58AF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8B1-9D50-4589-9423-AB5167C0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F0B-AFCD-4786-ACCB-6778631C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03D2-40C5-4EDA-B774-A93C4BAF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A602-1D51-4775-852D-DA08B19D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BD53-53A9-43F0-BDCE-DCE75DBA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212D-D67C-4743-8D66-6C86D8FD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168F-095E-4453-8DED-7A20FBB3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5F22-7289-4BF3-8AE7-0184B363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F6CD-21BD-47A9-93BE-5DBF1FD0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C976-BD19-4250-BB70-65108243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4354-F213-429C-B65B-F58E17DD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C3B3-7B06-41C4-B5AA-7D5141EA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E173-4DBF-4BB4-93CB-DC490CF4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3245-4708-4491-9F98-1DBDA853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06F2-CD5B-4631-B244-301499B2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47F98-C0D3-4478-B285-9C58FA428A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F67BC-77F6-4361-BA4D-583DB5D9F5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A501C-1F56-481F-A721-0DDA9B8030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DF546-3A14-400A-BFBB-5A254BE2EE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7595A-B650-424E-B2BC-D1B3AC454B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DEA-8BEE-4933-99F5-6B58FDB0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A8E0E-87E5-46AF-BADC-40FB559C32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977B0-CBCF-4FEF-9D10-DAC302C5EC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03727-8166-462C-B1CF-B9E1BC43B7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19B1C-ED07-4356-AD52-EABA5773F0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821CE-D7B5-4B5A-B8FA-20E9AA3B06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69228-A9AE-4435-9EE5-90DBA725AB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BDA81-FA0F-4D1E-B3D0-B418F0FDB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C24-5FE9-4518-8A5C-DF3F5E2D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E31-3B08-4FA5-8E2A-561E1007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EAE-6A31-4EF4-BB6D-7D9064A0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F90-DE7D-47C1-A460-E41E4D3F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CB13-8AD6-4E8F-99D9-2C9A07E3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6B2-3971-4B02-B692-05087854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D09F-C093-4DBD-AFC2-8E708A964C2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4A18-2410-457E-9AFB-FFB011D37A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7675-7E87-485C-9D32-61163F064DF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0E36-0500-497A-880A-70AFD70D1A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4CA1-E4F0-42A1-B109-6BF3C2C620BE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2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76b4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uan Jose Portil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enior Operations Evaluation Off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rdan, February 15 - 17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nnual Monitoring Report (AMR) is the principal reporting instrument of the GEF Secretariat’s monitor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a snap shot of the overall health of the GEF’s active portfolio of projects each fiscal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 is based on Agency PIR submis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3"/>
          <p:cNvSpPr/>
          <p:nvPr/>
        </p:nvSpPr>
        <p:spPr>
          <a:xfrm>
            <a:off x="6934320" y="6248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F2A7-A74A-4BE0-B6FE-5177382AA6E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45720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M&amp;E Policy in GEF 5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-4572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New policy approved by GEF Council in November 2010</a:t>
            </a:r>
            <a:br>
              <a:rPr sz="4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1146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2952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ference to GEF Results-based Managemen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(RB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rification of roles and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role for GEF Operational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ocal Po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&amp;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ene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ear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programs and jointly implement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Baseline data for M&amp;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established by CEO endors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ew Minimum Requirem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engagement of GEF Operational Focal Points in project and program M&amp;E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E75B-B2AB-4964-8C32-EA370E946CD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148104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C3F8-8618-4F29-9404-B264C055F91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Object 2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652968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nagement response is required for all evaluations and performance reports presented to the GEF Council by the GEF 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4223-DF4F-481A-A3D5-43CD1B205B1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905120" y="10666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Evaluation reports should be subject to a dynamic dissemination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romotion of a culture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pplication of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eedback to new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8845-69BB-4671-8F77-5E4E154CA57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Oval Callout 4"/>
          <p:cNvGrpSpPr/>
          <p:nvPr/>
        </p:nvGrpSpPr>
        <p:grpSpPr>
          <a:xfrm>
            <a:off x="128520" y="268200"/>
            <a:ext cx="2816280" cy="1859040"/>
            <a:chOff x="128520" y="268200"/>
            <a:chExt cx="2816280" cy="1859040"/>
          </a:xfrm>
        </p:grpSpPr>
        <p:pic>
          <p:nvPicPr>
            <p:cNvPr id="222" name="Oval Callout 4" descr=""/>
            <p:cNvPicPr/>
            <p:nvPr/>
          </p:nvPicPr>
          <p:blipFill>
            <a:blip r:embed="rId2"/>
            <a:stretch/>
          </p:blipFill>
          <p:spPr>
            <a:xfrm>
              <a:off x="128520" y="268200"/>
              <a:ext cx="28162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20626200">
              <a:off x="790200" y="571680"/>
              <a:ext cx="17938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Knowledge management is a process for improving performance by learning   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24B1-3B61-4054-8A62-2ACCB14CB4D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Content Placeholder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739116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59400"/>
            <a:ext cx="74674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c00000"/>
              </a:solidFill>
              <a:latin typeface="Calibri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63360"/>
          <a:ext cx="9144000" cy="6629400"/>
        </p:xfrm>
        <a:graphic>
          <a:graphicData uri="http://schemas.openxmlformats.org/drawingml/2006/table">
            <a:tbl>
              <a:tblPr/>
              <a:tblGrid>
                <a:gridCol w="2857680"/>
                <a:gridCol w="6286320"/>
              </a:tblGrid>
              <a:tr h="622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art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Key Roles and Responsibil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Counc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licy making on M&amp;E/ Oversight of M&amp;E functions / Enabling   environment for M&amp;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Evaluation Offi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dependent GEF evaluation / Oversight of project and program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ersight of the relevance, performance, and overall quality of monitoring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tting of minimum requirements for GEF M&amp;E/ Evaluative knowledge sharing and disse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tablishing  results frameworks at the focal area and corporate levels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portfolio monitoring across Agencies and focal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orting on and incorporating lessons from portfolio monito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view of GEF M&amp;E requirements in project and program propos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ordination of  partnership knowledge managemen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2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Agency operational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itoring of the Agency GEF portfol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orting on Agency project, program, and portfolio progress, results, learning, and lessons/ Ensuring monitoring at the project and program level / Adaptive management of project and program implementation/ Systematic involvement of national partners and sharing of project M&amp;E information at the national level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Agency evaluation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ct and program and/or corporate Agency independent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nstreaming of the GEF into relevant Agency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vise on scientific/technical matters in M&amp;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 to scientific and technical indicators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 knowledge management and information 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operational focal po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llaboration on M&amp;E at the portfolio, project, and program levels 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stakeholders (ie, NGOs, CSOs, academ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ticipation in monitoring activities and mechanism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vision of views and perceptions to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sp>
        <p:nvSpPr>
          <p:cNvPr id="22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D9C9-E726-407C-9558-0C920AA977D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6"/>
          <p:cNvGrpSpPr/>
          <p:nvPr/>
        </p:nvGrpSpPr>
        <p:grpSpPr>
          <a:xfrm>
            <a:off x="5029200" y="1644480"/>
            <a:ext cx="3352680" cy="4451400"/>
            <a:chOff x="5029200" y="1644480"/>
            <a:chExt cx="3352680" cy="4451400"/>
          </a:xfrm>
        </p:grpSpPr>
        <p:pic>
          <p:nvPicPr>
            <p:cNvPr id="231" name="Group 15" descr=""/>
            <p:cNvPicPr/>
            <p:nvPr/>
          </p:nvPicPr>
          <p:blipFill>
            <a:blip r:embed="rId1"/>
            <a:stretch/>
          </p:blipFill>
          <p:spPr>
            <a:xfrm>
              <a:off x="5029200" y="1644480"/>
              <a:ext cx="3352680" cy="33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13"/>
            <p:cNvSpPr/>
            <p:nvPr/>
          </p:nvSpPr>
          <p:spPr>
            <a:xfrm>
              <a:off x="5768640" y="5130000"/>
              <a:ext cx="25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stainabil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14"/>
            <p:cNvSpPr/>
            <p:nvPr/>
          </p:nvSpPr>
          <p:spPr>
            <a:xfrm>
              <a:off x="5029200" y="5043240"/>
              <a:ext cx="3292920" cy="1052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4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1219320" y="1143000"/>
          <a:ext cx="3809880" cy="41148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46B3-BA70-4CE0-BCAD-97F004044AE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25"/>
          <p:cNvSpPr/>
          <p:nvPr/>
        </p:nvSpPr>
        <p:spPr>
          <a:xfrm>
            <a:off x="2657520" y="1371600"/>
            <a:ext cx="1152360" cy="3600360"/>
          </a:xfrm>
          <a:prstGeom prst="downArrow">
            <a:avLst>
              <a:gd name="adj1" fmla="val 50000"/>
              <a:gd name="adj2" fmla="val 781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26"/>
          <p:cNvSpPr/>
          <p:nvPr/>
        </p:nvSpPr>
        <p:spPr>
          <a:xfrm>
            <a:off x="4724280" y="167652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27"/>
          <p:cNvSpPr/>
          <p:nvPr/>
        </p:nvSpPr>
        <p:spPr>
          <a:xfrm>
            <a:off x="4724280" y="2798640"/>
            <a:ext cx="719280" cy="93528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28"/>
          <p:cNvSpPr/>
          <p:nvPr/>
        </p:nvSpPr>
        <p:spPr>
          <a:xfrm>
            <a:off x="4724280" y="386568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29"/>
          <p:cNvSpPr/>
          <p:nvPr/>
        </p:nvSpPr>
        <p:spPr>
          <a:xfrm>
            <a:off x="5257800" y="3886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Is it any good or usefu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30"/>
          <p:cNvSpPr/>
          <p:nvPr/>
        </p:nvSpPr>
        <p:spPr>
          <a:xfrm>
            <a:off x="5257800" y="2819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Did I get value for money (or efforts)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31"/>
          <p:cNvSpPr/>
          <p:nvPr/>
        </p:nvSpPr>
        <p:spPr>
          <a:xfrm>
            <a:off x="5257800" y="1676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Did I pay or do too muc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own Arrow 16"/>
          <p:cNvSpPr/>
          <p:nvPr/>
        </p:nvSpPr>
        <p:spPr>
          <a:xfrm rot="17497200">
            <a:off x="4713120" y="4672080"/>
            <a:ext cx="457200" cy="990360"/>
          </a:xfrm>
          <a:prstGeom prst="downArrow">
            <a:avLst>
              <a:gd name="adj1" fmla="val 50000"/>
              <a:gd name="adj2" fmla="val 445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23"/>
          <p:cNvGrpSpPr/>
          <p:nvPr/>
        </p:nvGrpSpPr>
        <p:grpSpPr>
          <a:xfrm>
            <a:off x="2862360" y="2286000"/>
            <a:ext cx="1557000" cy="2590920"/>
            <a:chOff x="2862360" y="2286000"/>
            <a:chExt cx="1557000" cy="2590920"/>
          </a:xfrm>
        </p:grpSpPr>
        <p:sp>
          <p:nvSpPr>
            <p:cNvPr id="246" name="Right Brace 18"/>
            <p:cNvSpPr/>
            <p:nvPr/>
          </p:nvSpPr>
          <p:spPr>
            <a:xfrm>
              <a:off x="2862360" y="2286000"/>
              <a:ext cx="533160" cy="259092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13680 h 2590920"/>
                <a:gd name="textAreaBottom" fmla="*/ 257724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6"/>
                    <a:pt x="10800" y="371"/>
                  </a:cubicBezTo>
                  <a:lnTo>
                    <a:pt x="10800" y="10429"/>
                  </a:lnTo>
                  <a:cubicBezTo>
                    <a:pt x="10800" y="10615"/>
                    <a:pt x="16200" y="10800"/>
                    <a:pt x="21600" y="10800"/>
                  </a:cubicBezTo>
                  <a:cubicBezTo>
                    <a:pt x="16200" y="10800"/>
                    <a:pt x="10800" y="10986"/>
                    <a:pt x="10800" y="11171"/>
                  </a:cubicBezTo>
                  <a:lnTo>
                    <a:pt x="10800" y="21229"/>
                  </a:lnTo>
                  <a:cubicBezTo>
                    <a:pt x="10800" y="21415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9"/>
            <p:cNvSpPr/>
            <p:nvPr/>
          </p:nvSpPr>
          <p:spPr>
            <a:xfrm rot="5400000">
              <a:off x="2912760" y="3141720"/>
              <a:ext cx="224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Result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Rectangle 29"/>
          <p:cNvSpPr/>
          <p:nvPr/>
        </p:nvSpPr>
        <p:spPr>
          <a:xfrm>
            <a:off x="5257800" y="5029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Will it la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9385-8B54-472B-812E-8E1C4346E02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Content Placeholder 4" descr=""/>
          <p:cNvPicPr/>
          <p:nvPr/>
        </p:nvPicPr>
        <p:blipFill>
          <a:blip r:embed="rId2"/>
          <a:stretch/>
        </p:blipFill>
        <p:spPr>
          <a:xfrm>
            <a:off x="1809720" y="895320"/>
            <a:ext cx="7108920" cy="5505480"/>
          </a:xfrm>
          <a:prstGeom prst="rect">
            <a:avLst/>
          </a:prstGeom>
          <a:ln w="0">
            <a:noFill/>
          </a:ln>
        </p:spPr>
      </p:pic>
      <p:sp>
        <p:nvSpPr>
          <p:cNvPr id="252" name="Straight Connector 6"/>
          <p:cNvSpPr/>
          <p:nvPr/>
        </p:nvSpPr>
        <p:spPr>
          <a:xfrm>
            <a:off x="4191120" y="2819520"/>
            <a:ext cx="457200" cy="3045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traight Connector 8"/>
          <p:cNvSpPr/>
          <p:nvPr/>
        </p:nvSpPr>
        <p:spPr>
          <a:xfrm flipV="1">
            <a:off x="5562000" y="2437920"/>
            <a:ext cx="228600" cy="3812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traight Connector 10"/>
          <p:cNvSpPr/>
          <p:nvPr/>
        </p:nvSpPr>
        <p:spPr>
          <a:xfrm>
            <a:off x="6095880" y="3581280"/>
            <a:ext cx="30492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traight Connector 12"/>
          <p:cNvSpPr/>
          <p:nvPr/>
        </p:nvSpPr>
        <p:spPr>
          <a:xfrm>
            <a:off x="5791320" y="4343400"/>
            <a:ext cx="30456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traight Connector 14"/>
          <p:cNvSpPr/>
          <p:nvPr/>
        </p:nvSpPr>
        <p:spPr>
          <a:xfrm flipH="1">
            <a:off x="4038480" y="3886200"/>
            <a:ext cx="45720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8960" y="11426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onitoring and evaluation (M&amp;E) and results-based management (RBM) in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policy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Minimum Requireme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Involvement of focal poi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valuation planning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SK ME databa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mate-Eval: community of practic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312F-C9BE-4949-A8B2-3AE14C5EEB0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152280" y="3585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M&amp;E Minimum Requirem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Concrete and fully budgeted M&amp;E plan by CEO endorsement for FSP and CEO approval for M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rojects should align with GEF focal area results frame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data for M&amp;E by CEO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id Term Reviews (where required or foreseen) and Terminal Evaluations included i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and budget for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1CD9-D6C3-439F-A9B9-89F9DC8F07A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21896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of M&amp;E Pl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 for process/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for the project fully established and data compiled to review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for M&amp;E is operational and its budget is spent as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7562-1217-40BB-9418-6F9DAAF15BC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/Program Evalu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All full sized projects and programs will be evaluated at the end of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valuation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 independent of project management or reviewed by GEF Agency evaluation 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evaluation norms and standards of the GEF A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, as a minimum, outputs and outcomes, likelihood of sustainability, compliance with M&amp;E minimum requirements 1 &amp;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: data on the evaluation itself (including TORs); basic project data, les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be sent to GEF EO within 12 months of completion of project/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delines for evaluating MSPs/EAs will be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80E1-320B-4D6E-A266-D8C62F33E3B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1371600" y="426960"/>
            <a:ext cx="7924680" cy="7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12193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&amp;E plans should include how OFPs will be eng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OFPs to be informed on M&amp;E activities, including Mid Term Reviews and Terminal Evaluations, receiving drafts for comments and fin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OFPs invited to contribute to the management response (where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93EF-7951-4D1A-A370-33496F29AC2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76680" y="358560"/>
            <a:ext cx="90680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volvement of operational focal poi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t the national lev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identify major relevant stakeholder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meeting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sist with agenda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country responses to these evalu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95E8-60F6-42C0-B360-271887D8D6B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-5 Cross-cutting capacity development strate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component: enhancing capacities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s should be identified as a priority in the NCSA capacity development ac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unding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29D8-091A-468A-9FE6-EC51B634134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Evaluation planning for GEF-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1473-20D2-4372-BA0E-AA49494B49B0}" type="slidenum">
              <a:rPr b="0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1450800" y="231840"/>
            <a:ext cx="7693200" cy="7128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23520" y="9903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ountry Portfolio Evaluations: up to 15 during GEF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mpact Evaluations: main effort on International Waters and additional impact work on other focal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erformance Evaluations: APR continued and strengthened as well as independent process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Thematic Evaluations: focal area strategies and 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streams of evaluative evidence will enable a timely OPS5 for which less additional work should be needed than for OPS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7632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M&amp;E and RBM in GEF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taining coverage of the reform process: GEF project cycle and modalities, direct access, STAR, paragraph 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understanding of the catalytic role of the 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0" y="6172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D236-0A69-4C7C-BD1C-1BB9B7DCA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SK ME DATABA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A434-7D1C-4A86-88AC-74215D8730B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ight Arrow 8"/>
          <p:cNvSpPr/>
          <p:nvPr/>
        </p:nvSpPr>
        <p:spPr>
          <a:xfrm rot="3333000">
            <a:off x="680760" y="35254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8759880" cy="7920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4D98-FC70-453C-9030-C820D8986A5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480060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6" name="TextBox 5"/>
          <p:cNvSpPr/>
          <p:nvPr/>
        </p:nvSpPr>
        <p:spPr>
          <a:xfrm>
            <a:off x="5638680" y="2362320"/>
            <a:ext cx="289584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valuation Office Doc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5257800" y="3657600"/>
            <a:ext cx="274320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valuation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5867280" y="4800600"/>
            <a:ext cx="2971800" cy="64260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nnual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Country Portfolio 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9" name="Straight Arrow Connector 9"/>
          <p:cNvCxnSpPr/>
          <p:nvPr/>
        </p:nvCxnSpPr>
        <p:spPr>
          <a:xfrm flipH="1">
            <a:off x="3809160" y="2513520"/>
            <a:ext cx="1753560" cy="6102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0" name="Straight Arrow Connector 10"/>
          <p:cNvCxnSpPr>
            <a:stCxn id="297" idx="1"/>
          </p:cNvCxnSpPr>
          <p:nvPr/>
        </p:nvCxnSpPr>
        <p:spPr>
          <a:xfrm flipH="1">
            <a:off x="4190400" y="3841920"/>
            <a:ext cx="1067400" cy="2732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1" name="Straight Arrow Connector 11"/>
          <p:cNvCxnSpPr>
            <a:stCxn id="298" idx="1"/>
          </p:cNvCxnSpPr>
          <p:nvPr/>
        </p:nvCxnSpPr>
        <p:spPr>
          <a:xfrm flipH="1">
            <a:off x="5333400" y="5124600"/>
            <a:ext cx="533880" cy="1335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D1AD-059E-4787-9177-DFAE305E058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7315200" cy="6324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1905120" cy="25779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305" name="Right Arrow 6"/>
          <p:cNvSpPr/>
          <p:nvPr/>
        </p:nvSpPr>
        <p:spPr>
          <a:xfrm rot="1623600">
            <a:off x="2200320" y="3165120"/>
            <a:ext cx="636480" cy="45720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Climate-EV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00+ memb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line tools for participation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 (soon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CFF7-4F2B-4A3B-A17B-5813B3C1C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5448-9611-4636-A3AA-4D9D323AA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 about M&amp;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 about Climate-E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of Evalu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re you receiving GEF Evalu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What format of evaluation knowledge products would be the most useful for your work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8425-C769-48EF-8ECC-18172E9F95C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B7D0-E875-47A8-96D5-1D35AF5F606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9" name="Title 1" descr=""/>
          <p:cNvPicPr/>
          <p:nvPr/>
        </p:nvPicPr>
        <p:blipFill>
          <a:blip r:embed="rId3"/>
          <a:stretch/>
        </p:blipFill>
        <p:spPr>
          <a:xfrm>
            <a:off x="1523880" y="274680"/>
            <a:ext cx="7467840" cy="1023840"/>
          </a:xfrm>
          <a:prstGeom prst="rect">
            <a:avLst/>
          </a:prstGeom>
          <a:ln w="0">
            <a:noFill/>
          </a:ln>
        </p:spPr>
      </p:pic>
      <p:sp>
        <p:nvSpPr>
          <p:cNvPr id="150" name="Content Placeholder 2"/>
          <p:cNvSpPr/>
          <p:nvPr/>
        </p:nvSpPr>
        <p:spPr>
          <a:xfrm>
            <a:off x="1295280" y="12952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Monito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is one of the main instruments of Results Based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Evalu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is a “reality check” on monitoring and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R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Monito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&amp;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RB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tell whether the organization is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“on tr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“on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right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 trac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wo overarching objectives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ffective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partners involved in GEF activ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C92A-9BA7-4C5E-8B7C-1DEAA774C89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6E6D-BAA5-43CA-A5E9-D9D4C844585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ontent Placeholder 2"/>
          <p:cNvSpPr/>
          <p:nvPr/>
        </p:nvSpPr>
        <p:spPr>
          <a:xfrm>
            <a:off x="1219320" y="1143000"/>
            <a:ext cx="739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rtfolio lev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racking progress toward achieving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andardized terminolo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chieving coherence across Focal Are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earning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grating lessons in management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oherent framework for improved decision-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2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"/>
          <p:cNvGrpSpPr/>
          <p:nvPr/>
        </p:nvGrpSpPr>
        <p:grpSpPr>
          <a:xfrm>
            <a:off x="1219320" y="1447920"/>
            <a:ext cx="7467120" cy="4022640"/>
            <a:chOff x="1219320" y="1447920"/>
            <a:chExt cx="7467120" cy="4022640"/>
          </a:xfrm>
        </p:grpSpPr>
        <p:sp>
          <p:nvSpPr>
            <p:cNvPr id="159" name="Text Box 5"/>
            <p:cNvSpPr/>
            <p:nvPr/>
          </p:nvSpPr>
          <p:spPr>
            <a:xfrm>
              <a:off x="121932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ject and Program 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373716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6255720" y="1447920"/>
              <a:ext cx="243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365976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599508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1479600" y="2077560"/>
              <a:ext cx="191556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FA/Results framewor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&amp;E Pl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2782080" y="3493800"/>
              <a:ext cx="3994200" cy="1416240"/>
            </a:xfrm>
            <a:prstGeom prst="rightArrow">
              <a:avLst>
                <a:gd name="adj1" fmla="val 50000"/>
                <a:gd name="adj2" fmla="val 7050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3142080" y="3965760"/>
              <a:ext cx="256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nagement, monitoring, and lear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3824280" y="207756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onitoring of progress; midpoint course correction as neede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6429240" y="207756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erminal Evaluation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essons Learne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69" name="AutoShape 15"/>
            <p:cNvCxnSpPr>
              <a:stCxn id="168" idx="2"/>
              <a:endCxn id="164" idx="2"/>
            </p:cNvCxnSpPr>
            <p:nvPr/>
          </p:nvCxnSpPr>
          <p:spPr>
            <a:xfrm rot="5400000">
              <a:off x="4974120" y="445680"/>
              <a:ext cx="3600" cy="5076720"/>
            </a:xfrm>
            <a:prstGeom prst="bentConnector3">
              <a:avLst>
                <a:gd name="adj1" fmla="val 768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" name="Text Box 16"/>
            <p:cNvSpPr/>
            <p:nvPr/>
          </p:nvSpPr>
          <p:spPr>
            <a:xfrm>
              <a:off x="4794120" y="4991760"/>
              <a:ext cx="215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ssons learned; Good practic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Text Box 17"/>
          <p:cNvSpPr/>
          <p:nvPr/>
        </p:nvSpPr>
        <p:spPr>
          <a:xfrm>
            <a:off x="2541240" y="5562720"/>
            <a:ext cx="607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ed from the World Bank’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6F02-E99A-4E3A-BE2D-C65CE88464E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8076960" cy="8413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1447920"/>
            <a:ext cx="7009920" cy="4418640"/>
            <a:chOff x="1295280" y="1447920"/>
            <a:chExt cx="7009920" cy="4418640"/>
          </a:xfrm>
        </p:grpSpPr>
        <p:sp>
          <p:nvSpPr>
            <p:cNvPr id="177" name="Text Box 56"/>
            <p:cNvSpPr/>
            <p:nvPr/>
          </p:nvSpPr>
          <p:spPr>
            <a:xfrm>
              <a:off x="1295280" y="4265280"/>
              <a:ext cx="14097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ng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ottom-up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55"/>
            <p:cNvSpPr/>
            <p:nvPr/>
          </p:nvSpPr>
          <p:spPr>
            <a:xfrm>
              <a:off x="1599840" y="1779120"/>
              <a:ext cx="11811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itutional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op-dow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41"/>
            <p:cNvGrpSpPr/>
            <p:nvPr/>
          </p:nvGrpSpPr>
          <p:grpSpPr>
            <a:xfrm>
              <a:off x="3428640" y="1447920"/>
              <a:ext cx="4876560" cy="4418640"/>
              <a:chOff x="3428640" y="1447920"/>
              <a:chExt cx="4876560" cy="4418640"/>
            </a:xfrm>
          </p:grpSpPr>
          <p:sp>
            <p:nvSpPr>
              <p:cNvPr id="180" name="AutoShape 42"/>
              <p:cNvSpPr/>
              <p:nvPr/>
            </p:nvSpPr>
            <p:spPr>
              <a:xfrm>
                <a:off x="342864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43"/>
              <p:cNvSpPr/>
              <p:nvPr/>
            </p:nvSpPr>
            <p:spPr>
              <a:xfrm>
                <a:off x="523584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44"/>
              <p:cNvSpPr/>
              <p:nvPr/>
            </p:nvSpPr>
            <p:spPr>
              <a:xfrm>
                <a:off x="5080320" y="3075480"/>
                <a:ext cx="14943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oal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45"/>
              <p:cNvSpPr/>
              <p:nvPr/>
            </p:nvSpPr>
            <p:spPr>
              <a:xfrm>
                <a:off x="5470560" y="1559160"/>
                <a:ext cx="86832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F Strategic Goal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46"/>
              <p:cNvSpPr/>
              <p:nvPr/>
            </p:nvSpPr>
            <p:spPr>
              <a:xfrm>
                <a:off x="452988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523764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48"/>
              <p:cNvSpPr/>
              <p:nvPr/>
            </p:nvSpPr>
            <p:spPr>
              <a:xfrm>
                <a:off x="397908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Line 49"/>
              <p:cNvSpPr/>
              <p:nvPr/>
            </p:nvSpPr>
            <p:spPr>
              <a:xfrm>
                <a:off x="515916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Text Box 50"/>
            <p:cNvSpPr/>
            <p:nvPr/>
          </p:nvSpPr>
          <p:spPr>
            <a:xfrm>
              <a:off x="270504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51"/>
            <p:cNvSpPr/>
            <p:nvPr/>
          </p:nvSpPr>
          <p:spPr>
            <a:xfrm flipV="1">
              <a:off x="335268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52"/>
            <p:cNvSpPr/>
            <p:nvPr/>
          </p:nvSpPr>
          <p:spPr>
            <a:xfrm>
              <a:off x="335268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 flipH="1">
              <a:off x="266688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AutoShape 54"/>
            <p:cNvSpPr/>
            <p:nvPr/>
          </p:nvSpPr>
          <p:spPr>
            <a:xfrm flipH="1">
              <a:off x="266688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46AE-5F66-4459-9FD2-8BD16C9B6BC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196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8222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Lev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Report on Project Start, Project Delays, Project Cancel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ubmission of Project Implementation Report (PI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ubmission of Tracking Too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ortfolio Overview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cal Area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ight Arrow 10"/>
          <p:cNvSpPr/>
          <p:nvPr/>
        </p:nvSpPr>
        <p:spPr>
          <a:xfrm>
            <a:off x="1447920" y="5029200"/>
            <a:ext cx="4572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put to Annual Monitoring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own Arrow 16"/>
          <p:cNvSpPr/>
          <p:nvPr/>
        </p:nvSpPr>
        <p:spPr>
          <a:xfrm>
            <a:off x="3581280" y="48006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ight Brace 6"/>
          <p:cNvSpPr/>
          <p:nvPr/>
        </p:nvSpPr>
        <p:spPr>
          <a:xfrm>
            <a:off x="5791320" y="2057400"/>
            <a:ext cx="1066680" cy="2209680"/>
          </a:xfrm>
          <a:custGeom>
            <a:avLst/>
            <a:gdLst>
              <a:gd name="textAreaLeft" fmla="*/ 0 w 1066680"/>
              <a:gd name="textAreaRight" fmla="*/ 385200 w 1066680"/>
              <a:gd name="textAreaTop" fmla="*/ 27720 h 2209680"/>
              <a:gd name="textAreaBottom" fmla="*/ 218196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5"/>
                  <a:pt x="10800" y="869"/>
                </a:cubicBezTo>
                <a:lnTo>
                  <a:pt x="10800" y="9931"/>
                </a:lnTo>
                <a:cubicBezTo>
                  <a:pt x="10800" y="10366"/>
                  <a:pt x="16200" y="10800"/>
                  <a:pt x="21600" y="10800"/>
                </a:cubicBezTo>
                <a:cubicBezTo>
                  <a:pt x="16200" y="10800"/>
                  <a:pt x="10800" y="11235"/>
                  <a:pt x="10800" y="11669"/>
                </a:cubicBezTo>
                <a:lnTo>
                  <a:pt x="10800" y="20731"/>
                </a:lnTo>
                <a:cubicBezTo>
                  <a:pt x="10800" y="2116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6858000" y="2895480"/>
            <a:ext cx="1066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formation should be made available to Focal Poi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6E23-8AE6-4EFB-812D-4B60FD3F25C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2T22:04:19Z</dcterms:modified>
  <cp:revision>172</cp:revision>
  <dc:subject/>
  <dc:title>Slide 1</dc:title>
</cp:coreProperties>
</file>