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9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D5E-63CE-4B4B-802A-83B31777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42D5-6AE5-405A-AAD5-DA7315F32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3AB-0BE0-4725-B7EC-3A60697D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35C-7958-46CF-B077-73A046DA0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A84-5AFF-4F41-906C-5AD1A9C9C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952B-5C08-4C4E-897F-91DCDF745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05E-AC33-4DBA-AD22-96FFFFE9E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AAD-929E-48A3-8458-8D6FE19D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7C1-3A2F-455D-9E81-A415620F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E50-2B56-4598-8AA9-12CC826E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689-8540-4B14-8C2C-629E5AE3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BA7C-1B1E-4FE2-955E-EAED2CCE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6FAF-E887-459A-B6CD-C98AFC6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68A-9DBF-419A-9F10-BEC9167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CF9-470D-4C2F-AA6B-E88D64B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D15-FB52-42B7-BD14-676A2EB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5EA-D860-4930-BCBA-A75B8DCB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761-2424-43B9-982F-75CE244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FD6-BCBC-4F1B-858E-8948AD5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F69-CBF6-4B72-9064-59778DB0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64AB-2FB4-40F7-BE14-267530D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A9D-A355-469E-A72C-74850505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BC1-4D35-40D2-8923-F6A7437B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D80-3D9C-4A80-8BB5-4A32A054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00DC6-27ED-45E4-8FEF-FC74FC1CA3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8C0B-8543-4F2E-A554-5CB270379E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0C569-280D-4892-BE77-238B3A37A2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8EB3F-5EA3-491D-B8BE-1545CF7496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1BD0B-6E22-4B74-93AB-305615E45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097-556F-46FE-83C0-912A9FD4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AD02E-2F4A-4759-87EC-128911DC1F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BFC6F-9C41-4171-B4D7-142F782519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D5E6C-D681-49D2-B93D-7E679B93A0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9A210-2F11-4BC1-89B9-0C8CC4807F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39306-249F-40B1-B5FA-E5DF0987AE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5E05C-1A96-42AA-96A2-433DE30F12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76DBB-583E-479A-B1C3-4FEE91833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78A-EC53-4E12-84CA-66CE5C71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488-DA5C-42AE-B016-5D4175A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7A0-B34A-4A31-972F-B2BB43D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2EA-FB03-4C65-B255-1E7F4EA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111-15F8-4CD0-A1CE-2E1A296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E97-ADC9-4C00-884D-6C78176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5752-65F5-424A-9CE7-F3650B5B23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C5C1-DF35-4605-A20D-A65C0A3EE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4F9-8B37-4195-9795-3A6203A468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76C5-2EF0-4A8C-B1A2-0B77B908E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291-4BC5-476E-B8FB-32872FF7DDAF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2800" spc="-1" strike="noStrike">
                <a:solidFill>
                  <a:srgbClr val="376b4c"/>
                </a:solidFill>
                <a:latin typeface="Calibri"/>
                <a:cs typeface="Simplified Arabic"/>
              </a:rPr>
              <a:t>المتابعة والتقييم في صندوق البيئة العالمية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بير أول في عمليات 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حلقة عمل المجموعة الموسّ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أردن م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5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إلى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7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فبراير/شباط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01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2420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رير المتابعة السنوي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AMR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هو أداة الإبلاغ الرئيسية بالنسبة لنظام المتابعة في الأمانة العامة لصندوق البيئة العال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عطي لمحة عامة عن عافية حافظة عمليات الصندوق الجاري تنفيذها من المشروعات في كل من سنواته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ستند هذا التقرير إلى التقارير عن تنفيذ المشروعات التي ترفعها الهيئات المسؤولة عن 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F0C-5725-43F7-8757-E7FDC4A7462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سياسة المتابعة والتقييم في صندوق البيئة العالمية – 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8088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سياسة الجديدة التي وافق عليها مجلس صندوق البيئة العالمية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في نوفمبر/تشرين الثاني 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2010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رجعية للإدارة المستندة إلى تحقيق النتائج في صندوق البيئة العالمية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RBM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يضاح الأدوار والمسؤوليا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زيادة قوة دوْر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مراكز تنسيق </a:t>
            </a:r>
            <a:r>
              <a:rPr b="0" lang="ar-SY" sz="26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مليات الصندوق في المتابعة والتقيي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دعيم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تبادل المعرف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تعلّ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ضمين البرامج والمشروعات المشتركة 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بيانات الأساسية بشأن المتابعة والتقييم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جري وضعها بمصادقة من المسؤول التنفيذي الأو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طلبات الدنيا الجديد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إشراك مراكز تنسيق عمليات الصندوق في أنشطة المتابعة والتقييم على مستوى المشروعات والبرامج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7548-6493-4210-9285-A93038AB08E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9C7C-9D4F-45A1-8470-1044D087469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6705360" cy="42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ُشترط جواب الإدارة المعنية على كافة التقييمات والتقارير عن الأداء التي يرفعها مكتب التقييم إلى مجلس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ند اتخاذ القرارات اللازمة، يأخذ مجلس الصندوق في الاعتبار كلاً من التقييم وجواب الإدارة المعن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ارير مكتب التقييم في الصندوق عن تنفيذ القرارات سنوياً (سجل إجراءات الإدارة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في حالة تقييمات حوافظ عمليات البلدان، تسنح للبلدان فرصة الإعراب لمجلس الصندوق عن وجهات نظرها أيض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991-6E7A-4D14-BD43-BF66A57563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يسهمان في بناء المعرفة وتحسين ا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يجب أن تكون النتائج والدروس المستفادة متاحة للجماهير المستهدفة بطريقة سهل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قارير التقييم يجب أن تكون خاضعة لاستراتيجية تعميم ديناميك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بادل المعرفة يُمكّن الشركاء من الاستفادة من الدروس المستفادة من الخبرة العم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غرض إدارة المعرفة في صندوق البيئة العال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شجيع تقاليد التعلّ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طبيق الدروس المستف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إتاحة معلومات تقييمية لفائدة الأنشطة الجديد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F463-C42F-4BD7-9654-AF4E6D23F48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Y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إدارة المعرفة هي عملية لتحسين الأداء من خلال التعلّ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90E0-59AD-44B0-8628-C9F879680BB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219320" y="907920"/>
            <a:ext cx="7451280" cy="5797800"/>
            <a:chOff x="1219320" y="907920"/>
            <a:chExt cx="7451280" cy="5797800"/>
          </a:xfrm>
        </p:grpSpPr>
        <p:sp>
          <p:nvSpPr>
            <p:cNvPr id="227" name="AutoShape 3"/>
            <p:cNvSpPr/>
            <p:nvPr/>
          </p:nvSpPr>
          <p:spPr>
            <a:xfrm>
              <a:off x="1219320" y="914400"/>
              <a:ext cx="7391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5285160" y="1333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41080" y="6446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3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6802560" y="3228840"/>
              <a:ext cx="620640" cy="254160"/>
              <a:chOff x="6802560" y="3228840"/>
              <a:chExt cx="620640" cy="254160"/>
            </a:xfrm>
          </p:grpSpPr>
          <p:sp>
            <p:nvSpPr>
              <p:cNvPr id="233" name="Rectangle 9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0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Rectangle 12"/>
            <p:cNvSpPr/>
            <p:nvPr/>
          </p:nvSpPr>
          <p:spPr>
            <a:xfrm>
              <a:off x="6819840" y="3278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مشور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7340760" y="3278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16"/>
            <p:cNvGrpSpPr/>
            <p:nvPr/>
          </p:nvGrpSpPr>
          <p:grpSpPr>
            <a:xfrm>
              <a:off x="2855880" y="1660680"/>
              <a:ext cx="782640" cy="255600"/>
              <a:chOff x="2855880" y="1660680"/>
              <a:chExt cx="782640" cy="255600"/>
            </a:xfrm>
          </p:grpSpPr>
          <p:sp>
            <p:nvSpPr>
              <p:cNvPr id="238" name="Rectangle 14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511800" y="1709640"/>
              <a:ext cx="4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3557880" y="1709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4309920" y="1068480"/>
              <a:ext cx="865440" cy="236520"/>
              <a:chOff x="4309920" y="1068480"/>
              <a:chExt cx="865440" cy="236520"/>
            </a:xfrm>
          </p:grpSpPr>
          <p:sp>
            <p:nvSpPr>
              <p:cNvPr id="243" name="Rectangle 20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1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Rectangle 24"/>
            <p:cNvSpPr/>
            <p:nvPr/>
          </p:nvSpPr>
          <p:spPr>
            <a:xfrm>
              <a:off x="5102280" y="1117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5479920" y="2954160"/>
              <a:ext cx="884520" cy="1130400"/>
            </a:xfrm>
            <a:prstGeom prst="ellipse">
              <a:avLst/>
            </a:prstGeom>
            <a:solidFill>
              <a:srgbClr val="62b2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5638680" y="3121200"/>
              <a:ext cx="5079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تقييم، والشركاء في التقييم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198480" y="37130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82"/>
            <p:cNvGrpSpPr/>
            <p:nvPr/>
          </p:nvGrpSpPr>
          <p:grpSpPr>
            <a:xfrm>
              <a:off x="3179880" y="966960"/>
              <a:ext cx="1644480" cy="1120680"/>
              <a:chOff x="3179880" y="966960"/>
              <a:chExt cx="1644480" cy="1120680"/>
            </a:xfrm>
          </p:grpSpPr>
          <p:sp>
            <p:nvSpPr>
              <p:cNvPr id="250" name="Rectangle 32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195720" y="99216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2" y="0"/>
                    </a:moveTo>
                    <a:lnTo>
                      <a:pt x="0" y="344"/>
                    </a:lnTo>
                    <a:lnTo>
                      <a:pt x="512" y="689"/>
                    </a:lnTo>
                    <a:lnTo>
                      <a:pt x="1025" y="344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3179880" y="966960"/>
                <a:ext cx="16286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>
                <a:off x="3179880" y="1055520"/>
                <a:ext cx="1628640" cy="38160"/>
              </a:xfrm>
              <a:prstGeom prst="rect">
                <a:avLst/>
              </a:prstGeom>
              <a:solidFill>
                <a:srgbClr val="fe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7"/>
              <p:cNvSpPr/>
              <p:nvPr/>
            </p:nvSpPr>
            <p:spPr>
              <a:xfrm>
                <a:off x="3179880" y="1093680"/>
                <a:ext cx="1628640" cy="60480"/>
              </a:xfrm>
              <a:prstGeom prst="rect">
                <a:avLst/>
              </a:pr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3179880" y="1154160"/>
                <a:ext cx="1628640" cy="25200"/>
              </a:xfrm>
              <a:prstGeom prst="rect">
                <a:avLst/>
              </a:prstGeom>
              <a:solidFill>
                <a:srgbClr val="fd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179880" y="1179360"/>
                <a:ext cx="1628640" cy="42840"/>
              </a:xfrm>
              <a:prstGeom prst="rect">
                <a:avLst/>
              </a:prstGeom>
              <a:solidFill>
                <a:srgbClr val="fd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179880" y="1222200"/>
                <a:ext cx="1628640" cy="28800"/>
              </a:xfrm>
              <a:prstGeom prst="rect">
                <a:avLst/>
              </a:prstGeom>
              <a:solidFill>
                <a:srgbClr val="fc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179880" y="1251000"/>
                <a:ext cx="1628640" cy="22320"/>
              </a:xfrm>
              <a:prstGeom prst="rect">
                <a:avLst/>
              </a:prstGeom>
              <a:solidFill>
                <a:srgbClr val="fbf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179880" y="1273320"/>
                <a:ext cx="1628640" cy="27000"/>
              </a:xfrm>
              <a:prstGeom prst="rect">
                <a:avLst/>
              </a:prstGeom>
              <a:solidFill>
                <a:srgbClr val="fb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43"/>
              <p:cNvSpPr/>
              <p:nvPr/>
            </p:nvSpPr>
            <p:spPr>
              <a:xfrm>
                <a:off x="3179880" y="1300320"/>
                <a:ext cx="1628640" cy="15840"/>
              </a:xfrm>
              <a:prstGeom prst="rect">
                <a:avLst/>
              </a:prstGeom>
              <a:solidFill>
                <a:srgbClr val="f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44"/>
              <p:cNvSpPr/>
              <p:nvPr/>
            </p:nvSpPr>
            <p:spPr>
              <a:xfrm>
                <a:off x="3179880" y="1316160"/>
                <a:ext cx="1628640" cy="20520"/>
              </a:xfrm>
              <a:prstGeom prst="rect">
                <a:avLst/>
              </a:prstGeom>
              <a:solidFill>
                <a:srgbClr val="f9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179880" y="1336680"/>
                <a:ext cx="1628640" cy="17280"/>
              </a:xfrm>
              <a:prstGeom prst="rect">
                <a:avLst/>
              </a:prstGeom>
              <a:solidFill>
                <a:srgbClr val="f9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179880" y="1353960"/>
                <a:ext cx="1628640" cy="20880"/>
              </a:xfrm>
              <a:prstGeom prst="rect">
                <a:avLst/>
              </a:prstGeom>
              <a:solidFill>
                <a:srgbClr val="f8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179880" y="1374840"/>
                <a:ext cx="1628640" cy="22320"/>
              </a:xfrm>
              <a:prstGeom prst="rect">
                <a:avLst/>
              </a:prstGeom>
              <a:solidFill>
                <a:srgbClr val="f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179880" y="1397160"/>
                <a:ext cx="1628640" cy="12600"/>
              </a:xfrm>
              <a:prstGeom prst="rect">
                <a:avLst/>
              </a:prstGeom>
              <a:solidFill>
                <a:srgbClr val="f7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49"/>
              <p:cNvSpPr/>
              <p:nvPr/>
            </p:nvSpPr>
            <p:spPr>
              <a:xfrm>
                <a:off x="3179880" y="1409760"/>
                <a:ext cx="1628640" cy="17280"/>
              </a:xfrm>
              <a:prstGeom prst="rect">
                <a:avLst/>
              </a:prstGeom>
              <a:solidFill>
                <a:srgbClr val="f6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179880" y="1427040"/>
                <a:ext cx="1628640" cy="12960"/>
              </a:xfrm>
              <a:prstGeom prst="rect">
                <a:avLst/>
              </a:prstGeom>
              <a:solidFill>
                <a:srgbClr val="f6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51"/>
              <p:cNvSpPr/>
              <p:nvPr/>
            </p:nvSpPr>
            <p:spPr>
              <a:xfrm>
                <a:off x="3179880" y="1440000"/>
                <a:ext cx="1628640" cy="17280"/>
              </a:xfrm>
              <a:prstGeom prst="rect">
                <a:avLst/>
              </a:prstGeom>
              <a:solidFill>
                <a:srgbClr val="f5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52"/>
              <p:cNvSpPr/>
              <p:nvPr/>
            </p:nvSpPr>
            <p:spPr>
              <a:xfrm>
                <a:off x="3179880" y="1457280"/>
                <a:ext cx="1628640" cy="12600"/>
              </a:xfrm>
              <a:prstGeom prst="rect">
                <a:avLst/>
              </a:prstGeom>
              <a:solidFill>
                <a:srgbClr val="f5e5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53"/>
              <p:cNvSpPr/>
              <p:nvPr/>
            </p:nvSpPr>
            <p:spPr>
              <a:xfrm>
                <a:off x="3179880" y="1469880"/>
                <a:ext cx="1628640" cy="17640"/>
              </a:xfrm>
              <a:prstGeom prst="rect">
                <a:avLst/>
              </a:prstGeom>
              <a:solidFill>
                <a:srgbClr val="f4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54"/>
              <p:cNvSpPr/>
              <p:nvPr/>
            </p:nvSpPr>
            <p:spPr>
              <a:xfrm>
                <a:off x="3179880" y="1487520"/>
                <a:ext cx="1628640" cy="11160"/>
              </a:xfrm>
              <a:prstGeom prst="rect">
                <a:avLst/>
              </a:prstGeom>
              <a:solidFill>
                <a:srgbClr val="f3e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5"/>
              <p:cNvSpPr/>
              <p:nvPr/>
            </p:nvSpPr>
            <p:spPr>
              <a:xfrm>
                <a:off x="3179880" y="1498680"/>
                <a:ext cx="1628640" cy="17280"/>
              </a:xfrm>
              <a:prstGeom prst="rect">
                <a:avLst/>
              </a:prstGeom>
              <a:solidFill>
                <a:srgbClr val="f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6"/>
              <p:cNvSpPr/>
              <p:nvPr/>
            </p:nvSpPr>
            <p:spPr>
              <a:xfrm>
                <a:off x="3179880" y="1515960"/>
                <a:ext cx="1628640" cy="14400"/>
              </a:xfrm>
              <a:prstGeom prst="rect">
                <a:avLst/>
              </a:prstGeom>
              <a:solidFill>
                <a:srgbClr val="f2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7"/>
              <p:cNvSpPr/>
              <p:nvPr/>
            </p:nvSpPr>
            <p:spPr>
              <a:xfrm>
                <a:off x="3179880" y="1530360"/>
                <a:ext cx="1628640" cy="12600"/>
              </a:xfrm>
              <a:prstGeom prst="rect">
                <a:avLst/>
              </a:prstGeom>
              <a:solidFill>
                <a:srgbClr val="f2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8"/>
              <p:cNvSpPr/>
              <p:nvPr/>
            </p:nvSpPr>
            <p:spPr>
              <a:xfrm>
                <a:off x="3179880" y="1542960"/>
                <a:ext cx="1628640" cy="11160"/>
              </a:xfrm>
              <a:prstGeom prst="rect">
                <a:avLst/>
              </a:prstGeom>
              <a:solidFill>
                <a:srgbClr val="f1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179880" y="1554120"/>
                <a:ext cx="1628640" cy="14400"/>
              </a:xfrm>
              <a:prstGeom prst="rect">
                <a:avLst/>
              </a:prstGeom>
              <a:solidFill>
                <a:srgbClr val="f1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0"/>
              <p:cNvSpPr/>
              <p:nvPr/>
            </p:nvSpPr>
            <p:spPr>
              <a:xfrm>
                <a:off x="3179880" y="1568520"/>
                <a:ext cx="1628640" cy="17280"/>
              </a:xfrm>
              <a:prstGeom prst="rect">
                <a:avLst/>
              </a:prstGeom>
              <a:solidFill>
                <a:srgbClr val="f0d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ctangle 61"/>
              <p:cNvSpPr/>
              <p:nvPr/>
            </p:nvSpPr>
            <p:spPr>
              <a:xfrm>
                <a:off x="3179880" y="1585800"/>
                <a:ext cx="1628640" cy="12960"/>
              </a:xfrm>
              <a:prstGeom prst="rect">
                <a:avLst/>
              </a:prstGeom>
              <a:solidFill>
                <a:srgbClr val="f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179880" y="1598760"/>
                <a:ext cx="1628640" cy="12600"/>
              </a:xfrm>
              <a:prstGeom prst="rect">
                <a:avLst/>
              </a:prstGeom>
              <a:solidFill>
                <a:srgbClr val="e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179880" y="1611360"/>
                <a:ext cx="1628640" cy="11160"/>
              </a:xfrm>
              <a:prstGeom prst="rect">
                <a:avLst/>
              </a:prstGeom>
              <a:solidFill>
                <a:srgbClr val="e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179880" y="1622520"/>
                <a:ext cx="1628640" cy="19080"/>
              </a:xfrm>
              <a:prstGeom prst="rect">
                <a:avLst/>
              </a:prstGeom>
              <a:solidFill>
                <a:srgbClr val="eed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179880" y="1641600"/>
                <a:ext cx="1628640" cy="12600"/>
              </a:xfrm>
              <a:prstGeom prst="rect">
                <a:avLst/>
              </a:prstGeom>
              <a:solidFill>
                <a:srgbClr val="ee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Rectangle 66"/>
              <p:cNvSpPr/>
              <p:nvPr/>
            </p:nvSpPr>
            <p:spPr>
              <a:xfrm>
                <a:off x="3179880" y="1654200"/>
                <a:ext cx="1628640" cy="17280"/>
              </a:xfrm>
              <a:prstGeom prst="rect">
                <a:avLst/>
              </a:prstGeom>
              <a:solidFill>
                <a:srgbClr val="edd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179880" y="1671480"/>
                <a:ext cx="1628640" cy="11160"/>
              </a:xfrm>
              <a:prstGeom prst="rect">
                <a:avLst/>
              </a:prstGeom>
              <a:solidFill>
                <a:srgbClr val="ec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Rectangle 68"/>
              <p:cNvSpPr/>
              <p:nvPr/>
            </p:nvSpPr>
            <p:spPr>
              <a:xfrm>
                <a:off x="3179880" y="1682640"/>
                <a:ext cx="1628640" cy="17640"/>
              </a:xfrm>
              <a:prstGeom prst="rect">
                <a:avLst/>
              </a:prstGeom>
              <a:solidFill>
                <a:srgbClr val="ec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69"/>
              <p:cNvSpPr/>
              <p:nvPr/>
            </p:nvSpPr>
            <p:spPr>
              <a:xfrm>
                <a:off x="3179880" y="1700280"/>
                <a:ext cx="1628640" cy="12600"/>
              </a:xfrm>
              <a:prstGeom prst="rect">
                <a:avLst/>
              </a:prstGeom>
              <a:solidFill>
                <a:srgbClr val="e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70"/>
              <p:cNvSpPr/>
              <p:nvPr/>
            </p:nvSpPr>
            <p:spPr>
              <a:xfrm>
                <a:off x="3179880" y="1712880"/>
                <a:ext cx="1628640" cy="20520"/>
              </a:xfrm>
              <a:prstGeom prst="rect">
                <a:avLst/>
              </a:prstGeom>
              <a:solidFill>
                <a:srgbClr val="eb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71"/>
              <p:cNvSpPr/>
              <p:nvPr/>
            </p:nvSpPr>
            <p:spPr>
              <a:xfrm>
                <a:off x="3179880" y="1733400"/>
                <a:ext cx="1628640" cy="22320"/>
              </a:xfrm>
              <a:prstGeom prst="rect">
                <a:avLst/>
              </a:prstGeom>
              <a:solidFill>
                <a:srgbClr val="eac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72"/>
              <p:cNvSpPr/>
              <p:nvPr/>
            </p:nvSpPr>
            <p:spPr>
              <a:xfrm>
                <a:off x="3179880" y="1755720"/>
                <a:ext cx="1628640" cy="17640"/>
              </a:xfrm>
              <a:prstGeom prst="rect">
                <a:avLst/>
              </a:prstGeom>
              <a:solidFill>
                <a:srgbClr val="ea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73"/>
              <p:cNvSpPr/>
              <p:nvPr/>
            </p:nvSpPr>
            <p:spPr>
              <a:xfrm>
                <a:off x="3179880" y="1773360"/>
                <a:ext cx="1628640" cy="20520"/>
              </a:xfrm>
              <a:prstGeom prst="rect">
                <a:avLst/>
              </a:prstGeom>
              <a:solidFill>
                <a:srgbClr val="e9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74"/>
              <p:cNvSpPr/>
              <p:nvPr/>
            </p:nvSpPr>
            <p:spPr>
              <a:xfrm>
                <a:off x="3179880" y="1793880"/>
                <a:ext cx="1628640" cy="17280"/>
              </a:xfrm>
              <a:prstGeom prst="rect">
                <a:avLst/>
              </a:prstGeom>
              <a:solidFill>
                <a:srgbClr val="e9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75"/>
              <p:cNvSpPr/>
              <p:nvPr/>
            </p:nvSpPr>
            <p:spPr>
              <a:xfrm>
                <a:off x="3179880" y="1811160"/>
                <a:ext cx="1628640" cy="27000"/>
              </a:xfrm>
              <a:prstGeom prst="rect">
                <a:avLst/>
              </a:prstGeom>
              <a:solidFill>
                <a:srgbClr val="e8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179880" y="1838160"/>
                <a:ext cx="1628640" cy="19080"/>
              </a:xfrm>
              <a:prstGeom prst="rect">
                <a:avLst/>
              </a:prstGeom>
              <a:solidFill>
                <a:srgbClr val="e8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ectangle 77"/>
              <p:cNvSpPr/>
              <p:nvPr/>
            </p:nvSpPr>
            <p:spPr>
              <a:xfrm>
                <a:off x="3179880" y="1857240"/>
                <a:ext cx="1628640" cy="34920"/>
              </a:xfrm>
              <a:prstGeom prst="rect">
                <a:avLst/>
              </a:prstGeom>
              <a:solidFill>
                <a:srgbClr val="e7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Rectangle 78"/>
              <p:cNvSpPr/>
              <p:nvPr/>
            </p:nvSpPr>
            <p:spPr>
              <a:xfrm>
                <a:off x="3179880" y="1892160"/>
                <a:ext cx="1628640" cy="42840"/>
              </a:xfrm>
              <a:prstGeom prst="rect">
                <a:avLst/>
              </a:prstGeom>
              <a:solidFill>
                <a:srgbClr val="e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179880" y="1935000"/>
                <a:ext cx="1628640" cy="65160"/>
              </a:xfrm>
              <a:prstGeom prst="rect">
                <a:avLst/>
              </a:prstGeom>
              <a:solidFill>
                <a:srgbClr val="e6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179880" y="2000160"/>
                <a:ext cx="1628640" cy="61920"/>
              </a:xfrm>
              <a:prstGeom prst="rect">
                <a:avLst/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81"/>
              <p:cNvSpPr/>
              <p:nvPr/>
            </p:nvSpPr>
            <p:spPr>
              <a:xfrm>
                <a:off x="3181320" y="96840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3" y="0"/>
                    </a:moveTo>
                    <a:lnTo>
                      <a:pt x="0" y="344"/>
                    </a:lnTo>
                    <a:lnTo>
                      <a:pt x="513" y="689"/>
                    </a:lnTo>
                    <a:lnTo>
                      <a:pt x="1025" y="344"/>
                    </a:lnTo>
                    <a:lnTo>
                      <a:pt x="51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d99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0" name="Rectangle 83"/>
            <p:cNvSpPr/>
            <p:nvPr/>
          </p:nvSpPr>
          <p:spPr>
            <a:xfrm>
              <a:off x="4005720" y="1265400"/>
              <a:ext cx="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3434400" y="137160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مجلس الصندو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4286520" y="1436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86"/>
            <p:cNvSpPr/>
            <p:nvPr/>
          </p:nvSpPr>
          <p:spPr>
            <a:xfrm>
              <a:off x="2627280" y="907920"/>
              <a:ext cx="1017720" cy="416160"/>
            </a:xfrm>
            <a:custGeom>
              <a:avLst/>
              <a:gdLst/>
              <a:ahLst/>
              <a:rect l="l" t="t" r="r" b="b"/>
              <a:pathLst>
                <a:path w="10000" h="4553">
                  <a:moveTo>
                    <a:pt x="9850" y="100"/>
                  </a:moveTo>
                  <a:lnTo>
                    <a:pt x="9850" y="100"/>
                  </a:lnTo>
                  <a:cubicBezTo>
                    <a:pt x="9823" y="100"/>
                    <a:pt x="9800" y="77"/>
                    <a:pt x="9800" y="50"/>
                  </a:cubicBezTo>
                  <a:cubicBezTo>
                    <a:pt x="9800" y="22"/>
                    <a:pt x="9823" y="0"/>
                    <a:pt x="9850" y="0"/>
                  </a:cubicBezTo>
                  <a:lnTo>
                    <a:pt x="9850" y="0"/>
                  </a:lnTo>
                  <a:cubicBezTo>
                    <a:pt x="9878" y="0"/>
                    <a:pt x="9900" y="22"/>
                    <a:pt x="9900" y="50"/>
                  </a:cubicBezTo>
                  <a:cubicBezTo>
                    <a:pt x="9900" y="77"/>
                    <a:pt x="9878" y="100"/>
                    <a:pt x="9850" y="100"/>
                  </a:cubicBezTo>
                  <a:close/>
                  <a:moveTo>
                    <a:pt x="9650" y="100"/>
                  </a:moveTo>
                  <a:lnTo>
                    <a:pt x="9650" y="100"/>
                  </a:lnTo>
                  <a:cubicBezTo>
                    <a:pt x="9623" y="100"/>
                    <a:pt x="9600" y="77"/>
                    <a:pt x="9600" y="50"/>
                  </a:cubicBezTo>
                  <a:cubicBezTo>
                    <a:pt x="9600" y="22"/>
                    <a:pt x="9623" y="0"/>
                    <a:pt x="9650" y="0"/>
                  </a:cubicBezTo>
                  <a:lnTo>
                    <a:pt x="9650" y="0"/>
                  </a:lnTo>
                  <a:cubicBezTo>
                    <a:pt x="9678" y="0"/>
                    <a:pt x="9700" y="22"/>
                    <a:pt x="9700" y="50"/>
                  </a:cubicBezTo>
                  <a:cubicBezTo>
                    <a:pt x="9700" y="77"/>
                    <a:pt x="9678" y="100"/>
                    <a:pt x="9650" y="100"/>
                  </a:cubicBezTo>
                  <a:close/>
                  <a:moveTo>
                    <a:pt x="9450" y="100"/>
                  </a:moveTo>
                  <a:lnTo>
                    <a:pt x="9450" y="100"/>
                  </a:lnTo>
                  <a:cubicBezTo>
                    <a:pt x="9423" y="100"/>
                    <a:pt x="9400" y="77"/>
                    <a:pt x="9400" y="50"/>
                  </a:cubicBezTo>
                  <a:cubicBezTo>
                    <a:pt x="9400" y="22"/>
                    <a:pt x="9423" y="0"/>
                    <a:pt x="9450" y="0"/>
                  </a:cubicBezTo>
                  <a:lnTo>
                    <a:pt x="9450" y="0"/>
                  </a:lnTo>
                  <a:cubicBezTo>
                    <a:pt x="9478" y="0"/>
                    <a:pt x="9500" y="22"/>
                    <a:pt x="9500" y="50"/>
                  </a:cubicBezTo>
                  <a:cubicBezTo>
                    <a:pt x="9500" y="77"/>
                    <a:pt x="9478" y="100"/>
                    <a:pt x="9450" y="100"/>
                  </a:cubicBezTo>
                  <a:close/>
                  <a:moveTo>
                    <a:pt x="9250" y="100"/>
                  </a:moveTo>
                  <a:lnTo>
                    <a:pt x="9250" y="100"/>
                  </a:lnTo>
                  <a:cubicBezTo>
                    <a:pt x="9222" y="100"/>
                    <a:pt x="9200" y="77"/>
                    <a:pt x="9200" y="50"/>
                  </a:cubicBezTo>
                  <a:cubicBezTo>
                    <a:pt x="9200" y="22"/>
                    <a:pt x="9222" y="0"/>
                    <a:pt x="9250" y="0"/>
                  </a:cubicBezTo>
                  <a:lnTo>
                    <a:pt x="9250" y="0"/>
                  </a:lnTo>
                  <a:cubicBezTo>
                    <a:pt x="9278" y="0"/>
                    <a:pt x="9300" y="22"/>
                    <a:pt x="9300" y="50"/>
                  </a:cubicBezTo>
                  <a:cubicBezTo>
                    <a:pt x="9300" y="77"/>
                    <a:pt x="9278" y="100"/>
                    <a:pt x="9250" y="100"/>
                  </a:cubicBezTo>
                  <a:close/>
                  <a:moveTo>
                    <a:pt x="9050" y="100"/>
                  </a:moveTo>
                  <a:lnTo>
                    <a:pt x="9050" y="100"/>
                  </a:lnTo>
                  <a:cubicBezTo>
                    <a:pt x="9022" y="100"/>
                    <a:pt x="9000" y="77"/>
                    <a:pt x="9000" y="50"/>
                  </a:cubicBezTo>
                  <a:cubicBezTo>
                    <a:pt x="9000" y="22"/>
                    <a:pt x="9022" y="0"/>
                    <a:pt x="9050" y="0"/>
                  </a:cubicBezTo>
                  <a:lnTo>
                    <a:pt x="9050" y="0"/>
                  </a:lnTo>
                  <a:cubicBezTo>
                    <a:pt x="9078" y="0"/>
                    <a:pt x="9100" y="22"/>
                    <a:pt x="9100" y="50"/>
                  </a:cubicBezTo>
                  <a:cubicBezTo>
                    <a:pt x="9100" y="77"/>
                    <a:pt x="9078" y="100"/>
                    <a:pt x="9050" y="100"/>
                  </a:cubicBezTo>
                  <a:close/>
                  <a:moveTo>
                    <a:pt x="8850" y="100"/>
                  </a:moveTo>
                  <a:lnTo>
                    <a:pt x="8850" y="100"/>
                  </a:lnTo>
                  <a:cubicBezTo>
                    <a:pt x="8822" y="100"/>
                    <a:pt x="8800" y="77"/>
                    <a:pt x="8800" y="50"/>
                  </a:cubicBezTo>
                  <a:cubicBezTo>
                    <a:pt x="8800" y="22"/>
                    <a:pt x="8822" y="0"/>
                    <a:pt x="8850" y="0"/>
                  </a:cubicBezTo>
                  <a:lnTo>
                    <a:pt x="8850" y="0"/>
                  </a:lnTo>
                  <a:cubicBezTo>
                    <a:pt x="8878" y="0"/>
                    <a:pt x="8900" y="22"/>
                    <a:pt x="8900" y="50"/>
                  </a:cubicBezTo>
                  <a:cubicBezTo>
                    <a:pt x="8900" y="77"/>
                    <a:pt x="8878" y="100"/>
                    <a:pt x="8850" y="100"/>
                  </a:cubicBezTo>
                  <a:close/>
                  <a:moveTo>
                    <a:pt x="8650" y="100"/>
                  </a:moveTo>
                  <a:lnTo>
                    <a:pt x="8650" y="100"/>
                  </a:lnTo>
                  <a:cubicBezTo>
                    <a:pt x="8622" y="100"/>
                    <a:pt x="8600" y="77"/>
                    <a:pt x="8600" y="50"/>
                  </a:cubicBezTo>
                  <a:cubicBezTo>
                    <a:pt x="8600" y="22"/>
                    <a:pt x="8622" y="0"/>
                    <a:pt x="8650" y="0"/>
                  </a:cubicBezTo>
                  <a:lnTo>
                    <a:pt x="8650" y="0"/>
                  </a:lnTo>
                  <a:cubicBezTo>
                    <a:pt x="8677" y="0"/>
                    <a:pt x="8700" y="22"/>
                    <a:pt x="8700" y="50"/>
                  </a:cubicBezTo>
                  <a:cubicBezTo>
                    <a:pt x="8700" y="77"/>
                    <a:pt x="8677" y="100"/>
                    <a:pt x="8650" y="100"/>
                  </a:cubicBezTo>
                  <a:close/>
                  <a:moveTo>
                    <a:pt x="8450" y="100"/>
                  </a:moveTo>
                  <a:lnTo>
                    <a:pt x="8450" y="100"/>
                  </a:lnTo>
                  <a:cubicBezTo>
                    <a:pt x="8422" y="100"/>
                    <a:pt x="8400" y="77"/>
                    <a:pt x="8400" y="50"/>
                  </a:cubicBezTo>
                  <a:cubicBezTo>
                    <a:pt x="8400" y="22"/>
                    <a:pt x="8422" y="0"/>
                    <a:pt x="8450" y="0"/>
                  </a:cubicBezTo>
                  <a:lnTo>
                    <a:pt x="8450" y="0"/>
                  </a:lnTo>
                  <a:cubicBezTo>
                    <a:pt x="8477" y="0"/>
                    <a:pt x="8500" y="22"/>
                    <a:pt x="8500" y="50"/>
                  </a:cubicBezTo>
                  <a:cubicBezTo>
                    <a:pt x="8500" y="77"/>
                    <a:pt x="8477" y="100"/>
                    <a:pt x="8450" y="100"/>
                  </a:cubicBezTo>
                  <a:close/>
                  <a:moveTo>
                    <a:pt x="8250" y="100"/>
                  </a:moveTo>
                  <a:lnTo>
                    <a:pt x="8250" y="100"/>
                  </a:lnTo>
                  <a:cubicBezTo>
                    <a:pt x="8222" y="100"/>
                    <a:pt x="8200" y="77"/>
                    <a:pt x="8200" y="50"/>
                  </a:cubicBezTo>
                  <a:cubicBezTo>
                    <a:pt x="8200" y="22"/>
                    <a:pt x="8222" y="0"/>
                    <a:pt x="8250" y="0"/>
                  </a:cubicBezTo>
                  <a:lnTo>
                    <a:pt x="8250" y="0"/>
                  </a:lnTo>
                  <a:cubicBezTo>
                    <a:pt x="8277" y="0"/>
                    <a:pt x="8300" y="22"/>
                    <a:pt x="8300" y="50"/>
                  </a:cubicBezTo>
                  <a:cubicBezTo>
                    <a:pt x="8300" y="77"/>
                    <a:pt x="8277" y="100"/>
                    <a:pt x="8250" y="100"/>
                  </a:cubicBezTo>
                  <a:close/>
                  <a:moveTo>
                    <a:pt x="8050" y="100"/>
                  </a:moveTo>
                  <a:lnTo>
                    <a:pt x="8049" y="100"/>
                  </a:lnTo>
                  <a:cubicBezTo>
                    <a:pt x="8022" y="100"/>
                    <a:pt x="7999" y="77"/>
                    <a:pt x="7999" y="50"/>
                  </a:cubicBezTo>
                  <a:cubicBezTo>
                    <a:pt x="7999" y="22"/>
                    <a:pt x="8022" y="0"/>
                    <a:pt x="8049" y="0"/>
                  </a:cubicBezTo>
                  <a:lnTo>
                    <a:pt x="8050" y="0"/>
                  </a:lnTo>
                  <a:cubicBezTo>
                    <a:pt x="8077" y="0"/>
                    <a:pt x="8100" y="22"/>
                    <a:pt x="8100" y="50"/>
                  </a:cubicBezTo>
                  <a:cubicBezTo>
                    <a:pt x="8100" y="77"/>
                    <a:pt x="8077" y="100"/>
                    <a:pt x="8050" y="100"/>
                  </a:cubicBezTo>
                  <a:close/>
                  <a:moveTo>
                    <a:pt x="7849" y="100"/>
                  </a:moveTo>
                  <a:lnTo>
                    <a:pt x="7849" y="100"/>
                  </a:lnTo>
                  <a:cubicBezTo>
                    <a:pt x="7822" y="100"/>
                    <a:pt x="7799" y="77"/>
                    <a:pt x="7799" y="50"/>
                  </a:cubicBezTo>
                  <a:cubicBezTo>
                    <a:pt x="7799" y="22"/>
                    <a:pt x="7822" y="0"/>
                    <a:pt x="7849" y="0"/>
                  </a:cubicBezTo>
                  <a:lnTo>
                    <a:pt x="7849" y="0"/>
                  </a:lnTo>
                  <a:cubicBezTo>
                    <a:pt x="7877" y="0"/>
                    <a:pt x="7899" y="22"/>
                    <a:pt x="7899" y="50"/>
                  </a:cubicBezTo>
                  <a:cubicBezTo>
                    <a:pt x="7899" y="77"/>
                    <a:pt x="7877" y="100"/>
                    <a:pt x="7849" y="100"/>
                  </a:cubicBezTo>
                  <a:close/>
                  <a:moveTo>
                    <a:pt x="7649" y="100"/>
                  </a:moveTo>
                  <a:lnTo>
                    <a:pt x="7649" y="100"/>
                  </a:lnTo>
                  <a:cubicBezTo>
                    <a:pt x="7622" y="100"/>
                    <a:pt x="7599" y="77"/>
                    <a:pt x="7599" y="50"/>
                  </a:cubicBezTo>
                  <a:cubicBezTo>
                    <a:pt x="7599" y="22"/>
                    <a:pt x="7622" y="0"/>
                    <a:pt x="7649" y="0"/>
                  </a:cubicBezTo>
                  <a:lnTo>
                    <a:pt x="7649" y="0"/>
                  </a:lnTo>
                  <a:cubicBezTo>
                    <a:pt x="7677" y="0"/>
                    <a:pt x="7699" y="22"/>
                    <a:pt x="7699" y="50"/>
                  </a:cubicBezTo>
                  <a:cubicBezTo>
                    <a:pt x="7699" y="77"/>
                    <a:pt x="7677" y="100"/>
                    <a:pt x="7649" y="100"/>
                  </a:cubicBezTo>
                  <a:close/>
                  <a:moveTo>
                    <a:pt x="7449" y="100"/>
                  </a:moveTo>
                  <a:lnTo>
                    <a:pt x="7449" y="100"/>
                  </a:lnTo>
                  <a:cubicBezTo>
                    <a:pt x="7422" y="100"/>
                    <a:pt x="7399" y="77"/>
                    <a:pt x="7399" y="50"/>
                  </a:cubicBezTo>
                  <a:cubicBezTo>
                    <a:pt x="7399" y="22"/>
                    <a:pt x="7422" y="0"/>
                    <a:pt x="7449" y="0"/>
                  </a:cubicBezTo>
                  <a:lnTo>
                    <a:pt x="7449" y="0"/>
                  </a:lnTo>
                  <a:cubicBezTo>
                    <a:pt x="7477" y="0"/>
                    <a:pt x="7499" y="22"/>
                    <a:pt x="7499" y="50"/>
                  </a:cubicBezTo>
                  <a:cubicBezTo>
                    <a:pt x="7499" y="77"/>
                    <a:pt x="7477" y="100"/>
                    <a:pt x="7449" y="100"/>
                  </a:cubicBezTo>
                  <a:close/>
                  <a:moveTo>
                    <a:pt x="7249" y="100"/>
                  </a:moveTo>
                  <a:lnTo>
                    <a:pt x="7249" y="100"/>
                  </a:lnTo>
                  <a:cubicBezTo>
                    <a:pt x="7221" y="100"/>
                    <a:pt x="7199" y="77"/>
                    <a:pt x="7199" y="50"/>
                  </a:cubicBezTo>
                  <a:cubicBezTo>
                    <a:pt x="7199" y="22"/>
                    <a:pt x="7221" y="0"/>
                    <a:pt x="7249" y="0"/>
                  </a:cubicBezTo>
                  <a:lnTo>
                    <a:pt x="7249" y="0"/>
                  </a:lnTo>
                  <a:cubicBezTo>
                    <a:pt x="7277" y="0"/>
                    <a:pt x="7299" y="22"/>
                    <a:pt x="7299" y="50"/>
                  </a:cubicBezTo>
                  <a:cubicBezTo>
                    <a:pt x="7299" y="77"/>
                    <a:pt x="7277" y="100"/>
                    <a:pt x="7249" y="100"/>
                  </a:cubicBezTo>
                  <a:close/>
                  <a:moveTo>
                    <a:pt x="7049" y="100"/>
                  </a:moveTo>
                  <a:lnTo>
                    <a:pt x="7049" y="100"/>
                  </a:lnTo>
                  <a:cubicBezTo>
                    <a:pt x="7021" y="100"/>
                    <a:pt x="6999" y="77"/>
                    <a:pt x="6999" y="50"/>
                  </a:cubicBezTo>
                  <a:cubicBezTo>
                    <a:pt x="6999" y="22"/>
                    <a:pt x="7021" y="0"/>
                    <a:pt x="7049" y="0"/>
                  </a:cubicBezTo>
                  <a:lnTo>
                    <a:pt x="7049" y="0"/>
                  </a:lnTo>
                  <a:cubicBezTo>
                    <a:pt x="7077" y="0"/>
                    <a:pt x="7099" y="22"/>
                    <a:pt x="7099" y="50"/>
                  </a:cubicBezTo>
                  <a:cubicBezTo>
                    <a:pt x="7099" y="77"/>
                    <a:pt x="7077" y="100"/>
                    <a:pt x="7049" y="100"/>
                  </a:cubicBezTo>
                  <a:close/>
                  <a:moveTo>
                    <a:pt x="6849" y="100"/>
                  </a:moveTo>
                  <a:lnTo>
                    <a:pt x="6849" y="100"/>
                  </a:lnTo>
                  <a:cubicBezTo>
                    <a:pt x="6821" y="100"/>
                    <a:pt x="6799" y="77"/>
                    <a:pt x="6799" y="50"/>
                  </a:cubicBezTo>
                  <a:cubicBezTo>
                    <a:pt x="6799" y="22"/>
                    <a:pt x="6821" y="0"/>
                    <a:pt x="6849" y="0"/>
                  </a:cubicBezTo>
                  <a:lnTo>
                    <a:pt x="6849" y="0"/>
                  </a:lnTo>
                  <a:cubicBezTo>
                    <a:pt x="6877" y="0"/>
                    <a:pt x="6899" y="22"/>
                    <a:pt x="6899" y="50"/>
                  </a:cubicBezTo>
                  <a:cubicBezTo>
                    <a:pt x="6899" y="77"/>
                    <a:pt x="6877" y="100"/>
                    <a:pt x="6849" y="100"/>
                  </a:cubicBezTo>
                  <a:close/>
                  <a:moveTo>
                    <a:pt x="6649" y="100"/>
                  </a:moveTo>
                  <a:lnTo>
                    <a:pt x="6649" y="100"/>
                  </a:lnTo>
                  <a:cubicBezTo>
                    <a:pt x="6621" y="100"/>
                    <a:pt x="6599" y="77"/>
                    <a:pt x="6599" y="50"/>
                  </a:cubicBezTo>
                  <a:cubicBezTo>
                    <a:pt x="6599" y="22"/>
                    <a:pt x="6621" y="0"/>
                    <a:pt x="6649" y="0"/>
                  </a:cubicBezTo>
                  <a:lnTo>
                    <a:pt x="6649" y="0"/>
                  </a:lnTo>
                  <a:cubicBezTo>
                    <a:pt x="6676" y="0"/>
                    <a:pt x="6699" y="22"/>
                    <a:pt x="6699" y="50"/>
                  </a:cubicBezTo>
                  <a:cubicBezTo>
                    <a:pt x="6699" y="77"/>
                    <a:pt x="6676" y="100"/>
                    <a:pt x="6649" y="100"/>
                  </a:cubicBezTo>
                  <a:close/>
                  <a:moveTo>
                    <a:pt x="6449" y="100"/>
                  </a:moveTo>
                  <a:lnTo>
                    <a:pt x="6449" y="100"/>
                  </a:lnTo>
                  <a:cubicBezTo>
                    <a:pt x="6421" y="100"/>
                    <a:pt x="6399" y="77"/>
                    <a:pt x="6399" y="50"/>
                  </a:cubicBezTo>
                  <a:cubicBezTo>
                    <a:pt x="6399" y="22"/>
                    <a:pt x="6421" y="0"/>
                    <a:pt x="6449" y="0"/>
                  </a:cubicBezTo>
                  <a:lnTo>
                    <a:pt x="6449" y="0"/>
                  </a:lnTo>
                  <a:cubicBezTo>
                    <a:pt x="6476" y="0"/>
                    <a:pt x="6499" y="22"/>
                    <a:pt x="6499" y="50"/>
                  </a:cubicBezTo>
                  <a:cubicBezTo>
                    <a:pt x="6499" y="77"/>
                    <a:pt x="6476" y="100"/>
                    <a:pt x="6449" y="100"/>
                  </a:cubicBezTo>
                  <a:close/>
                  <a:moveTo>
                    <a:pt x="6249" y="100"/>
                  </a:moveTo>
                  <a:lnTo>
                    <a:pt x="6249" y="100"/>
                  </a:lnTo>
                  <a:cubicBezTo>
                    <a:pt x="6221" y="100"/>
                    <a:pt x="6199" y="77"/>
                    <a:pt x="6199" y="50"/>
                  </a:cubicBezTo>
                  <a:cubicBezTo>
                    <a:pt x="6199" y="22"/>
                    <a:pt x="6221" y="0"/>
                    <a:pt x="6249" y="0"/>
                  </a:cubicBezTo>
                  <a:lnTo>
                    <a:pt x="6249" y="0"/>
                  </a:lnTo>
                  <a:cubicBezTo>
                    <a:pt x="6276" y="0"/>
                    <a:pt x="6299" y="22"/>
                    <a:pt x="6299" y="50"/>
                  </a:cubicBezTo>
                  <a:cubicBezTo>
                    <a:pt x="6299" y="77"/>
                    <a:pt x="6276" y="100"/>
                    <a:pt x="6249" y="100"/>
                  </a:cubicBezTo>
                  <a:close/>
                  <a:moveTo>
                    <a:pt x="6049" y="100"/>
                  </a:moveTo>
                  <a:lnTo>
                    <a:pt x="6048" y="100"/>
                  </a:lnTo>
                  <a:cubicBezTo>
                    <a:pt x="6021" y="100"/>
                    <a:pt x="5998" y="77"/>
                    <a:pt x="5998" y="50"/>
                  </a:cubicBezTo>
                  <a:cubicBezTo>
                    <a:pt x="5998" y="22"/>
                    <a:pt x="6021" y="0"/>
                    <a:pt x="6048" y="0"/>
                  </a:cubicBezTo>
                  <a:lnTo>
                    <a:pt x="6049" y="0"/>
                  </a:lnTo>
                  <a:cubicBezTo>
                    <a:pt x="6076" y="0"/>
                    <a:pt x="6099" y="22"/>
                    <a:pt x="6099" y="50"/>
                  </a:cubicBezTo>
                  <a:cubicBezTo>
                    <a:pt x="6099" y="77"/>
                    <a:pt x="6076" y="100"/>
                    <a:pt x="6049" y="100"/>
                  </a:cubicBezTo>
                  <a:close/>
                  <a:moveTo>
                    <a:pt x="5848" y="100"/>
                  </a:moveTo>
                  <a:lnTo>
                    <a:pt x="5848" y="100"/>
                  </a:lnTo>
                  <a:cubicBezTo>
                    <a:pt x="5821" y="100"/>
                    <a:pt x="5798" y="77"/>
                    <a:pt x="5798" y="50"/>
                  </a:cubicBezTo>
                  <a:cubicBezTo>
                    <a:pt x="5798" y="22"/>
                    <a:pt x="5821" y="0"/>
                    <a:pt x="5848" y="0"/>
                  </a:cubicBezTo>
                  <a:lnTo>
                    <a:pt x="5848" y="0"/>
                  </a:lnTo>
                  <a:cubicBezTo>
                    <a:pt x="5876" y="0"/>
                    <a:pt x="5898" y="22"/>
                    <a:pt x="5898" y="50"/>
                  </a:cubicBezTo>
                  <a:cubicBezTo>
                    <a:pt x="5898" y="77"/>
                    <a:pt x="5876" y="100"/>
                    <a:pt x="5848" y="100"/>
                  </a:cubicBezTo>
                  <a:close/>
                  <a:moveTo>
                    <a:pt x="5648" y="100"/>
                  </a:moveTo>
                  <a:lnTo>
                    <a:pt x="5648" y="100"/>
                  </a:lnTo>
                  <a:cubicBezTo>
                    <a:pt x="5621" y="100"/>
                    <a:pt x="5598" y="77"/>
                    <a:pt x="5598" y="50"/>
                  </a:cubicBezTo>
                  <a:cubicBezTo>
                    <a:pt x="5598" y="22"/>
                    <a:pt x="5621" y="0"/>
                    <a:pt x="5648" y="0"/>
                  </a:cubicBezTo>
                  <a:lnTo>
                    <a:pt x="5648" y="0"/>
                  </a:lnTo>
                  <a:cubicBezTo>
                    <a:pt x="5676" y="0"/>
                    <a:pt x="5698" y="22"/>
                    <a:pt x="5698" y="50"/>
                  </a:cubicBezTo>
                  <a:cubicBezTo>
                    <a:pt x="5698" y="77"/>
                    <a:pt x="5676" y="100"/>
                    <a:pt x="5648" y="100"/>
                  </a:cubicBezTo>
                  <a:close/>
                  <a:moveTo>
                    <a:pt x="5448" y="100"/>
                  </a:moveTo>
                  <a:lnTo>
                    <a:pt x="5448" y="100"/>
                  </a:lnTo>
                  <a:cubicBezTo>
                    <a:pt x="5421" y="100"/>
                    <a:pt x="5398" y="77"/>
                    <a:pt x="5398" y="50"/>
                  </a:cubicBezTo>
                  <a:cubicBezTo>
                    <a:pt x="5398" y="22"/>
                    <a:pt x="5421" y="0"/>
                    <a:pt x="5448" y="0"/>
                  </a:cubicBezTo>
                  <a:lnTo>
                    <a:pt x="5448" y="0"/>
                  </a:lnTo>
                  <a:cubicBezTo>
                    <a:pt x="5476" y="0"/>
                    <a:pt x="5498" y="22"/>
                    <a:pt x="5498" y="50"/>
                  </a:cubicBezTo>
                  <a:cubicBezTo>
                    <a:pt x="5498" y="77"/>
                    <a:pt x="5476" y="100"/>
                    <a:pt x="5448" y="100"/>
                  </a:cubicBezTo>
                  <a:close/>
                  <a:moveTo>
                    <a:pt x="5248" y="100"/>
                  </a:moveTo>
                  <a:lnTo>
                    <a:pt x="5248" y="100"/>
                  </a:lnTo>
                  <a:cubicBezTo>
                    <a:pt x="5220" y="100"/>
                    <a:pt x="5198" y="77"/>
                    <a:pt x="5198" y="50"/>
                  </a:cubicBezTo>
                  <a:cubicBezTo>
                    <a:pt x="5198" y="22"/>
                    <a:pt x="5220" y="0"/>
                    <a:pt x="5248" y="0"/>
                  </a:cubicBezTo>
                  <a:lnTo>
                    <a:pt x="5248" y="0"/>
                  </a:lnTo>
                  <a:cubicBezTo>
                    <a:pt x="5276" y="0"/>
                    <a:pt x="5298" y="22"/>
                    <a:pt x="5298" y="50"/>
                  </a:cubicBezTo>
                  <a:cubicBezTo>
                    <a:pt x="5298" y="77"/>
                    <a:pt x="5276" y="100"/>
                    <a:pt x="5248" y="100"/>
                  </a:cubicBezTo>
                  <a:close/>
                  <a:moveTo>
                    <a:pt x="5048" y="100"/>
                  </a:moveTo>
                  <a:lnTo>
                    <a:pt x="5048" y="100"/>
                  </a:lnTo>
                  <a:cubicBezTo>
                    <a:pt x="5020" y="100"/>
                    <a:pt x="4998" y="77"/>
                    <a:pt x="4998" y="50"/>
                  </a:cubicBezTo>
                  <a:cubicBezTo>
                    <a:pt x="4998" y="22"/>
                    <a:pt x="5020" y="0"/>
                    <a:pt x="5048" y="0"/>
                  </a:cubicBezTo>
                  <a:lnTo>
                    <a:pt x="5048" y="0"/>
                  </a:lnTo>
                  <a:cubicBezTo>
                    <a:pt x="5076" y="0"/>
                    <a:pt x="5098" y="22"/>
                    <a:pt x="5098" y="50"/>
                  </a:cubicBezTo>
                  <a:cubicBezTo>
                    <a:pt x="5098" y="77"/>
                    <a:pt x="5076" y="100"/>
                    <a:pt x="5048" y="100"/>
                  </a:cubicBezTo>
                  <a:close/>
                  <a:moveTo>
                    <a:pt x="4848" y="100"/>
                  </a:moveTo>
                  <a:lnTo>
                    <a:pt x="4848" y="100"/>
                  </a:lnTo>
                  <a:cubicBezTo>
                    <a:pt x="4820" y="100"/>
                    <a:pt x="4798" y="77"/>
                    <a:pt x="4798" y="50"/>
                  </a:cubicBezTo>
                  <a:cubicBezTo>
                    <a:pt x="4798" y="22"/>
                    <a:pt x="4820" y="0"/>
                    <a:pt x="4848" y="0"/>
                  </a:cubicBezTo>
                  <a:lnTo>
                    <a:pt x="4848" y="0"/>
                  </a:lnTo>
                  <a:cubicBezTo>
                    <a:pt x="4876" y="0"/>
                    <a:pt x="4898" y="22"/>
                    <a:pt x="4898" y="50"/>
                  </a:cubicBezTo>
                  <a:cubicBezTo>
                    <a:pt x="4898" y="77"/>
                    <a:pt x="4876" y="100"/>
                    <a:pt x="4848" y="100"/>
                  </a:cubicBezTo>
                  <a:close/>
                  <a:moveTo>
                    <a:pt x="4648" y="100"/>
                  </a:moveTo>
                  <a:lnTo>
                    <a:pt x="4648" y="100"/>
                  </a:lnTo>
                  <a:cubicBezTo>
                    <a:pt x="4620" y="100"/>
                    <a:pt x="4598" y="77"/>
                    <a:pt x="4598" y="50"/>
                  </a:cubicBezTo>
                  <a:cubicBezTo>
                    <a:pt x="4598" y="22"/>
                    <a:pt x="4620" y="0"/>
                    <a:pt x="4648" y="0"/>
                  </a:cubicBezTo>
                  <a:lnTo>
                    <a:pt x="4648" y="0"/>
                  </a:lnTo>
                  <a:cubicBezTo>
                    <a:pt x="4675" y="0"/>
                    <a:pt x="4698" y="22"/>
                    <a:pt x="4698" y="50"/>
                  </a:cubicBezTo>
                  <a:cubicBezTo>
                    <a:pt x="4698" y="77"/>
                    <a:pt x="4675" y="100"/>
                    <a:pt x="4648" y="100"/>
                  </a:cubicBezTo>
                  <a:close/>
                  <a:moveTo>
                    <a:pt x="4448" y="100"/>
                  </a:moveTo>
                  <a:lnTo>
                    <a:pt x="4448" y="100"/>
                  </a:lnTo>
                  <a:cubicBezTo>
                    <a:pt x="4420" y="100"/>
                    <a:pt x="4398" y="77"/>
                    <a:pt x="4398" y="50"/>
                  </a:cubicBezTo>
                  <a:cubicBezTo>
                    <a:pt x="4398" y="22"/>
                    <a:pt x="4420" y="0"/>
                    <a:pt x="4448" y="0"/>
                  </a:cubicBezTo>
                  <a:lnTo>
                    <a:pt x="4448" y="0"/>
                  </a:lnTo>
                  <a:cubicBezTo>
                    <a:pt x="4475" y="0"/>
                    <a:pt x="4498" y="22"/>
                    <a:pt x="4498" y="50"/>
                  </a:cubicBezTo>
                  <a:cubicBezTo>
                    <a:pt x="4498" y="77"/>
                    <a:pt x="4475" y="100"/>
                    <a:pt x="4448" y="100"/>
                  </a:cubicBezTo>
                  <a:close/>
                  <a:moveTo>
                    <a:pt x="4248" y="100"/>
                  </a:moveTo>
                  <a:lnTo>
                    <a:pt x="4248" y="100"/>
                  </a:lnTo>
                  <a:cubicBezTo>
                    <a:pt x="4220" y="100"/>
                    <a:pt x="4198" y="77"/>
                    <a:pt x="4198" y="50"/>
                  </a:cubicBezTo>
                  <a:cubicBezTo>
                    <a:pt x="4198" y="22"/>
                    <a:pt x="4220" y="0"/>
                    <a:pt x="4248" y="0"/>
                  </a:cubicBezTo>
                  <a:lnTo>
                    <a:pt x="4248" y="0"/>
                  </a:lnTo>
                  <a:cubicBezTo>
                    <a:pt x="4275" y="0"/>
                    <a:pt x="4298" y="22"/>
                    <a:pt x="4298" y="50"/>
                  </a:cubicBezTo>
                  <a:cubicBezTo>
                    <a:pt x="4298" y="77"/>
                    <a:pt x="4275" y="100"/>
                    <a:pt x="4248" y="100"/>
                  </a:cubicBezTo>
                  <a:close/>
                  <a:moveTo>
                    <a:pt x="4048" y="100"/>
                  </a:moveTo>
                  <a:lnTo>
                    <a:pt x="4047" y="100"/>
                  </a:lnTo>
                  <a:cubicBezTo>
                    <a:pt x="4020" y="100"/>
                    <a:pt x="3997" y="77"/>
                    <a:pt x="3997" y="50"/>
                  </a:cubicBezTo>
                  <a:cubicBezTo>
                    <a:pt x="3997" y="22"/>
                    <a:pt x="4020" y="0"/>
                    <a:pt x="4047" y="0"/>
                  </a:cubicBezTo>
                  <a:lnTo>
                    <a:pt x="4048" y="0"/>
                  </a:lnTo>
                  <a:cubicBezTo>
                    <a:pt x="4075" y="0"/>
                    <a:pt x="4098" y="22"/>
                    <a:pt x="4098" y="50"/>
                  </a:cubicBezTo>
                  <a:cubicBezTo>
                    <a:pt x="4098" y="77"/>
                    <a:pt x="4075" y="100"/>
                    <a:pt x="4048" y="100"/>
                  </a:cubicBezTo>
                  <a:close/>
                  <a:moveTo>
                    <a:pt x="3847" y="100"/>
                  </a:moveTo>
                  <a:lnTo>
                    <a:pt x="3847" y="100"/>
                  </a:lnTo>
                  <a:cubicBezTo>
                    <a:pt x="3820" y="100"/>
                    <a:pt x="3797" y="77"/>
                    <a:pt x="3797" y="50"/>
                  </a:cubicBezTo>
                  <a:cubicBezTo>
                    <a:pt x="3797" y="22"/>
                    <a:pt x="3820" y="0"/>
                    <a:pt x="3847" y="0"/>
                  </a:cubicBezTo>
                  <a:lnTo>
                    <a:pt x="3847" y="0"/>
                  </a:lnTo>
                  <a:cubicBezTo>
                    <a:pt x="3875" y="0"/>
                    <a:pt x="3897" y="22"/>
                    <a:pt x="3897" y="50"/>
                  </a:cubicBezTo>
                  <a:cubicBezTo>
                    <a:pt x="3897" y="77"/>
                    <a:pt x="3875" y="100"/>
                    <a:pt x="3847" y="100"/>
                  </a:cubicBezTo>
                  <a:close/>
                  <a:moveTo>
                    <a:pt x="3647" y="100"/>
                  </a:moveTo>
                  <a:lnTo>
                    <a:pt x="3647" y="100"/>
                  </a:lnTo>
                  <a:cubicBezTo>
                    <a:pt x="3620" y="100"/>
                    <a:pt x="3597" y="77"/>
                    <a:pt x="3597" y="50"/>
                  </a:cubicBezTo>
                  <a:cubicBezTo>
                    <a:pt x="3597" y="22"/>
                    <a:pt x="3620" y="0"/>
                    <a:pt x="3647" y="0"/>
                  </a:cubicBezTo>
                  <a:lnTo>
                    <a:pt x="3647" y="0"/>
                  </a:lnTo>
                  <a:cubicBezTo>
                    <a:pt x="3675" y="0"/>
                    <a:pt x="3697" y="22"/>
                    <a:pt x="3697" y="50"/>
                  </a:cubicBezTo>
                  <a:cubicBezTo>
                    <a:pt x="3697" y="77"/>
                    <a:pt x="3675" y="100"/>
                    <a:pt x="3647" y="100"/>
                  </a:cubicBezTo>
                  <a:close/>
                  <a:moveTo>
                    <a:pt x="3447" y="100"/>
                  </a:moveTo>
                  <a:lnTo>
                    <a:pt x="3447" y="100"/>
                  </a:lnTo>
                  <a:cubicBezTo>
                    <a:pt x="3420" y="100"/>
                    <a:pt x="3397" y="77"/>
                    <a:pt x="3397" y="50"/>
                  </a:cubicBezTo>
                  <a:cubicBezTo>
                    <a:pt x="3397" y="22"/>
                    <a:pt x="3420" y="0"/>
                    <a:pt x="3447" y="0"/>
                  </a:cubicBezTo>
                  <a:lnTo>
                    <a:pt x="3447" y="0"/>
                  </a:lnTo>
                  <a:cubicBezTo>
                    <a:pt x="3475" y="0"/>
                    <a:pt x="3497" y="22"/>
                    <a:pt x="3497" y="50"/>
                  </a:cubicBezTo>
                  <a:cubicBezTo>
                    <a:pt x="3497" y="77"/>
                    <a:pt x="3475" y="100"/>
                    <a:pt x="3447" y="100"/>
                  </a:cubicBezTo>
                  <a:close/>
                  <a:moveTo>
                    <a:pt x="3247" y="100"/>
                  </a:moveTo>
                  <a:lnTo>
                    <a:pt x="3247" y="100"/>
                  </a:lnTo>
                  <a:cubicBezTo>
                    <a:pt x="3219" y="100"/>
                    <a:pt x="3197" y="77"/>
                    <a:pt x="3197" y="50"/>
                  </a:cubicBezTo>
                  <a:cubicBezTo>
                    <a:pt x="3197" y="22"/>
                    <a:pt x="3219" y="0"/>
                    <a:pt x="3247" y="0"/>
                  </a:cubicBezTo>
                  <a:lnTo>
                    <a:pt x="3247" y="0"/>
                  </a:lnTo>
                  <a:cubicBezTo>
                    <a:pt x="3275" y="0"/>
                    <a:pt x="3297" y="22"/>
                    <a:pt x="3297" y="50"/>
                  </a:cubicBezTo>
                  <a:cubicBezTo>
                    <a:pt x="3297" y="77"/>
                    <a:pt x="3275" y="100"/>
                    <a:pt x="3247" y="100"/>
                  </a:cubicBezTo>
                  <a:close/>
                  <a:moveTo>
                    <a:pt x="3047" y="100"/>
                  </a:moveTo>
                  <a:lnTo>
                    <a:pt x="3047" y="100"/>
                  </a:lnTo>
                  <a:cubicBezTo>
                    <a:pt x="3019" y="100"/>
                    <a:pt x="2997" y="77"/>
                    <a:pt x="2997" y="50"/>
                  </a:cubicBezTo>
                  <a:cubicBezTo>
                    <a:pt x="2997" y="22"/>
                    <a:pt x="3019" y="0"/>
                    <a:pt x="3047" y="0"/>
                  </a:cubicBezTo>
                  <a:lnTo>
                    <a:pt x="3047" y="0"/>
                  </a:lnTo>
                  <a:cubicBezTo>
                    <a:pt x="3075" y="0"/>
                    <a:pt x="3097" y="22"/>
                    <a:pt x="3097" y="50"/>
                  </a:cubicBezTo>
                  <a:cubicBezTo>
                    <a:pt x="3097" y="77"/>
                    <a:pt x="3075" y="100"/>
                    <a:pt x="3047" y="100"/>
                  </a:cubicBezTo>
                  <a:close/>
                  <a:moveTo>
                    <a:pt x="2847" y="100"/>
                  </a:moveTo>
                  <a:lnTo>
                    <a:pt x="2847" y="100"/>
                  </a:lnTo>
                  <a:cubicBezTo>
                    <a:pt x="2819" y="100"/>
                    <a:pt x="2797" y="77"/>
                    <a:pt x="2797" y="50"/>
                  </a:cubicBezTo>
                  <a:cubicBezTo>
                    <a:pt x="2797" y="22"/>
                    <a:pt x="2819" y="0"/>
                    <a:pt x="2847" y="0"/>
                  </a:cubicBezTo>
                  <a:lnTo>
                    <a:pt x="2847" y="0"/>
                  </a:lnTo>
                  <a:cubicBezTo>
                    <a:pt x="2875" y="0"/>
                    <a:pt x="2897" y="22"/>
                    <a:pt x="2897" y="50"/>
                  </a:cubicBezTo>
                  <a:cubicBezTo>
                    <a:pt x="2897" y="77"/>
                    <a:pt x="2875" y="100"/>
                    <a:pt x="2847" y="100"/>
                  </a:cubicBezTo>
                  <a:close/>
                  <a:moveTo>
                    <a:pt x="2647" y="100"/>
                  </a:moveTo>
                  <a:lnTo>
                    <a:pt x="2647" y="100"/>
                  </a:lnTo>
                  <a:cubicBezTo>
                    <a:pt x="2619" y="100"/>
                    <a:pt x="2597" y="77"/>
                    <a:pt x="2597" y="50"/>
                  </a:cubicBezTo>
                  <a:cubicBezTo>
                    <a:pt x="2597" y="22"/>
                    <a:pt x="2619" y="0"/>
                    <a:pt x="2647" y="0"/>
                  </a:cubicBezTo>
                  <a:lnTo>
                    <a:pt x="2647" y="0"/>
                  </a:lnTo>
                  <a:cubicBezTo>
                    <a:pt x="2674" y="0"/>
                    <a:pt x="2697" y="22"/>
                    <a:pt x="2697" y="50"/>
                  </a:cubicBezTo>
                  <a:cubicBezTo>
                    <a:pt x="2697" y="77"/>
                    <a:pt x="2674" y="100"/>
                    <a:pt x="2647" y="100"/>
                  </a:cubicBezTo>
                  <a:close/>
                  <a:moveTo>
                    <a:pt x="2447" y="100"/>
                  </a:moveTo>
                  <a:lnTo>
                    <a:pt x="2447" y="100"/>
                  </a:lnTo>
                  <a:cubicBezTo>
                    <a:pt x="2419" y="100"/>
                    <a:pt x="2397" y="77"/>
                    <a:pt x="2397" y="50"/>
                  </a:cubicBezTo>
                  <a:cubicBezTo>
                    <a:pt x="2397" y="22"/>
                    <a:pt x="2419" y="0"/>
                    <a:pt x="2447" y="0"/>
                  </a:cubicBezTo>
                  <a:lnTo>
                    <a:pt x="2447" y="0"/>
                  </a:lnTo>
                  <a:cubicBezTo>
                    <a:pt x="2474" y="0"/>
                    <a:pt x="2497" y="22"/>
                    <a:pt x="2497" y="50"/>
                  </a:cubicBezTo>
                  <a:cubicBezTo>
                    <a:pt x="2497" y="77"/>
                    <a:pt x="2474" y="100"/>
                    <a:pt x="2447" y="100"/>
                  </a:cubicBezTo>
                  <a:close/>
                  <a:moveTo>
                    <a:pt x="2247" y="100"/>
                  </a:moveTo>
                  <a:lnTo>
                    <a:pt x="2247" y="100"/>
                  </a:lnTo>
                  <a:cubicBezTo>
                    <a:pt x="2219" y="100"/>
                    <a:pt x="2197" y="77"/>
                    <a:pt x="2197" y="50"/>
                  </a:cubicBezTo>
                  <a:cubicBezTo>
                    <a:pt x="2197" y="22"/>
                    <a:pt x="2219" y="0"/>
                    <a:pt x="2247" y="0"/>
                  </a:cubicBezTo>
                  <a:lnTo>
                    <a:pt x="2247" y="0"/>
                  </a:lnTo>
                  <a:cubicBezTo>
                    <a:pt x="2274" y="0"/>
                    <a:pt x="2297" y="22"/>
                    <a:pt x="2297" y="50"/>
                  </a:cubicBezTo>
                  <a:cubicBezTo>
                    <a:pt x="2297" y="77"/>
                    <a:pt x="2274" y="100"/>
                    <a:pt x="2247" y="100"/>
                  </a:cubicBezTo>
                  <a:close/>
                  <a:moveTo>
                    <a:pt x="2047" y="100"/>
                  </a:moveTo>
                  <a:lnTo>
                    <a:pt x="2046" y="100"/>
                  </a:lnTo>
                  <a:cubicBezTo>
                    <a:pt x="2019" y="100"/>
                    <a:pt x="1996" y="77"/>
                    <a:pt x="1996" y="50"/>
                  </a:cubicBezTo>
                  <a:cubicBezTo>
                    <a:pt x="1996" y="22"/>
                    <a:pt x="2019" y="0"/>
                    <a:pt x="2046" y="0"/>
                  </a:cubicBezTo>
                  <a:lnTo>
                    <a:pt x="2047" y="0"/>
                  </a:lnTo>
                  <a:cubicBezTo>
                    <a:pt x="2074" y="0"/>
                    <a:pt x="2097" y="22"/>
                    <a:pt x="2097" y="50"/>
                  </a:cubicBezTo>
                  <a:cubicBezTo>
                    <a:pt x="2097" y="77"/>
                    <a:pt x="2074" y="100"/>
                    <a:pt x="2047" y="100"/>
                  </a:cubicBezTo>
                  <a:close/>
                  <a:moveTo>
                    <a:pt x="1846" y="100"/>
                  </a:moveTo>
                  <a:lnTo>
                    <a:pt x="1846" y="100"/>
                  </a:lnTo>
                  <a:cubicBezTo>
                    <a:pt x="1819" y="100"/>
                    <a:pt x="1796" y="77"/>
                    <a:pt x="1796" y="50"/>
                  </a:cubicBezTo>
                  <a:cubicBezTo>
                    <a:pt x="1796" y="22"/>
                    <a:pt x="1819" y="0"/>
                    <a:pt x="1846" y="0"/>
                  </a:cubicBezTo>
                  <a:lnTo>
                    <a:pt x="1846" y="0"/>
                  </a:lnTo>
                  <a:cubicBezTo>
                    <a:pt x="1874" y="0"/>
                    <a:pt x="1896" y="22"/>
                    <a:pt x="1896" y="50"/>
                  </a:cubicBezTo>
                  <a:cubicBezTo>
                    <a:pt x="1896" y="77"/>
                    <a:pt x="1874" y="100"/>
                    <a:pt x="1846" y="100"/>
                  </a:cubicBezTo>
                  <a:close/>
                  <a:moveTo>
                    <a:pt x="1646" y="100"/>
                  </a:moveTo>
                  <a:lnTo>
                    <a:pt x="1646" y="100"/>
                  </a:lnTo>
                  <a:cubicBezTo>
                    <a:pt x="1619" y="100"/>
                    <a:pt x="1596" y="77"/>
                    <a:pt x="1596" y="50"/>
                  </a:cubicBezTo>
                  <a:cubicBezTo>
                    <a:pt x="1596" y="22"/>
                    <a:pt x="1619" y="0"/>
                    <a:pt x="1646" y="0"/>
                  </a:cubicBezTo>
                  <a:lnTo>
                    <a:pt x="1646" y="0"/>
                  </a:lnTo>
                  <a:cubicBezTo>
                    <a:pt x="1674" y="0"/>
                    <a:pt x="1696" y="22"/>
                    <a:pt x="1696" y="50"/>
                  </a:cubicBezTo>
                  <a:cubicBezTo>
                    <a:pt x="1696" y="77"/>
                    <a:pt x="1674" y="100"/>
                    <a:pt x="1646" y="100"/>
                  </a:cubicBezTo>
                  <a:close/>
                  <a:moveTo>
                    <a:pt x="1446" y="100"/>
                  </a:moveTo>
                  <a:lnTo>
                    <a:pt x="1446" y="100"/>
                  </a:lnTo>
                  <a:cubicBezTo>
                    <a:pt x="1419" y="100"/>
                    <a:pt x="1396" y="77"/>
                    <a:pt x="1396" y="50"/>
                  </a:cubicBezTo>
                  <a:cubicBezTo>
                    <a:pt x="1396" y="22"/>
                    <a:pt x="1419" y="0"/>
                    <a:pt x="1446" y="0"/>
                  </a:cubicBezTo>
                  <a:lnTo>
                    <a:pt x="1446" y="0"/>
                  </a:lnTo>
                  <a:cubicBezTo>
                    <a:pt x="1474" y="0"/>
                    <a:pt x="1496" y="22"/>
                    <a:pt x="1496" y="50"/>
                  </a:cubicBezTo>
                  <a:cubicBezTo>
                    <a:pt x="1496" y="77"/>
                    <a:pt x="1474" y="100"/>
                    <a:pt x="1446" y="100"/>
                  </a:cubicBezTo>
                  <a:close/>
                  <a:moveTo>
                    <a:pt x="1246" y="100"/>
                  </a:moveTo>
                  <a:lnTo>
                    <a:pt x="1246" y="100"/>
                  </a:lnTo>
                  <a:cubicBezTo>
                    <a:pt x="1218" y="100"/>
                    <a:pt x="1196" y="77"/>
                    <a:pt x="1196" y="50"/>
                  </a:cubicBezTo>
                  <a:cubicBezTo>
                    <a:pt x="1196" y="22"/>
                    <a:pt x="1218" y="0"/>
                    <a:pt x="1246" y="0"/>
                  </a:cubicBezTo>
                  <a:lnTo>
                    <a:pt x="1246" y="0"/>
                  </a:lnTo>
                  <a:cubicBezTo>
                    <a:pt x="1274" y="0"/>
                    <a:pt x="1296" y="22"/>
                    <a:pt x="1296" y="50"/>
                  </a:cubicBezTo>
                  <a:cubicBezTo>
                    <a:pt x="1296" y="77"/>
                    <a:pt x="1274" y="100"/>
                    <a:pt x="1246" y="100"/>
                  </a:cubicBezTo>
                  <a:close/>
                  <a:moveTo>
                    <a:pt x="1046" y="100"/>
                  </a:moveTo>
                  <a:lnTo>
                    <a:pt x="1046" y="100"/>
                  </a:lnTo>
                  <a:cubicBezTo>
                    <a:pt x="1018" y="100"/>
                    <a:pt x="996" y="77"/>
                    <a:pt x="996" y="50"/>
                  </a:cubicBezTo>
                  <a:cubicBezTo>
                    <a:pt x="996" y="22"/>
                    <a:pt x="1018" y="0"/>
                    <a:pt x="1046" y="0"/>
                  </a:cubicBezTo>
                  <a:lnTo>
                    <a:pt x="1046" y="0"/>
                  </a:lnTo>
                  <a:cubicBezTo>
                    <a:pt x="1074" y="0"/>
                    <a:pt x="1096" y="22"/>
                    <a:pt x="1096" y="50"/>
                  </a:cubicBezTo>
                  <a:cubicBezTo>
                    <a:pt x="1096" y="77"/>
                    <a:pt x="1074" y="100"/>
                    <a:pt x="1046" y="100"/>
                  </a:cubicBezTo>
                  <a:close/>
                  <a:moveTo>
                    <a:pt x="846" y="100"/>
                  </a:moveTo>
                  <a:lnTo>
                    <a:pt x="846" y="100"/>
                  </a:lnTo>
                  <a:cubicBezTo>
                    <a:pt x="818" y="100"/>
                    <a:pt x="796" y="77"/>
                    <a:pt x="796" y="50"/>
                  </a:cubicBezTo>
                  <a:cubicBezTo>
                    <a:pt x="796" y="22"/>
                    <a:pt x="818" y="0"/>
                    <a:pt x="846" y="0"/>
                  </a:cubicBezTo>
                  <a:lnTo>
                    <a:pt x="846" y="0"/>
                  </a:lnTo>
                  <a:cubicBezTo>
                    <a:pt x="874" y="0"/>
                    <a:pt x="896" y="22"/>
                    <a:pt x="896" y="50"/>
                  </a:cubicBezTo>
                  <a:cubicBezTo>
                    <a:pt x="896" y="77"/>
                    <a:pt x="874" y="100"/>
                    <a:pt x="846" y="100"/>
                  </a:cubicBezTo>
                  <a:close/>
                  <a:moveTo>
                    <a:pt x="646" y="100"/>
                  </a:moveTo>
                  <a:lnTo>
                    <a:pt x="646" y="100"/>
                  </a:lnTo>
                  <a:cubicBezTo>
                    <a:pt x="618" y="100"/>
                    <a:pt x="596" y="77"/>
                    <a:pt x="596" y="50"/>
                  </a:cubicBezTo>
                  <a:cubicBezTo>
                    <a:pt x="596" y="22"/>
                    <a:pt x="618" y="0"/>
                    <a:pt x="646" y="0"/>
                  </a:cubicBezTo>
                  <a:lnTo>
                    <a:pt x="646" y="0"/>
                  </a:lnTo>
                  <a:cubicBezTo>
                    <a:pt x="673" y="0"/>
                    <a:pt x="696" y="22"/>
                    <a:pt x="696" y="50"/>
                  </a:cubicBezTo>
                  <a:cubicBezTo>
                    <a:pt x="696" y="77"/>
                    <a:pt x="673" y="100"/>
                    <a:pt x="646" y="100"/>
                  </a:cubicBezTo>
                  <a:close/>
                  <a:moveTo>
                    <a:pt x="446" y="100"/>
                  </a:moveTo>
                  <a:lnTo>
                    <a:pt x="446" y="100"/>
                  </a:lnTo>
                  <a:cubicBezTo>
                    <a:pt x="418" y="100"/>
                    <a:pt x="396" y="77"/>
                    <a:pt x="396" y="50"/>
                  </a:cubicBezTo>
                  <a:cubicBezTo>
                    <a:pt x="396" y="22"/>
                    <a:pt x="418" y="0"/>
                    <a:pt x="446" y="0"/>
                  </a:cubicBezTo>
                  <a:lnTo>
                    <a:pt x="446" y="0"/>
                  </a:lnTo>
                  <a:cubicBezTo>
                    <a:pt x="473" y="0"/>
                    <a:pt x="496" y="22"/>
                    <a:pt x="496" y="50"/>
                  </a:cubicBezTo>
                  <a:cubicBezTo>
                    <a:pt x="496" y="77"/>
                    <a:pt x="473" y="100"/>
                    <a:pt x="446" y="100"/>
                  </a:cubicBezTo>
                  <a:close/>
                  <a:moveTo>
                    <a:pt x="246" y="100"/>
                  </a:moveTo>
                  <a:lnTo>
                    <a:pt x="246" y="100"/>
                  </a:lnTo>
                  <a:cubicBezTo>
                    <a:pt x="218" y="100"/>
                    <a:pt x="196" y="77"/>
                    <a:pt x="196" y="50"/>
                  </a:cubicBezTo>
                  <a:cubicBezTo>
                    <a:pt x="196" y="22"/>
                    <a:pt x="218" y="0"/>
                    <a:pt x="246" y="0"/>
                  </a:cubicBezTo>
                  <a:lnTo>
                    <a:pt x="246" y="0"/>
                  </a:lnTo>
                  <a:cubicBezTo>
                    <a:pt x="273" y="0"/>
                    <a:pt x="296" y="22"/>
                    <a:pt x="296" y="50"/>
                  </a:cubicBezTo>
                  <a:cubicBezTo>
                    <a:pt x="296" y="77"/>
                    <a:pt x="273" y="100"/>
                    <a:pt x="246" y="100"/>
                  </a:cubicBezTo>
                  <a:close/>
                  <a:moveTo>
                    <a:pt x="100" y="55"/>
                  </a:moveTo>
                  <a:lnTo>
                    <a:pt x="100" y="55"/>
                  </a:lnTo>
                  <a:cubicBezTo>
                    <a:pt x="100" y="82"/>
                    <a:pt x="78" y="105"/>
                    <a:pt x="50" y="105"/>
                  </a:cubicBezTo>
                  <a:cubicBezTo>
                    <a:pt x="23" y="105"/>
                    <a:pt x="0" y="82"/>
                    <a:pt x="0" y="55"/>
                  </a:cubicBezTo>
                  <a:lnTo>
                    <a:pt x="0" y="55"/>
                  </a:lnTo>
                  <a:cubicBezTo>
                    <a:pt x="0" y="27"/>
                    <a:pt x="23" y="5"/>
                    <a:pt x="50" y="5"/>
                  </a:cubicBezTo>
                  <a:cubicBezTo>
                    <a:pt x="78" y="5"/>
                    <a:pt x="100" y="27"/>
                    <a:pt x="100" y="55"/>
                  </a:cubicBezTo>
                  <a:close/>
                  <a:moveTo>
                    <a:pt x="100" y="255"/>
                  </a:moveTo>
                  <a:lnTo>
                    <a:pt x="100" y="255"/>
                  </a:lnTo>
                  <a:cubicBezTo>
                    <a:pt x="100" y="283"/>
                    <a:pt x="78" y="305"/>
                    <a:pt x="50" y="305"/>
                  </a:cubicBezTo>
                  <a:cubicBezTo>
                    <a:pt x="23" y="305"/>
                    <a:pt x="0" y="283"/>
                    <a:pt x="0" y="255"/>
                  </a:cubicBezTo>
                  <a:lnTo>
                    <a:pt x="0" y="255"/>
                  </a:lnTo>
                  <a:cubicBezTo>
                    <a:pt x="0" y="227"/>
                    <a:pt x="23" y="205"/>
                    <a:pt x="50" y="205"/>
                  </a:cubicBezTo>
                  <a:cubicBezTo>
                    <a:pt x="78" y="205"/>
                    <a:pt x="100" y="227"/>
                    <a:pt x="100" y="255"/>
                  </a:cubicBezTo>
                  <a:close/>
                  <a:moveTo>
                    <a:pt x="100" y="455"/>
                  </a:moveTo>
                  <a:lnTo>
                    <a:pt x="100" y="455"/>
                  </a:lnTo>
                  <a:cubicBezTo>
                    <a:pt x="100" y="483"/>
                    <a:pt x="78" y="505"/>
                    <a:pt x="50" y="505"/>
                  </a:cubicBezTo>
                  <a:cubicBezTo>
                    <a:pt x="23" y="505"/>
                    <a:pt x="0" y="483"/>
                    <a:pt x="0" y="455"/>
                  </a:cubicBezTo>
                  <a:lnTo>
                    <a:pt x="0" y="455"/>
                  </a:lnTo>
                  <a:cubicBezTo>
                    <a:pt x="0" y="427"/>
                    <a:pt x="23" y="405"/>
                    <a:pt x="50" y="405"/>
                  </a:cubicBezTo>
                  <a:cubicBezTo>
                    <a:pt x="78" y="405"/>
                    <a:pt x="100" y="427"/>
                    <a:pt x="100" y="455"/>
                  </a:cubicBezTo>
                  <a:close/>
                  <a:moveTo>
                    <a:pt x="100" y="655"/>
                  </a:moveTo>
                  <a:lnTo>
                    <a:pt x="100" y="655"/>
                  </a:lnTo>
                  <a:cubicBezTo>
                    <a:pt x="100" y="683"/>
                    <a:pt x="78" y="705"/>
                    <a:pt x="50" y="705"/>
                  </a:cubicBezTo>
                  <a:cubicBezTo>
                    <a:pt x="23" y="705"/>
                    <a:pt x="0" y="683"/>
                    <a:pt x="0" y="655"/>
                  </a:cubicBezTo>
                  <a:lnTo>
                    <a:pt x="0" y="655"/>
                  </a:lnTo>
                  <a:cubicBezTo>
                    <a:pt x="0" y="627"/>
                    <a:pt x="23" y="605"/>
                    <a:pt x="50" y="605"/>
                  </a:cubicBezTo>
                  <a:cubicBezTo>
                    <a:pt x="78" y="605"/>
                    <a:pt x="100" y="627"/>
                    <a:pt x="100" y="655"/>
                  </a:cubicBezTo>
                  <a:close/>
                  <a:moveTo>
                    <a:pt x="100" y="855"/>
                  </a:moveTo>
                  <a:lnTo>
                    <a:pt x="100" y="855"/>
                  </a:lnTo>
                  <a:cubicBezTo>
                    <a:pt x="100" y="883"/>
                    <a:pt x="78" y="905"/>
                    <a:pt x="50" y="905"/>
                  </a:cubicBezTo>
                  <a:cubicBezTo>
                    <a:pt x="23" y="905"/>
                    <a:pt x="0" y="883"/>
                    <a:pt x="0" y="855"/>
                  </a:cubicBezTo>
                  <a:lnTo>
                    <a:pt x="0" y="855"/>
                  </a:lnTo>
                  <a:cubicBezTo>
                    <a:pt x="0" y="827"/>
                    <a:pt x="23" y="805"/>
                    <a:pt x="50" y="805"/>
                  </a:cubicBezTo>
                  <a:cubicBezTo>
                    <a:pt x="78" y="805"/>
                    <a:pt x="100" y="827"/>
                    <a:pt x="100" y="855"/>
                  </a:cubicBezTo>
                  <a:close/>
                  <a:moveTo>
                    <a:pt x="100" y="1055"/>
                  </a:moveTo>
                  <a:lnTo>
                    <a:pt x="100" y="1055"/>
                  </a:lnTo>
                  <a:cubicBezTo>
                    <a:pt x="100" y="1083"/>
                    <a:pt x="78" y="1105"/>
                    <a:pt x="50" y="1105"/>
                  </a:cubicBezTo>
                  <a:cubicBezTo>
                    <a:pt x="23" y="1105"/>
                    <a:pt x="0" y="1083"/>
                    <a:pt x="0" y="1055"/>
                  </a:cubicBezTo>
                  <a:lnTo>
                    <a:pt x="0" y="1055"/>
                  </a:lnTo>
                  <a:cubicBezTo>
                    <a:pt x="0" y="1028"/>
                    <a:pt x="23" y="1005"/>
                    <a:pt x="50" y="1005"/>
                  </a:cubicBezTo>
                  <a:cubicBezTo>
                    <a:pt x="78" y="1005"/>
                    <a:pt x="100" y="1028"/>
                    <a:pt x="100" y="1055"/>
                  </a:cubicBezTo>
                  <a:close/>
                  <a:moveTo>
                    <a:pt x="100" y="1255"/>
                  </a:moveTo>
                  <a:lnTo>
                    <a:pt x="100" y="1255"/>
                  </a:lnTo>
                  <a:cubicBezTo>
                    <a:pt x="100" y="1283"/>
                    <a:pt x="78" y="1305"/>
                    <a:pt x="50" y="1305"/>
                  </a:cubicBezTo>
                  <a:cubicBezTo>
                    <a:pt x="23" y="1305"/>
                    <a:pt x="0" y="1283"/>
                    <a:pt x="0" y="1255"/>
                  </a:cubicBezTo>
                  <a:lnTo>
                    <a:pt x="0" y="1255"/>
                  </a:lnTo>
                  <a:cubicBezTo>
                    <a:pt x="0" y="1228"/>
                    <a:pt x="23" y="1205"/>
                    <a:pt x="50" y="1205"/>
                  </a:cubicBezTo>
                  <a:cubicBezTo>
                    <a:pt x="78" y="1205"/>
                    <a:pt x="100" y="1228"/>
                    <a:pt x="100" y="1255"/>
                  </a:cubicBezTo>
                  <a:close/>
                  <a:moveTo>
                    <a:pt x="100" y="1455"/>
                  </a:moveTo>
                  <a:lnTo>
                    <a:pt x="100" y="1456"/>
                  </a:lnTo>
                  <a:cubicBezTo>
                    <a:pt x="100" y="1483"/>
                    <a:pt x="78" y="1506"/>
                    <a:pt x="50" y="1506"/>
                  </a:cubicBezTo>
                  <a:cubicBezTo>
                    <a:pt x="23" y="1506"/>
                    <a:pt x="0" y="1483"/>
                    <a:pt x="0" y="1456"/>
                  </a:cubicBezTo>
                  <a:lnTo>
                    <a:pt x="0" y="1455"/>
                  </a:lnTo>
                  <a:cubicBezTo>
                    <a:pt x="0" y="1428"/>
                    <a:pt x="23" y="1405"/>
                    <a:pt x="50" y="1405"/>
                  </a:cubicBezTo>
                  <a:cubicBezTo>
                    <a:pt x="78" y="1405"/>
                    <a:pt x="100" y="1428"/>
                    <a:pt x="100" y="1455"/>
                  </a:cubicBezTo>
                  <a:close/>
                  <a:moveTo>
                    <a:pt x="100" y="1656"/>
                  </a:moveTo>
                  <a:lnTo>
                    <a:pt x="100" y="1656"/>
                  </a:lnTo>
                  <a:cubicBezTo>
                    <a:pt x="100" y="1683"/>
                    <a:pt x="78" y="1706"/>
                    <a:pt x="50" y="1706"/>
                  </a:cubicBezTo>
                  <a:cubicBezTo>
                    <a:pt x="23" y="1706"/>
                    <a:pt x="0" y="1683"/>
                    <a:pt x="0" y="1656"/>
                  </a:cubicBezTo>
                  <a:lnTo>
                    <a:pt x="0" y="1656"/>
                  </a:lnTo>
                  <a:cubicBezTo>
                    <a:pt x="0" y="1628"/>
                    <a:pt x="23" y="1606"/>
                    <a:pt x="50" y="1606"/>
                  </a:cubicBezTo>
                  <a:cubicBezTo>
                    <a:pt x="78" y="1606"/>
                    <a:pt x="100" y="1628"/>
                    <a:pt x="100" y="1656"/>
                  </a:cubicBezTo>
                  <a:close/>
                  <a:moveTo>
                    <a:pt x="100" y="1856"/>
                  </a:moveTo>
                  <a:lnTo>
                    <a:pt x="100" y="1856"/>
                  </a:lnTo>
                  <a:cubicBezTo>
                    <a:pt x="100" y="1883"/>
                    <a:pt x="78" y="1906"/>
                    <a:pt x="50" y="1906"/>
                  </a:cubicBezTo>
                  <a:cubicBezTo>
                    <a:pt x="23" y="1906"/>
                    <a:pt x="0" y="1883"/>
                    <a:pt x="0" y="1856"/>
                  </a:cubicBezTo>
                  <a:lnTo>
                    <a:pt x="0" y="1856"/>
                  </a:lnTo>
                  <a:cubicBezTo>
                    <a:pt x="0" y="1828"/>
                    <a:pt x="23" y="1806"/>
                    <a:pt x="50" y="1806"/>
                  </a:cubicBezTo>
                  <a:cubicBezTo>
                    <a:pt x="78" y="1806"/>
                    <a:pt x="100" y="1828"/>
                    <a:pt x="100" y="1856"/>
                  </a:cubicBezTo>
                  <a:close/>
                  <a:moveTo>
                    <a:pt x="100" y="2056"/>
                  </a:moveTo>
                  <a:lnTo>
                    <a:pt x="100" y="2056"/>
                  </a:lnTo>
                  <a:cubicBezTo>
                    <a:pt x="100" y="2083"/>
                    <a:pt x="78" y="2106"/>
                    <a:pt x="50" y="2106"/>
                  </a:cubicBezTo>
                  <a:cubicBezTo>
                    <a:pt x="23" y="2106"/>
                    <a:pt x="0" y="2083"/>
                    <a:pt x="0" y="2056"/>
                  </a:cubicBezTo>
                  <a:lnTo>
                    <a:pt x="0" y="2056"/>
                  </a:lnTo>
                  <a:cubicBezTo>
                    <a:pt x="0" y="2028"/>
                    <a:pt x="23" y="2006"/>
                    <a:pt x="50" y="2006"/>
                  </a:cubicBezTo>
                  <a:cubicBezTo>
                    <a:pt x="78" y="2006"/>
                    <a:pt x="100" y="2028"/>
                    <a:pt x="100" y="2056"/>
                  </a:cubicBezTo>
                  <a:close/>
                  <a:moveTo>
                    <a:pt x="100" y="2256"/>
                  </a:moveTo>
                  <a:lnTo>
                    <a:pt x="100" y="2256"/>
                  </a:lnTo>
                  <a:cubicBezTo>
                    <a:pt x="100" y="2284"/>
                    <a:pt x="78" y="2306"/>
                    <a:pt x="50" y="2306"/>
                  </a:cubicBezTo>
                  <a:cubicBezTo>
                    <a:pt x="23" y="2306"/>
                    <a:pt x="0" y="2284"/>
                    <a:pt x="0" y="2256"/>
                  </a:cubicBezTo>
                  <a:lnTo>
                    <a:pt x="0" y="2256"/>
                  </a:lnTo>
                  <a:cubicBezTo>
                    <a:pt x="0" y="2228"/>
                    <a:pt x="23" y="2206"/>
                    <a:pt x="50" y="2206"/>
                  </a:cubicBezTo>
                  <a:cubicBezTo>
                    <a:pt x="78" y="2206"/>
                    <a:pt x="100" y="2228"/>
                    <a:pt x="100" y="2256"/>
                  </a:cubicBezTo>
                  <a:close/>
                  <a:moveTo>
                    <a:pt x="100" y="2456"/>
                  </a:moveTo>
                  <a:lnTo>
                    <a:pt x="100" y="2456"/>
                  </a:lnTo>
                  <a:cubicBezTo>
                    <a:pt x="100" y="2484"/>
                    <a:pt x="78" y="2506"/>
                    <a:pt x="50" y="2506"/>
                  </a:cubicBezTo>
                  <a:cubicBezTo>
                    <a:pt x="23" y="2506"/>
                    <a:pt x="0" y="2484"/>
                    <a:pt x="0" y="2456"/>
                  </a:cubicBezTo>
                  <a:lnTo>
                    <a:pt x="0" y="2456"/>
                  </a:lnTo>
                  <a:cubicBezTo>
                    <a:pt x="0" y="2428"/>
                    <a:pt x="23" y="2406"/>
                    <a:pt x="50" y="2406"/>
                  </a:cubicBezTo>
                  <a:cubicBezTo>
                    <a:pt x="78" y="2406"/>
                    <a:pt x="100" y="2428"/>
                    <a:pt x="100" y="2456"/>
                  </a:cubicBezTo>
                  <a:close/>
                  <a:moveTo>
                    <a:pt x="100" y="2656"/>
                  </a:moveTo>
                  <a:lnTo>
                    <a:pt x="100" y="2656"/>
                  </a:lnTo>
                  <a:cubicBezTo>
                    <a:pt x="100" y="2684"/>
                    <a:pt x="78" y="2706"/>
                    <a:pt x="50" y="2706"/>
                  </a:cubicBezTo>
                  <a:cubicBezTo>
                    <a:pt x="23" y="2706"/>
                    <a:pt x="0" y="2684"/>
                    <a:pt x="0" y="2656"/>
                  </a:cubicBezTo>
                  <a:lnTo>
                    <a:pt x="0" y="2656"/>
                  </a:lnTo>
                  <a:cubicBezTo>
                    <a:pt x="0" y="2628"/>
                    <a:pt x="23" y="2606"/>
                    <a:pt x="50" y="2606"/>
                  </a:cubicBezTo>
                  <a:cubicBezTo>
                    <a:pt x="78" y="2606"/>
                    <a:pt x="100" y="2628"/>
                    <a:pt x="100" y="2656"/>
                  </a:cubicBezTo>
                  <a:close/>
                  <a:moveTo>
                    <a:pt x="100" y="2856"/>
                  </a:moveTo>
                  <a:lnTo>
                    <a:pt x="100" y="2856"/>
                  </a:lnTo>
                  <a:cubicBezTo>
                    <a:pt x="100" y="2884"/>
                    <a:pt x="78" y="2906"/>
                    <a:pt x="50" y="2906"/>
                  </a:cubicBezTo>
                  <a:cubicBezTo>
                    <a:pt x="23" y="2906"/>
                    <a:pt x="0" y="2884"/>
                    <a:pt x="0" y="2856"/>
                  </a:cubicBezTo>
                  <a:lnTo>
                    <a:pt x="0" y="2856"/>
                  </a:lnTo>
                  <a:cubicBezTo>
                    <a:pt x="0" y="2828"/>
                    <a:pt x="23" y="2806"/>
                    <a:pt x="50" y="2806"/>
                  </a:cubicBezTo>
                  <a:cubicBezTo>
                    <a:pt x="78" y="2806"/>
                    <a:pt x="100" y="2828"/>
                    <a:pt x="100" y="2856"/>
                  </a:cubicBezTo>
                  <a:close/>
                  <a:moveTo>
                    <a:pt x="100" y="3056"/>
                  </a:moveTo>
                  <a:lnTo>
                    <a:pt x="100" y="3056"/>
                  </a:lnTo>
                  <a:cubicBezTo>
                    <a:pt x="100" y="3084"/>
                    <a:pt x="78" y="3106"/>
                    <a:pt x="50" y="3106"/>
                  </a:cubicBezTo>
                  <a:cubicBezTo>
                    <a:pt x="23" y="3106"/>
                    <a:pt x="0" y="3084"/>
                    <a:pt x="0" y="3056"/>
                  </a:cubicBezTo>
                  <a:lnTo>
                    <a:pt x="0" y="3056"/>
                  </a:lnTo>
                  <a:cubicBezTo>
                    <a:pt x="0" y="3029"/>
                    <a:pt x="23" y="3006"/>
                    <a:pt x="50" y="3006"/>
                  </a:cubicBezTo>
                  <a:cubicBezTo>
                    <a:pt x="78" y="3006"/>
                    <a:pt x="100" y="3029"/>
                    <a:pt x="100" y="3056"/>
                  </a:cubicBezTo>
                  <a:close/>
                  <a:moveTo>
                    <a:pt x="100" y="3256"/>
                  </a:moveTo>
                  <a:lnTo>
                    <a:pt x="100" y="3256"/>
                  </a:lnTo>
                  <a:cubicBezTo>
                    <a:pt x="100" y="3284"/>
                    <a:pt x="78" y="3306"/>
                    <a:pt x="50" y="3306"/>
                  </a:cubicBezTo>
                  <a:cubicBezTo>
                    <a:pt x="23" y="3306"/>
                    <a:pt x="0" y="3284"/>
                    <a:pt x="0" y="3256"/>
                  </a:cubicBezTo>
                  <a:lnTo>
                    <a:pt x="0" y="3256"/>
                  </a:lnTo>
                  <a:cubicBezTo>
                    <a:pt x="0" y="3229"/>
                    <a:pt x="23" y="3206"/>
                    <a:pt x="50" y="3206"/>
                  </a:cubicBezTo>
                  <a:cubicBezTo>
                    <a:pt x="78" y="3206"/>
                    <a:pt x="100" y="3229"/>
                    <a:pt x="100" y="3256"/>
                  </a:cubicBezTo>
                  <a:close/>
                  <a:moveTo>
                    <a:pt x="100" y="3456"/>
                  </a:moveTo>
                  <a:lnTo>
                    <a:pt x="100" y="3457"/>
                  </a:lnTo>
                  <a:cubicBezTo>
                    <a:pt x="100" y="3484"/>
                    <a:pt x="78" y="3507"/>
                    <a:pt x="50" y="3507"/>
                  </a:cubicBezTo>
                  <a:cubicBezTo>
                    <a:pt x="23" y="3507"/>
                    <a:pt x="0" y="3484"/>
                    <a:pt x="0" y="3457"/>
                  </a:cubicBezTo>
                  <a:lnTo>
                    <a:pt x="0" y="3456"/>
                  </a:lnTo>
                  <a:cubicBezTo>
                    <a:pt x="0" y="3429"/>
                    <a:pt x="23" y="3406"/>
                    <a:pt x="50" y="3406"/>
                  </a:cubicBezTo>
                  <a:cubicBezTo>
                    <a:pt x="78" y="3406"/>
                    <a:pt x="100" y="3429"/>
                    <a:pt x="100" y="3456"/>
                  </a:cubicBezTo>
                  <a:close/>
                  <a:moveTo>
                    <a:pt x="100" y="3657"/>
                  </a:moveTo>
                  <a:lnTo>
                    <a:pt x="100" y="3657"/>
                  </a:lnTo>
                  <a:cubicBezTo>
                    <a:pt x="100" y="3684"/>
                    <a:pt x="78" y="3707"/>
                    <a:pt x="50" y="3707"/>
                  </a:cubicBezTo>
                  <a:cubicBezTo>
                    <a:pt x="23" y="3707"/>
                    <a:pt x="0" y="3684"/>
                    <a:pt x="0" y="3657"/>
                  </a:cubicBezTo>
                  <a:lnTo>
                    <a:pt x="0" y="3657"/>
                  </a:lnTo>
                  <a:cubicBezTo>
                    <a:pt x="0" y="3629"/>
                    <a:pt x="23" y="3607"/>
                    <a:pt x="50" y="3607"/>
                  </a:cubicBezTo>
                  <a:cubicBezTo>
                    <a:pt x="78" y="3607"/>
                    <a:pt x="100" y="3629"/>
                    <a:pt x="100" y="3657"/>
                  </a:cubicBezTo>
                  <a:close/>
                  <a:moveTo>
                    <a:pt x="100" y="3857"/>
                  </a:moveTo>
                  <a:lnTo>
                    <a:pt x="100" y="3857"/>
                  </a:lnTo>
                  <a:cubicBezTo>
                    <a:pt x="100" y="3884"/>
                    <a:pt x="78" y="3907"/>
                    <a:pt x="50" y="3907"/>
                  </a:cubicBezTo>
                  <a:cubicBezTo>
                    <a:pt x="23" y="3907"/>
                    <a:pt x="0" y="3884"/>
                    <a:pt x="0" y="3857"/>
                  </a:cubicBezTo>
                  <a:lnTo>
                    <a:pt x="0" y="3857"/>
                  </a:lnTo>
                  <a:cubicBezTo>
                    <a:pt x="0" y="3829"/>
                    <a:pt x="23" y="3807"/>
                    <a:pt x="50" y="3807"/>
                  </a:cubicBezTo>
                  <a:cubicBezTo>
                    <a:pt x="78" y="3807"/>
                    <a:pt x="100" y="3829"/>
                    <a:pt x="100" y="3857"/>
                  </a:cubicBezTo>
                  <a:close/>
                  <a:moveTo>
                    <a:pt x="100" y="4057"/>
                  </a:moveTo>
                  <a:lnTo>
                    <a:pt x="100" y="4057"/>
                  </a:lnTo>
                  <a:cubicBezTo>
                    <a:pt x="100" y="4084"/>
                    <a:pt x="78" y="4107"/>
                    <a:pt x="50" y="4107"/>
                  </a:cubicBezTo>
                  <a:cubicBezTo>
                    <a:pt x="23" y="4107"/>
                    <a:pt x="0" y="4084"/>
                    <a:pt x="0" y="4057"/>
                  </a:cubicBezTo>
                  <a:lnTo>
                    <a:pt x="0" y="4057"/>
                  </a:lnTo>
                  <a:cubicBezTo>
                    <a:pt x="0" y="4029"/>
                    <a:pt x="23" y="4007"/>
                    <a:pt x="50" y="4007"/>
                  </a:cubicBezTo>
                  <a:cubicBezTo>
                    <a:pt x="78" y="4007"/>
                    <a:pt x="100" y="4029"/>
                    <a:pt x="100" y="4057"/>
                  </a:cubicBezTo>
                  <a:close/>
                  <a:moveTo>
                    <a:pt x="100" y="4257"/>
                  </a:moveTo>
                  <a:lnTo>
                    <a:pt x="100" y="4257"/>
                  </a:lnTo>
                  <a:cubicBezTo>
                    <a:pt x="100" y="4285"/>
                    <a:pt x="78" y="4307"/>
                    <a:pt x="50" y="4307"/>
                  </a:cubicBezTo>
                  <a:cubicBezTo>
                    <a:pt x="23" y="4307"/>
                    <a:pt x="0" y="4285"/>
                    <a:pt x="0" y="4257"/>
                  </a:cubicBezTo>
                  <a:lnTo>
                    <a:pt x="0" y="4257"/>
                  </a:lnTo>
                  <a:cubicBezTo>
                    <a:pt x="0" y="4229"/>
                    <a:pt x="23" y="4207"/>
                    <a:pt x="50" y="4207"/>
                  </a:cubicBezTo>
                  <a:cubicBezTo>
                    <a:pt x="78" y="4207"/>
                    <a:pt x="100" y="4229"/>
                    <a:pt x="100" y="4257"/>
                  </a:cubicBezTo>
                  <a:close/>
                  <a:moveTo>
                    <a:pt x="100" y="4457"/>
                  </a:moveTo>
                  <a:lnTo>
                    <a:pt x="100" y="4457"/>
                  </a:lnTo>
                  <a:cubicBezTo>
                    <a:pt x="100" y="4485"/>
                    <a:pt x="78" y="4507"/>
                    <a:pt x="50" y="4507"/>
                  </a:cubicBezTo>
                  <a:cubicBezTo>
                    <a:pt x="23" y="4507"/>
                    <a:pt x="0" y="4485"/>
                    <a:pt x="0" y="4457"/>
                  </a:cubicBezTo>
                  <a:lnTo>
                    <a:pt x="0" y="4457"/>
                  </a:lnTo>
                  <a:cubicBezTo>
                    <a:pt x="0" y="4429"/>
                    <a:pt x="23" y="4407"/>
                    <a:pt x="50" y="4407"/>
                  </a:cubicBezTo>
                  <a:cubicBezTo>
                    <a:pt x="78" y="4407"/>
                    <a:pt x="100" y="4429"/>
                    <a:pt x="100" y="4457"/>
                  </a:cubicBezTo>
                  <a:close/>
                  <a:moveTo>
                    <a:pt x="204" y="4453"/>
                  </a:moveTo>
                  <a:lnTo>
                    <a:pt x="204" y="4453"/>
                  </a:lnTo>
                  <a:cubicBezTo>
                    <a:pt x="232" y="4453"/>
                    <a:pt x="254" y="4476"/>
                    <a:pt x="254" y="4503"/>
                  </a:cubicBezTo>
                  <a:cubicBezTo>
                    <a:pt x="254" y="4531"/>
                    <a:pt x="232" y="4553"/>
                    <a:pt x="204" y="4553"/>
                  </a:cubicBezTo>
                  <a:lnTo>
                    <a:pt x="204" y="4553"/>
                  </a:lnTo>
                  <a:cubicBezTo>
                    <a:pt x="177" y="4553"/>
                    <a:pt x="154" y="4531"/>
                    <a:pt x="154" y="4503"/>
                  </a:cubicBezTo>
                  <a:cubicBezTo>
                    <a:pt x="154" y="4476"/>
                    <a:pt x="177" y="4453"/>
                    <a:pt x="204" y="4453"/>
                  </a:cubicBezTo>
                  <a:close/>
                  <a:moveTo>
                    <a:pt x="404" y="4453"/>
                  </a:moveTo>
                  <a:lnTo>
                    <a:pt x="405" y="4453"/>
                  </a:lnTo>
                  <a:cubicBezTo>
                    <a:pt x="432" y="4453"/>
                    <a:pt x="455" y="4476"/>
                    <a:pt x="455" y="4503"/>
                  </a:cubicBezTo>
                  <a:cubicBezTo>
                    <a:pt x="455" y="4531"/>
                    <a:pt x="432" y="4553"/>
                    <a:pt x="405" y="4553"/>
                  </a:cubicBezTo>
                  <a:lnTo>
                    <a:pt x="404" y="4553"/>
                  </a:lnTo>
                  <a:cubicBezTo>
                    <a:pt x="377" y="4553"/>
                    <a:pt x="354" y="4531"/>
                    <a:pt x="354" y="4503"/>
                  </a:cubicBezTo>
                  <a:cubicBezTo>
                    <a:pt x="354" y="4476"/>
                    <a:pt x="377" y="4453"/>
                    <a:pt x="404" y="4453"/>
                  </a:cubicBezTo>
                  <a:close/>
                  <a:moveTo>
                    <a:pt x="605" y="4453"/>
                  </a:moveTo>
                  <a:lnTo>
                    <a:pt x="605" y="4453"/>
                  </a:lnTo>
                  <a:cubicBezTo>
                    <a:pt x="632" y="4453"/>
                    <a:pt x="655" y="4476"/>
                    <a:pt x="655" y="4503"/>
                  </a:cubicBezTo>
                  <a:cubicBezTo>
                    <a:pt x="655" y="4531"/>
                    <a:pt x="632" y="4553"/>
                    <a:pt x="605" y="4553"/>
                  </a:cubicBezTo>
                  <a:lnTo>
                    <a:pt x="605" y="4553"/>
                  </a:lnTo>
                  <a:cubicBezTo>
                    <a:pt x="577" y="4553"/>
                    <a:pt x="555" y="4531"/>
                    <a:pt x="555" y="4503"/>
                  </a:cubicBezTo>
                  <a:cubicBezTo>
                    <a:pt x="555" y="4476"/>
                    <a:pt x="577" y="4453"/>
                    <a:pt x="605" y="4453"/>
                  </a:cubicBezTo>
                  <a:close/>
                  <a:moveTo>
                    <a:pt x="805" y="4453"/>
                  </a:moveTo>
                  <a:lnTo>
                    <a:pt x="805" y="4453"/>
                  </a:lnTo>
                  <a:cubicBezTo>
                    <a:pt x="832" y="4453"/>
                    <a:pt x="855" y="4476"/>
                    <a:pt x="855" y="4503"/>
                  </a:cubicBezTo>
                  <a:cubicBezTo>
                    <a:pt x="855" y="4531"/>
                    <a:pt x="832" y="4553"/>
                    <a:pt x="805" y="4553"/>
                  </a:cubicBezTo>
                  <a:lnTo>
                    <a:pt x="805" y="4553"/>
                  </a:lnTo>
                  <a:cubicBezTo>
                    <a:pt x="777" y="4553"/>
                    <a:pt x="755" y="4531"/>
                    <a:pt x="755" y="4503"/>
                  </a:cubicBezTo>
                  <a:cubicBezTo>
                    <a:pt x="755" y="4476"/>
                    <a:pt x="777" y="4453"/>
                    <a:pt x="805" y="4453"/>
                  </a:cubicBezTo>
                  <a:close/>
                  <a:moveTo>
                    <a:pt x="1005" y="4453"/>
                  </a:moveTo>
                  <a:lnTo>
                    <a:pt x="1005" y="4453"/>
                  </a:lnTo>
                  <a:cubicBezTo>
                    <a:pt x="1032" y="4453"/>
                    <a:pt x="1055" y="4476"/>
                    <a:pt x="1055" y="4503"/>
                  </a:cubicBezTo>
                  <a:cubicBezTo>
                    <a:pt x="1055" y="4531"/>
                    <a:pt x="1032" y="4553"/>
                    <a:pt x="1005" y="4553"/>
                  </a:cubicBezTo>
                  <a:lnTo>
                    <a:pt x="1005" y="4553"/>
                  </a:lnTo>
                  <a:cubicBezTo>
                    <a:pt x="977" y="4553"/>
                    <a:pt x="955" y="4531"/>
                    <a:pt x="955" y="4503"/>
                  </a:cubicBezTo>
                  <a:cubicBezTo>
                    <a:pt x="955" y="4476"/>
                    <a:pt x="977" y="4453"/>
                    <a:pt x="1005" y="4453"/>
                  </a:cubicBezTo>
                  <a:close/>
                  <a:moveTo>
                    <a:pt x="1205" y="4453"/>
                  </a:moveTo>
                  <a:lnTo>
                    <a:pt x="1205" y="4453"/>
                  </a:lnTo>
                  <a:cubicBezTo>
                    <a:pt x="1233" y="4453"/>
                    <a:pt x="1255" y="4476"/>
                    <a:pt x="1255" y="4503"/>
                  </a:cubicBezTo>
                  <a:cubicBezTo>
                    <a:pt x="1255" y="4531"/>
                    <a:pt x="1233" y="4553"/>
                    <a:pt x="1205" y="4553"/>
                  </a:cubicBezTo>
                  <a:lnTo>
                    <a:pt x="1205" y="4553"/>
                  </a:lnTo>
                  <a:cubicBezTo>
                    <a:pt x="1177" y="4553"/>
                    <a:pt x="1155" y="4531"/>
                    <a:pt x="1155" y="4503"/>
                  </a:cubicBezTo>
                  <a:cubicBezTo>
                    <a:pt x="1155" y="4476"/>
                    <a:pt x="1177" y="4453"/>
                    <a:pt x="1205" y="4453"/>
                  </a:cubicBezTo>
                  <a:close/>
                  <a:moveTo>
                    <a:pt x="1405" y="4453"/>
                  </a:moveTo>
                  <a:lnTo>
                    <a:pt x="1405" y="4453"/>
                  </a:lnTo>
                  <a:cubicBezTo>
                    <a:pt x="1433" y="4453"/>
                    <a:pt x="1455" y="4476"/>
                    <a:pt x="1455" y="4503"/>
                  </a:cubicBezTo>
                  <a:cubicBezTo>
                    <a:pt x="1455" y="4531"/>
                    <a:pt x="1433" y="4553"/>
                    <a:pt x="1405" y="4553"/>
                  </a:cubicBezTo>
                  <a:lnTo>
                    <a:pt x="1405" y="4553"/>
                  </a:lnTo>
                  <a:cubicBezTo>
                    <a:pt x="1377" y="4553"/>
                    <a:pt x="1355" y="4531"/>
                    <a:pt x="1355" y="4503"/>
                  </a:cubicBezTo>
                  <a:cubicBezTo>
                    <a:pt x="1355" y="4476"/>
                    <a:pt x="1377" y="4453"/>
                    <a:pt x="1405" y="4453"/>
                  </a:cubicBezTo>
                  <a:close/>
                  <a:moveTo>
                    <a:pt x="1605" y="4453"/>
                  </a:moveTo>
                  <a:lnTo>
                    <a:pt x="1605" y="4453"/>
                  </a:lnTo>
                  <a:cubicBezTo>
                    <a:pt x="1633" y="4453"/>
                    <a:pt x="1655" y="4476"/>
                    <a:pt x="1655" y="4503"/>
                  </a:cubicBezTo>
                  <a:cubicBezTo>
                    <a:pt x="1655" y="4531"/>
                    <a:pt x="1633" y="4553"/>
                    <a:pt x="1605" y="4553"/>
                  </a:cubicBezTo>
                  <a:lnTo>
                    <a:pt x="1605" y="4553"/>
                  </a:lnTo>
                  <a:cubicBezTo>
                    <a:pt x="1577" y="4553"/>
                    <a:pt x="1555" y="4531"/>
                    <a:pt x="1555" y="4503"/>
                  </a:cubicBezTo>
                  <a:cubicBezTo>
                    <a:pt x="1555" y="4476"/>
                    <a:pt x="1577" y="4453"/>
                    <a:pt x="1605" y="4453"/>
                  </a:cubicBezTo>
                  <a:close/>
                  <a:moveTo>
                    <a:pt x="1805" y="4453"/>
                  </a:moveTo>
                  <a:lnTo>
                    <a:pt x="1805" y="4453"/>
                  </a:lnTo>
                  <a:cubicBezTo>
                    <a:pt x="1833" y="4453"/>
                    <a:pt x="1855" y="4476"/>
                    <a:pt x="1855" y="4503"/>
                  </a:cubicBezTo>
                  <a:cubicBezTo>
                    <a:pt x="1855" y="4531"/>
                    <a:pt x="1833" y="4553"/>
                    <a:pt x="1805" y="4553"/>
                  </a:cubicBezTo>
                  <a:lnTo>
                    <a:pt x="1805" y="4553"/>
                  </a:lnTo>
                  <a:cubicBezTo>
                    <a:pt x="1778" y="4553"/>
                    <a:pt x="1755" y="4531"/>
                    <a:pt x="1755" y="4503"/>
                  </a:cubicBezTo>
                  <a:cubicBezTo>
                    <a:pt x="1755" y="4476"/>
                    <a:pt x="1778" y="4453"/>
                    <a:pt x="1805" y="4453"/>
                  </a:cubicBezTo>
                  <a:close/>
                  <a:moveTo>
                    <a:pt x="2005" y="4453"/>
                  </a:moveTo>
                  <a:lnTo>
                    <a:pt x="2005" y="4453"/>
                  </a:lnTo>
                  <a:cubicBezTo>
                    <a:pt x="2033" y="4453"/>
                    <a:pt x="2055" y="4476"/>
                    <a:pt x="2055" y="4503"/>
                  </a:cubicBezTo>
                  <a:cubicBezTo>
                    <a:pt x="2055" y="4531"/>
                    <a:pt x="2033" y="4553"/>
                    <a:pt x="2005" y="4553"/>
                  </a:cubicBezTo>
                  <a:lnTo>
                    <a:pt x="2005" y="4553"/>
                  </a:lnTo>
                  <a:cubicBezTo>
                    <a:pt x="1978" y="4553"/>
                    <a:pt x="1955" y="4531"/>
                    <a:pt x="1955" y="4503"/>
                  </a:cubicBezTo>
                  <a:cubicBezTo>
                    <a:pt x="1955" y="4476"/>
                    <a:pt x="1978" y="4453"/>
                    <a:pt x="2005" y="4453"/>
                  </a:cubicBezTo>
                  <a:close/>
                  <a:moveTo>
                    <a:pt x="2205" y="4453"/>
                  </a:moveTo>
                  <a:lnTo>
                    <a:pt x="2205" y="4453"/>
                  </a:lnTo>
                  <a:cubicBezTo>
                    <a:pt x="2233" y="4453"/>
                    <a:pt x="2255" y="4476"/>
                    <a:pt x="2255" y="4503"/>
                  </a:cubicBezTo>
                  <a:cubicBezTo>
                    <a:pt x="2255" y="4531"/>
                    <a:pt x="2233" y="4553"/>
                    <a:pt x="2205" y="4553"/>
                  </a:cubicBezTo>
                  <a:lnTo>
                    <a:pt x="2205" y="4553"/>
                  </a:lnTo>
                  <a:cubicBezTo>
                    <a:pt x="2178" y="4553"/>
                    <a:pt x="2155" y="4531"/>
                    <a:pt x="2155" y="4503"/>
                  </a:cubicBezTo>
                  <a:cubicBezTo>
                    <a:pt x="2155" y="4476"/>
                    <a:pt x="2178" y="4453"/>
                    <a:pt x="2205" y="4453"/>
                  </a:cubicBezTo>
                  <a:close/>
                  <a:moveTo>
                    <a:pt x="2405" y="4453"/>
                  </a:moveTo>
                  <a:lnTo>
                    <a:pt x="2406" y="4453"/>
                  </a:lnTo>
                  <a:cubicBezTo>
                    <a:pt x="2433" y="4453"/>
                    <a:pt x="2456" y="4476"/>
                    <a:pt x="2456" y="4503"/>
                  </a:cubicBezTo>
                  <a:cubicBezTo>
                    <a:pt x="2456" y="4531"/>
                    <a:pt x="2433" y="4553"/>
                    <a:pt x="2406" y="4553"/>
                  </a:cubicBezTo>
                  <a:lnTo>
                    <a:pt x="2405" y="4553"/>
                  </a:lnTo>
                  <a:cubicBezTo>
                    <a:pt x="2378" y="4553"/>
                    <a:pt x="2355" y="4531"/>
                    <a:pt x="2355" y="4503"/>
                  </a:cubicBezTo>
                  <a:cubicBezTo>
                    <a:pt x="2355" y="4476"/>
                    <a:pt x="2378" y="4453"/>
                    <a:pt x="2405" y="4453"/>
                  </a:cubicBezTo>
                  <a:close/>
                  <a:moveTo>
                    <a:pt x="2606" y="4453"/>
                  </a:moveTo>
                  <a:lnTo>
                    <a:pt x="2606" y="4453"/>
                  </a:lnTo>
                  <a:cubicBezTo>
                    <a:pt x="2633" y="4453"/>
                    <a:pt x="2656" y="4476"/>
                    <a:pt x="2656" y="4503"/>
                  </a:cubicBezTo>
                  <a:cubicBezTo>
                    <a:pt x="2656" y="4531"/>
                    <a:pt x="2633" y="4553"/>
                    <a:pt x="2606" y="4553"/>
                  </a:cubicBezTo>
                  <a:lnTo>
                    <a:pt x="2606" y="4553"/>
                  </a:lnTo>
                  <a:cubicBezTo>
                    <a:pt x="2578" y="4553"/>
                    <a:pt x="2556" y="4531"/>
                    <a:pt x="2556" y="4503"/>
                  </a:cubicBezTo>
                  <a:cubicBezTo>
                    <a:pt x="2556" y="4476"/>
                    <a:pt x="2578" y="4453"/>
                    <a:pt x="2606" y="4453"/>
                  </a:cubicBezTo>
                  <a:close/>
                  <a:moveTo>
                    <a:pt x="2806" y="4453"/>
                  </a:moveTo>
                  <a:lnTo>
                    <a:pt x="2806" y="4453"/>
                  </a:lnTo>
                  <a:cubicBezTo>
                    <a:pt x="2833" y="4453"/>
                    <a:pt x="2856" y="4476"/>
                    <a:pt x="2856" y="4503"/>
                  </a:cubicBezTo>
                  <a:cubicBezTo>
                    <a:pt x="2856" y="4531"/>
                    <a:pt x="2833" y="4553"/>
                    <a:pt x="2806" y="4553"/>
                  </a:cubicBezTo>
                  <a:lnTo>
                    <a:pt x="2806" y="4553"/>
                  </a:lnTo>
                  <a:cubicBezTo>
                    <a:pt x="2778" y="4553"/>
                    <a:pt x="2756" y="4531"/>
                    <a:pt x="2756" y="4503"/>
                  </a:cubicBezTo>
                  <a:cubicBezTo>
                    <a:pt x="2756" y="4476"/>
                    <a:pt x="2778" y="4453"/>
                    <a:pt x="2806" y="4453"/>
                  </a:cubicBezTo>
                  <a:close/>
                  <a:moveTo>
                    <a:pt x="3006" y="4453"/>
                  </a:moveTo>
                  <a:lnTo>
                    <a:pt x="3006" y="4453"/>
                  </a:lnTo>
                  <a:cubicBezTo>
                    <a:pt x="3033" y="4453"/>
                    <a:pt x="3056" y="4476"/>
                    <a:pt x="3056" y="4503"/>
                  </a:cubicBezTo>
                  <a:cubicBezTo>
                    <a:pt x="3056" y="4531"/>
                    <a:pt x="3033" y="4553"/>
                    <a:pt x="3006" y="4553"/>
                  </a:cubicBezTo>
                  <a:lnTo>
                    <a:pt x="3006" y="4553"/>
                  </a:lnTo>
                  <a:cubicBezTo>
                    <a:pt x="2978" y="4553"/>
                    <a:pt x="2956" y="4531"/>
                    <a:pt x="2956" y="4503"/>
                  </a:cubicBezTo>
                  <a:cubicBezTo>
                    <a:pt x="2956" y="4476"/>
                    <a:pt x="2978" y="4453"/>
                    <a:pt x="3006" y="4453"/>
                  </a:cubicBezTo>
                  <a:close/>
                  <a:moveTo>
                    <a:pt x="3206" y="4453"/>
                  </a:moveTo>
                  <a:lnTo>
                    <a:pt x="3206" y="4453"/>
                  </a:lnTo>
                  <a:cubicBezTo>
                    <a:pt x="3234" y="4453"/>
                    <a:pt x="3256" y="4476"/>
                    <a:pt x="3256" y="4503"/>
                  </a:cubicBezTo>
                  <a:cubicBezTo>
                    <a:pt x="3256" y="4531"/>
                    <a:pt x="3234" y="4553"/>
                    <a:pt x="3206" y="4553"/>
                  </a:cubicBezTo>
                  <a:lnTo>
                    <a:pt x="3206" y="4553"/>
                  </a:lnTo>
                  <a:cubicBezTo>
                    <a:pt x="3178" y="4553"/>
                    <a:pt x="3156" y="4531"/>
                    <a:pt x="3156" y="4503"/>
                  </a:cubicBezTo>
                  <a:cubicBezTo>
                    <a:pt x="3156" y="4476"/>
                    <a:pt x="3178" y="4453"/>
                    <a:pt x="3206" y="4453"/>
                  </a:cubicBezTo>
                  <a:close/>
                  <a:moveTo>
                    <a:pt x="3406" y="4453"/>
                  </a:moveTo>
                  <a:lnTo>
                    <a:pt x="3406" y="4453"/>
                  </a:lnTo>
                  <a:cubicBezTo>
                    <a:pt x="3434" y="4453"/>
                    <a:pt x="3456" y="4476"/>
                    <a:pt x="3456" y="4503"/>
                  </a:cubicBezTo>
                  <a:cubicBezTo>
                    <a:pt x="3456" y="4531"/>
                    <a:pt x="3434" y="4553"/>
                    <a:pt x="3406" y="4553"/>
                  </a:cubicBezTo>
                  <a:lnTo>
                    <a:pt x="3406" y="4553"/>
                  </a:lnTo>
                  <a:cubicBezTo>
                    <a:pt x="3378" y="4553"/>
                    <a:pt x="3356" y="4531"/>
                    <a:pt x="3356" y="4503"/>
                  </a:cubicBezTo>
                  <a:cubicBezTo>
                    <a:pt x="3356" y="4476"/>
                    <a:pt x="3378" y="4453"/>
                    <a:pt x="3406" y="4453"/>
                  </a:cubicBezTo>
                  <a:close/>
                  <a:moveTo>
                    <a:pt x="3606" y="4453"/>
                  </a:moveTo>
                  <a:lnTo>
                    <a:pt x="3606" y="4453"/>
                  </a:lnTo>
                  <a:cubicBezTo>
                    <a:pt x="3634" y="4453"/>
                    <a:pt x="3656" y="4476"/>
                    <a:pt x="3656" y="4503"/>
                  </a:cubicBezTo>
                  <a:cubicBezTo>
                    <a:pt x="3656" y="4531"/>
                    <a:pt x="3634" y="4553"/>
                    <a:pt x="3606" y="4553"/>
                  </a:cubicBezTo>
                  <a:lnTo>
                    <a:pt x="3606" y="4553"/>
                  </a:lnTo>
                  <a:cubicBezTo>
                    <a:pt x="3578" y="4553"/>
                    <a:pt x="3556" y="4531"/>
                    <a:pt x="3556" y="4503"/>
                  </a:cubicBezTo>
                  <a:cubicBezTo>
                    <a:pt x="3556" y="4476"/>
                    <a:pt x="3578" y="4453"/>
                    <a:pt x="3606" y="4453"/>
                  </a:cubicBezTo>
                  <a:close/>
                  <a:moveTo>
                    <a:pt x="3806" y="4453"/>
                  </a:moveTo>
                  <a:lnTo>
                    <a:pt x="3806" y="4453"/>
                  </a:lnTo>
                  <a:cubicBezTo>
                    <a:pt x="3834" y="4453"/>
                    <a:pt x="3856" y="4476"/>
                    <a:pt x="3856" y="4503"/>
                  </a:cubicBezTo>
                  <a:cubicBezTo>
                    <a:pt x="3856" y="4531"/>
                    <a:pt x="3834" y="4553"/>
                    <a:pt x="3806" y="4553"/>
                  </a:cubicBezTo>
                  <a:lnTo>
                    <a:pt x="3806" y="4553"/>
                  </a:lnTo>
                  <a:cubicBezTo>
                    <a:pt x="3779" y="4553"/>
                    <a:pt x="3756" y="4531"/>
                    <a:pt x="3756" y="4503"/>
                  </a:cubicBezTo>
                  <a:cubicBezTo>
                    <a:pt x="3756" y="4476"/>
                    <a:pt x="3779" y="4453"/>
                    <a:pt x="3806" y="4453"/>
                  </a:cubicBezTo>
                  <a:close/>
                  <a:moveTo>
                    <a:pt x="4006" y="4453"/>
                  </a:moveTo>
                  <a:lnTo>
                    <a:pt x="4006" y="4453"/>
                  </a:lnTo>
                  <a:cubicBezTo>
                    <a:pt x="4034" y="4453"/>
                    <a:pt x="4056" y="4476"/>
                    <a:pt x="4056" y="4503"/>
                  </a:cubicBezTo>
                  <a:cubicBezTo>
                    <a:pt x="4056" y="4531"/>
                    <a:pt x="4034" y="4553"/>
                    <a:pt x="4006" y="4553"/>
                  </a:cubicBezTo>
                  <a:lnTo>
                    <a:pt x="4006" y="4553"/>
                  </a:lnTo>
                  <a:cubicBezTo>
                    <a:pt x="3979" y="4553"/>
                    <a:pt x="3956" y="4531"/>
                    <a:pt x="3956" y="4503"/>
                  </a:cubicBezTo>
                  <a:cubicBezTo>
                    <a:pt x="3956" y="4476"/>
                    <a:pt x="3979" y="4453"/>
                    <a:pt x="4006" y="4453"/>
                  </a:cubicBezTo>
                  <a:close/>
                  <a:moveTo>
                    <a:pt x="4206" y="4453"/>
                  </a:moveTo>
                  <a:lnTo>
                    <a:pt x="4206" y="4453"/>
                  </a:lnTo>
                  <a:cubicBezTo>
                    <a:pt x="4234" y="4453"/>
                    <a:pt x="4256" y="4476"/>
                    <a:pt x="4256" y="4503"/>
                  </a:cubicBezTo>
                  <a:cubicBezTo>
                    <a:pt x="4256" y="4531"/>
                    <a:pt x="4234" y="4553"/>
                    <a:pt x="4206" y="4553"/>
                  </a:cubicBezTo>
                  <a:lnTo>
                    <a:pt x="4206" y="4553"/>
                  </a:lnTo>
                  <a:cubicBezTo>
                    <a:pt x="4179" y="4553"/>
                    <a:pt x="4156" y="4531"/>
                    <a:pt x="4156" y="4503"/>
                  </a:cubicBezTo>
                  <a:cubicBezTo>
                    <a:pt x="4156" y="4476"/>
                    <a:pt x="4179" y="4453"/>
                    <a:pt x="4206" y="4453"/>
                  </a:cubicBezTo>
                  <a:close/>
                  <a:moveTo>
                    <a:pt x="4406" y="4453"/>
                  </a:moveTo>
                  <a:lnTo>
                    <a:pt x="4407" y="4453"/>
                  </a:lnTo>
                  <a:cubicBezTo>
                    <a:pt x="4434" y="4453"/>
                    <a:pt x="4457" y="4476"/>
                    <a:pt x="4457" y="4503"/>
                  </a:cubicBezTo>
                  <a:cubicBezTo>
                    <a:pt x="4457" y="4531"/>
                    <a:pt x="4434" y="4553"/>
                    <a:pt x="4407" y="4553"/>
                  </a:cubicBezTo>
                  <a:lnTo>
                    <a:pt x="4406" y="4553"/>
                  </a:lnTo>
                  <a:cubicBezTo>
                    <a:pt x="4379" y="4553"/>
                    <a:pt x="4356" y="4531"/>
                    <a:pt x="4356" y="4503"/>
                  </a:cubicBezTo>
                  <a:cubicBezTo>
                    <a:pt x="4356" y="4476"/>
                    <a:pt x="4379" y="4453"/>
                    <a:pt x="4406" y="4453"/>
                  </a:cubicBezTo>
                  <a:close/>
                  <a:moveTo>
                    <a:pt x="4607" y="4453"/>
                  </a:moveTo>
                  <a:lnTo>
                    <a:pt x="4607" y="4453"/>
                  </a:lnTo>
                  <a:cubicBezTo>
                    <a:pt x="4634" y="4453"/>
                    <a:pt x="4657" y="4476"/>
                    <a:pt x="4657" y="4503"/>
                  </a:cubicBezTo>
                  <a:cubicBezTo>
                    <a:pt x="4657" y="4531"/>
                    <a:pt x="4634" y="4553"/>
                    <a:pt x="4607" y="4553"/>
                  </a:cubicBezTo>
                  <a:lnTo>
                    <a:pt x="4607" y="4553"/>
                  </a:lnTo>
                  <a:cubicBezTo>
                    <a:pt x="4579" y="4553"/>
                    <a:pt x="4557" y="4531"/>
                    <a:pt x="4557" y="4503"/>
                  </a:cubicBezTo>
                  <a:cubicBezTo>
                    <a:pt x="4557" y="4476"/>
                    <a:pt x="4579" y="4453"/>
                    <a:pt x="4607" y="4453"/>
                  </a:cubicBezTo>
                  <a:close/>
                  <a:moveTo>
                    <a:pt x="4807" y="4453"/>
                  </a:moveTo>
                  <a:lnTo>
                    <a:pt x="4807" y="4453"/>
                  </a:lnTo>
                  <a:cubicBezTo>
                    <a:pt x="4834" y="4453"/>
                    <a:pt x="4857" y="4476"/>
                    <a:pt x="4857" y="4503"/>
                  </a:cubicBezTo>
                  <a:cubicBezTo>
                    <a:pt x="4857" y="4531"/>
                    <a:pt x="4834" y="4553"/>
                    <a:pt x="4807" y="4553"/>
                  </a:cubicBezTo>
                  <a:lnTo>
                    <a:pt x="4807" y="4553"/>
                  </a:lnTo>
                  <a:cubicBezTo>
                    <a:pt x="4779" y="4553"/>
                    <a:pt x="4757" y="4531"/>
                    <a:pt x="4757" y="4503"/>
                  </a:cubicBezTo>
                  <a:cubicBezTo>
                    <a:pt x="4757" y="4476"/>
                    <a:pt x="4779" y="4453"/>
                    <a:pt x="4807" y="4453"/>
                  </a:cubicBezTo>
                  <a:close/>
                  <a:moveTo>
                    <a:pt x="5007" y="4453"/>
                  </a:moveTo>
                  <a:lnTo>
                    <a:pt x="5007" y="4453"/>
                  </a:lnTo>
                  <a:cubicBezTo>
                    <a:pt x="5034" y="4453"/>
                    <a:pt x="5057" y="4476"/>
                    <a:pt x="5057" y="4503"/>
                  </a:cubicBezTo>
                  <a:cubicBezTo>
                    <a:pt x="5057" y="4531"/>
                    <a:pt x="5034" y="4553"/>
                    <a:pt x="5007" y="4553"/>
                  </a:cubicBezTo>
                  <a:lnTo>
                    <a:pt x="5007" y="4553"/>
                  </a:lnTo>
                  <a:cubicBezTo>
                    <a:pt x="4979" y="4553"/>
                    <a:pt x="4957" y="4531"/>
                    <a:pt x="4957" y="4503"/>
                  </a:cubicBezTo>
                  <a:cubicBezTo>
                    <a:pt x="4957" y="4476"/>
                    <a:pt x="4979" y="4453"/>
                    <a:pt x="5007" y="4453"/>
                  </a:cubicBezTo>
                  <a:close/>
                  <a:moveTo>
                    <a:pt x="5207" y="4453"/>
                  </a:moveTo>
                  <a:lnTo>
                    <a:pt x="5207" y="4453"/>
                  </a:lnTo>
                  <a:cubicBezTo>
                    <a:pt x="5235" y="4453"/>
                    <a:pt x="5257" y="4476"/>
                    <a:pt x="5257" y="4503"/>
                  </a:cubicBezTo>
                  <a:cubicBezTo>
                    <a:pt x="5257" y="4531"/>
                    <a:pt x="5235" y="4553"/>
                    <a:pt x="5207" y="4553"/>
                  </a:cubicBezTo>
                  <a:lnTo>
                    <a:pt x="5207" y="4553"/>
                  </a:lnTo>
                  <a:cubicBezTo>
                    <a:pt x="5179" y="4553"/>
                    <a:pt x="5157" y="4531"/>
                    <a:pt x="5157" y="4503"/>
                  </a:cubicBezTo>
                  <a:cubicBezTo>
                    <a:pt x="5157" y="4476"/>
                    <a:pt x="5179" y="4453"/>
                    <a:pt x="5207" y="4453"/>
                  </a:cubicBezTo>
                  <a:close/>
                  <a:moveTo>
                    <a:pt x="5407" y="4453"/>
                  </a:moveTo>
                  <a:lnTo>
                    <a:pt x="5407" y="4453"/>
                  </a:lnTo>
                  <a:cubicBezTo>
                    <a:pt x="5435" y="4453"/>
                    <a:pt x="5457" y="4476"/>
                    <a:pt x="5457" y="4503"/>
                  </a:cubicBezTo>
                  <a:cubicBezTo>
                    <a:pt x="5457" y="4531"/>
                    <a:pt x="5435" y="4553"/>
                    <a:pt x="5407" y="4553"/>
                  </a:cubicBezTo>
                  <a:lnTo>
                    <a:pt x="5407" y="4553"/>
                  </a:lnTo>
                  <a:cubicBezTo>
                    <a:pt x="5379" y="4553"/>
                    <a:pt x="5357" y="4531"/>
                    <a:pt x="5357" y="4503"/>
                  </a:cubicBezTo>
                  <a:cubicBezTo>
                    <a:pt x="5357" y="4476"/>
                    <a:pt x="5379" y="4453"/>
                    <a:pt x="5407" y="4453"/>
                  </a:cubicBezTo>
                  <a:close/>
                  <a:moveTo>
                    <a:pt x="5607" y="4453"/>
                  </a:moveTo>
                  <a:lnTo>
                    <a:pt x="5607" y="4453"/>
                  </a:lnTo>
                  <a:cubicBezTo>
                    <a:pt x="5635" y="4453"/>
                    <a:pt x="5657" y="4476"/>
                    <a:pt x="5657" y="4503"/>
                  </a:cubicBezTo>
                  <a:cubicBezTo>
                    <a:pt x="5657" y="4531"/>
                    <a:pt x="5635" y="4553"/>
                    <a:pt x="5607" y="4553"/>
                  </a:cubicBezTo>
                  <a:lnTo>
                    <a:pt x="5607" y="4553"/>
                  </a:lnTo>
                  <a:cubicBezTo>
                    <a:pt x="5579" y="4553"/>
                    <a:pt x="5557" y="4531"/>
                    <a:pt x="5557" y="4503"/>
                  </a:cubicBezTo>
                  <a:cubicBezTo>
                    <a:pt x="5557" y="4476"/>
                    <a:pt x="5579" y="4453"/>
                    <a:pt x="5607" y="4453"/>
                  </a:cubicBezTo>
                  <a:close/>
                  <a:moveTo>
                    <a:pt x="5807" y="4453"/>
                  </a:moveTo>
                  <a:lnTo>
                    <a:pt x="5807" y="4453"/>
                  </a:lnTo>
                  <a:cubicBezTo>
                    <a:pt x="5835" y="4453"/>
                    <a:pt x="5857" y="4476"/>
                    <a:pt x="5857" y="4503"/>
                  </a:cubicBezTo>
                  <a:cubicBezTo>
                    <a:pt x="5857" y="4531"/>
                    <a:pt x="5835" y="4553"/>
                    <a:pt x="5807" y="4553"/>
                  </a:cubicBezTo>
                  <a:lnTo>
                    <a:pt x="5807" y="4553"/>
                  </a:lnTo>
                  <a:cubicBezTo>
                    <a:pt x="5780" y="4553"/>
                    <a:pt x="5757" y="4531"/>
                    <a:pt x="5757" y="4503"/>
                  </a:cubicBezTo>
                  <a:cubicBezTo>
                    <a:pt x="5757" y="4476"/>
                    <a:pt x="5780" y="4453"/>
                    <a:pt x="5807" y="4453"/>
                  </a:cubicBezTo>
                  <a:close/>
                  <a:moveTo>
                    <a:pt x="6007" y="4453"/>
                  </a:moveTo>
                  <a:lnTo>
                    <a:pt x="6007" y="4453"/>
                  </a:lnTo>
                  <a:cubicBezTo>
                    <a:pt x="6035" y="4453"/>
                    <a:pt x="6057" y="4476"/>
                    <a:pt x="6057" y="4503"/>
                  </a:cubicBezTo>
                  <a:cubicBezTo>
                    <a:pt x="6057" y="4531"/>
                    <a:pt x="6035" y="4553"/>
                    <a:pt x="6007" y="4553"/>
                  </a:cubicBezTo>
                  <a:lnTo>
                    <a:pt x="6007" y="4553"/>
                  </a:lnTo>
                  <a:cubicBezTo>
                    <a:pt x="5980" y="4553"/>
                    <a:pt x="5957" y="4531"/>
                    <a:pt x="5957" y="4503"/>
                  </a:cubicBezTo>
                  <a:cubicBezTo>
                    <a:pt x="5957" y="4476"/>
                    <a:pt x="5980" y="4453"/>
                    <a:pt x="6007" y="4453"/>
                  </a:cubicBezTo>
                  <a:close/>
                  <a:moveTo>
                    <a:pt x="6207" y="4453"/>
                  </a:moveTo>
                  <a:lnTo>
                    <a:pt x="6207" y="4453"/>
                  </a:lnTo>
                  <a:cubicBezTo>
                    <a:pt x="6235" y="4453"/>
                    <a:pt x="6257" y="4476"/>
                    <a:pt x="6257" y="4503"/>
                  </a:cubicBezTo>
                  <a:cubicBezTo>
                    <a:pt x="6257" y="4531"/>
                    <a:pt x="6235" y="4553"/>
                    <a:pt x="6207" y="4553"/>
                  </a:cubicBezTo>
                  <a:lnTo>
                    <a:pt x="6207" y="4553"/>
                  </a:lnTo>
                  <a:cubicBezTo>
                    <a:pt x="6180" y="4553"/>
                    <a:pt x="6157" y="4531"/>
                    <a:pt x="6157" y="4503"/>
                  </a:cubicBezTo>
                  <a:cubicBezTo>
                    <a:pt x="6157" y="4476"/>
                    <a:pt x="6180" y="4453"/>
                    <a:pt x="6207" y="4453"/>
                  </a:cubicBezTo>
                  <a:close/>
                  <a:moveTo>
                    <a:pt x="6407" y="4453"/>
                  </a:moveTo>
                  <a:lnTo>
                    <a:pt x="6408" y="4453"/>
                  </a:lnTo>
                  <a:cubicBezTo>
                    <a:pt x="6435" y="4453"/>
                    <a:pt x="6458" y="4476"/>
                    <a:pt x="6458" y="4503"/>
                  </a:cubicBezTo>
                  <a:cubicBezTo>
                    <a:pt x="6458" y="4531"/>
                    <a:pt x="6435" y="4553"/>
                    <a:pt x="6408" y="4553"/>
                  </a:cubicBezTo>
                  <a:lnTo>
                    <a:pt x="6407" y="4553"/>
                  </a:lnTo>
                  <a:cubicBezTo>
                    <a:pt x="6380" y="4553"/>
                    <a:pt x="6357" y="4531"/>
                    <a:pt x="6357" y="4503"/>
                  </a:cubicBezTo>
                  <a:cubicBezTo>
                    <a:pt x="6357" y="4476"/>
                    <a:pt x="6380" y="4453"/>
                    <a:pt x="6407" y="4453"/>
                  </a:cubicBezTo>
                  <a:close/>
                  <a:moveTo>
                    <a:pt x="6608" y="4453"/>
                  </a:moveTo>
                  <a:lnTo>
                    <a:pt x="6608" y="4453"/>
                  </a:lnTo>
                  <a:cubicBezTo>
                    <a:pt x="6635" y="4453"/>
                    <a:pt x="6658" y="4476"/>
                    <a:pt x="6658" y="4503"/>
                  </a:cubicBezTo>
                  <a:cubicBezTo>
                    <a:pt x="6658" y="4531"/>
                    <a:pt x="6635" y="4553"/>
                    <a:pt x="6608" y="4553"/>
                  </a:cubicBezTo>
                  <a:lnTo>
                    <a:pt x="6608" y="4553"/>
                  </a:lnTo>
                  <a:cubicBezTo>
                    <a:pt x="6580" y="4553"/>
                    <a:pt x="6558" y="4531"/>
                    <a:pt x="6558" y="4503"/>
                  </a:cubicBezTo>
                  <a:cubicBezTo>
                    <a:pt x="6558" y="4476"/>
                    <a:pt x="6580" y="4453"/>
                    <a:pt x="6608" y="4453"/>
                  </a:cubicBezTo>
                  <a:close/>
                  <a:moveTo>
                    <a:pt x="6808" y="4453"/>
                  </a:moveTo>
                  <a:lnTo>
                    <a:pt x="6808" y="4453"/>
                  </a:lnTo>
                  <a:cubicBezTo>
                    <a:pt x="6835" y="4453"/>
                    <a:pt x="6858" y="4476"/>
                    <a:pt x="6858" y="4503"/>
                  </a:cubicBezTo>
                  <a:cubicBezTo>
                    <a:pt x="6858" y="4531"/>
                    <a:pt x="6835" y="4553"/>
                    <a:pt x="6808" y="4553"/>
                  </a:cubicBezTo>
                  <a:lnTo>
                    <a:pt x="6808" y="4553"/>
                  </a:lnTo>
                  <a:cubicBezTo>
                    <a:pt x="6780" y="4553"/>
                    <a:pt x="6758" y="4531"/>
                    <a:pt x="6758" y="4503"/>
                  </a:cubicBezTo>
                  <a:cubicBezTo>
                    <a:pt x="6758" y="4476"/>
                    <a:pt x="6780" y="4453"/>
                    <a:pt x="6808" y="4453"/>
                  </a:cubicBezTo>
                  <a:close/>
                  <a:moveTo>
                    <a:pt x="7008" y="4453"/>
                  </a:moveTo>
                  <a:lnTo>
                    <a:pt x="7008" y="4453"/>
                  </a:lnTo>
                  <a:cubicBezTo>
                    <a:pt x="7035" y="4453"/>
                    <a:pt x="7058" y="4476"/>
                    <a:pt x="7058" y="4503"/>
                  </a:cubicBezTo>
                  <a:cubicBezTo>
                    <a:pt x="7058" y="4531"/>
                    <a:pt x="7035" y="4553"/>
                    <a:pt x="7008" y="4553"/>
                  </a:cubicBezTo>
                  <a:lnTo>
                    <a:pt x="7008" y="4553"/>
                  </a:lnTo>
                  <a:cubicBezTo>
                    <a:pt x="6980" y="4553"/>
                    <a:pt x="6958" y="4531"/>
                    <a:pt x="6958" y="4503"/>
                  </a:cubicBezTo>
                  <a:cubicBezTo>
                    <a:pt x="6958" y="4476"/>
                    <a:pt x="6980" y="4453"/>
                    <a:pt x="7008" y="4453"/>
                  </a:cubicBezTo>
                  <a:close/>
                  <a:moveTo>
                    <a:pt x="7208" y="4453"/>
                  </a:moveTo>
                  <a:lnTo>
                    <a:pt x="7208" y="4453"/>
                  </a:lnTo>
                  <a:cubicBezTo>
                    <a:pt x="7236" y="4453"/>
                    <a:pt x="7258" y="4476"/>
                    <a:pt x="7258" y="4503"/>
                  </a:cubicBezTo>
                  <a:cubicBezTo>
                    <a:pt x="7258" y="4531"/>
                    <a:pt x="7236" y="4553"/>
                    <a:pt x="7208" y="4553"/>
                  </a:cubicBezTo>
                  <a:lnTo>
                    <a:pt x="7208" y="4553"/>
                  </a:lnTo>
                  <a:cubicBezTo>
                    <a:pt x="7180" y="4553"/>
                    <a:pt x="7158" y="4531"/>
                    <a:pt x="7158" y="4503"/>
                  </a:cubicBezTo>
                  <a:cubicBezTo>
                    <a:pt x="7158" y="4476"/>
                    <a:pt x="7180" y="4453"/>
                    <a:pt x="7208" y="4453"/>
                  </a:cubicBezTo>
                  <a:close/>
                  <a:moveTo>
                    <a:pt x="7408" y="4453"/>
                  </a:moveTo>
                  <a:lnTo>
                    <a:pt x="7408" y="4453"/>
                  </a:lnTo>
                  <a:cubicBezTo>
                    <a:pt x="7436" y="4453"/>
                    <a:pt x="7458" y="4476"/>
                    <a:pt x="7458" y="4503"/>
                  </a:cubicBezTo>
                  <a:cubicBezTo>
                    <a:pt x="7458" y="4531"/>
                    <a:pt x="7436" y="4553"/>
                    <a:pt x="7408" y="4553"/>
                  </a:cubicBezTo>
                  <a:lnTo>
                    <a:pt x="7408" y="4553"/>
                  </a:lnTo>
                  <a:cubicBezTo>
                    <a:pt x="7380" y="4553"/>
                    <a:pt x="7358" y="4531"/>
                    <a:pt x="7358" y="4503"/>
                  </a:cubicBezTo>
                  <a:cubicBezTo>
                    <a:pt x="7358" y="4476"/>
                    <a:pt x="7380" y="4453"/>
                    <a:pt x="7408" y="4453"/>
                  </a:cubicBezTo>
                  <a:close/>
                  <a:moveTo>
                    <a:pt x="7608" y="4453"/>
                  </a:moveTo>
                  <a:lnTo>
                    <a:pt x="7608" y="4453"/>
                  </a:lnTo>
                  <a:cubicBezTo>
                    <a:pt x="7636" y="4453"/>
                    <a:pt x="7658" y="4476"/>
                    <a:pt x="7658" y="4503"/>
                  </a:cubicBezTo>
                  <a:cubicBezTo>
                    <a:pt x="7658" y="4531"/>
                    <a:pt x="7636" y="4553"/>
                    <a:pt x="7608" y="4553"/>
                  </a:cubicBezTo>
                  <a:lnTo>
                    <a:pt x="7608" y="4553"/>
                  </a:lnTo>
                  <a:cubicBezTo>
                    <a:pt x="7580" y="4553"/>
                    <a:pt x="7558" y="4531"/>
                    <a:pt x="7558" y="4503"/>
                  </a:cubicBezTo>
                  <a:cubicBezTo>
                    <a:pt x="7558" y="4476"/>
                    <a:pt x="7580" y="4453"/>
                    <a:pt x="7608" y="4453"/>
                  </a:cubicBezTo>
                  <a:close/>
                  <a:moveTo>
                    <a:pt x="7808" y="4453"/>
                  </a:moveTo>
                  <a:lnTo>
                    <a:pt x="7808" y="4453"/>
                  </a:lnTo>
                  <a:cubicBezTo>
                    <a:pt x="7836" y="4453"/>
                    <a:pt x="7858" y="4476"/>
                    <a:pt x="7858" y="4503"/>
                  </a:cubicBezTo>
                  <a:cubicBezTo>
                    <a:pt x="7858" y="4531"/>
                    <a:pt x="7836" y="4553"/>
                    <a:pt x="7808" y="4553"/>
                  </a:cubicBezTo>
                  <a:lnTo>
                    <a:pt x="7808" y="4553"/>
                  </a:lnTo>
                  <a:cubicBezTo>
                    <a:pt x="7781" y="4553"/>
                    <a:pt x="7758" y="4531"/>
                    <a:pt x="7758" y="4503"/>
                  </a:cubicBezTo>
                  <a:cubicBezTo>
                    <a:pt x="7758" y="4476"/>
                    <a:pt x="7781" y="4453"/>
                    <a:pt x="7808" y="4453"/>
                  </a:cubicBezTo>
                  <a:close/>
                  <a:moveTo>
                    <a:pt x="8008" y="4453"/>
                  </a:moveTo>
                  <a:lnTo>
                    <a:pt x="8008" y="4453"/>
                  </a:lnTo>
                  <a:cubicBezTo>
                    <a:pt x="8036" y="4453"/>
                    <a:pt x="8058" y="4476"/>
                    <a:pt x="8058" y="4503"/>
                  </a:cubicBezTo>
                  <a:cubicBezTo>
                    <a:pt x="8058" y="4531"/>
                    <a:pt x="8036" y="4553"/>
                    <a:pt x="8008" y="4553"/>
                  </a:cubicBezTo>
                  <a:lnTo>
                    <a:pt x="8008" y="4553"/>
                  </a:lnTo>
                  <a:cubicBezTo>
                    <a:pt x="7981" y="4553"/>
                    <a:pt x="7958" y="4531"/>
                    <a:pt x="7958" y="4503"/>
                  </a:cubicBezTo>
                  <a:cubicBezTo>
                    <a:pt x="7958" y="4476"/>
                    <a:pt x="7981" y="4453"/>
                    <a:pt x="8008" y="4453"/>
                  </a:cubicBezTo>
                  <a:close/>
                  <a:moveTo>
                    <a:pt x="8208" y="4453"/>
                  </a:moveTo>
                  <a:lnTo>
                    <a:pt x="8208" y="4453"/>
                  </a:lnTo>
                  <a:cubicBezTo>
                    <a:pt x="8236" y="4453"/>
                    <a:pt x="8258" y="4476"/>
                    <a:pt x="8258" y="4503"/>
                  </a:cubicBezTo>
                  <a:cubicBezTo>
                    <a:pt x="8258" y="4531"/>
                    <a:pt x="8236" y="4553"/>
                    <a:pt x="8208" y="4553"/>
                  </a:cubicBezTo>
                  <a:lnTo>
                    <a:pt x="8208" y="4553"/>
                  </a:lnTo>
                  <a:cubicBezTo>
                    <a:pt x="8181" y="4553"/>
                    <a:pt x="8158" y="4531"/>
                    <a:pt x="8158" y="4503"/>
                  </a:cubicBezTo>
                  <a:cubicBezTo>
                    <a:pt x="8158" y="4476"/>
                    <a:pt x="8181" y="4453"/>
                    <a:pt x="8208" y="4453"/>
                  </a:cubicBezTo>
                  <a:close/>
                  <a:moveTo>
                    <a:pt x="8408" y="4453"/>
                  </a:moveTo>
                  <a:lnTo>
                    <a:pt x="8409" y="4453"/>
                  </a:lnTo>
                  <a:cubicBezTo>
                    <a:pt x="8436" y="4453"/>
                    <a:pt x="8459" y="4476"/>
                    <a:pt x="8459" y="4503"/>
                  </a:cubicBezTo>
                  <a:cubicBezTo>
                    <a:pt x="8459" y="4531"/>
                    <a:pt x="8436" y="4553"/>
                    <a:pt x="8409" y="4553"/>
                  </a:cubicBezTo>
                  <a:lnTo>
                    <a:pt x="8408" y="4553"/>
                  </a:lnTo>
                  <a:cubicBezTo>
                    <a:pt x="8381" y="4553"/>
                    <a:pt x="8358" y="4531"/>
                    <a:pt x="8358" y="4503"/>
                  </a:cubicBezTo>
                  <a:cubicBezTo>
                    <a:pt x="8358" y="4476"/>
                    <a:pt x="8381" y="4453"/>
                    <a:pt x="8408" y="4453"/>
                  </a:cubicBezTo>
                  <a:close/>
                  <a:moveTo>
                    <a:pt x="8609" y="4453"/>
                  </a:moveTo>
                  <a:lnTo>
                    <a:pt x="8609" y="4453"/>
                  </a:lnTo>
                  <a:cubicBezTo>
                    <a:pt x="8636" y="4453"/>
                    <a:pt x="8659" y="4476"/>
                    <a:pt x="8659" y="4503"/>
                  </a:cubicBezTo>
                  <a:cubicBezTo>
                    <a:pt x="8659" y="4531"/>
                    <a:pt x="8636" y="4553"/>
                    <a:pt x="8609" y="4553"/>
                  </a:cubicBezTo>
                  <a:lnTo>
                    <a:pt x="8609" y="4553"/>
                  </a:lnTo>
                  <a:cubicBezTo>
                    <a:pt x="8581" y="4553"/>
                    <a:pt x="8559" y="4531"/>
                    <a:pt x="8559" y="4503"/>
                  </a:cubicBezTo>
                  <a:cubicBezTo>
                    <a:pt x="8559" y="4476"/>
                    <a:pt x="8581" y="4453"/>
                    <a:pt x="8609" y="4453"/>
                  </a:cubicBezTo>
                  <a:close/>
                  <a:moveTo>
                    <a:pt x="8809" y="4453"/>
                  </a:moveTo>
                  <a:lnTo>
                    <a:pt x="8809" y="4453"/>
                  </a:lnTo>
                  <a:cubicBezTo>
                    <a:pt x="8836" y="4453"/>
                    <a:pt x="8859" y="4476"/>
                    <a:pt x="8859" y="4503"/>
                  </a:cubicBezTo>
                  <a:cubicBezTo>
                    <a:pt x="8859" y="4531"/>
                    <a:pt x="8836" y="4553"/>
                    <a:pt x="8809" y="4553"/>
                  </a:cubicBezTo>
                  <a:lnTo>
                    <a:pt x="8809" y="4553"/>
                  </a:lnTo>
                  <a:cubicBezTo>
                    <a:pt x="8781" y="4553"/>
                    <a:pt x="8759" y="4531"/>
                    <a:pt x="8759" y="4503"/>
                  </a:cubicBezTo>
                  <a:cubicBezTo>
                    <a:pt x="8759" y="4476"/>
                    <a:pt x="8781" y="4453"/>
                    <a:pt x="8809" y="4453"/>
                  </a:cubicBezTo>
                  <a:close/>
                  <a:moveTo>
                    <a:pt x="9009" y="4453"/>
                  </a:moveTo>
                  <a:lnTo>
                    <a:pt x="9009" y="4453"/>
                  </a:lnTo>
                  <a:cubicBezTo>
                    <a:pt x="9036" y="4453"/>
                    <a:pt x="9059" y="4476"/>
                    <a:pt x="9059" y="4503"/>
                  </a:cubicBezTo>
                  <a:cubicBezTo>
                    <a:pt x="9059" y="4531"/>
                    <a:pt x="9036" y="4553"/>
                    <a:pt x="9009" y="4553"/>
                  </a:cubicBezTo>
                  <a:lnTo>
                    <a:pt x="9009" y="4553"/>
                  </a:lnTo>
                  <a:cubicBezTo>
                    <a:pt x="8981" y="4553"/>
                    <a:pt x="8959" y="4531"/>
                    <a:pt x="8959" y="4503"/>
                  </a:cubicBezTo>
                  <a:cubicBezTo>
                    <a:pt x="8959" y="4476"/>
                    <a:pt x="8981" y="4453"/>
                    <a:pt x="9009" y="4453"/>
                  </a:cubicBezTo>
                  <a:close/>
                  <a:moveTo>
                    <a:pt x="9209" y="4453"/>
                  </a:moveTo>
                  <a:lnTo>
                    <a:pt x="9209" y="4453"/>
                  </a:lnTo>
                  <a:cubicBezTo>
                    <a:pt x="9237" y="4453"/>
                    <a:pt x="9259" y="4476"/>
                    <a:pt x="9259" y="4503"/>
                  </a:cubicBezTo>
                  <a:cubicBezTo>
                    <a:pt x="9259" y="4531"/>
                    <a:pt x="9237" y="4553"/>
                    <a:pt x="9209" y="4553"/>
                  </a:cubicBezTo>
                  <a:lnTo>
                    <a:pt x="9209" y="4553"/>
                  </a:lnTo>
                  <a:cubicBezTo>
                    <a:pt x="9181" y="4553"/>
                    <a:pt x="9159" y="4531"/>
                    <a:pt x="9159" y="4503"/>
                  </a:cubicBezTo>
                  <a:cubicBezTo>
                    <a:pt x="9159" y="4476"/>
                    <a:pt x="9181" y="4453"/>
                    <a:pt x="9209" y="4453"/>
                  </a:cubicBezTo>
                  <a:close/>
                  <a:moveTo>
                    <a:pt x="9409" y="4453"/>
                  </a:moveTo>
                  <a:lnTo>
                    <a:pt x="9409" y="4453"/>
                  </a:lnTo>
                  <a:cubicBezTo>
                    <a:pt x="9437" y="4453"/>
                    <a:pt x="9459" y="4476"/>
                    <a:pt x="9459" y="4503"/>
                  </a:cubicBezTo>
                  <a:cubicBezTo>
                    <a:pt x="9459" y="4531"/>
                    <a:pt x="9437" y="4553"/>
                    <a:pt x="9409" y="4553"/>
                  </a:cubicBezTo>
                  <a:lnTo>
                    <a:pt x="9409" y="4553"/>
                  </a:lnTo>
                  <a:cubicBezTo>
                    <a:pt x="9381" y="4553"/>
                    <a:pt x="9359" y="4531"/>
                    <a:pt x="9359" y="4503"/>
                  </a:cubicBezTo>
                  <a:cubicBezTo>
                    <a:pt x="9359" y="4476"/>
                    <a:pt x="9381" y="4453"/>
                    <a:pt x="9409" y="4453"/>
                  </a:cubicBezTo>
                  <a:close/>
                  <a:moveTo>
                    <a:pt x="9609" y="4453"/>
                  </a:moveTo>
                  <a:lnTo>
                    <a:pt x="9609" y="4453"/>
                  </a:lnTo>
                  <a:cubicBezTo>
                    <a:pt x="9637" y="4453"/>
                    <a:pt x="9659" y="4476"/>
                    <a:pt x="9659" y="4503"/>
                  </a:cubicBezTo>
                  <a:cubicBezTo>
                    <a:pt x="9659" y="4531"/>
                    <a:pt x="9637" y="4553"/>
                    <a:pt x="9609" y="4553"/>
                  </a:cubicBezTo>
                  <a:lnTo>
                    <a:pt x="9609" y="4553"/>
                  </a:lnTo>
                  <a:cubicBezTo>
                    <a:pt x="9581" y="4553"/>
                    <a:pt x="9559" y="4531"/>
                    <a:pt x="9559" y="4503"/>
                  </a:cubicBezTo>
                  <a:cubicBezTo>
                    <a:pt x="9559" y="4476"/>
                    <a:pt x="9581" y="4453"/>
                    <a:pt x="9609" y="4453"/>
                  </a:cubicBezTo>
                  <a:close/>
                  <a:moveTo>
                    <a:pt x="9809" y="4453"/>
                  </a:moveTo>
                  <a:lnTo>
                    <a:pt x="9809" y="4453"/>
                  </a:lnTo>
                  <a:cubicBezTo>
                    <a:pt x="9837" y="4453"/>
                    <a:pt x="9859" y="4476"/>
                    <a:pt x="9859" y="4503"/>
                  </a:cubicBezTo>
                  <a:cubicBezTo>
                    <a:pt x="9859" y="4531"/>
                    <a:pt x="9837" y="4553"/>
                    <a:pt x="9809" y="4553"/>
                  </a:cubicBezTo>
                  <a:lnTo>
                    <a:pt x="9809" y="4553"/>
                  </a:lnTo>
                  <a:cubicBezTo>
                    <a:pt x="9782" y="4553"/>
                    <a:pt x="9759" y="4531"/>
                    <a:pt x="9759" y="4503"/>
                  </a:cubicBezTo>
                  <a:cubicBezTo>
                    <a:pt x="9759" y="4476"/>
                    <a:pt x="9782" y="4453"/>
                    <a:pt x="9809" y="4453"/>
                  </a:cubicBezTo>
                  <a:close/>
                  <a:moveTo>
                    <a:pt x="9900" y="4444"/>
                  </a:moveTo>
                  <a:lnTo>
                    <a:pt x="9900" y="4444"/>
                  </a:lnTo>
                  <a:cubicBezTo>
                    <a:pt x="9900" y="4417"/>
                    <a:pt x="9923" y="4394"/>
                    <a:pt x="9950" y="4394"/>
                  </a:cubicBezTo>
                  <a:cubicBezTo>
                    <a:pt x="9978" y="4394"/>
                    <a:pt x="10000" y="4417"/>
                    <a:pt x="10000" y="4444"/>
                  </a:cubicBezTo>
                  <a:lnTo>
                    <a:pt x="10000" y="4444"/>
                  </a:lnTo>
                  <a:cubicBezTo>
                    <a:pt x="10000" y="4472"/>
                    <a:pt x="9978" y="4494"/>
                    <a:pt x="9950" y="4494"/>
                  </a:cubicBezTo>
                  <a:cubicBezTo>
                    <a:pt x="9923" y="4494"/>
                    <a:pt x="9900" y="4472"/>
                    <a:pt x="9900" y="4444"/>
                  </a:cubicBezTo>
                  <a:close/>
                  <a:moveTo>
                    <a:pt x="9900" y="4244"/>
                  </a:moveTo>
                  <a:lnTo>
                    <a:pt x="9900" y="4244"/>
                  </a:lnTo>
                  <a:cubicBezTo>
                    <a:pt x="9900" y="4217"/>
                    <a:pt x="9923" y="4194"/>
                    <a:pt x="9950" y="4194"/>
                  </a:cubicBezTo>
                  <a:cubicBezTo>
                    <a:pt x="9978" y="4194"/>
                    <a:pt x="10000" y="4217"/>
                    <a:pt x="10000" y="4244"/>
                  </a:cubicBezTo>
                  <a:lnTo>
                    <a:pt x="10000" y="4244"/>
                  </a:lnTo>
                  <a:cubicBezTo>
                    <a:pt x="10000" y="4272"/>
                    <a:pt x="9978" y="4294"/>
                    <a:pt x="9950" y="4294"/>
                  </a:cubicBezTo>
                  <a:cubicBezTo>
                    <a:pt x="9923" y="4294"/>
                    <a:pt x="9900" y="4272"/>
                    <a:pt x="9900" y="4244"/>
                  </a:cubicBezTo>
                  <a:close/>
                  <a:moveTo>
                    <a:pt x="9900" y="4044"/>
                  </a:moveTo>
                  <a:lnTo>
                    <a:pt x="9900" y="4044"/>
                  </a:lnTo>
                  <a:cubicBezTo>
                    <a:pt x="9900" y="4016"/>
                    <a:pt x="9923" y="3994"/>
                    <a:pt x="9950" y="3994"/>
                  </a:cubicBezTo>
                  <a:cubicBezTo>
                    <a:pt x="9978" y="3994"/>
                    <a:pt x="10000" y="4016"/>
                    <a:pt x="10000" y="4044"/>
                  </a:cubicBezTo>
                  <a:lnTo>
                    <a:pt x="10000" y="4044"/>
                  </a:lnTo>
                  <a:cubicBezTo>
                    <a:pt x="10000" y="4072"/>
                    <a:pt x="9978" y="4094"/>
                    <a:pt x="9950" y="4094"/>
                  </a:cubicBezTo>
                  <a:cubicBezTo>
                    <a:pt x="9923" y="4094"/>
                    <a:pt x="9900" y="4072"/>
                    <a:pt x="9900" y="4044"/>
                  </a:cubicBezTo>
                  <a:close/>
                  <a:moveTo>
                    <a:pt x="9900" y="3844"/>
                  </a:moveTo>
                  <a:lnTo>
                    <a:pt x="9900" y="3844"/>
                  </a:lnTo>
                  <a:cubicBezTo>
                    <a:pt x="9900" y="3816"/>
                    <a:pt x="9923" y="3794"/>
                    <a:pt x="9950" y="3794"/>
                  </a:cubicBezTo>
                  <a:cubicBezTo>
                    <a:pt x="9978" y="3794"/>
                    <a:pt x="10000" y="3816"/>
                    <a:pt x="10000" y="3844"/>
                  </a:cubicBezTo>
                  <a:lnTo>
                    <a:pt x="10000" y="3844"/>
                  </a:lnTo>
                  <a:cubicBezTo>
                    <a:pt x="10000" y="3872"/>
                    <a:pt x="9978" y="3894"/>
                    <a:pt x="9950" y="3894"/>
                  </a:cubicBezTo>
                  <a:cubicBezTo>
                    <a:pt x="9923" y="3894"/>
                    <a:pt x="9900" y="3872"/>
                    <a:pt x="9900" y="3844"/>
                  </a:cubicBezTo>
                  <a:close/>
                  <a:moveTo>
                    <a:pt x="9900" y="3644"/>
                  </a:moveTo>
                  <a:lnTo>
                    <a:pt x="9900" y="3644"/>
                  </a:lnTo>
                  <a:cubicBezTo>
                    <a:pt x="9900" y="3616"/>
                    <a:pt x="9923" y="3594"/>
                    <a:pt x="9950" y="3594"/>
                  </a:cubicBezTo>
                  <a:cubicBezTo>
                    <a:pt x="9978" y="3594"/>
                    <a:pt x="10000" y="3616"/>
                    <a:pt x="10000" y="3644"/>
                  </a:cubicBezTo>
                  <a:lnTo>
                    <a:pt x="10000" y="3644"/>
                  </a:lnTo>
                  <a:cubicBezTo>
                    <a:pt x="10000" y="3672"/>
                    <a:pt x="9978" y="3694"/>
                    <a:pt x="9950" y="3694"/>
                  </a:cubicBezTo>
                  <a:cubicBezTo>
                    <a:pt x="9923" y="3694"/>
                    <a:pt x="9900" y="3672"/>
                    <a:pt x="9900" y="3644"/>
                  </a:cubicBezTo>
                  <a:close/>
                  <a:moveTo>
                    <a:pt x="9900" y="3444"/>
                  </a:moveTo>
                  <a:lnTo>
                    <a:pt x="9900" y="3444"/>
                  </a:lnTo>
                  <a:cubicBezTo>
                    <a:pt x="9900" y="3416"/>
                    <a:pt x="9923" y="3394"/>
                    <a:pt x="9950" y="3394"/>
                  </a:cubicBezTo>
                  <a:cubicBezTo>
                    <a:pt x="9978" y="3394"/>
                    <a:pt x="10000" y="3416"/>
                    <a:pt x="10000" y="3444"/>
                  </a:cubicBezTo>
                  <a:lnTo>
                    <a:pt x="10000" y="3444"/>
                  </a:lnTo>
                  <a:cubicBezTo>
                    <a:pt x="10000" y="3471"/>
                    <a:pt x="9978" y="3494"/>
                    <a:pt x="9950" y="3494"/>
                  </a:cubicBezTo>
                  <a:cubicBezTo>
                    <a:pt x="9923" y="3494"/>
                    <a:pt x="9900" y="3471"/>
                    <a:pt x="9900" y="3444"/>
                  </a:cubicBezTo>
                  <a:close/>
                  <a:moveTo>
                    <a:pt x="9900" y="3244"/>
                  </a:moveTo>
                  <a:lnTo>
                    <a:pt x="9900" y="3244"/>
                  </a:lnTo>
                  <a:cubicBezTo>
                    <a:pt x="9900" y="3216"/>
                    <a:pt x="9923" y="3194"/>
                    <a:pt x="9950" y="3194"/>
                  </a:cubicBezTo>
                  <a:cubicBezTo>
                    <a:pt x="9978" y="3194"/>
                    <a:pt x="10000" y="3216"/>
                    <a:pt x="10000" y="3244"/>
                  </a:cubicBezTo>
                  <a:lnTo>
                    <a:pt x="10000" y="3244"/>
                  </a:lnTo>
                  <a:cubicBezTo>
                    <a:pt x="10000" y="3271"/>
                    <a:pt x="9978" y="3294"/>
                    <a:pt x="9950" y="3294"/>
                  </a:cubicBezTo>
                  <a:cubicBezTo>
                    <a:pt x="9923" y="3294"/>
                    <a:pt x="9900" y="3271"/>
                    <a:pt x="9900" y="3244"/>
                  </a:cubicBezTo>
                  <a:close/>
                  <a:moveTo>
                    <a:pt x="9900" y="3044"/>
                  </a:moveTo>
                  <a:lnTo>
                    <a:pt x="9900" y="3044"/>
                  </a:lnTo>
                  <a:cubicBezTo>
                    <a:pt x="9900" y="3016"/>
                    <a:pt x="9923" y="2994"/>
                    <a:pt x="9950" y="2994"/>
                  </a:cubicBezTo>
                  <a:cubicBezTo>
                    <a:pt x="9978" y="2994"/>
                    <a:pt x="10000" y="3016"/>
                    <a:pt x="10000" y="3044"/>
                  </a:cubicBezTo>
                  <a:lnTo>
                    <a:pt x="10000" y="3044"/>
                  </a:lnTo>
                  <a:cubicBezTo>
                    <a:pt x="10000" y="3071"/>
                    <a:pt x="9978" y="3094"/>
                    <a:pt x="9950" y="3094"/>
                  </a:cubicBezTo>
                  <a:cubicBezTo>
                    <a:pt x="9923" y="3094"/>
                    <a:pt x="9900" y="3071"/>
                    <a:pt x="9900" y="3044"/>
                  </a:cubicBezTo>
                  <a:close/>
                  <a:moveTo>
                    <a:pt x="9900" y="2844"/>
                  </a:moveTo>
                  <a:lnTo>
                    <a:pt x="9900" y="2843"/>
                  </a:lnTo>
                  <a:cubicBezTo>
                    <a:pt x="9900" y="2816"/>
                    <a:pt x="9923" y="2793"/>
                    <a:pt x="9950" y="2793"/>
                  </a:cubicBezTo>
                  <a:cubicBezTo>
                    <a:pt x="9978" y="2793"/>
                    <a:pt x="10000" y="2816"/>
                    <a:pt x="10000" y="2843"/>
                  </a:cubicBezTo>
                  <a:lnTo>
                    <a:pt x="10000" y="2844"/>
                  </a:lnTo>
                  <a:cubicBezTo>
                    <a:pt x="10000" y="2871"/>
                    <a:pt x="9978" y="2894"/>
                    <a:pt x="9950" y="2894"/>
                  </a:cubicBezTo>
                  <a:cubicBezTo>
                    <a:pt x="9923" y="2894"/>
                    <a:pt x="9900" y="2871"/>
                    <a:pt x="9900" y="2844"/>
                  </a:cubicBezTo>
                  <a:close/>
                  <a:moveTo>
                    <a:pt x="9900" y="2643"/>
                  </a:moveTo>
                  <a:lnTo>
                    <a:pt x="9900" y="2643"/>
                  </a:lnTo>
                  <a:cubicBezTo>
                    <a:pt x="9900" y="2616"/>
                    <a:pt x="9923" y="2593"/>
                    <a:pt x="9950" y="2593"/>
                  </a:cubicBezTo>
                  <a:cubicBezTo>
                    <a:pt x="9978" y="2593"/>
                    <a:pt x="10000" y="2616"/>
                    <a:pt x="10000" y="2643"/>
                  </a:cubicBezTo>
                  <a:lnTo>
                    <a:pt x="10000" y="2643"/>
                  </a:lnTo>
                  <a:cubicBezTo>
                    <a:pt x="10000" y="2671"/>
                    <a:pt x="9978" y="2693"/>
                    <a:pt x="9950" y="2693"/>
                  </a:cubicBezTo>
                  <a:cubicBezTo>
                    <a:pt x="9923" y="2693"/>
                    <a:pt x="9900" y="2671"/>
                    <a:pt x="9900" y="2643"/>
                  </a:cubicBezTo>
                  <a:close/>
                  <a:moveTo>
                    <a:pt x="9900" y="2443"/>
                  </a:moveTo>
                  <a:lnTo>
                    <a:pt x="9900" y="2443"/>
                  </a:lnTo>
                  <a:cubicBezTo>
                    <a:pt x="9900" y="2416"/>
                    <a:pt x="9923" y="2393"/>
                    <a:pt x="9950" y="2393"/>
                  </a:cubicBezTo>
                  <a:cubicBezTo>
                    <a:pt x="9978" y="2393"/>
                    <a:pt x="10000" y="2416"/>
                    <a:pt x="10000" y="2443"/>
                  </a:cubicBezTo>
                  <a:lnTo>
                    <a:pt x="10000" y="2443"/>
                  </a:lnTo>
                  <a:cubicBezTo>
                    <a:pt x="10000" y="2471"/>
                    <a:pt x="9978" y="2493"/>
                    <a:pt x="9950" y="2493"/>
                  </a:cubicBezTo>
                  <a:cubicBezTo>
                    <a:pt x="9923" y="2493"/>
                    <a:pt x="9900" y="2471"/>
                    <a:pt x="9900" y="2443"/>
                  </a:cubicBezTo>
                  <a:close/>
                  <a:moveTo>
                    <a:pt x="9900" y="2243"/>
                  </a:moveTo>
                  <a:lnTo>
                    <a:pt x="9900" y="2243"/>
                  </a:lnTo>
                  <a:cubicBezTo>
                    <a:pt x="9900" y="2216"/>
                    <a:pt x="9923" y="2193"/>
                    <a:pt x="9950" y="2193"/>
                  </a:cubicBezTo>
                  <a:cubicBezTo>
                    <a:pt x="9978" y="2193"/>
                    <a:pt x="10000" y="2216"/>
                    <a:pt x="10000" y="2243"/>
                  </a:cubicBezTo>
                  <a:lnTo>
                    <a:pt x="10000" y="2243"/>
                  </a:lnTo>
                  <a:cubicBezTo>
                    <a:pt x="10000" y="2271"/>
                    <a:pt x="9978" y="2293"/>
                    <a:pt x="9950" y="2293"/>
                  </a:cubicBezTo>
                  <a:cubicBezTo>
                    <a:pt x="9923" y="2293"/>
                    <a:pt x="9900" y="2271"/>
                    <a:pt x="9900" y="2243"/>
                  </a:cubicBezTo>
                  <a:close/>
                  <a:moveTo>
                    <a:pt x="9900" y="2043"/>
                  </a:moveTo>
                  <a:lnTo>
                    <a:pt x="9900" y="2043"/>
                  </a:lnTo>
                  <a:cubicBezTo>
                    <a:pt x="9900" y="2015"/>
                    <a:pt x="9923" y="1993"/>
                    <a:pt x="9950" y="1993"/>
                  </a:cubicBezTo>
                  <a:cubicBezTo>
                    <a:pt x="9978" y="1993"/>
                    <a:pt x="10000" y="2015"/>
                    <a:pt x="10000" y="2043"/>
                  </a:cubicBezTo>
                  <a:lnTo>
                    <a:pt x="10000" y="2043"/>
                  </a:lnTo>
                  <a:cubicBezTo>
                    <a:pt x="10000" y="2071"/>
                    <a:pt x="9978" y="2093"/>
                    <a:pt x="9950" y="2093"/>
                  </a:cubicBezTo>
                  <a:cubicBezTo>
                    <a:pt x="9923" y="2093"/>
                    <a:pt x="9900" y="2071"/>
                    <a:pt x="9900" y="2043"/>
                  </a:cubicBezTo>
                  <a:close/>
                  <a:moveTo>
                    <a:pt x="9900" y="1843"/>
                  </a:moveTo>
                  <a:lnTo>
                    <a:pt x="9900" y="1843"/>
                  </a:lnTo>
                  <a:cubicBezTo>
                    <a:pt x="9900" y="1815"/>
                    <a:pt x="9923" y="1793"/>
                    <a:pt x="9950" y="1793"/>
                  </a:cubicBezTo>
                  <a:cubicBezTo>
                    <a:pt x="9978" y="1793"/>
                    <a:pt x="10000" y="1815"/>
                    <a:pt x="10000" y="1843"/>
                  </a:cubicBezTo>
                  <a:lnTo>
                    <a:pt x="10000" y="1843"/>
                  </a:lnTo>
                  <a:cubicBezTo>
                    <a:pt x="10000" y="1871"/>
                    <a:pt x="9978" y="1893"/>
                    <a:pt x="9950" y="1893"/>
                  </a:cubicBezTo>
                  <a:cubicBezTo>
                    <a:pt x="9923" y="1893"/>
                    <a:pt x="9900" y="1871"/>
                    <a:pt x="9900" y="1843"/>
                  </a:cubicBezTo>
                  <a:close/>
                  <a:moveTo>
                    <a:pt x="9900" y="1643"/>
                  </a:moveTo>
                  <a:lnTo>
                    <a:pt x="9900" y="1643"/>
                  </a:lnTo>
                  <a:cubicBezTo>
                    <a:pt x="9900" y="1615"/>
                    <a:pt x="9923" y="1593"/>
                    <a:pt x="9950" y="1593"/>
                  </a:cubicBezTo>
                  <a:cubicBezTo>
                    <a:pt x="9978" y="1593"/>
                    <a:pt x="10000" y="1615"/>
                    <a:pt x="10000" y="1643"/>
                  </a:cubicBezTo>
                  <a:lnTo>
                    <a:pt x="10000" y="1643"/>
                  </a:lnTo>
                  <a:cubicBezTo>
                    <a:pt x="10000" y="1671"/>
                    <a:pt x="9978" y="1693"/>
                    <a:pt x="9950" y="1693"/>
                  </a:cubicBezTo>
                  <a:cubicBezTo>
                    <a:pt x="9923" y="1693"/>
                    <a:pt x="9900" y="1671"/>
                    <a:pt x="9900" y="1643"/>
                  </a:cubicBezTo>
                  <a:close/>
                  <a:moveTo>
                    <a:pt x="9900" y="1443"/>
                  </a:moveTo>
                  <a:lnTo>
                    <a:pt x="9900" y="1443"/>
                  </a:lnTo>
                  <a:cubicBezTo>
                    <a:pt x="9900" y="1415"/>
                    <a:pt x="9923" y="1393"/>
                    <a:pt x="9950" y="1393"/>
                  </a:cubicBezTo>
                  <a:cubicBezTo>
                    <a:pt x="9978" y="1393"/>
                    <a:pt x="10000" y="1415"/>
                    <a:pt x="10000" y="1443"/>
                  </a:cubicBezTo>
                  <a:lnTo>
                    <a:pt x="10000" y="1443"/>
                  </a:lnTo>
                  <a:cubicBezTo>
                    <a:pt x="10000" y="1470"/>
                    <a:pt x="9978" y="1493"/>
                    <a:pt x="9950" y="1493"/>
                  </a:cubicBezTo>
                  <a:cubicBezTo>
                    <a:pt x="9923" y="1493"/>
                    <a:pt x="9900" y="1470"/>
                    <a:pt x="9900" y="1443"/>
                  </a:cubicBezTo>
                  <a:close/>
                  <a:moveTo>
                    <a:pt x="9900" y="1243"/>
                  </a:moveTo>
                  <a:lnTo>
                    <a:pt x="9900" y="1243"/>
                  </a:lnTo>
                  <a:cubicBezTo>
                    <a:pt x="9900" y="1215"/>
                    <a:pt x="9923" y="1193"/>
                    <a:pt x="9950" y="1193"/>
                  </a:cubicBezTo>
                  <a:cubicBezTo>
                    <a:pt x="9978" y="1193"/>
                    <a:pt x="10000" y="1215"/>
                    <a:pt x="10000" y="1243"/>
                  </a:cubicBezTo>
                  <a:lnTo>
                    <a:pt x="10000" y="1243"/>
                  </a:lnTo>
                  <a:cubicBezTo>
                    <a:pt x="10000" y="1270"/>
                    <a:pt x="9978" y="1293"/>
                    <a:pt x="9950" y="1293"/>
                  </a:cubicBezTo>
                  <a:cubicBezTo>
                    <a:pt x="9923" y="1293"/>
                    <a:pt x="9900" y="1270"/>
                    <a:pt x="9900" y="1243"/>
                  </a:cubicBezTo>
                  <a:close/>
                  <a:moveTo>
                    <a:pt x="9900" y="1043"/>
                  </a:moveTo>
                  <a:lnTo>
                    <a:pt x="9900" y="1043"/>
                  </a:lnTo>
                  <a:cubicBezTo>
                    <a:pt x="9900" y="1015"/>
                    <a:pt x="9923" y="993"/>
                    <a:pt x="9950" y="993"/>
                  </a:cubicBezTo>
                  <a:cubicBezTo>
                    <a:pt x="9978" y="993"/>
                    <a:pt x="10000" y="1015"/>
                    <a:pt x="10000" y="1043"/>
                  </a:cubicBezTo>
                  <a:lnTo>
                    <a:pt x="10000" y="1043"/>
                  </a:lnTo>
                  <a:cubicBezTo>
                    <a:pt x="10000" y="1070"/>
                    <a:pt x="9978" y="1093"/>
                    <a:pt x="9950" y="1093"/>
                  </a:cubicBezTo>
                  <a:cubicBezTo>
                    <a:pt x="9923" y="1093"/>
                    <a:pt x="9900" y="1070"/>
                    <a:pt x="9900" y="1043"/>
                  </a:cubicBezTo>
                  <a:close/>
                  <a:moveTo>
                    <a:pt x="9900" y="843"/>
                  </a:moveTo>
                  <a:lnTo>
                    <a:pt x="9900" y="842"/>
                  </a:lnTo>
                  <a:cubicBezTo>
                    <a:pt x="9900" y="815"/>
                    <a:pt x="9923" y="792"/>
                    <a:pt x="9950" y="792"/>
                  </a:cubicBezTo>
                  <a:cubicBezTo>
                    <a:pt x="9978" y="792"/>
                    <a:pt x="10000" y="815"/>
                    <a:pt x="10000" y="842"/>
                  </a:cubicBezTo>
                  <a:lnTo>
                    <a:pt x="10000" y="843"/>
                  </a:lnTo>
                  <a:cubicBezTo>
                    <a:pt x="10000" y="870"/>
                    <a:pt x="9978" y="893"/>
                    <a:pt x="9950" y="893"/>
                  </a:cubicBezTo>
                  <a:cubicBezTo>
                    <a:pt x="9923" y="893"/>
                    <a:pt x="9900" y="870"/>
                    <a:pt x="9900" y="843"/>
                  </a:cubicBezTo>
                  <a:close/>
                  <a:moveTo>
                    <a:pt x="9900" y="642"/>
                  </a:moveTo>
                  <a:lnTo>
                    <a:pt x="9900" y="642"/>
                  </a:lnTo>
                  <a:cubicBezTo>
                    <a:pt x="9900" y="615"/>
                    <a:pt x="9923" y="592"/>
                    <a:pt x="9950" y="592"/>
                  </a:cubicBezTo>
                  <a:cubicBezTo>
                    <a:pt x="9978" y="592"/>
                    <a:pt x="10000" y="615"/>
                    <a:pt x="10000" y="642"/>
                  </a:cubicBezTo>
                  <a:lnTo>
                    <a:pt x="10000" y="642"/>
                  </a:lnTo>
                  <a:cubicBezTo>
                    <a:pt x="10000" y="670"/>
                    <a:pt x="9978" y="692"/>
                    <a:pt x="9950" y="692"/>
                  </a:cubicBezTo>
                  <a:cubicBezTo>
                    <a:pt x="9923" y="692"/>
                    <a:pt x="9900" y="670"/>
                    <a:pt x="9900" y="642"/>
                  </a:cubicBezTo>
                  <a:close/>
                  <a:moveTo>
                    <a:pt x="9900" y="442"/>
                  </a:moveTo>
                  <a:lnTo>
                    <a:pt x="9900" y="442"/>
                  </a:lnTo>
                  <a:cubicBezTo>
                    <a:pt x="9900" y="415"/>
                    <a:pt x="9923" y="392"/>
                    <a:pt x="9950" y="392"/>
                  </a:cubicBezTo>
                  <a:cubicBezTo>
                    <a:pt x="9978" y="392"/>
                    <a:pt x="10000" y="415"/>
                    <a:pt x="10000" y="442"/>
                  </a:cubicBezTo>
                  <a:lnTo>
                    <a:pt x="10000" y="442"/>
                  </a:lnTo>
                  <a:cubicBezTo>
                    <a:pt x="10000" y="470"/>
                    <a:pt x="9978" y="492"/>
                    <a:pt x="9950" y="492"/>
                  </a:cubicBezTo>
                  <a:cubicBezTo>
                    <a:pt x="9923" y="492"/>
                    <a:pt x="9900" y="470"/>
                    <a:pt x="9900" y="442"/>
                  </a:cubicBezTo>
                  <a:close/>
                  <a:moveTo>
                    <a:pt x="9900" y="242"/>
                  </a:moveTo>
                  <a:lnTo>
                    <a:pt x="9900" y="242"/>
                  </a:lnTo>
                  <a:cubicBezTo>
                    <a:pt x="9900" y="215"/>
                    <a:pt x="9923" y="192"/>
                    <a:pt x="9950" y="192"/>
                  </a:cubicBezTo>
                  <a:cubicBezTo>
                    <a:pt x="9978" y="192"/>
                    <a:pt x="10000" y="215"/>
                    <a:pt x="10000" y="242"/>
                  </a:cubicBezTo>
                  <a:lnTo>
                    <a:pt x="10000" y="242"/>
                  </a:lnTo>
                  <a:cubicBezTo>
                    <a:pt x="10000" y="270"/>
                    <a:pt x="9978" y="292"/>
                    <a:pt x="9950" y="292"/>
                  </a:cubicBezTo>
                  <a:cubicBezTo>
                    <a:pt x="9923" y="292"/>
                    <a:pt x="9900" y="270"/>
                    <a:pt x="9900" y="242"/>
                  </a:cubicBez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2897280" y="106668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</a:t>
              </a: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لبيئة التسهيلية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9"/>
            <p:cNvSpPr/>
            <p:nvPr/>
          </p:nvSpPr>
          <p:spPr>
            <a:xfrm>
              <a:off x="3538800" y="1133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" name="Group 95"/>
            <p:cNvGrpSpPr/>
            <p:nvPr/>
          </p:nvGrpSpPr>
          <p:grpSpPr>
            <a:xfrm>
              <a:off x="7423200" y="2990880"/>
              <a:ext cx="838080" cy="749160"/>
              <a:chOff x="7423200" y="2990880"/>
              <a:chExt cx="838080" cy="749160"/>
            </a:xfrm>
          </p:grpSpPr>
          <p:sp>
            <p:nvSpPr>
              <p:cNvPr id="307" name="Rectangle 90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08" name="Picture 91" descr=""/>
              <p:cNvPicPr/>
              <p:nvPr/>
            </p:nvPicPr>
            <p:blipFill>
              <a:blip r:embed="rId4"/>
              <a:stretch/>
            </p:blipFill>
            <p:spPr>
              <a:xfrm>
                <a:off x="7435800" y="3016080"/>
                <a:ext cx="8240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92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10" name="Picture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3200" y="299088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Rectangle 94"/>
              <p:cNvSpPr/>
              <p:nvPr/>
            </p:nvSpPr>
            <p:spPr>
              <a:xfrm>
                <a:off x="7423200" y="2990880"/>
                <a:ext cx="824040" cy="725400"/>
              </a:xfrm>
              <a:prstGeom prst="rect">
                <a:avLst/>
              </a:prstGeom>
              <a:noFill/>
              <a:ln cap="rnd"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2" name="Rectangle 96"/>
            <p:cNvSpPr/>
            <p:nvPr/>
          </p:nvSpPr>
          <p:spPr>
            <a:xfrm>
              <a:off x="7858800" y="3041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7"/>
            <p:cNvSpPr/>
            <p:nvPr/>
          </p:nvSpPr>
          <p:spPr>
            <a:xfrm>
              <a:off x="7616880" y="3048120"/>
              <a:ext cx="53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8017200" y="3263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9"/>
            <p:cNvSpPr/>
            <p:nvPr/>
          </p:nvSpPr>
          <p:spPr>
            <a:xfrm>
              <a:off x="4808520" y="2262240"/>
              <a:ext cx="625320" cy="482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00"/>
            <p:cNvSpPr/>
            <p:nvPr/>
          </p:nvSpPr>
          <p:spPr>
            <a:xfrm>
              <a:off x="4800600" y="2262240"/>
              <a:ext cx="609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مكتب التقييم في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03"/>
            <p:cNvSpPr/>
            <p:nvPr/>
          </p:nvSpPr>
          <p:spPr>
            <a:xfrm>
              <a:off x="5328000" y="2558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04"/>
            <p:cNvSpPr/>
            <p:nvPr/>
          </p:nvSpPr>
          <p:spPr>
            <a:xfrm>
              <a:off x="6400800" y="4038480"/>
              <a:ext cx="6858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أمانة العامة، والهيئات المتعاملة مع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08"/>
            <p:cNvSpPr/>
            <p:nvPr/>
          </p:nvSpPr>
          <p:spPr>
            <a:xfrm>
              <a:off x="7121880" y="46386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9"/>
            <p:cNvSpPr/>
            <p:nvPr/>
          </p:nvSpPr>
          <p:spPr>
            <a:xfrm>
              <a:off x="6872400" y="4789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10"/>
            <p:cNvSpPr/>
            <p:nvPr/>
          </p:nvSpPr>
          <p:spPr>
            <a:xfrm>
              <a:off x="7107120" y="4915080"/>
              <a:ext cx="1140120" cy="1020600"/>
            </a:xfrm>
            <a:prstGeom prst="ellipse">
              <a:avLst/>
            </a:prstGeom>
            <a:solidFill>
              <a:srgbClr val="885f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111"/>
            <p:cNvSpPr/>
            <p:nvPr/>
          </p:nvSpPr>
          <p:spPr>
            <a:xfrm>
              <a:off x="7238880" y="5021280"/>
              <a:ext cx="8384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بلدان الشريكة، المنظمات غير الحكومية، القطاع الخاص، المجتمعات المحل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8088480" y="5657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715520" y="5807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2893680" y="1709640"/>
              <a:ext cx="53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إشرا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4187160" y="111744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سياسة المتابعة والتقيي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20"/>
          <p:cNvSpPr/>
          <p:nvPr/>
        </p:nvSpPr>
        <p:spPr>
          <a:xfrm>
            <a:off x="3124080" y="4443480"/>
            <a:ext cx="2743200" cy="946440"/>
          </a:xfrm>
          <a:prstGeom prst="rect">
            <a:avLst/>
          </a:prstGeom>
          <a:solidFill>
            <a:srgbClr val="6d94b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ات حوافظ العمليات والبرامج، وتقارير التنفيذ السنوية، واستعراضات المتابعة السنوية وأدوات التتبّع، ومنتصف الم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21"/>
          <p:cNvSpPr/>
          <p:nvPr/>
        </p:nvSpPr>
        <p:spPr>
          <a:xfrm>
            <a:off x="2819520" y="5562720"/>
            <a:ext cx="3733560" cy="520200"/>
          </a:xfrm>
          <a:prstGeom prst="rect">
            <a:avLst/>
          </a:prstGeom>
          <a:solidFill>
            <a:srgbClr val="816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مشروعات، والمتابعة، وجمع البيانات، وتدفقات المعلوم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22"/>
          <p:cNvSpPr/>
          <p:nvPr/>
        </p:nvSpPr>
        <p:spPr>
          <a:xfrm>
            <a:off x="3886200" y="28195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23"/>
          <p:cNvSpPr/>
          <p:nvPr/>
        </p:nvSpPr>
        <p:spPr>
          <a:xfrm>
            <a:off x="3886200" y="2798640"/>
            <a:ext cx="609480" cy="703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دراس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عن الأدا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العا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24"/>
          <p:cNvSpPr/>
          <p:nvPr/>
        </p:nvSpPr>
        <p:spPr>
          <a:xfrm>
            <a:off x="4419720" y="3030480"/>
            <a:ext cx="304560" cy="246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25"/>
          <p:cNvSpPr/>
          <p:nvPr/>
        </p:nvSpPr>
        <p:spPr>
          <a:xfrm>
            <a:off x="3581280" y="3505320"/>
            <a:ext cx="1524240" cy="109836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1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أثر وإجراءات وأداء: المشروعات، والبرامج، وحوافظ عمليات البلدان، ومحاور التركيز المشترك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6"/>
          <p:cNvSpPr/>
          <p:nvPr/>
        </p:nvSpPr>
        <p:spPr>
          <a:xfrm>
            <a:off x="5105520" y="3809880"/>
            <a:ext cx="228600" cy="37008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27"/>
          <p:cNvSpPr/>
          <p:nvPr/>
        </p:nvSpPr>
        <p:spPr>
          <a:xfrm>
            <a:off x="5029200" y="4114800"/>
            <a:ext cx="304920" cy="23004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63360"/>
          <a:ext cx="9144000" cy="654552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شر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أدوار والمسؤوليات الرئي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لس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سياسات بشأن: المتابعة والتقييم/ والإشراف على وظائف المتابعة والتقييم/ والبيئة التسهيلية بشأن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كتب التقييم في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قييم المستقل في صندوق البيئة العالمية/ الإشراف على تقييمات المشروعات والبرامج، والإشراف على ملاءمة وأداء أنظمة المتابعة ونوعيتها عموماً، وتحديد الشروط والمتطلبات الدنيا بشأن المتابعة والتقييم في صندوق البيئة العالمية / وتبادل وتعميم المعرفة التقي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أمانة العامة ل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أطر النتائج على مستوى مجالات التركيز والمؤسسة، متابعة حافظة عمليات الصندوق فيما بين الهيئات ومجالات التركيز، الإبلاغ عن وتضمين الدروس المستفادة من متابعة حافظة العملي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عراض متطلبات الصندوق من المتابعة والتقييم في المشروعات والبرامج المقترح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نسيق أنشطة إدارة معرفة الشراك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عمليات في الهيئات المتعاملة مع الصندو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تابعة حافظة عمليات صندوق البيئة العالمية المعهودة للهيئات المتعاملة مع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إبلاغ عن التقدّم المحرز في المشروعات والبرامج وحوافظ العمليات لدى الهيئات وعن نتائجها والتعلّم والدروس المستفادة / التأكد من المتابعة على مستوى المشروعات والبرامج / الإدارة التكيّفية للمشروعات والبرامج / الإشراك المنهجي للبلدان الشريكة وتبادل المعلومات بشأن متابعة وتقييم المشروعات على مستوى البلدا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تقييم في الهيئات المتعاملة مع الصندوق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ييمات المشروعات والبرامج و/أو التقييمات المستقلة التي تقوم بها الهيئات المتعاملة مع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عل صندوق البيئة العالمية جزءاً لا يتجزأ من التقييمات ذات الصلة التي تقوم بها الهيئات المتعاملة معه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هيئة الاستشارية العلمية والف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ديم المشورة بشأن القضايا العملية / الفنية في عمليات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المؤشرات العلمية والفني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إدارة المعرفة وتبادل المعلو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اكز تنسيق عمليات صندوق البيئة العال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اون بشأن المتابعة والتقييم على مستوى: حوافظ العمليات، والمشروعات، والبرام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صحاب المصلحة المباشرة الآخرون (أي المنظمات غير الحكومية، ومنظمات المجتمع المدني، والأوساط الأكاديمية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شاركة في أنشطة وآلي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عرض وجهات النظر والتصورات في عمليات التقي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33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69DF-3BDF-469A-BBA8-A2EAF455C1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339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دخل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خرج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نوات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أث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877-EA85-4DFD-9491-652E9B49668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النتائج جيدة أو مفيد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حصلت على القيمة مقابل المال (أو الجهد)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قمت بدفع أو فعل ما هو أكثر من اللاز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354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44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نتائ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ستدو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AC1E-B5F6-4D3B-AFC0-CA904D3C7D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M&amp;E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والإدارة المستندة إلى تحقيق النتائج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RBM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في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سياسة المتابعة و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شروط والمتطلبات الدنيا بشأن المتابعة والتقي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شراك مراكز تنسيق عمليات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طط 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قاعدة بيانات الاستفسارات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ASK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قييم المناخ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Climate-Ev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جماعة الممارسي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027-695F-4FBD-9037-E6F7A21AC88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9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شروط والمتطلبات الدنيا بشأن المتابعة والتقيي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7200" indent="-45720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وضع خطط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خطة متابعة وتقييم ملموسة وكاملة الموازنة بمصادقة من المسؤول التنفيذي الأول بشأن المشروعات الكبيرة وبموافقة منه بشأن المشروعات المتوسطة الحج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وجوب تصويب المشروعات مع أطر نتائج مجالات تركيز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بيانات أساسية بشأن المتابعة والتقييم بمصادقة من المسؤول التنفيذي الأ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تضمين الخطة عمليات استعراض في منتصف المدة (حسب الاقتضاء أو التوقّع) وتقييمات نهائ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البيئة المؤسسية والموازنة بشأن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3B12-2C9D-42ED-B8FB-D06B40145B5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نفيذ خطط المتابعة و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تضمّن عملية متابعة والإشراف على المشروعات/البرامج تنفيذ خطة متابعة وتقيي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خطوات/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نتائ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حديد معلومات أساسية كاملة للمشروع المعني وجمع البيانات اللازمة لاستعراض مدى التقدّم المُحر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فعيل البيئة المؤسسية اللازمة للمتابعة والتقييم وإنفاق الموازنة المُخصّصة حسب الخط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FA4A-6906-4A44-9A3E-327F66D2066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المشروعات/البرامج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لا بدّ من تقييم المشروعات والبرامج الكبيرة عند الانتهاء من تنفيذ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ينبغي على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مستقلة عن إدارة المشروعات أو أن تستعرضها وحدات التقييم في الهيئات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تطبيق قواعد ومعايير التقييم المعتمدة في الهيئة المعنية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قيّم كحد أدنى: المخرجات والنواتج، واحتمال الاستدامة، والتقيّد بالشروط والمتطلبات الدنيا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بشأن المتابعة والتقيي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تضمن: بيانات عن عملية التقييم نفسها (شاملة وثيقة المهام والصلاحيات)، وبيانات المشروع المعني الأساسية، والدروس المُستف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يتم إرسالها إلى مكتب التقييم في صندوق البيئة العالمية في غضون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 من إنجاز المشروع/البرنامج المع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سيتم وضع إرشادات بشأن تقييم المشروعات متوسطة الحجم/التقييم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646E-3B6D-4432-9984-B93002EC0A8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إشراك مراكز تنسيق عمليات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على خطط المتابعة والتقييم بيان كيف سيتم إشراك مراكز تنسيق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إطلاع مراكز تنسيق العمليات على أنشطة المتابعة والتقييم، شاملة استعراضات منتصف المدة والتقييمات النهائية، مع استلام المسودات للتعليق عليها ومن ثم التقارير النه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دعوة مراكز تنسيق العمليات للإسهام في أجوبة الإدارة (عند الاقتضا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تبُّع الهيئات المتعاملة مع صندوق البيئة العالمية تطبيق هذا الشرط المطلوب في مشروعاتها وبرامجها التي يمولها الصندو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39B-5EB7-47C3-952B-642DB234975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إشراك مراكز تنسيق العمليات التي يمولها صندوق البيئة العالمي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6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تبُّع المساندة من صندوق البيئة العالمية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بلدان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إطلاع أصحاب المصلحة المباشرة والتشاور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عهم في خطط وتنفيذ ونتائج أنشطة صندوق البيئة العالمية في البلدان المعنيّ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عميم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عن المتابعة والتقييم، وتشجيع الاستفادة من توصيات عمليات التقييم 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والدروس المكتسبة م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مكتب التقييم،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باعتبارها نقطة الدخول الأولى إلى البلدا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حديد أصحاب المصلحة المباشرة الرئيسيين المعنيين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الاجتماعات واللقاءات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ساعدة في وضع جداول الأعمال اللازمة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أجوبة البلدان على تلك التقييم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E30-5622-4F99-8AAB-625297469EE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استراتيجية صندوق البيئة العالمية –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شتركة بين المجالات بشأن التن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ُكوّن الخامس: تعزيز قدرات متابعة وتقييم الآثار والاتجاهات البيئية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يكون ذلك أولوية في خطة العمل بشأن تنمية قدرات التقييم الذاتي الوط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تكون خطة تنمية القدرات مشروعاً متوسط الحجم أو إدماجها في مقترح أوسع نطاقاً سيتم وضعه كمشروع متوسط الحجم أو كبير الحجم – وإن كان متوسط الحجم يجب أن يكون التمويل مشتركاً بنسبة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إمكانية النظر في إنشاء شراكات إقل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تمويل من مبلغ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$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44</a:t>
            </a:r>
            <a:r>
              <a:rPr b="0" lang="ar-SY" sz="2400" spc="-1" strike="noStrike">
                <a:solidFill>
                  <a:srgbClr val="006600"/>
                </a:solidFill>
                <a:latin typeface="Calibri"/>
                <a:ea typeface="Arial"/>
              </a:rPr>
              <a:t> مليون دولار أمريكي مخصّص لعمليات تنمية الق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CD4A-E9B1-4B23-87A7-C28548BB882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c00000"/>
                </a:solidFill>
                <a:latin typeface="Calibri"/>
                <a:cs typeface="Times New Roman"/>
              </a:rPr>
              <a:t>خطط التقييم بشأن صندوق البيئة العالمية – 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5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7AA1-0A45-4892-A743-3A10445248C6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وحيد وتدعيم أنواع شواهد التقييم الأرب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حوافظ عمليات قُطْريّة: في حدود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1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تقييماً في فترة صندوق البيئة العالمية –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ثر: الجهد الرئيسي في مجال المياه الدولية وعمل إضافي على مجالات التركيز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داء: استمرار وازدياد قوة التقارير السنوية عن التقدّم المُحرز فضلاً عن الاستعراض المستقل للخطوات والإجراء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محاور التركيز: استراتيجيات مجالات التركيز والتكيّ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شأن شواهد التقييم هذه تسهيل وضع الدراسة الخامس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بحيث تتطلب عملاً إضافياً أقل مما تطلبته الدراسة الرابع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4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ابعة والتقييم والإدارة المستندة إلى تحقيق النتائج في صندوق البيئة العالمية –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حقق من - ودرجات تقديرات ومدى - التقدّم المحرز نحو تحقيق الأثر المنشود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حفاظ على تغطية عملية الإصلاح: دورة وأنماط مشروعات صندوق البيئة العالمية، والقدرة على الوصول المباشر، ونظام التخصيص الشفاف للموارد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، والفقر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زيادة فهم الدور التحفيزي الذي يسهم به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مدى الالتزام والدوافع من اعتبارات البلد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المشاكل البيئية وملاءمة صندوق البيئة العالمية للاتفاقيات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نظرة المتعمقة في استراتيجيات مجالات التركيز، شاملة إدارة الغابات بما يحقق استدام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تحسين فهم الأثر الطويل الأمد الناجم عن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F01B-585C-4C46-A2C0-F9FB8F13F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قاعدة بيانات الاستفسارات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4041-3348-461B-8E04-528421013A0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C7B-F393-4DFD-993D-1DEFA32F3F9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من وثائق مكتب ال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تقرير 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867280" y="4800600"/>
            <a:ext cx="2971800" cy="580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ffffff"/>
                </a:solidFill>
                <a:latin typeface="Calibri"/>
                <a:cs typeface="Arial"/>
              </a:rPr>
              <a:t>تقييم سنوي لحافظة عمليات قُطْريّ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0"/>
          <p:cNvCxnSpPr>
            <a:stCxn id="405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11"/>
          <p:cNvCxnSpPr>
            <a:stCxn id="406" idx="1"/>
          </p:cNvCxnSpPr>
          <p:nvPr/>
        </p:nvCxnSpPr>
        <p:spPr>
          <a:xfrm flipH="1">
            <a:off x="5333400" y="4970520"/>
            <a:ext cx="533880" cy="288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BA3-35AC-4A72-AD4C-CD8E6805B3D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بكة التقييم المناخي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جماعة ممارسين في مجال تقييم تغيّر المناخ والتن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تبادل أفضل الممارسات بشأن تقييم تغيّر المناخ والتن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أكثر من 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 عضو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أدوات مشاركة على شبكة الإنترنت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الموقع على شبكة الإنترنت: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جموعة المهنيين أعضاء شبكة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وسائل التواصل الاجتماع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رسائل إخبار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ُدوّنَة (عما قريب!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B1F3-E860-4037-8DF5-C22E079CF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C9B-FD4E-49F7-B2A6-F7696BAD7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سياسات المتابعة وال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شبكة التقييم المناخ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بادل المعرفة في مجال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هل تصلك التقييمات الصادرة عن صندوق البيئة العالمي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ما شكل أدوات المعرفة التقييمية الأكثر فائدة لك في عملك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725-5D95-4357-B8AD-EF560FF5278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كراً لكم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195-7938-42C5-BD7D-E47E5834815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ي إحدى الأدوات الرئيسية في 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تقييم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و ”معاينة للواقع“ في المتابعة 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و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والإدارة المستندة إلى تحقيق النتائج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ما بيان لما إذا كانت المؤسس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Simplified Arabic"/>
              </a:rPr>
              <a:t>“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سائرة في الطريق المرسوم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مكن للتقييم بيان ما إذا كانت المؤسسة </a:t>
            </a:r>
            <a:r>
              <a:rPr b="0" lang="ar-SY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سائرة على الطريق </a:t>
            </a:r>
            <a:r>
              <a:rPr b="1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صحيح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هدفان رئيسي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ساءلة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عن تحقيق أهداف الصندوق، وذلك من خلال تقييم: 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نتائج، والفعالية، والإجراءات، والأداء </a:t>
            </a:r>
            <a:r>
              <a:rPr b="0" lang="ar-SY" sz="28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ند الشركاء العاملين على أنشطة صندوق البيئة العالم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: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، والمعلومات التقييمية، وتبادل المعرفة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النتائج والدروس المستفادة فيما بين الصندوق وشركائه كأساس لاتخاذ القرارات بشأن: السياسات، والاستراتيجيات، وإدارة البرامج، والبرامج، والمشروعات، وتحسي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رفة والأداء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42F-6A77-4AB1-9F90-6493DA4D52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C84D-B5AE-4010-A1F8-694514099D7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لى مستوى حافظة العمليات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تبّع التقدم المُحرز نحو تحقيق النواتج المنش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صطلحات الموحد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حقيق الانسجام فيما بين مجالات التركي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إدماج الدروس المستفادة في قرارات الإدا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لومات التقييمي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هي إطار منسجم من أجل تحسين عملية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3819240"/>
            <a:chOff x="1219320" y="1447920"/>
            <a:chExt cx="7467120" cy="38192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تصاميم المشروعات والبرام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نفي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200"/>
              <a:ext cx="191556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نهج الإطار المنطقي/إطار النتائ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خطة المتابعة والتقييم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080"/>
              <a:ext cx="3994200" cy="1415880"/>
            </a:xfrm>
            <a:prstGeom prst="rightArrow">
              <a:avLst>
                <a:gd name="adj1" fmla="val 50000"/>
                <a:gd name="adj2" fmla="val 705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595680" y="396504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إدارة، المتابعة، والتعلّ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تابعة التقدّم المُحرز؛ التصحيح في منتصف المدة حسب الحاج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ات النهائي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5560" y="-30960"/>
              <a:ext cx="1080" cy="5076720"/>
            </a:xfrm>
            <a:prstGeom prst="bentConnector3">
              <a:avLst>
                <a:gd name="adj1" fmla="val 143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582440" y="4990680"/>
              <a:ext cx="257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؛ الممارسات الجيد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25040" y="5562720"/>
            <a:ext cx="70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تعديلاً عن وثيقة البنك الدولي: </a:t>
            </a:r>
            <a:r>
              <a:rPr b="0" i="1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نتائج في استراتيجيات المساعدة القُطرية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يوليو/تموز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ص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0A6A-63D8-4630-892D-09511B35DA0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262080"/>
            <a:ext cx="8076960" cy="88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ستوى العملي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اعدة إلى القم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ستوى المؤسس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مة إلى القاعد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المشروعات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مجال التركيز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ات الاستراتيج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لصندوق البيئة العالم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مجالات التركي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نافع البيئية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آث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نوات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ُخرج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006-4B22-439A-B3B6-EAEEDD3B6BA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مشروع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رفع تقارير عن: بدء المشروع، وتأخيراته، وإلغاءات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تنفيذ المشروع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R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أدوات التتبُّ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هيئات المتعاملة مع الصندو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رير عرض عام عن حافظة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ارير عن مجالات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Calibri"/>
                <a:cs typeface="Arial"/>
              </a:rPr>
              <a:t>مُدخلات في تقرير المتابعة السن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ight Brace 6" descr=""/>
          <p:cNvPicPr/>
          <p:nvPr/>
        </p:nvPicPr>
        <p:blipFill>
          <a:blip r:embed="rId3"/>
          <a:stretch/>
        </p:blipFill>
        <p:spPr>
          <a:xfrm>
            <a:off x="3492360" y="2182680"/>
            <a:ext cx="133524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2362320" y="281952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يجب إتاحة هذه المعلومات لمراكز التنسي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E93-E070-45E8-8627-751D102B2B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3:44:17Z</dcterms:modified>
  <cp:revision>300</cp:revision>
  <dc:subject/>
  <dc:title>Slide 1</dc:title>
</cp:coreProperties>
</file>