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wmf" ContentType="image/x-wmf"/>
  <Override PartName="/ppt/media/image46.jpeg" ContentType="image/jpe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8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36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49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0.png" ContentType="image/png"/>
  <Override PartName="/ppt/media/image47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374C-1801-4D26-8C26-154DF2171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he PIRs discuss project performance and include agency ratings that provide the basis of the analysis in the AMR on implementation progress and progress toward achieving development/global environment objectives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268C-B916-47DF-80A1-B3E39BA9F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5649-5C46-4B83-95DC-560909353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2E2A-9123-4D2B-A210-2DEDA0642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8B6D-DC15-4B42-8328-28A612EA29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1D94-66BA-4613-A1D1-81C270B8E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s implemented through GEF financing are the basis of the proposed RBM framework.  As such, tracking results begin from a project vantage point.  At a project level, results are tracked during implementation and evaluated upon project completion. While the tracking tools will be utilized during implementation it is important that the three major phases in a project’s evolution are linked:  (i) project design; (ii) implementation; and (iii) evaluation. Breaking down the project cycle into these three phases, highlights the learning and management aspect of the RBM frame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CB21-C95C-4438-B91F-8129684E0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highest level of RBM is the institution as a whole.  The lower levels should contribute towards achieving the overall goal of the GEF. The longer-term expected impact of achieving “global environmental benefits” at an institutional level cannot be monitored on a consistent, periodic basis. If however, the GEF monitors how outputs and outcomes at the project and program level are progressing towards achieving global environmental benefits, a more in-depth study, analyzing causes and effects of GEF interventions can more accurately be carried out by an eval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, the RBM system is part of a process intended to equip the GEF with the tools needed to assess how the GEF interventions contribute toward its overall go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5F1-D8FC-4AC2-BBBF-347D70A5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7227-1328-4B3D-8B9E-A9D766F4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AB91-B9F7-4931-BC1C-D2F321F6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CC50-8E2E-43A8-9869-0C13AE76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9BEB-4FA3-40BE-928F-7B12C24A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6C30-0C50-42F8-AEC9-904785D5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9E94-56AC-480B-826B-B3259461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C947-43C8-4C24-8B64-E90570DA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DC74-18B7-48EE-8A8F-358DA8BC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FDEA-DC73-426B-869E-3094C402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6A0F-3697-4BF9-B060-7BB2C33B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23F-09BE-425A-A078-08C3DB26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46CA-1389-441E-B2E5-C1B1D702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EE5E-4F6D-4F67-A7BB-CAF322F4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69EF-5B37-48CE-82CA-2C1517DE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C659-CEB8-4DD3-A8A5-6E5D41B3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2765-595C-4318-82F3-E90EA28D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7738E-3E7F-450F-A2BB-0E33919349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C1F86-E6D7-46AF-A787-2C404F8C5A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F98E7-0892-4959-AD30-BAD5AF0B21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D0ED4-A6C8-4984-8EDC-E1F38FF524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48040-03DF-408B-8C99-8E9BEBD835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74F5-678F-4E60-8B6C-844E7B0C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2B998-67E6-4FF3-BEE4-C6A3580B17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6A985-83A9-43F1-BAAB-B2615C4975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23925-6A2C-48E6-AE09-9D8716F21F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6300A-8AA2-42BE-8F68-3C1BC2FB62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0A6E0-4B52-49FE-82A2-3E25A089CD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EE24D-1956-468D-BE38-C72AA58310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E3A83-82C4-4190-AD7A-1DBE3C2D6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A4F1-8202-450D-AC84-D2B7900C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37C-E6A1-4A4E-BA14-E52DDB49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725-C3F7-400E-946D-068EEE8A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2C27-1804-41B3-AB00-9A6C7422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CC0-4D8D-4187-A7A2-EAAE75B5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E8A-63A4-4319-ACBE-D38A28EA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B645-17E1-498D-A7ED-ABAEE8F72D3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79B3-71C2-4263-8DEB-61B4E7CE5E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2C59-663A-4AE8-97C3-224F655D877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FA8C-D18A-45FF-8B1A-9EE95C5B26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42AD-9018-4F1D-8ED5-68DC84AEDAFF}" type="slidenum"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6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90476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2800" spc="-1" strike="noStrike">
                <a:solidFill>
                  <a:srgbClr val="376b4c"/>
                </a:solidFill>
                <a:latin typeface="Calibri"/>
                <a:cs typeface="Simplified Arabic"/>
              </a:rPr>
              <a:t>المتابعة والتقييم في صندوق البيئة العالمية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586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uan Jose Portill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خبير أول في عمليات التقي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حلقة عمل المجموعة الموسّ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أردن من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15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 إلى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17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 فبراير/شباط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2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012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924200" cy="14479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30492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قرير المتابعة السنوي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AMR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) هو أداة الإبلاغ الرئيسية بالنسبة لنظام المتابعة في الأمانة العامة لصندوق البيئة العالم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عطي لمحة عامة عن عافية حافظة عمليات الصندوق الجاري تنفيذها من المشروعات في كل من سنواته الما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ستند هذا التقرير إلى التقارير عن تنفيذ المشروعات التي ترفعها الهيئات المسؤولة عن التنفي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3"/>
          <p:cNvSpPr/>
          <p:nvPr/>
        </p:nvSpPr>
        <p:spPr>
          <a:xfrm>
            <a:off x="6934320" y="6248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3F34-8B12-428A-B06B-1A15576228B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c00000"/>
                </a:solidFill>
                <a:latin typeface="Calibri"/>
                <a:cs typeface="Simplified Arabic"/>
              </a:rPr>
              <a:t>سياسة المتابعة والتقييم في صندوق البيئة العالمية – </a:t>
            </a:r>
            <a:r>
              <a:rPr b="1" lang="ar-SY" sz="3600" spc="-1" strike="noStrike">
                <a:solidFill>
                  <a:srgbClr val="c00000"/>
                </a:solidFill>
                <a:latin typeface="Calibri"/>
                <a:ea typeface="Simplified Arabic"/>
              </a:rPr>
              <a:t>5</a:t>
            </a:r>
            <a:r>
              <a:rPr b="1" lang="ar-SY" sz="3600" spc="-1" strike="noStrike">
                <a:solidFill>
                  <a:srgbClr val="c00000"/>
                </a:solidFill>
                <a:latin typeface="Calibri"/>
                <a:ea typeface="Simplified Arabic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380880" y="16765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9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سياسة الجديدة التي وافق عليها مجلس صندوق البيئة العالمية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900" spc="-1" strike="noStrike">
                <a:solidFill>
                  <a:srgbClr val="c00000"/>
                </a:solidFill>
                <a:latin typeface="Calibri"/>
                <a:cs typeface="Simplified Arabic"/>
              </a:rPr>
              <a:t>في نوفمبر/تشرين الثاني </a:t>
            </a:r>
            <a:r>
              <a:rPr b="1" lang="ar-SY" sz="2900" spc="-1" strike="noStrike">
                <a:solidFill>
                  <a:srgbClr val="c00000"/>
                </a:solidFill>
                <a:latin typeface="Calibri"/>
                <a:ea typeface="Simplified Arabic"/>
              </a:rPr>
              <a:t>2010</a:t>
            </a:r>
            <a:r>
              <a:rPr b="1" lang="ar-SY" sz="2900" spc="-1" strike="noStrike">
                <a:solidFill>
                  <a:srgbClr val="c00000"/>
                </a:solidFill>
                <a:latin typeface="Calibri"/>
                <a:ea typeface="Simplified Arabic"/>
              </a:rPr>
              <a:t> </a:t>
            </a:r>
            <a:br>
              <a:rPr sz="4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1146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2952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مرجعية للإدارة المستندة إلى تحقيق النتائج في صندوق البيئة العالمية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Simplified Arabic"/>
              </a:rPr>
              <a:t>(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Simplified Arabic"/>
              </a:rPr>
              <a:t>RBM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Simplified Arabi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إيضاح الأدوار والمسؤوليات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زيادة قوة دوْر </a:t>
            </a:r>
            <a:r>
              <a:rPr b="1" lang="ar-SY" sz="2600" spc="-1" strike="noStrike">
                <a:solidFill>
                  <a:srgbClr val="c00000"/>
                </a:solidFill>
                <a:latin typeface="Calibri"/>
                <a:cs typeface="Simplified Arabic"/>
              </a:rPr>
              <a:t>مراكز تنسيق </a:t>
            </a:r>
            <a:r>
              <a:rPr b="0" lang="ar-SY" sz="2600" spc="-1" strike="noStrike">
                <a:solidFill>
                  <a:srgbClr val="663300"/>
                </a:solidFill>
                <a:latin typeface="Calibri"/>
                <a:cs typeface="Simplified Arabic"/>
              </a:rPr>
              <a:t>عمليات الصندوق في المتابعة والتقيي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دعيم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r>
              <a:rPr b="1" lang="ar-SY" sz="2600" spc="-1" strike="noStrike">
                <a:solidFill>
                  <a:srgbClr val="c00000"/>
                </a:solidFill>
                <a:latin typeface="Calibri"/>
                <a:cs typeface="Simplified Arabic"/>
              </a:rPr>
              <a:t>تبادل المعرفة </a:t>
            </a: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والتعلّ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ضمين البرامج والمشروعات المشتركة التنفي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بيانات الأساسية بشأن المتابعة والتقييم </a:t>
            </a: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جري وضعها بمصادقة من المسؤول التنفيذي الأول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متطلبات الدنيا الجديدة </a:t>
            </a: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بشأن إشراك مراكز تنسيق عمليات الصندوق في أنشطة المتابعة والتقييم على مستوى المشروعات والبرامج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2528-ED6C-4259-95D4-E44EA7E865F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148104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F95C-68C6-44AF-8148-98ABA897B7D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Object 2" descr=""/>
          <p:cNvPicPr/>
          <p:nvPr/>
        </p:nvPicPr>
        <p:blipFill>
          <a:blip r:embed="rId2"/>
          <a:stretch/>
        </p:blipFill>
        <p:spPr>
          <a:xfrm>
            <a:off x="2133720" y="2209680"/>
            <a:ext cx="6705360" cy="421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ُشترط جواب الإدارة المعنية على كافة التقييمات والتقارير عن الأداء التي يرفعها مكتب التقييم إلى مجلس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عند اتخاذ القرارات اللازمة، يأخذ مجلس الصندوق في الاعتبار كلاً من التقييم وجواب الإدارة المعن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قارير مكتب التقييم في الصندوق عن تنفيذ القرارات سنوياً (سجل إجراءات الإدارة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في حالة تقييمات حوافظ عمليات البلدان، تسنح للبلدان فرصة الإعراب لمجلس الصندوق عن وجهات نظرها أيض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2E0B-75CC-44A2-B281-E00758A05A0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905120" y="10666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11360" indent="-7113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تابعة والتقييم يسهمان في بناء المعرفة وتحسين المؤسس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يجب أن تكون النتائج والدروس المستفادة متاحة للجماهير المستهدفة بطريقة سهل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تقارير التقييم يجب أن تكون خاضعة لاستراتيجية تعميم ديناميك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بادل المعرفة يُمكّن الشركاء من الاستفادة من الدروس المستفادة من الخبرة العمل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غرض إدارة المعرفة في صندوق البيئة العالمية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تشجيع تقاليد التعلّ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تطبيق الدروس المستفاد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إتاحة معلومات تقييمية لفائدة الأنشطة الجديد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4A14-6042-4D57-89E7-91699967FA5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Oval Callout 4"/>
          <p:cNvGrpSpPr/>
          <p:nvPr/>
        </p:nvGrpSpPr>
        <p:grpSpPr>
          <a:xfrm>
            <a:off x="128520" y="268200"/>
            <a:ext cx="2816280" cy="1859040"/>
            <a:chOff x="128520" y="268200"/>
            <a:chExt cx="2816280" cy="1859040"/>
          </a:xfrm>
        </p:grpSpPr>
        <p:pic>
          <p:nvPicPr>
            <p:cNvPr id="222" name="Oval Callout 4" descr=""/>
            <p:cNvPicPr/>
            <p:nvPr/>
          </p:nvPicPr>
          <p:blipFill>
            <a:blip r:embed="rId2"/>
            <a:stretch/>
          </p:blipFill>
          <p:spPr>
            <a:xfrm>
              <a:off x="128520" y="268200"/>
              <a:ext cx="28162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rot="20626200">
              <a:off x="790200" y="571680"/>
              <a:ext cx="17938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SY" sz="18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إدارة المعرفة هي عملية لتحسين الأداء من خلال التعلّم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D9D6-E5E5-4E10-BB50-7300B5B587E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1219320" y="907920"/>
            <a:ext cx="7451280" cy="5797800"/>
            <a:chOff x="1219320" y="907920"/>
            <a:chExt cx="7451280" cy="5797800"/>
          </a:xfrm>
        </p:grpSpPr>
        <p:sp>
          <p:nvSpPr>
            <p:cNvPr id="227" name="AutoShape 3"/>
            <p:cNvSpPr/>
            <p:nvPr/>
          </p:nvSpPr>
          <p:spPr>
            <a:xfrm>
              <a:off x="1219320" y="914400"/>
              <a:ext cx="7391160" cy="57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5"/>
            <p:cNvSpPr/>
            <p:nvPr/>
          </p:nvSpPr>
          <p:spPr>
            <a:xfrm>
              <a:off x="5285160" y="13334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tangle 6"/>
            <p:cNvSpPr/>
            <p:nvPr/>
          </p:nvSpPr>
          <p:spPr>
            <a:xfrm>
              <a:off x="8641080" y="644688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0" name="Picture 7" descr=""/>
            <p:cNvPicPr/>
            <p:nvPr/>
          </p:nvPicPr>
          <p:blipFill>
            <a:blip r:embed="rId2"/>
            <a:stretch/>
          </p:blipFill>
          <p:spPr>
            <a:xfrm>
              <a:off x="1793880" y="1627200"/>
              <a:ext cx="6813720" cy="47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8" descr=""/>
            <p:cNvPicPr/>
            <p:nvPr/>
          </p:nvPicPr>
          <p:blipFill>
            <a:blip r:embed="rId3"/>
            <a:stretch/>
          </p:blipFill>
          <p:spPr>
            <a:xfrm>
              <a:off x="1793880" y="1627200"/>
              <a:ext cx="6813720" cy="474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Group 11"/>
            <p:cNvGrpSpPr/>
            <p:nvPr/>
          </p:nvGrpSpPr>
          <p:grpSpPr>
            <a:xfrm>
              <a:off x="6802560" y="3228840"/>
              <a:ext cx="620640" cy="254160"/>
              <a:chOff x="6802560" y="3228840"/>
              <a:chExt cx="620640" cy="254160"/>
            </a:xfrm>
          </p:grpSpPr>
          <p:sp>
            <p:nvSpPr>
              <p:cNvPr id="233" name="Rectangle 9"/>
              <p:cNvSpPr/>
              <p:nvPr/>
            </p:nvSpPr>
            <p:spPr>
              <a:xfrm>
                <a:off x="6802560" y="3228840"/>
                <a:ext cx="62064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Rectangle 10"/>
              <p:cNvSpPr/>
              <p:nvPr/>
            </p:nvSpPr>
            <p:spPr>
              <a:xfrm>
                <a:off x="6802560" y="3228840"/>
                <a:ext cx="620640" cy="254160"/>
              </a:xfrm>
              <a:prstGeom prst="rect">
                <a:avLst/>
              </a:prstGeom>
              <a:noFill/>
              <a:ln cap="rnd"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5" name="Rectangle 12"/>
            <p:cNvSpPr/>
            <p:nvPr/>
          </p:nvSpPr>
          <p:spPr>
            <a:xfrm>
              <a:off x="6819840" y="327816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100" spc="-1" strike="noStrike">
                  <a:solidFill>
                    <a:srgbClr val="008000"/>
                  </a:solidFill>
                  <a:latin typeface="Calibri"/>
                  <a:cs typeface="Arial"/>
                </a:rPr>
                <a:t>المشورة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Rectangle 13"/>
            <p:cNvSpPr/>
            <p:nvPr/>
          </p:nvSpPr>
          <p:spPr>
            <a:xfrm>
              <a:off x="7340760" y="32781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7" name="Group 16"/>
            <p:cNvGrpSpPr/>
            <p:nvPr/>
          </p:nvGrpSpPr>
          <p:grpSpPr>
            <a:xfrm>
              <a:off x="2855880" y="1660680"/>
              <a:ext cx="782640" cy="255600"/>
              <a:chOff x="2855880" y="1660680"/>
              <a:chExt cx="782640" cy="255600"/>
            </a:xfrm>
          </p:grpSpPr>
          <p:sp>
            <p:nvSpPr>
              <p:cNvPr id="238" name="Rectangle 14"/>
              <p:cNvSpPr/>
              <p:nvPr/>
            </p:nvSpPr>
            <p:spPr>
              <a:xfrm>
                <a:off x="2855880" y="1660680"/>
                <a:ext cx="782640" cy="255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Rectangle 15"/>
              <p:cNvSpPr/>
              <p:nvPr/>
            </p:nvSpPr>
            <p:spPr>
              <a:xfrm>
                <a:off x="2855880" y="1660680"/>
                <a:ext cx="782640" cy="255600"/>
              </a:xfrm>
              <a:prstGeom prst="rect">
                <a:avLst/>
              </a:prstGeom>
              <a:noFill/>
              <a:ln cap="rnd"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0" name="Rectangle 18"/>
            <p:cNvSpPr/>
            <p:nvPr/>
          </p:nvSpPr>
          <p:spPr>
            <a:xfrm>
              <a:off x="3511800" y="1709640"/>
              <a:ext cx="4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Rectangle 19"/>
            <p:cNvSpPr/>
            <p:nvPr/>
          </p:nvSpPr>
          <p:spPr>
            <a:xfrm>
              <a:off x="3557880" y="17096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2" name="Group 22"/>
            <p:cNvGrpSpPr/>
            <p:nvPr/>
          </p:nvGrpSpPr>
          <p:grpSpPr>
            <a:xfrm>
              <a:off x="4309920" y="1068480"/>
              <a:ext cx="865440" cy="236520"/>
              <a:chOff x="4309920" y="1068480"/>
              <a:chExt cx="865440" cy="236520"/>
            </a:xfrm>
          </p:grpSpPr>
          <p:sp>
            <p:nvSpPr>
              <p:cNvPr id="243" name="Rectangle 20"/>
              <p:cNvSpPr/>
              <p:nvPr/>
            </p:nvSpPr>
            <p:spPr>
              <a:xfrm>
                <a:off x="4309920" y="1068480"/>
                <a:ext cx="865440" cy="23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Rectangle 21"/>
              <p:cNvSpPr/>
              <p:nvPr/>
            </p:nvSpPr>
            <p:spPr>
              <a:xfrm>
                <a:off x="4309920" y="1068480"/>
                <a:ext cx="865440" cy="236520"/>
              </a:xfrm>
              <a:prstGeom prst="rect">
                <a:avLst/>
              </a:prstGeom>
              <a:noFill/>
              <a:ln cap="rnd"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5" name="Rectangle 24"/>
            <p:cNvSpPr/>
            <p:nvPr/>
          </p:nvSpPr>
          <p:spPr>
            <a:xfrm>
              <a:off x="5102280" y="11174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Oval 25"/>
            <p:cNvSpPr/>
            <p:nvPr/>
          </p:nvSpPr>
          <p:spPr>
            <a:xfrm>
              <a:off x="5479920" y="2954160"/>
              <a:ext cx="884520" cy="1130400"/>
            </a:xfrm>
            <a:prstGeom prst="ellipse">
              <a:avLst/>
            </a:prstGeom>
            <a:solidFill>
              <a:srgbClr val="62b28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Rectangle 26"/>
            <p:cNvSpPr/>
            <p:nvPr/>
          </p:nvSpPr>
          <p:spPr>
            <a:xfrm>
              <a:off x="5638680" y="3121200"/>
              <a:ext cx="5079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ffffff"/>
                  </a:solidFill>
                  <a:latin typeface="Arial"/>
                  <a:cs typeface="Arial"/>
                </a:rPr>
                <a:t>مكتب التقييم، والشركاء في التقييم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Rectangle 31"/>
            <p:cNvSpPr/>
            <p:nvPr/>
          </p:nvSpPr>
          <p:spPr>
            <a:xfrm>
              <a:off x="6198480" y="37130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Group 82"/>
            <p:cNvGrpSpPr/>
            <p:nvPr/>
          </p:nvGrpSpPr>
          <p:grpSpPr>
            <a:xfrm>
              <a:off x="3179880" y="966960"/>
              <a:ext cx="1644480" cy="1120680"/>
              <a:chOff x="3179880" y="966960"/>
              <a:chExt cx="1644480" cy="1120680"/>
            </a:xfrm>
          </p:grpSpPr>
          <p:sp>
            <p:nvSpPr>
              <p:cNvPr id="250" name="Rectangle 32"/>
              <p:cNvSpPr/>
              <p:nvPr/>
            </p:nvSpPr>
            <p:spPr>
              <a:xfrm>
                <a:off x="3193920" y="992160"/>
                <a:ext cx="1630440" cy="1095480"/>
              </a:xfrm>
              <a:prstGeom prst="rect">
                <a:avLst/>
              </a:prstGeom>
              <a:solidFill>
                <a:srgbClr val="62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Freeform 33"/>
              <p:cNvSpPr/>
              <p:nvPr/>
            </p:nvSpPr>
            <p:spPr>
              <a:xfrm>
                <a:off x="3195720" y="992160"/>
                <a:ext cx="1627200" cy="1093680"/>
              </a:xfrm>
              <a:custGeom>
                <a:avLst/>
                <a:gdLst/>
                <a:ahLst/>
                <a:rect l="l" t="t" r="r" b="b"/>
                <a:pathLst>
                  <a:path w="1025" h="689">
                    <a:moveTo>
                      <a:pt x="512" y="0"/>
                    </a:moveTo>
                    <a:lnTo>
                      <a:pt x="0" y="344"/>
                    </a:lnTo>
                    <a:lnTo>
                      <a:pt x="512" y="689"/>
                    </a:lnTo>
                    <a:lnTo>
                      <a:pt x="1025" y="344"/>
                    </a:lnTo>
                    <a:lnTo>
                      <a:pt x="5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Rectangle 34"/>
              <p:cNvSpPr/>
              <p:nvPr/>
            </p:nvSpPr>
            <p:spPr>
              <a:xfrm>
                <a:off x="3193920" y="992160"/>
                <a:ext cx="1630440" cy="1095480"/>
              </a:xfrm>
              <a:prstGeom prst="rect">
                <a:avLst/>
              </a:prstGeom>
              <a:solidFill>
                <a:srgbClr val="62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Rectangle 35"/>
              <p:cNvSpPr/>
              <p:nvPr/>
            </p:nvSpPr>
            <p:spPr>
              <a:xfrm>
                <a:off x="3179880" y="966960"/>
                <a:ext cx="162864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Rectangle 36"/>
              <p:cNvSpPr/>
              <p:nvPr/>
            </p:nvSpPr>
            <p:spPr>
              <a:xfrm>
                <a:off x="3179880" y="1055520"/>
                <a:ext cx="1628640" cy="38160"/>
              </a:xfrm>
              <a:prstGeom prst="rect">
                <a:avLst/>
              </a:prstGeom>
              <a:solidFill>
                <a:srgbClr val="fefe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Rectangle 37"/>
              <p:cNvSpPr/>
              <p:nvPr/>
            </p:nvSpPr>
            <p:spPr>
              <a:xfrm>
                <a:off x="3179880" y="1093680"/>
                <a:ext cx="1628640" cy="60480"/>
              </a:xfrm>
              <a:prstGeom prst="rect">
                <a:avLst/>
              </a:prstGeom>
              <a:solidFill>
                <a:srgbClr val="fe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Rectangle 38"/>
              <p:cNvSpPr/>
              <p:nvPr/>
            </p:nvSpPr>
            <p:spPr>
              <a:xfrm>
                <a:off x="3179880" y="1154160"/>
                <a:ext cx="1628640" cy="25200"/>
              </a:xfrm>
              <a:prstGeom prst="rect">
                <a:avLst/>
              </a:prstGeom>
              <a:solidFill>
                <a:srgbClr val="fdfb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Rectangle 39"/>
              <p:cNvSpPr/>
              <p:nvPr/>
            </p:nvSpPr>
            <p:spPr>
              <a:xfrm>
                <a:off x="3179880" y="1179360"/>
                <a:ext cx="1628640" cy="42840"/>
              </a:xfrm>
              <a:prstGeom prst="rect">
                <a:avLst/>
              </a:prstGeom>
              <a:solidFill>
                <a:srgbClr val="fd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Rectangle 40"/>
              <p:cNvSpPr/>
              <p:nvPr/>
            </p:nvSpPr>
            <p:spPr>
              <a:xfrm>
                <a:off x="3179880" y="1222200"/>
                <a:ext cx="1628640" cy="28800"/>
              </a:xfrm>
              <a:prstGeom prst="rect">
                <a:avLst/>
              </a:prstGeom>
              <a:solidFill>
                <a:srgbClr val="fc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Rectangle 41"/>
              <p:cNvSpPr/>
              <p:nvPr/>
            </p:nvSpPr>
            <p:spPr>
              <a:xfrm>
                <a:off x="3179880" y="1251000"/>
                <a:ext cx="1628640" cy="22320"/>
              </a:xfrm>
              <a:prstGeom prst="rect">
                <a:avLst/>
              </a:prstGeom>
              <a:solidFill>
                <a:srgbClr val="fbf6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Rectangle 42"/>
              <p:cNvSpPr/>
              <p:nvPr/>
            </p:nvSpPr>
            <p:spPr>
              <a:xfrm>
                <a:off x="3179880" y="1273320"/>
                <a:ext cx="1628640" cy="27000"/>
              </a:xfrm>
              <a:prstGeom prst="rect">
                <a:avLst/>
              </a:prstGeom>
              <a:solidFill>
                <a:srgbClr val="fb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Rectangle 43"/>
              <p:cNvSpPr/>
              <p:nvPr/>
            </p:nvSpPr>
            <p:spPr>
              <a:xfrm>
                <a:off x="3179880" y="1300320"/>
                <a:ext cx="1628640" cy="15840"/>
              </a:xfrm>
              <a:prstGeom prst="rect">
                <a:avLst/>
              </a:prstGeom>
              <a:solidFill>
                <a:srgbClr val="faf3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Rectangle 44"/>
              <p:cNvSpPr/>
              <p:nvPr/>
            </p:nvSpPr>
            <p:spPr>
              <a:xfrm>
                <a:off x="3179880" y="1316160"/>
                <a:ext cx="1628640" cy="20520"/>
              </a:xfrm>
              <a:prstGeom prst="rect">
                <a:avLst/>
              </a:prstGeom>
              <a:solidFill>
                <a:srgbClr val="f9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Rectangle 45"/>
              <p:cNvSpPr/>
              <p:nvPr/>
            </p:nvSpPr>
            <p:spPr>
              <a:xfrm>
                <a:off x="3179880" y="1336680"/>
                <a:ext cx="1628640" cy="17280"/>
              </a:xfrm>
              <a:prstGeom prst="rect">
                <a:avLst/>
              </a:prstGeom>
              <a:solidFill>
                <a:srgbClr val="f9f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Rectangle 46"/>
              <p:cNvSpPr/>
              <p:nvPr/>
            </p:nvSpPr>
            <p:spPr>
              <a:xfrm>
                <a:off x="3179880" y="1353960"/>
                <a:ext cx="1628640" cy="20880"/>
              </a:xfrm>
              <a:prstGeom prst="rect">
                <a:avLst/>
              </a:prstGeom>
              <a:solidFill>
                <a:srgbClr val="f8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Rectangle 47"/>
              <p:cNvSpPr/>
              <p:nvPr/>
            </p:nvSpPr>
            <p:spPr>
              <a:xfrm>
                <a:off x="3179880" y="1374840"/>
                <a:ext cx="1628640" cy="22320"/>
              </a:xfrm>
              <a:prstGeom prst="rect">
                <a:avLst/>
              </a:prstGeom>
              <a:solidFill>
                <a:srgbClr val="f8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Rectangle 48"/>
              <p:cNvSpPr/>
              <p:nvPr/>
            </p:nvSpPr>
            <p:spPr>
              <a:xfrm>
                <a:off x="3179880" y="1397160"/>
                <a:ext cx="1628640" cy="12600"/>
              </a:xfrm>
              <a:prstGeom prst="rect">
                <a:avLst/>
              </a:prstGeom>
              <a:solidFill>
                <a:srgbClr val="f7e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Rectangle 49"/>
              <p:cNvSpPr/>
              <p:nvPr/>
            </p:nvSpPr>
            <p:spPr>
              <a:xfrm>
                <a:off x="3179880" y="1409760"/>
                <a:ext cx="1628640" cy="17280"/>
              </a:xfrm>
              <a:prstGeom prst="rect">
                <a:avLst/>
              </a:prstGeom>
              <a:solidFill>
                <a:srgbClr val="f6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Rectangle 50"/>
              <p:cNvSpPr/>
              <p:nvPr/>
            </p:nvSpPr>
            <p:spPr>
              <a:xfrm>
                <a:off x="3179880" y="1427040"/>
                <a:ext cx="1628640" cy="12960"/>
              </a:xfrm>
              <a:prstGeom prst="rect">
                <a:avLst/>
              </a:prstGeom>
              <a:solidFill>
                <a:srgbClr val="f6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Rectangle 51"/>
              <p:cNvSpPr/>
              <p:nvPr/>
            </p:nvSpPr>
            <p:spPr>
              <a:xfrm>
                <a:off x="3179880" y="1440000"/>
                <a:ext cx="1628640" cy="17280"/>
              </a:xfrm>
              <a:prstGeom prst="rect">
                <a:avLst/>
              </a:prstGeom>
              <a:solidFill>
                <a:srgbClr val="f5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Rectangle 52"/>
              <p:cNvSpPr/>
              <p:nvPr/>
            </p:nvSpPr>
            <p:spPr>
              <a:xfrm>
                <a:off x="3179880" y="1457280"/>
                <a:ext cx="1628640" cy="12600"/>
              </a:xfrm>
              <a:prstGeom prst="rect">
                <a:avLst/>
              </a:prstGeom>
              <a:solidFill>
                <a:srgbClr val="f5e5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Rectangle 53"/>
              <p:cNvSpPr/>
              <p:nvPr/>
            </p:nvSpPr>
            <p:spPr>
              <a:xfrm>
                <a:off x="3179880" y="1469880"/>
                <a:ext cx="1628640" cy="17640"/>
              </a:xfrm>
              <a:prstGeom prst="rect">
                <a:avLst/>
              </a:prstGeom>
              <a:solidFill>
                <a:srgbClr val="f4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Rectangle 54"/>
              <p:cNvSpPr/>
              <p:nvPr/>
            </p:nvSpPr>
            <p:spPr>
              <a:xfrm>
                <a:off x="3179880" y="1487520"/>
                <a:ext cx="1628640" cy="11160"/>
              </a:xfrm>
              <a:prstGeom prst="rect">
                <a:avLst/>
              </a:prstGeom>
              <a:solidFill>
                <a:srgbClr val="f3e2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Rectangle 55"/>
              <p:cNvSpPr/>
              <p:nvPr/>
            </p:nvSpPr>
            <p:spPr>
              <a:xfrm>
                <a:off x="3179880" y="1498680"/>
                <a:ext cx="1628640" cy="17280"/>
              </a:xfrm>
              <a:prstGeom prst="rect">
                <a:avLst/>
              </a:prstGeom>
              <a:solidFill>
                <a:srgbClr val="f3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Rectangle 56"/>
              <p:cNvSpPr/>
              <p:nvPr/>
            </p:nvSpPr>
            <p:spPr>
              <a:xfrm>
                <a:off x="3179880" y="1515960"/>
                <a:ext cx="1628640" cy="14400"/>
              </a:xfrm>
              <a:prstGeom prst="rect">
                <a:avLst/>
              </a:prstGeom>
              <a:solidFill>
                <a:srgbClr val="f2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Rectangle 57"/>
              <p:cNvSpPr/>
              <p:nvPr/>
            </p:nvSpPr>
            <p:spPr>
              <a:xfrm>
                <a:off x="3179880" y="1530360"/>
                <a:ext cx="1628640" cy="12600"/>
              </a:xfrm>
              <a:prstGeom prst="rect">
                <a:avLst/>
              </a:prstGeom>
              <a:solidFill>
                <a:srgbClr val="f2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tangle 58"/>
              <p:cNvSpPr/>
              <p:nvPr/>
            </p:nvSpPr>
            <p:spPr>
              <a:xfrm>
                <a:off x="3179880" y="1542960"/>
                <a:ext cx="1628640" cy="11160"/>
              </a:xfrm>
              <a:prstGeom prst="rect">
                <a:avLst/>
              </a:prstGeom>
              <a:solidFill>
                <a:srgbClr val="f1d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Rectangle 59"/>
              <p:cNvSpPr/>
              <p:nvPr/>
            </p:nvSpPr>
            <p:spPr>
              <a:xfrm>
                <a:off x="3179880" y="1554120"/>
                <a:ext cx="1628640" cy="14400"/>
              </a:xfrm>
              <a:prstGeom prst="rect">
                <a:avLst/>
              </a:prstGeom>
              <a:solidFill>
                <a:srgbClr val="f1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Rectangle 60"/>
              <p:cNvSpPr/>
              <p:nvPr/>
            </p:nvSpPr>
            <p:spPr>
              <a:xfrm>
                <a:off x="3179880" y="1568520"/>
                <a:ext cx="1628640" cy="17280"/>
              </a:xfrm>
              <a:prstGeom prst="rect">
                <a:avLst/>
              </a:prstGeom>
              <a:solidFill>
                <a:srgbClr val="f0d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Rectangle 61"/>
              <p:cNvSpPr/>
              <p:nvPr/>
            </p:nvSpPr>
            <p:spPr>
              <a:xfrm>
                <a:off x="3179880" y="1585800"/>
                <a:ext cx="1628640" cy="12960"/>
              </a:xfrm>
              <a:prstGeom prst="rect">
                <a:avLst/>
              </a:prstGeom>
              <a:solidFill>
                <a:srgbClr val="f0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Rectangle 62"/>
              <p:cNvSpPr/>
              <p:nvPr/>
            </p:nvSpPr>
            <p:spPr>
              <a:xfrm>
                <a:off x="3179880" y="1598760"/>
                <a:ext cx="1628640" cy="12600"/>
              </a:xfrm>
              <a:prstGeom prst="rect">
                <a:avLst/>
              </a:prstGeom>
              <a:solidFill>
                <a:srgbClr val="efd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Rectangle 63"/>
              <p:cNvSpPr/>
              <p:nvPr/>
            </p:nvSpPr>
            <p:spPr>
              <a:xfrm>
                <a:off x="3179880" y="1611360"/>
                <a:ext cx="1628640" cy="11160"/>
              </a:xfrm>
              <a:prstGeom prst="rect">
                <a:avLst/>
              </a:prstGeom>
              <a:solidFill>
                <a:srgbClr val="ef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Rectangle 64"/>
              <p:cNvSpPr/>
              <p:nvPr/>
            </p:nvSpPr>
            <p:spPr>
              <a:xfrm>
                <a:off x="3179880" y="1622520"/>
                <a:ext cx="1628640" cy="19080"/>
              </a:xfrm>
              <a:prstGeom prst="rect">
                <a:avLst/>
              </a:prstGeom>
              <a:solidFill>
                <a:srgbClr val="eed3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Rectangle 65"/>
              <p:cNvSpPr/>
              <p:nvPr/>
            </p:nvSpPr>
            <p:spPr>
              <a:xfrm>
                <a:off x="3179880" y="1641600"/>
                <a:ext cx="1628640" cy="12600"/>
              </a:xfrm>
              <a:prstGeom prst="rect">
                <a:avLst/>
              </a:prstGeom>
              <a:solidFill>
                <a:srgbClr val="ee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Rectangle 66"/>
              <p:cNvSpPr/>
              <p:nvPr/>
            </p:nvSpPr>
            <p:spPr>
              <a:xfrm>
                <a:off x="3179880" y="1654200"/>
                <a:ext cx="1628640" cy="17280"/>
              </a:xfrm>
              <a:prstGeom prst="rect">
                <a:avLst/>
              </a:prstGeom>
              <a:solidFill>
                <a:srgbClr val="edd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Rectangle 67"/>
              <p:cNvSpPr/>
              <p:nvPr/>
            </p:nvSpPr>
            <p:spPr>
              <a:xfrm>
                <a:off x="3179880" y="1671480"/>
                <a:ext cx="1628640" cy="11160"/>
              </a:xfrm>
              <a:prstGeom prst="rect">
                <a:avLst/>
              </a:prstGeom>
              <a:solidFill>
                <a:srgbClr val="ec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Rectangle 68"/>
              <p:cNvSpPr/>
              <p:nvPr/>
            </p:nvSpPr>
            <p:spPr>
              <a:xfrm>
                <a:off x="3179880" y="1682640"/>
                <a:ext cx="1628640" cy="17640"/>
              </a:xfrm>
              <a:prstGeom prst="rect">
                <a:avLst/>
              </a:prstGeom>
              <a:solidFill>
                <a:srgbClr val="ecc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tangle 69"/>
              <p:cNvSpPr/>
              <p:nvPr/>
            </p:nvSpPr>
            <p:spPr>
              <a:xfrm>
                <a:off x="3179880" y="1700280"/>
                <a:ext cx="1628640" cy="12600"/>
              </a:xfrm>
              <a:prstGeom prst="rect">
                <a:avLst/>
              </a:prstGeom>
              <a:solidFill>
                <a:srgbClr val="e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Rectangle 70"/>
              <p:cNvSpPr/>
              <p:nvPr/>
            </p:nvSpPr>
            <p:spPr>
              <a:xfrm>
                <a:off x="3179880" y="1712880"/>
                <a:ext cx="1628640" cy="20520"/>
              </a:xfrm>
              <a:prstGeom prst="rect">
                <a:avLst/>
              </a:prstGeom>
              <a:solidFill>
                <a:srgbClr val="ebc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Rectangle 71"/>
              <p:cNvSpPr/>
              <p:nvPr/>
            </p:nvSpPr>
            <p:spPr>
              <a:xfrm>
                <a:off x="3179880" y="1733400"/>
                <a:ext cx="1628640" cy="22320"/>
              </a:xfrm>
              <a:prstGeom prst="rect">
                <a:avLst/>
              </a:prstGeom>
              <a:solidFill>
                <a:srgbClr val="eac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Rectangle 72"/>
              <p:cNvSpPr/>
              <p:nvPr/>
            </p:nvSpPr>
            <p:spPr>
              <a:xfrm>
                <a:off x="3179880" y="1755720"/>
                <a:ext cx="1628640" cy="17640"/>
              </a:xfrm>
              <a:prstGeom prst="rect">
                <a:avLst/>
              </a:prstGeom>
              <a:solidFill>
                <a:srgbClr val="ea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Rectangle 73"/>
              <p:cNvSpPr/>
              <p:nvPr/>
            </p:nvSpPr>
            <p:spPr>
              <a:xfrm>
                <a:off x="3179880" y="1773360"/>
                <a:ext cx="1628640" cy="20520"/>
              </a:xfrm>
              <a:prstGeom prst="rect">
                <a:avLst/>
              </a:prstGeom>
              <a:solidFill>
                <a:srgbClr val="e9c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Rectangle 74"/>
              <p:cNvSpPr/>
              <p:nvPr/>
            </p:nvSpPr>
            <p:spPr>
              <a:xfrm>
                <a:off x="3179880" y="1793880"/>
                <a:ext cx="1628640" cy="17280"/>
              </a:xfrm>
              <a:prstGeom prst="rect">
                <a:avLst/>
              </a:prstGeom>
              <a:solidFill>
                <a:srgbClr val="e9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tangle 75"/>
              <p:cNvSpPr/>
              <p:nvPr/>
            </p:nvSpPr>
            <p:spPr>
              <a:xfrm>
                <a:off x="3179880" y="1811160"/>
                <a:ext cx="1628640" cy="27000"/>
              </a:xfrm>
              <a:prstGeom prst="rect">
                <a:avLst/>
              </a:prstGeom>
              <a:solidFill>
                <a:srgbClr val="e8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Rectangle 76"/>
              <p:cNvSpPr/>
              <p:nvPr/>
            </p:nvSpPr>
            <p:spPr>
              <a:xfrm>
                <a:off x="3179880" y="1838160"/>
                <a:ext cx="1628640" cy="19080"/>
              </a:xfrm>
              <a:prstGeom prst="rect">
                <a:avLst/>
              </a:prstGeom>
              <a:solidFill>
                <a:srgbClr val="e8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Rectangle 77"/>
              <p:cNvSpPr/>
              <p:nvPr/>
            </p:nvSpPr>
            <p:spPr>
              <a:xfrm>
                <a:off x="3179880" y="1857240"/>
                <a:ext cx="1628640" cy="34920"/>
              </a:xfrm>
              <a:prstGeom prst="rect">
                <a:avLst/>
              </a:prstGeom>
              <a:solidFill>
                <a:srgbClr val="e7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Rectangle 78"/>
              <p:cNvSpPr/>
              <p:nvPr/>
            </p:nvSpPr>
            <p:spPr>
              <a:xfrm>
                <a:off x="3179880" y="1892160"/>
                <a:ext cx="1628640" cy="42840"/>
              </a:xfrm>
              <a:prstGeom prst="rect">
                <a:avLst/>
              </a:prstGeom>
              <a:solidFill>
                <a:srgbClr val="e7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Rectangle 79"/>
              <p:cNvSpPr/>
              <p:nvPr/>
            </p:nvSpPr>
            <p:spPr>
              <a:xfrm>
                <a:off x="3179880" y="1935000"/>
                <a:ext cx="1628640" cy="65160"/>
              </a:xfrm>
              <a:prstGeom prst="rect">
                <a:avLst/>
              </a:prstGeom>
              <a:solidFill>
                <a:srgbClr val="e6b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Rectangle 80"/>
              <p:cNvSpPr/>
              <p:nvPr/>
            </p:nvSpPr>
            <p:spPr>
              <a:xfrm>
                <a:off x="3179880" y="2000160"/>
                <a:ext cx="1628640" cy="61920"/>
              </a:xfrm>
              <a:prstGeom prst="rect">
                <a:avLst/>
              </a:prstGeom>
              <a:solidFill>
                <a:srgbClr val="e5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81"/>
              <p:cNvSpPr/>
              <p:nvPr/>
            </p:nvSpPr>
            <p:spPr>
              <a:xfrm>
                <a:off x="3181320" y="968400"/>
                <a:ext cx="1627200" cy="1093680"/>
              </a:xfrm>
              <a:custGeom>
                <a:avLst/>
                <a:gdLst/>
                <a:ahLst/>
                <a:rect l="l" t="t" r="r" b="b"/>
                <a:pathLst>
                  <a:path w="1025" h="689">
                    <a:moveTo>
                      <a:pt x="513" y="0"/>
                    </a:moveTo>
                    <a:lnTo>
                      <a:pt x="0" y="344"/>
                    </a:lnTo>
                    <a:lnTo>
                      <a:pt x="513" y="689"/>
                    </a:lnTo>
                    <a:lnTo>
                      <a:pt x="1025" y="344"/>
                    </a:lnTo>
                    <a:lnTo>
                      <a:pt x="513" y="0"/>
                    </a:lnTo>
                    <a:close/>
                  </a:path>
                </a:pathLst>
              </a:custGeom>
              <a:noFill/>
              <a:ln cap="rnd" w="14400">
                <a:solidFill>
                  <a:srgbClr val="d99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0" name="Rectangle 83"/>
            <p:cNvSpPr/>
            <p:nvPr/>
          </p:nvSpPr>
          <p:spPr>
            <a:xfrm>
              <a:off x="4005720" y="1265400"/>
              <a:ext cx="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Rectangle 84"/>
            <p:cNvSpPr/>
            <p:nvPr/>
          </p:nvSpPr>
          <p:spPr>
            <a:xfrm>
              <a:off x="3434400" y="1371600"/>
              <a:ext cx="107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1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مجلس الصندو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Rectangle 85"/>
            <p:cNvSpPr/>
            <p:nvPr/>
          </p:nvSpPr>
          <p:spPr>
            <a:xfrm>
              <a:off x="4286520" y="14367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86"/>
            <p:cNvSpPr/>
            <p:nvPr/>
          </p:nvSpPr>
          <p:spPr>
            <a:xfrm>
              <a:off x="2627280" y="907920"/>
              <a:ext cx="1017720" cy="416160"/>
            </a:xfrm>
            <a:custGeom>
              <a:avLst/>
              <a:gdLst/>
              <a:ahLst/>
              <a:rect l="l" t="t" r="r" b="b"/>
              <a:pathLst>
                <a:path w="10000" h="4553">
                  <a:moveTo>
                    <a:pt x="9850" y="100"/>
                  </a:moveTo>
                  <a:lnTo>
                    <a:pt x="9850" y="100"/>
                  </a:lnTo>
                  <a:cubicBezTo>
                    <a:pt x="9823" y="100"/>
                    <a:pt x="9800" y="77"/>
                    <a:pt x="9800" y="50"/>
                  </a:cubicBezTo>
                  <a:cubicBezTo>
                    <a:pt x="9800" y="22"/>
                    <a:pt x="9823" y="0"/>
                    <a:pt x="9850" y="0"/>
                  </a:cubicBezTo>
                  <a:lnTo>
                    <a:pt x="9850" y="0"/>
                  </a:lnTo>
                  <a:cubicBezTo>
                    <a:pt x="9878" y="0"/>
                    <a:pt x="9900" y="22"/>
                    <a:pt x="9900" y="50"/>
                  </a:cubicBezTo>
                  <a:cubicBezTo>
                    <a:pt x="9900" y="77"/>
                    <a:pt x="9878" y="100"/>
                    <a:pt x="9850" y="100"/>
                  </a:cubicBezTo>
                  <a:close/>
                  <a:moveTo>
                    <a:pt x="9650" y="100"/>
                  </a:moveTo>
                  <a:lnTo>
                    <a:pt x="9650" y="100"/>
                  </a:lnTo>
                  <a:cubicBezTo>
                    <a:pt x="9623" y="100"/>
                    <a:pt x="9600" y="77"/>
                    <a:pt x="9600" y="50"/>
                  </a:cubicBezTo>
                  <a:cubicBezTo>
                    <a:pt x="9600" y="22"/>
                    <a:pt x="9623" y="0"/>
                    <a:pt x="9650" y="0"/>
                  </a:cubicBezTo>
                  <a:lnTo>
                    <a:pt x="9650" y="0"/>
                  </a:lnTo>
                  <a:cubicBezTo>
                    <a:pt x="9678" y="0"/>
                    <a:pt x="9700" y="22"/>
                    <a:pt x="9700" y="50"/>
                  </a:cubicBezTo>
                  <a:cubicBezTo>
                    <a:pt x="9700" y="77"/>
                    <a:pt x="9678" y="100"/>
                    <a:pt x="9650" y="100"/>
                  </a:cubicBezTo>
                  <a:close/>
                  <a:moveTo>
                    <a:pt x="9450" y="100"/>
                  </a:moveTo>
                  <a:lnTo>
                    <a:pt x="9450" y="100"/>
                  </a:lnTo>
                  <a:cubicBezTo>
                    <a:pt x="9423" y="100"/>
                    <a:pt x="9400" y="77"/>
                    <a:pt x="9400" y="50"/>
                  </a:cubicBezTo>
                  <a:cubicBezTo>
                    <a:pt x="9400" y="22"/>
                    <a:pt x="9423" y="0"/>
                    <a:pt x="9450" y="0"/>
                  </a:cubicBezTo>
                  <a:lnTo>
                    <a:pt x="9450" y="0"/>
                  </a:lnTo>
                  <a:cubicBezTo>
                    <a:pt x="9478" y="0"/>
                    <a:pt x="9500" y="22"/>
                    <a:pt x="9500" y="50"/>
                  </a:cubicBezTo>
                  <a:cubicBezTo>
                    <a:pt x="9500" y="77"/>
                    <a:pt x="9478" y="100"/>
                    <a:pt x="9450" y="100"/>
                  </a:cubicBezTo>
                  <a:close/>
                  <a:moveTo>
                    <a:pt x="9250" y="100"/>
                  </a:moveTo>
                  <a:lnTo>
                    <a:pt x="9250" y="100"/>
                  </a:lnTo>
                  <a:cubicBezTo>
                    <a:pt x="9222" y="100"/>
                    <a:pt x="9200" y="77"/>
                    <a:pt x="9200" y="50"/>
                  </a:cubicBezTo>
                  <a:cubicBezTo>
                    <a:pt x="9200" y="22"/>
                    <a:pt x="9222" y="0"/>
                    <a:pt x="9250" y="0"/>
                  </a:cubicBezTo>
                  <a:lnTo>
                    <a:pt x="9250" y="0"/>
                  </a:lnTo>
                  <a:cubicBezTo>
                    <a:pt x="9278" y="0"/>
                    <a:pt x="9300" y="22"/>
                    <a:pt x="9300" y="50"/>
                  </a:cubicBezTo>
                  <a:cubicBezTo>
                    <a:pt x="9300" y="77"/>
                    <a:pt x="9278" y="100"/>
                    <a:pt x="9250" y="100"/>
                  </a:cubicBezTo>
                  <a:close/>
                  <a:moveTo>
                    <a:pt x="9050" y="100"/>
                  </a:moveTo>
                  <a:lnTo>
                    <a:pt x="9050" y="100"/>
                  </a:lnTo>
                  <a:cubicBezTo>
                    <a:pt x="9022" y="100"/>
                    <a:pt x="9000" y="77"/>
                    <a:pt x="9000" y="50"/>
                  </a:cubicBezTo>
                  <a:cubicBezTo>
                    <a:pt x="9000" y="22"/>
                    <a:pt x="9022" y="0"/>
                    <a:pt x="9050" y="0"/>
                  </a:cubicBezTo>
                  <a:lnTo>
                    <a:pt x="9050" y="0"/>
                  </a:lnTo>
                  <a:cubicBezTo>
                    <a:pt x="9078" y="0"/>
                    <a:pt x="9100" y="22"/>
                    <a:pt x="9100" y="50"/>
                  </a:cubicBezTo>
                  <a:cubicBezTo>
                    <a:pt x="9100" y="77"/>
                    <a:pt x="9078" y="100"/>
                    <a:pt x="9050" y="100"/>
                  </a:cubicBezTo>
                  <a:close/>
                  <a:moveTo>
                    <a:pt x="8850" y="100"/>
                  </a:moveTo>
                  <a:lnTo>
                    <a:pt x="8850" y="100"/>
                  </a:lnTo>
                  <a:cubicBezTo>
                    <a:pt x="8822" y="100"/>
                    <a:pt x="8800" y="77"/>
                    <a:pt x="8800" y="50"/>
                  </a:cubicBezTo>
                  <a:cubicBezTo>
                    <a:pt x="8800" y="22"/>
                    <a:pt x="8822" y="0"/>
                    <a:pt x="8850" y="0"/>
                  </a:cubicBezTo>
                  <a:lnTo>
                    <a:pt x="8850" y="0"/>
                  </a:lnTo>
                  <a:cubicBezTo>
                    <a:pt x="8878" y="0"/>
                    <a:pt x="8900" y="22"/>
                    <a:pt x="8900" y="50"/>
                  </a:cubicBezTo>
                  <a:cubicBezTo>
                    <a:pt x="8900" y="77"/>
                    <a:pt x="8878" y="100"/>
                    <a:pt x="8850" y="100"/>
                  </a:cubicBezTo>
                  <a:close/>
                  <a:moveTo>
                    <a:pt x="8650" y="100"/>
                  </a:moveTo>
                  <a:lnTo>
                    <a:pt x="8650" y="100"/>
                  </a:lnTo>
                  <a:cubicBezTo>
                    <a:pt x="8622" y="100"/>
                    <a:pt x="8600" y="77"/>
                    <a:pt x="8600" y="50"/>
                  </a:cubicBezTo>
                  <a:cubicBezTo>
                    <a:pt x="8600" y="22"/>
                    <a:pt x="8622" y="0"/>
                    <a:pt x="8650" y="0"/>
                  </a:cubicBezTo>
                  <a:lnTo>
                    <a:pt x="8650" y="0"/>
                  </a:lnTo>
                  <a:cubicBezTo>
                    <a:pt x="8677" y="0"/>
                    <a:pt x="8700" y="22"/>
                    <a:pt x="8700" y="50"/>
                  </a:cubicBezTo>
                  <a:cubicBezTo>
                    <a:pt x="8700" y="77"/>
                    <a:pt x="8677" y="100"/>
                    <a:pt x="8650" y="100"/>
                  </a:cubicBezTo>
                  <a:close/>
                  <a:moveTo>
                    <a:pt x="8450" y="100"/>
                  </a:moveTo>
                  <a:lnTo>
                    <a:pt x="8450" y="100"/>
                  </a:lnTo>
                  <a:cubicBezTo>
                    <a:pt x="8422" y="100"/>
                    <a:pt x="8400" y="77"/>
                    <a:pt x="8400" y="50"/>
                  </a:cubicBezTo>
                  <a:cubicBezTo>
                    <a:pt x="8400" y="22"/>
                    <a:pt x="8422" y="0"/>
                    <a:pt x="8450" y="0"/>
                  </a:cubicBezTo>
                  <a:lnTo>
                    <a:pt x="8450" y="0"/>
                  </a:lnTo>
                  <a:cubicBezTo>
                    <a:pt x="8477" y="0"/>
                    <a:pt x="8500" y="22"/>
                    <a:pt x="8500" y="50"/>
                  </a:cubicBezTo>
                  <a:cubicBezTo>
                    <a:pt x="8500" y="77"/>
                    <a:pt x="8477" y="100"/>
                    <a:pt x="8450" y="100"/>
                  </a:cubicBezTo>
                  <a:close/>
                  <a:moveTo>
                    <a:pt x="8250" y="100"/>
                  </a:moveTo>
                  <a:lnTo>
                    <a:pt x="8250" y="100"/>
                  </a:lnTo>
                  <a:cubicBezTo>
                    <a:pt x="8222" y="100"/>
                    <a:pt x="8200" y="77"/>
                    <a:pt x="8200" y="50"/>
                  </a:cubicBezTo>
                  <a:cubicBezTo>
                    <a:pt x="8200" y="22"/>
                    <a:pt x="8222" y="0"/>
                    <a:pt x="8250" y="0"/>
                  </a:cubicBezTo>
                  <a:lnTo>
                    <a:pt x="8250" y="0"/>
                  </a:lnTo>
                  <a:cubicBezTo>
                    <a:pt x="8277" y="0"/>
                    <a:pt x="8300" y="22"/>
                    <a:pt x="8300" y="50"/>
                  </a:cubicBezTo>
                  <a:cubicBezTo>
                    <a:pt x="8300" y="77"/>
                    <a:pt x="8277" y="100"/>
                    <a:pt x="8250" y="100"/>
                  </a:cubicBezTo>
                  <a:close/>
                  <a:moveTo>
                    <a:pt x="8050" y="100"/>
                  </a:moveTo>
                  <a:lnTo>
                    <a:pt x="8049" y="100"/>
                  </a:lnTo>
                  <a:cubicBezTo>
                    <a:pt x="8022" y="100"/>
                    <a:pt x="7999" y="77"/>
                    <a:pt x="7999" y="50"/>
                  </a:cubicBezTo>
                  <a:cubicBezTo>
                    <a:pt x="7999" y="22"/>
                    <a:pt x="8022" y="0"/>
                    <a:pt x="8049" y="0"/>
                  </a:cubicBezTo>
                  <a:lnTo>
                    <a:pt x="8050" y="0"/>
                  </a:lnTo>
                  <a:cubicBezTo>
                    <a:pt x="8077" y="0"/>
                    <a:pt x="8100" y="22"/>
                    <a:pt x="8100" y="50"/>
                  </a:cubicBezTo>
                  <a:cubicBezTo>
                    <a:pt x="8100" y="77"/>
                    <a:pt x="8077" y="100"/>
                    <a:pt x="8050" y="100"/>
                  </a:cubicBezTo>
                  <a:close/>
                  <a:moveTo>
                    <a:pt x="7849" y="100"/>
                  </a:moveTo>
                  <a:lnTo>
                    <a:pt x="7849" y="100"/>
                  </a:lnTo>
                  <a:cubicBezTo>
                    <a:pt x="7822" y="100"/>
                    <a:pt x="7799" y="77"/>
                    <a:pt x="7799" y="50"/>
                  </a:cubicBezTo>
                  <a:cubicBezTo>
                    <a:pt x="7799" y="22"/>
                    <a:pt x="7822" y="0"/>
                    <a:pt x="7849" y="0"/>
                  </a:cubicBezTo>
                  <a:lnTo>
                    <a:pt x="7849" y="0"/>
                  </a:lnTo>
                  <a:cubicBezTo>
                    <a:pt x="7877" y="0"/>
                    <a:pt x="7899" y="22"/>
                    <a:pt x="7899" y="50"/>
                  </a:cubicBezTo>
                  <a:cubicBezTo>
                    <a:pt x="7899" y="77"/>
                    <a:pt x="7877" y="100"/>
                    <a:pt x="7849" y="100"/>
                  </a:cubicBezTo>
                  <a:close/>
                  <a:moveTo>
                    <a:pt x="7649" y="100"/>
                  </a:moveTo>
                  <a:lnTo>
                    <a:pt x="7649" y="100"/>
                  </a:lnTo>
                  <a:cubicBezTo>
                    <a:pt x="7622" y="100"/>
                    <a:pt x="7599" y="77"/>
                    <a:pt x="7599" y="50"/>
                  </a:cubicBezTo>
                  <a:cubicBezTo>
                    <a:pt x="7599" y="22"/>
                    <a:pt x="7622" y="0"/>
                    <a:pt x="7649" y="0"/>
                  </a:cubicBezTo>
                  <a:lnTo>
                    <a:pt x="7649" y="0"/>
                  </a:lnTo>
                  <a:cubicBezTo>
                    <a:pt x="7677" y="0"/>
                    <a:pt x="7699" y="22"/>
                    <a:pt x="7699" y="50"/>
                  </a:cubicBezTo>
                  <a:cubicBezTo>
                    <a:pt x="7699" y="77"/>
                    <a:pt x="7677" y="100"/>
                    <a:pt x="7649" y="100"/>
                  </a:cubicBezTo>
                  <a:close/>
                  <a:moveTo>
                    <a:pt x="7449" y="100"/>
                  </a:moveTo>
                  <a:lnTo>
                    <a:pt x="7449" y="100"/>
                  </a:lnTo>
                  <a:cubicBezTo>
                    <a:pt x="7422" y="100"/>
                    <a:pt x="7399" y="77"/>
                    <a:pt x="7399" y="50"/>
                  </a:cubicBezTo>
                  <a:cubicBezTo>
                    <a:pt x="7399" y="22"/>
                    <a:pt x="7422" y="0"/>
                    <a:pt x="7449" y="0"/>
                  </a:cubicBezTo>
                  <a:lnTo>
                    <a:pt x="7449" y="0"/>
                  </a:lnTo>
                  <a:cubicBezTo>
                    <a:pt x="7477" y="0"/>
                    <a:pt x="7499" y="22"/>
                    <a:pt x="7499" y="50"/>
                  </a:cubicBezTo>
                  <a:cubicBezTo>
                    <a:pt x="7499" y="77"/>
                    <a:pt x="7477" y="100"/>
                    <a:pt x="7449" y="100"/>
                  </a:cubicBezTo>
                  <a:close/>
                  <a:moveTo>
                    <a:pt x="7249" y="100"/>
                  </a:moveTo>
                  <a:lnTo>
                    <a:pt x="7249" y="100"/>
                  </a:lnTo>
                  <a:cubicBezTo>
                    <a:pt x="7221" y="100"/>
                    <a:pt x="7199" y="77"/>
                    <a:pt x="7199" y="50"/>
                  </a:cubicBezTo>
                  <a:cubicBezTo>
                    <a:pt x="7199" y="22"/>
                    <a:pt x="7221" y="0"/>
                    <a:pt x="7249" y="0"/>
                  </a:cubicBezTo>
                  <a:lnTo>
                    <a:pt x="7249" y="0"/>
                  </a:lnTo>
                  <a:cubicBezTo>
                    <a:pt x="7277" y="0"/>
                    <a:pt x="7299" y="22"/>
                    <a:pt x="7299" y="50"/>
                  </a:cubicBezTo>
                  <a:cubicBezTo>
                    <a:pt x="7299" y="77"/>
                    <a:pt x="7277" y="100"/>
                    <a:pt x="7249" y="100"/>
                  </a:cubicBezTo>
                  <a:close/>
                  <a:moveTo>
                    <a:pt x="7049" y="100"/>
                  </a:moveTo>
                  <a:lnTo>
                    <a:pt x="7049" y="100"/>
                  </a:lnTo>
                  <a:cubicBezTo>
                    <a:pt x="7021" y="100"/>
                    <a:pt x="6999" y="77"/>
                    <a:pt x="6999" y="50"/>
                  </a:cubicBezTo>
                  <a:cubicBezTo>
                    <a:pt x="6999" y="22"/>
                    <a:pt x="7021" y="0"/>
                    <a:pt x="7049" y="0"/>
                  </a:cubicBezTo>
                  <a:lnTo>
                    <a:pt x="7049" y="0"/>
                  </a:lnTo>
                  <a:cubicBezTo>
                    <a:pt x="7077" y="0"/>
                    <a:pt x="7099" y="22"/>
                    <a:pt x="7099" y="50"/>
                  </a:cubicBezTo>
                  <a:cubicBezTo>
                    <a:pt x="7099" y="77"/>
                    <a:pt x="7077" y="100"/>
                    <a:pt x="7049" y="100"/>
                  </a:cubicBezTo>
                  <a:close/>
                  <a:moveTo>
                    <a:pt x="6849" y="100"/>
                  </a:moveTo>
                  <a:lnTo>
                    <a:pt x="6849" y="100"/>
                  </a:lnTo>
                  <a:cubicBezTo>
                    <a:pt x="6821" y="100"/>
                    <a:pt x="6799" y="77"/>
                    <a:pt x="6799" y="50"/>
                  </a:cubicBezTo>
                  <a:cubicBezTo>
                    <a:pt x="6799" y="22"/>
                    <a:pt x="6821" y="0"/>
                    <a:pt x="6849" y="0"/>
                  </a:cubicBezTo>
                  <a:lnTo>
                    <a:pt x="6849" y="0"/>
                  </a:lnTo>
                  <a:cubicBezTo>
                    <a:pt x="6877" y="0"/>
                    <a:pt x="6899" y="22"/>
                    <a:pt x="6899" y="50"/>
                  </a:cubicBezTo>
                  <a:cubicBezTo>
                    <a:pt x="6899" y="77"/>
                    <a:pt x="6877" y="100"/>
                    <a:pt x="6849" y="100"/>
                  </a:cubicBezTo>
                  <a:close/>
                  <a:moveTo>
                    <a:pt x="6649" y="100"/>
                  </a:moveTo>
                  <a:lnTo>
                    <a:pt x="6649" y="100"/>
                  </a:lnTo>
                  <a:cubicBezTo>
                    <a:pt x="6621" y="100"/>
                    <a:pt x="6599" y="77"/>
                    <a:pt x="6599" y="50"/>
                  </a:cubicBezTo>
                  <a:cubicBezTo>
                    <a:pt x="6599" y="22"/>
                    <a:pt x="6621" y="0"/>
                    <a:pt x="6649" y="0"/>
                  </a:cubicBezTo>
                  <a:lnTo>
                    <a:pt x="6649" y="0"/>
                  </a:lnTo>
                  <a:cubicBezTo>
                    <a:pt x="6676" y="0"/>
                    <a:pt x="6699" y="22"/>
                    <a:pt x="6699" y="50"/>
                  </a:cubicBezTo>
                  <a:cubicBezTo>
                    <a:pt x="6699" y="77"/>
                    <a:pt x="6676" y="100"/>
                    <a:pt x="6649" y="100"/>
                  </a:cubicBezTo>
                  <a:close/>
                  <a:moveTo>
                    <a:pt x="6449" y="100"/>
                  </a:moveTo>
                  <a:lnTo>
                    <a:pt x="6449" y="100"/>
                  </a:lnTo>
                  <a:cubicBezTo>
                    <a:pt x="6421" y="100"/>
                    <a:pt x="6399" y="77"/>
                    <a:pt x="6399" y="50"/>
                  </a:cubicBezTo>
                  <a:cubicBezTo>
                    <a:pt x="6399" y="22"/>
                    <a:pt x="6421" y="0"/>
                    <a:pt x="6449" y="0"/>
                  </a:cubicBezTo>
                  <a:lnTo>
                    <a:pt x="6449" y="0"/>
                  </a:lnTo>
                  <a:cubicBezTo>
                    <a:pt x="6476" y="0"/>
                    <a:pt x="6499" y="22"/>
                    <a:pt x="6499" y="50"/>
                  </a:cubicBezTo>
                  <a:cubicBezTo>
                    <a:pt x="6499" y="77"/>
                    <a:pt x="6476" y="100"/>
                    <a:pt x="6449" y="100"/>
                  </a:cubicBezTo>
                  <a:close/>
                  <a:moveTo>
                    <a:pt x="6249" y="100"/>
                  </a:moveTo>
                  <a:lnTo>
                    <a:pt x="6249" y="100"/>
                  </a:lnTo>
                  <a:cubicBezTo>
                    <a:pt x="6221" y="100"/>
                    <a:pt x="6199" y="77"/>
                    <a:pt x="6199" y="50"/>
                  </a:cubicBezTo>
                  <a:cubicBezTo>
                    <a:pt x="6199" y="22"/>
                    <a:pt x="6221" y="0"/>
                    <a:pt x="6249" y="0"/>
                  </a:cubicBezTo>
                  <a:lnTo>
                    <a:pt x="6249" y="0"/>
                  </a:lnTo>
                  <a:cubicBezTo>
                    <a:pt x="6276" y="0"/>
                    <a:pt x="6299" y="22"/>
                    <a:pt x="6299" y="50"/>
                  </a:cubicBezTo>
                  <a:cubicBezTo>
                    <a:pt x="6299" y="77"/>
                    <a:pt x="6276" y="100"/>
                    <a:pt x="6249" y="100"/>
                  </a:cubicBezTo>
                  <a:close/>
                  <a:moveTo>
                    <a:pt x="6049" y="100"/>
                  </a:moveTo>
                  <a:lnTo>
                    <a:pt x="6048" y="100"/>
                  </a:lnTo>
                  <a:cubicBezTo>
                    <a:pt x="6021" y="100"/>
                    <a:pt x="5998" y="77"/>
                    <a:pt x="5998" y="50"/>
                  </a:cubicBezTo>
                  <a:cubicBezTo>
                    <a:pt x="5998" y="22"/>
                    <a:pt x="6021" y="0"/>
                    <a:pt x="6048" y="0"/>
                  </a:cubicBezTo>
                  <a:lnTo>
                    <a:pt x="6049" y="0"/>
                  </a:lnTo>
                  <a:cubicBezTo>
                    <a:pt x="6076" y="0"/>
                    <a:pt x="6099" y="22"/>
                    <a:pt x="6099" y="50"/>
                  </a:cubicBezTo>
                  <a:cubicBezTo>
                    <a:pt x="6099" y="77"/>
                    <a:pt x="6076" y="100"/>
                    <a:pt x="6049" y="100"/>
                  </a:cubicBezTo>
                  <a:close/>
                  <a:moveTo>
                    <a:pt x="5848" y="100"/>
                  </a:moveTo>
                  <a:lnTo>
                    <a:pt x="5848" y="100"/>
                  </a:lnTo>
                  <a:cubicBezTo>
                    <a:pt x="5821" y="100"/>
                    <a:pt x="5798" y="77"/>
                    <a:pt x="5798" y="50"/>
                  </a:cubicBezTo>
                  <a:cubicBezTo>
                    <a:pt x="5798" y="22"/>
                    <a:pt x="5821" y="0"/>
                    <a:pt x="5848" y="0"/>
                  </a:cubicBezTo>
                  <a:lnTo>
                    <a:pt x="5848" y="0"/>
                  </a:lnTo>
                  <a:cubicBezTo>
                    <a:pt x="5876" y="0"/>
                    <a:pt x="5898" y="22"/>
                    <a:pt x="5898" y="50"/>
                  </a:cubicBezTo>
                  <a:cubicBezTo>
                    <a:pt x="5898" y="77"/>
                    <a:pt x="5876" y="100"/>
                    <a:pt x="5848" y="100"/>
                  </a:cubicBezTo>
                  <a:close/>
                  <a:moveTo>
                    <a:pt x="5648" y="100"/>
                  </a:moveTo>
                  <a:lnTo>
                    <a:pt x="5648" y="100"/>
                  </a:lnTo>
                  <a:cubicBezTo>
                    <a:pt x="5621" y="100"/>
                    <a:pt x="5598" y="77"/>
                    <a:pt x="5598" y="50"/>
                  </a:cubicBezTo>
                  <a:cubicBezTo>
                    <a:pt x="5598" y="22"/>
                    <a:pt x="5621" y="0"/>
                    <a:pt x="5648" y="0"/>
                  </a:cubicBezTo>
                  <a:lnTo>
                    <a:pt x="5648" y="0"/>
                  </a:lnTo>
                  <a:cubicBezTo>
                    <a:pt x="5676" y="0"/>
                    <a:pt x="5698" y="22"/>
                    <a:pt x="5698" y="50"/>
                  </a:cubicBezTo>
                  <a:cubicBezTo>
                    <a:pt x="5698" y="77"/>
                    <a:pt x="5676" y="100"/>
                    <a:pt x="5648" y="100"/>
                  </a:cubicBezTo>
                  <a:close/>
                  <a:moveTo>
                    <a:pt x="5448" y="100"/>
                  </a:moveTo>
                  <a:lnTo>
                    <a:pt x="5448" y="100"/>
                  </a:lnTo>
                  <a:cubicBezTo>
                    <a:pt x="5421" y="100"/>
                    <a:pt x="5398" y="77"/>
                    <a:pt x="5398" y="50"/>
                  </a:cubicBezTo>
                  <a:cubicBezTo>
                    <a:pt x="5398" y="22"/>
                    <a:pt x="5421" y="0"/>
                    <a:pt x="5448" y="0"/>
                  </a:cubicBezTo>
                  <a:lnTo>
                    <a:pt x="5448" y="0"/>
                  </a:lnTo>
                  <a:cubicBezTo>
                    <a:pt x="5476" y="0"/>
                    <a:pt x="5498" y="22"/>
                    <a:pt x="5498" y="50"/>
                  </a:cubicBezTo>
                  <a:cubicBezTo>
                    <a:pt x="5498" y="77"/>
                    <a:pt x="5476" y="100"/>
                    <a:pt x="5448" y="100"/>
                  </a:cubicBezTo>
                  <a:close/>
                  <a:moveTo>
                    <a:pt x="5248" y="100"/>
                  </a:moveTo>
                  <a:lnTo>
                    <a:pt x="5248" y="100"/>
                  </a:lnTo>
                  <a:cubicBezTo>
                    <a:pt x="5220" y="100"/>
                    <a:pt x="5198" y="77"/>
                    <a:pt x="5198" y="50"/>
                  </a:cubicBezTo>
                  <a:cubicBezTo>
                    <a:pt x="5198" y="22"/>
                    <a:pt x="5220" y="0"/>
                    <a:pt x="5248" y="0"/>
                  </a:cubicBezTo>
                  <a:lnTo>
                    <a:pt x="5248" y="0"/>
                  </a:lnTo>
                  <a:cubicBezTo>
                    <a:pt x="5276" y="0"/>
                    <a:pt x="5298" y="22"/>
                    <a:pt x="5298" y="50"/>
                  </a:cubicBezTo>
                  <a:cubicBezTo>
                    <a:pt x="5298" y="77"/>
                    <a:pt x="5276" y="100"/>
                    <a:pt x="5248" y="100"/>
                  </a:cubicBezTo>
                  <a:close/>
                  <a:moveTo>
                    <a:pt x="5048" y="100"/>
                  </a:moveTo>
                  <a:lnTo>
                    <a:pt x="5048" y="100"/>
                  </a:lnTo>
                  <a:cubicBezTo>
                    <a:pt x="5020" y="100"/>
                    <a:pt x="4998" y="77"/>
                    <a:pt x="4998" y="50"/>
                  </a:cubicBezTo>
                  <a:cubicBezTo>
                    <a:pt x="4998" y="22"/>
                    <a:pt x="5020" y="0"/>
                    <a:pt x="5048" y="0"/>
                  </a:cubicBezTo>
                  <a:lnTo>
                    <a:pt x="5048" y="0"/>
                  </a:lnTo>
                  <a:cubicBezTo>
                    <a:pt x="5076" y="0"/>
                    <a:pt x="5098" y="22"/>
                    <a:pt x="5098" y="50"/>
                  </a:cubicBezTo>
                  <a:cubicBezTo>
                    <a:pt x="5098" y="77"/>
                    <a:pt x="5076" y="100"/>
                    <a:pt x="5048" y="100"/>
                  </a:cubicBezTo>
                  <a:close/>
                  <a:moveTo>
                    <a:pt x="4848" y="100"/>
                  </a:moveTo>
                  <a:lnTo>
                    <a:pt x="4848" y="100"/>
                  </a:lnTo>
                  <a:cubicBezTo>
                    <a:pt x="4820" y="100"/>
                    <a:pt x="4798" y="77"/>
                    <a:pt x="4798" y="50"/>
                  </a:cubicBezTo>
                  <a:cubicBezTo>
                    <a:pt x="4798" y="22"/>
                    <a:pt x="4820" y="0"/>
                    <a:pt x="4848" y="0"/>
                  </a:cubicBezTo>
                  <a:lnTo>
                    <a:pt x="4848" y="0"/>
                  </a:lnTo>
                  <a:cubicBezTo>
                    <a:pt x="4876" y="0"/>
                    <a:pt x="4898" y="22"/>
                    <a:pt x="4898" y="50"/>
                  </a:cubicBezTo>
                  <a:cubicBezTo>
                    <a:pt x="4898" y="77"/>
                    <a:pt x="4876" y="100"/>
                    <a:pt x="4848" y="100"/>
                  </a:cubicBezTo>
                  <a:close/>
                  <a:moveTo>
                    <a:pt x="4648" y="100"/>
                  </a:moveTo>
                  <a:lnTo>
                    <a:pt x="4648" y="100"/>
                  </a:lnTo>
                  <a:cubicBezTo>
                    <a:pt x="4620" y="100"/>
                    <a:pt x="4598" y="77"/>
                    <a:pt x="4598" y="50"/>
                  </a:cubicBezTo>
                  <a:cubicBezTo>
                    <a:pt x="4598" y="22"/>
                    <a:pt x="4620" y="0"/>
                    <a:pt x="4648" y="0"/>
                  </a:cubicBezTo>
                  <a:lnTo>
                    <a:pt x="4648" y="0"/>
                  </a:lnTo>
                  <a:cubicBezTo>
                    <a:pt x="4675" y="0"/>
                    <a:pt x="4698" y="22"/>
                    <a:pt x="4698" y="50"/>
                  </a:cubicBezTo>
                  <a:cubicBezTo>
                    <a:pt x="4698" y="77"/>
                    <a:pt x="4675" y="100"/>
                    <a:pt x="4648" y="100"/>
                  </a:cubicBezTo>
                  <a:close/>
                  <a:moveTo>
                    <a:pt x="4448" y="100"/>
                  </a:moveTo>
                  <a:lnTo>
                    <a:pt x="4448" y="100"/>
                  </a:lnTo>
                  <a:cubicBezTo>
                    <a:pt x="4420" y="100"/>
                    <a:pt x="4398" y="77"/>
                    <a:pt x="4398" y="50"/>
                  </a:cubicBezTo>
                  <a:cubicBezTo>
                    <a:pt x="4398" y="22"/>
                    <a:pt x="4420" y="0"/>
                    <a:pt x="4448" y="0"/>
                  </a:cubicBezTo>
                  <a:lnTo>
                    <a:pt x="4448" y="0"/>
                  </a:lnTo>
                  <a:cubicBezTo>
                    <a:pt x="4475" y="0"/>
                    <a:pt x="4498" y="22"/>
                    <a:pt x="4498" y="50"/>
                  </a:cubicBezTo>
                  <a:cubicBezTo>
                    <a:pt x="4498" y="77"/>
                    <a:pt x="4475" y="100"/>
                    <a:pt x="4448" y="100"/>
                  </a:cubicBezTo>
                  <a:close/>
                  <a:moveTo>
                    <a:pt x="4248" y="100"/>
                  </a:moveTo>
                  <a:lnTo>
                    <a:pt x="4248" y="100"/>
                  </a:lnTo>
                  <a:cubicBezTo>
                    <a:pt x="4220" y="100"/>
                    <a:pt x="4198" y="77"/>
                    <a:pt x="4198" y="50"/>
                  </a:cubicBezTo>
                  <a:cubicBezTo>
                    <a:pt x="4198" y="22"/>
                    <a:pt x="4220" y="0"/>
                    <a:pt x="4248" y="0"/>
                  </a:cubicBezTo>
                  <a:lnTo>
                    <a:pt x="4248" y="0"/>
                  </a:lnTo>
                  <a:cubicBezTo>
                    <a:pt x="4275" y="0"/>
                    <a:pt x="4298" y="22"/>
                    <a:pt x="4298" y="50"/>
                  </a:cubicBezTo>
                  <a:cubicBezTo>
                    <a:pt x="4298" y="77"/>
                    <a:pt x="4275" y="100"/>
                    <a:pt x="4248" y="100"/>
                  </a:cubicBezTo>
                  <a:close/>
                  <a:moveTo>
                    <a:pt x="4048" y="100"/>
                  </a:moveTo>
                  <a:lnTo>
                    <a:pt x="4047" y="100"/>
                  </a:lnTo>
                  <a:cubicBezTo>
                    <a:pt x="4020" y="100"/>
                    <a:pt x="3997" y="77"/>
                    <a:pt x="3997" y="50"/>
                  </a:cubicBezTo>
                  <a:cubicBezTo>
                    <a:pt x="3997" y="22"/>
                    <a:pt x="4020" y="0"/>
                    <a:pt x="4047" y="0"/>
                  </a:cubicBezTo>
                  <a:lnTo>
                    <a:pt x="4048" y="0"/>
                  </a:lnTo>
                  <a:cubicBezTo>
                    <a:pt x="4075" y="0"/>
                    <a:pt x="4098" y="22"/>
                    <a:pt x="4098" y="50"/>
                  </a:cubicBezTo>
                  <a:cubicBezTo>
                    <a:pt x="4098" y="77"/>
                    <a:pt x="4075" y="100"/>
                    <a:pt x="4048" y="100"/>
                  </a:cubicBezTo>
                  <a:close/>
                  <a:moveTo>
                    <a:pt x="3847" y="100"/>
                  </a:moveTo>
                  <a:lnTo>
                    <a:pt x="3847" y="100"/>
                  </a:lnTo>
                  <a:cubicBezTo>
                    <a:pt x="3820" y="100"/>
                    <a:pt x="3797" y="77"/>
                    <a:pt x="3797" y="50"/>
                  </a:cubicBezTo>
                  <a:cubicBezTo>
                    <a:pt x="3797" y="22"/>
                    <a:pt x="3820" y="0"/>
                    <a:pt x="3847" y="0"/>
                  </a:cubicBezTo>
                  <a:lnTo>
                    <a:pt x="3847" y="0"/>
                  </a:lnTo>
                  <a:cubicBezTo>
                    <a:pt x="3875" y="0"/>
                    <a:pt x="3897" y="22"/>
                    <a:pt x="3897" y="50"/>
                  </a:cubicBezTo>
                  <a:cubicBezTo>
                    <a:pt x="3897" y="77"/>
                    <a:pt x="3875" y="100"/>
                    <a:pt x="3847" y="100"/>
                  </a:cubicBezTo>
                  <a:close/>
                  <a:moveTo>
                    <a:pt x="3647" y="100"/>
                  </a:moveTo>
                  <a:lnTo>
                    <a:pt x="3647" y="100"/>
                  </a:lnTo>
                  <a:cubicBezTo>
                    <a:pt x="3620" y="100"/>
                    <a:pt x="3597" y="77"/>
                    <a:pt x="3597" y="50"/>
                  </a:cubicBezTo>
                  <a:cubicBezTo>
                    <a:pt x="3597" y="22"/>
                    <a:pt x="3620" y="0"/>
                    <a:pt x="3647" y="0"/>
                  </a:cubicBezTo>
                  <a:lnTo>
                    <a:pt x="3647" y="0"/>
                  </a:lnTo>
                  <a:cubicBezTo>
                    <a:pt x="3675" y="0"/>
                    <a:pt x="3697" y="22"/>
                    <a:pt x="3697" y="50"/>
                  </a:cubicBezTo>
                  <a:cubicBezTo>
                    <a:pt x="3697" y="77"/>
                    <a:pt x="3675" y="100"/>
                    <a:pt x="3647" y="100"/>
                  </a:cubicBezTo>
                  <a:close/>
                  <a:moveTo>
                    <a:pt x="3447" y="100"/>
                  </a:moveTo>
                  <a:lnTo>
                    <a:pt x="3447" y="100"/>
                  </a:lnTo>
                  <a:cubicBezTo>
                    <a:pt x="3420" y="100"/>
                    <a:pt x="3397" y="77"/>
                    <a:pt x="3397" y="50"/>
                  </a:cubicBezTo>
                  <a:cubicBezTo>
                    <a:pt x="3397" y="22"/>
                    <a:pt x="3420" y="0"/>
                    <a:pt x="3447" y="0"/>
                  </a:cubicBezTo>
                  <a:lnTo>
                    <a:pt x="3447" y="0"/>
                  </a:lnTo>
                  <a:cubicBezTo>
                    <a:pt x="3475" y="0"/>
                    <a:pt x="3497" y="22"/>
                    <a:pt x="3497" y="50"/>
                  </a:cubicBezTo>
                  <a:cubicBezTo>
                    <a:pt x="3497" y="77"/>
                    <a:pt x="3475" y="100"/>
                    <a:pt x="3447" y="100"/>
                  </a:cubicBezTo>
                  <a:close/>
                  <a:moveTo>
                    <a:pt x="3247" y="100"/>
                  </a:moveTo>
                  <a:lnTo>
                    <a:pt x="3247" y="100"/>
                  </a:lnTo>
                  <a:cubicBezTo>
                    <a:pt x="3219" y="100"/>
                    <a:pt x="3197" y="77"/>
                    <a:pt x="3197" y="50"/>
                  </a:cubicBezTo>
                  <a:cubicBezTo>
                    <a:pt x="3197" y="22"/>
                    <a:pt x="3219" y="0"/>
                    <a:pt x="3247" y="0"/>
                  </a:cubicBezTo>
                  <a:lnTo>
                    <a:pt x="3247" y="0"/>
                  </a:lnTo>
                  <a:cubicBezTo>
                    <a:pt x="3275" y="0"/>
                    <a:pt x="3297" y="22"/>
                    <a:pt x="3297" y="50"/>
                  </a:cubicBezTo>
                  <a:cubicBezTo>
                    <a:pt x="3297" y="77"/>
                    <a:pt x="3275" y="100"/>
                    <a:pt x="3247" y="100"/>
                  </a:cubicBezTo>
                  <a:close/>
                  <a:moveTo>
                    <a:pt x="3047" y="100"/>
                  </a:moveTo>
                  <a:lnTo>
                    <a:pt x="3047" y="100"/>
                  </a:lnTo>
                  <a:cubicBezTo>
                    <a:pt x="3019" y="100"/>
                    <a:pt x="2997" y="77"/>
                    <a:pt x="2997" y="50"/>
                  </a:cubicBezTo>
                  <a:cubicBezTo>
                    <a:pt x="2997" y="22"/>
                    <a:pt x="3019" y="0"/>
                    <a:pt x="3047" y="0"/>
                  </a:cubicBezTo>
                  <a:lnTo>
                    <a:pt x="3047" y="0"/>
                  </a:lnTo>
                  <a:cubicBezTo>
                    <a:pt x="3075" y="0"/>
                    <a:pt x="3097" y="22"/>
                    <a:pt x="3097" y="50"/>
                  </a:cubicBezTo>
                  <a:cubicBezTo>
                    <a:pt x="3097" y="77"/>
                    <a:pt x="3075" y="100"/>
                    <a:pt x="3047" y="100"/>
                  </a:cubicBezTo>
                  <a:close/>
                  <a:moveTo>
                    <a:pt x="2847" y="100"/>
                  </a:moveTo>
                  <a:lnTo>
                    <a:pt x="2847" y="100"/>
                  </a:lnTo>
                  <a:cubicBezTo>
                    <a:pt x="2819" y="100"/>
                    <a:pt x="2797" y="77"/>
                    <a:pt x="2797" y="50"/>
                  </a:cubicBezTo>
                  <a:cubicBezTo>
                    <a:pt x="2797" y="22"/>
                    <a:pt x="2819" y="0"/>
                    <a:pt x="2847" y="0"/>
                  </a:cubicBezTo>
                  <a:lnTo>
                    <a:pt x="2847" y="0"/>
                  </a:lnTo>
                  <a:cubicBezTo>
                    <a:pt x="2875" y="0"/>
                    <a:pt x="2897" y="22"/>
                    <a:pt x="2897" y="50"/>
                  </a:cubicBezTo>
                  <a:cubicBezTo>
                    <a:pt x="2897" y="77"/>
                    <a:pt x="2875" y="100"/>
                    <a:pt x="2847" y="100"/>
                  </a:cubicBezTo>
                  <a:close/>
                  <a:moveTo>
                    <a:pt x="2647" y="100"/>
                  </a:moveTo>
                  <a:lnTo>
                    <a:pt x="2647" y="100"/>
                  </a:lnTo>
                  <a:cubicBezTo>
                    <a:pt x="2619" y="100"/>
                    <a:pt x="2597" y="77"/>
                    <a:pt x="2597" y="50"/>
                  </a:cubicBezTo>
                  <a:cubicBezTo>
                    <a:pt x="2597" y="22"/>
                    <a:pt x="2619" y="0"/>
                    <a:pt x="2647" y="0"/>
                  </a:cubicBezTo>
                  <a:lnTo>
                    <a:pt x="2647" y="0"/>
                  </a:lnTo>
                  <a:cubicBezTo>
                    <a:pt x="2674" y="0"/>
                    <a:pt x="2697" y="22"/>
                    <a:pt x="2697" y="50"/>
                  </a:cubicBezTo>
                  <a:cubicBezTo>
                    <a:pt x="2697" y="77"/>
                    <a:pt x="2674" y="100"/>
                    <a:pt x="2647" y="100"/>
                  </a:cubicBezTo>
                  <a:close/>
                  <a:moveTo>
                    <a:pt x="2447" y="100"/>
                  </a:moveTo>
                  <a:lnTo>
                    <a:pt x="2447" y="100"/>
                  </a:lnTo>
                  <a:cubicBezTo>
                    <a:pt x="2419" y="100"/>
                    <a:pt x="2397" y="77"/>
                    <a:pt x="2397" y="50"/>
                  </a:cubicBezTo>
                  <a:cubicBezTo>
                    <a:pt x="2397" y="22"/>
                    <a:pt x="2419" y="0"/>
                    <a:pt x="2447" y="0"/>
                  </a:cubicBezTo>
                  <a:lnTo>
                    <a:pt x="2447" y="0"/>
                  </a:lnTo>
                  <a:cubicBezTo>
                    <a:pt x="2474" y="0"/>
                    <a:pt x="2497" y="22"/>
                    <a:pt x="2497" y="50"/>
                  </a:cubicBezTo>
                  <a:cubicBezTo>
                    <a:pt x="2497" y="77"/>
                    <a:pt x="2474" y="100"/>
                    <a:pt x="2447" y="100"/>
                  </a:cubicBezTo>
                  <a:close/>
                  <a:moveTo>
                    <a:pt x="2247" y="100"/>
                  </a:moveTo>
                  <a:lnTo>
                    <a:pt x="2247" y="100"/>
                  </a:lnTo>
                  <a:cubicBezTo>
                    <a:pt x="2219" y="100"/>
                    <a:pt x="2197" y="77"/>
                    <a:pt x="2197" y="50"/>
                  </a:cubicBezTo>
                  <a:cubicBezTo>
                    <a:pt x="2197" y="22"/>
                    <a:pt x="2219" y="0"/>
                    <a:pt x="2247" y="0"/>
                  </a:cubicBezTo>
                  <a:lnTo>
                    <a:pt x="2247" y="0"/>
                  </a:lnTo>
                  <a:cubicBezTo>
                    <a:pt x="2274" y="0"/>
                    <a:pt x="2297" y="22"/>
                    <a:pt x="2297" y="50"/>
                  </a:cubicBezTo>
                  <a:cubicBezTo>
                    <a:pt x="2297" y="77"/>
                    <a:pt x="2274" y="100"/>
                    <a:pt x="2247" y="100"/>
                  </a:cubicBezTo>
                  <a:close/>
                  <a:moveTo>
                    <a:pt x="2047" y="100"/>
                  </a:moveTo>
                  <a:lnTo>
                    <a:pt x="2046" y="100"/>
                  </a:lnTo>
                  <a:cubicBezTo>
                    <a:pt x="2019" y="100"/>
                    <a:pt x="1996" y="77"/>
                    <a:pt x="1996" y="50"/>
                  </a:cubicBezTo>
                  <a:cubicBezTo>
                    <a:pt x="1996" y="22"/>
                    <a:pt x="2019" y="0"/>
                    <a:pt x="2046" y="0"/>
                  </a:cubicBezTo>
                  <a:lnTo>
                    <a:pt x="2047" y="0"/>
                  </a:lnTo>
                  <a:cubicBezTo>
                    <a:pt x="2074" y="0"/>
                    <a:pt x="2097" y="22"/>
                    <a:pt x="2097" y="50"/>
                  </a:cubicBezTo>
                  <a:cubicBezTo>
                    <a:pt x="2097" y="77"/>
                    <a:pt x="2074" y="100"/>
                    <a:pt x="2047" y="100"/>
                  </a:cubicBezTo>
                  <a:close/>
                  <a:moveTo>
                    <a:pt x="1846" y="100"/>
                  </a:moveTo>
                  <a:lnTo>
                    <a:pt x="1846" y="100"/>
                  </a:lnTo>
                  <a:cubicBezTo>
                    <a:pt x="1819" y="100"/>
                    <a:pt x="1796" y="77"/>
                    <a:pt x="1796" y="50"/>
                  </a:cubicBezTo>
                  <a:cubicBezTo>
                    <a:pt x="1796" y="22"/>
                    <a:pt x="1819" y="0"/>
                    <a:pt x="1846" y="0"/>
                  </a:cubicBezTo>
                  <a:lnTo>
                    <a:pt x="1846" y="0"/>
                  </a:lnTo>
                  <a:cubicBezTo>
                    <a:pt x="1874" y="0"/>
                    <a:pt x="1896" y="22"/>
                    <a:pt x="1896" y="50"/>
                  </a:cubicBezTo>
                  <a:cubicBezTo>
                    <a:pt x="1896" y="77"/>
                    <a:pt x="1874" y="100"/>
                    <a:pt x="1846" y="100"/>
                  </a:cubicBezTo>
                  <a:close/>
                  <a:moveTo>
                    <a:pt x="1646" y="100"/>
                  </a:moveTo>
                  <a:lnTo>
                    <a:pt x="1646" y="100"/>
                  </a:lnTo>
                  <a:cubicBezTo>
                    <a:pt x="1619" y="100"/>
                    <a:pt x="1596" y="77"/>
                    <a:pt x="1596" y="50"/>
                  </a:cubicBezTo>
                  <a:cubicBezTo>
                    <a:pt x="1596" y="22"/>
                    <a:pt x="1619" y="0"/>
                    <a:pt x="1646" y="0"/>
                  </a:cubicBezTo>
                  <a:lnTo>
                    <a:pt x="1646" y="0"/>
                  </a:lnTo>
                  <a:cubicBezTo>
                    <a:pt x="1674" y="0"/>
                    <a:pt x="1696" y="22"/>
                    <a:pt x="1696" y="50"/>
                  </a:cubicBezTo>
                  <a:cubicBezTo>
                    <a:pt x="1696" y="77"/>
                    <a:pt x="1674" y="100"/>
                    <a:pt x="1646" y="100"/>
                  </a:cubicBezTo>
                  <a:close/>
                  <a:moveTo>
                    <a:pt x="1446" y="100"/>
                  </a:moveTo>
                  <a:lnTo>
                    <a:pt x="1446" y="100"/>
                  </a:lnTo>
                  <a:cubicBezTo>
                    <a:pt x="1419" y="100"/>
                    <a:pt x="1396" y="77"/>
                    <a:pt x="1396" y="50"/>
                  </a:cubicBezTo>
                  <a:cubicBezTo>
                    <a:pt x="1396" y="22"/>
                    <a:pt x="1419" y="0"/>
                    <a:pt x="1446" y="0"/>
                  </a:cubicBezTo>
                  <a:lnTo>
                    <a:pt x="1446" y="0"/>
                  </a:lnTo>
                  <a:cubicBezTo>
                    <a:pt x="1474" y="0"/>
                    <a:pt x="1496" y="22"/>
                    <a:pt x="1496" y="50"/>
                  </a:cubicBezTo>
                  <a:cubicBezTo>
                    <a:pt x="1496" y="77"/>
                    <a:pt x="1474" y="100"/>
                    <a:pt x="1446" y="100"/>
                  </a:cubicBezTo>
                  <a:close/>
                  <a:moveTo>
                    <a:pt x="1246" y="100"/>
                  </a:moveTo>
                  <a:lnTo>
                    <a:pt x="1246" y="100"/>
                  </a:lnTo>
                  <a:cubicBezTo>
                    <a:pt x="1218" y="100"/>
                    <a:pt x="1196" y="77"/>
                    <a:pt x="1196" y="50"/>
                  </a:cubicBezTo>
                  <a:cubicBezTo>
                    <a:pt x="1196" y="22"/>
                    <a:pt x="1218" y="0"/>
                    <a:pt x="1246" y="0"/>
                  </a:cubicBezTo>
                  <a:lnTo>
                    <a:pt x="1246" y="0"/>
                  </a:lnTo>
                  <a:cubicBezTo>
                    <a:pt x="1274" y="0"/>
                    <a:pt x="1296" y="22"/>
                    <a:pt x="1296" y="50"/>
                  </a:cubicBezTo>
                  <a:cubicBezTo>
                    <a:pt x="1296" y="77"/>
                    <a:pt x="1274" y="100"/>
                    <a:pt x="1246" y="100"/>
                  </a:cubicBezTo>
                  <a:close/>
                  <a:moveTo>
                    <a:pt x="1046" y="100"/>
                  </a:moveTo>
                  <a:lnTo>
                    <a:pt x="1046" y="100"/>
                  </a:lnTo>
                  <a:cubicBezTo>
                    <a:pt x="1018" y="100"/>
                    <a:pt x="996" y="77"/>
                    <a:pt x="996" y="50"/>
                  </a:cubicBezTo>
                  <a:cubicBezTo>
                    <a:pt x="996" y="22"/>
                    <a:pt x="1018" y="0"/>
                    <a:pt x="1046" y="0"/>
                  </a:cubicBezTo>
                  <a:lnTo>
                    <a:pt x="1046" y="0"/>
                  </a:lnTo>
                  <a:cubicBezTo>
                    <a:pt x="1074" y="0"/>
                    <a:pt x="1096" y="22"/>
                    <a:pt x="1096" y="50"/>
                  </a:cubicBezTo>
                  <a:cubicBezTo>
                    <a:pt x="1096" y="77"/>
                    <a:pt x="1074" y="100"/>
                    <a:pt x="1046" y="100"/>
                  </a:cubicBezTo>
                  <a:close/>
                  <a:moveTo>
                    <a:pt x="846" y="100"/>
                  </a:moveTo>
                  <a:lnTo>
                    <a:pt x="846" y="100"/>
                  </a:lnTo>
                  <a:cubicBezTo>
                    <a:pt x="818" y="100"/>
                    <a:pt x="796" y="77"/>
                    <a:pt x="796" y="50"/>
                  </a:cubicBezTo>
                  <a:cubicBezTo>
                    <a:pt x="796" y="22"/>
                    <a:pt x="818" y="0"/>
                    <a:pt x="846" y="0"/>
                  </a:cubicBezTo>
                  <a:lnTo>
                    <a:pt x="846" y="0"/>
                  </a:lnTo>
                  <a:cubicBezTo>
                    <a:pt x="874" y="0"/>
                    <a:pt x="896" y="22"/>
                    <a:pt x="896" y="50"/>
                  </a:cubicBezTo>
                  <a:cubicBezTo>
                    <a:pt x="896" y="77"/>
                    <a:pt x="874" y="100"/>
                    <a:pt x="846" y="100"/>
                  </a:cubicBezTo>
                  <a:close/>
                  <a:moveTo>
                    <a:pt x="646" y="100"/>
                  </a:moveTo>
                  <a:lnTo>
                    <a:pt x="646" y="100"/>
                  </a:lnTo>
                  <a:cubicBezTo>
                    <a:pt x="618" y="100"/>
                    <a:pt x="596" y="77"/>
                    <a:pt x="596" y="50"/>
                  </a:cubicBezTo>
                  <a:cubicBezTo>
                    <a:pt x="596" y="22"/>
                    <a:pt x="618" y="0"/>
                    <a:pt x="646" y="0"/>
                  </a:cubicBezTo>
                  <a:lnTo>
                    <a:pt x="646" y="0"/>
                  </a:lnTo>
                  <a:cubicBezTo>
                    <a:pt x="673" y="0"/>
                    <a:pt x="696" y="22"/>
                    <a:pt x="696" y="50"/>
                  </a:cubicBezTo>
                  <a:cubicBezTo>
                    <a:pt x="696" y="77"/>
                    <a:pt x="673" y="100"/>
                    <a:pt x="646" y="100"/>
                  </a:cubicBezTo>
                  <a:close/>
                  <a:moveTo>
                    <a:pt x="446" y="100"/>
                  </a:moveTo>
                  <a:lnTo>
                    <a:pt x="446" y="100"/>
                  </a:lnTo>
                  <a:cubicBezTo>
                    <a:pt x="418" y="100"/>
                    <a:pt x="396" y="77"/>
                    <a:pt x="396" y="50"/>
                  </a:cubicBezTo>
                  <a:cubicBezTo>
                    <a:pt x="396" y="22"/>
                    <a:pt x="418" y="0"/>
                    <a:pt x="446" y="0"/>
                  </a:cubicBezTo>
                  <a:lnTo>
                    <a:pt x="446" y="0"/>
                  </a:lnTo>
                  <a:cubicBezTo>
                    <a:pt x="473" y="0"/>
                    <a:pt x="496" y="22"/>
                    <a:pt x="496" y="50"/>
                  </a:cubicBezTo>
                  <a:cubicBezTo>
                    <a:pt x="496" y="77"/>
                    <a:pt x="473" y="100"/>
                    <a:pt x="446" y="100"/>
                  </a:cubicBezTo>
                  <a:close/>
                  <a:moveTo>
                    <a:pt x="246" y="100"/>
                  </a:moveTo>
                  <a:lnTo>
                    <a:pt x="246" y="100"/>
                  </a:lnTo>
                  <a:cubicBezTo>
                    <a:pt x="218" y="100"/>
                    <a:pt x="196" y="77"/>
                    <a:pt x="196" y="50"/>
                  </a:cubicBezTo>
                  <a:cubicBezTo>
                    <a:pt x="196" y="22"/>
                    <a:pt x="218" y="0"/>
                    <a:pt x="246" y="0"/>
                  </a:cubicBezTo>
                  <a:lnTo>
                    <a:pt x="246" y="0"/>
                  </a:lnTo>
                  <a:cubicBezTo>
                    <a:pt x="273" y="0"/>
                    <a:pt x="296" y="22"/>
                    <a:pt x="296" y="50"/>
                  </a:cubicBezTo>
                  <a:cubicBezTo>
                    <a:pt x="296" y="77"/>
                    <a:pt x="273" y="100"/>
                    <a:pt x="246" y="100"/>
                  </a:cubicBezTo>
                  <a:close/>
                  <a:moveTo>
                    <a:pt x="100" y="55"/>
                  </a:moveTo>
                  <a:lnTo>
                    <a:pt x="100" y="55"/>
                  </a:lnTo>
                  <a:cubicBezTo>
                    <a:pt x="100" y="82"/>
                    <a:pt x="78" y="105"/>
                    <a:pt x="50" y="105"/>
                  </a:cubicBezTo>
                  <a:cubicBezTo>
                    <a:pt x="23" y="105"/>
                    <a:pt x="0" y="82"/>
                    <a:pt x="0" y="55"/>
                  </a:cubicBezTo>
                  <a:lnTo>
                    <a:pt x="0" y="55"/>
                  </a:lnTo>
                  <a:cubicBezTo>
                    <a:pt x="0" y="27"/>
                    <a:pt x="23" y="5"/>
                    <a:pt x="50" y="5"/>
                  </a:cubicBezTo>
                  <a:cubicBezTo>
                    <a:pt x="78" y="5"/>
                    <a:pt x="100" y="27"/>
                    <a:pt x="100" y="55"/>
                  </a:cubicBezTo>
                  <a:close/>
                  <a:moveTo>
                    <a:pt x="100" y="255"/>
                  </a:moveTo>
                  <a:lnTo>
                    <a:pt x="100" y="255"/>
                  </a:lnTo>
                  <a:cubicBezTo>
                    <a:pt x="100" y="283"/>
                    <a:pt x="78" y="305"/>
                    <a:pt x="50" y="305"/>
                  </a:cubicBezTo>
                  <a:cubicBezTo>
                    <a:pt x="23" y="305"/>
                    <a:pt x="0" y="283"/>
                    <a:pt x="0" y="255"/>
                  </a:cubicBezTo>
                  <a:lnTo>
                    <a:pt x="0" y="255"/>
                  </a:lnTo>
                  <a:cubicBezTo>
                    <a:pt x="0" y="227"/>
                    <a:pt x="23" y="205"/>
                    <a:pt x="50" y="205"/>
                  </a:cubicBezTo>
                  <a:cubicBezTo>
                    <a:pt x="78" y="205"/>
                    <a:pt x="100" y="227"/>
                    <a:pt x="100" y="255"/>
                  </a:cubicBezTo>
                  <a:close/>
                  <a:moveTo>
                    <a:pt x="100" y="455"/>
                  </a:moveTo>
                  <a:lnTo>
                    <a:pt x="100" y="455"/>
                  </a:lnTo>
                  <a:cubicBezTo>
                    <a:pt x="100" y="483"/>
                    <a:pt x="78" y="505"/>
                    <a:pt x="50" y="505"/>
                  </a:cubicBezTo>
                  <a:cubicBezTo>
                    <a:pt x="23" y="505"/>
                    <a:pt x="0" y="483"/>
                    <a:pt x="0" y="455"/>
                  </a:cubicBezTo>
                  <a:lnTo>
                    <a:pt x="0" y="455"/>
                  </a:lnTo>
                  <a:cubicBezTo>
                    <a:pt x="0" y="427"/>
                    <a:pt x="23" y="405"/>
                    <a:pt x="50" y="405"/>
                  </a:cubicBezTo>
                  <a:cubicBezTo>
                    <a:pt x="78" y="405"/>
                    <a:pt x="100" y="427"/>
                    <a:pt x="100" y="455"/>
                  </a:cubicBezTo>
                  <a:close/>
                  <a:moveTo>
                    <a:pt x="100" y="655"/>
                  </a:moveTo>
                  <a:lnTo>
                    <a:pt x="100" y="655"/>
                  </a:lnTo>
                  <a:cubicBezTo>
                    <a:pt x="100" y="683"/>
                    <a:pt x="78" y="705"/>
                    <a:pt x="50" y="705"/>
                  </a:cubicBezTo>
                  <a:cubicBezTo>
                    <a:pt x="23" y="705"/>
                    <a:pt x="0" y="683"/>
                    <a:pt x="0" y="655"/>
                  </a:cubicBezTo>
                  <a:lnTo>
                    <a:pt x="0" y="655"/>
                  </a:lnTo>
                  <a:cubicBezTo>
                    <a:pt x="0" y="627"/>
                    <a:pt x="23" y="605"/>
                    <a:pt x="50" y="605"/>
                  </a:cubicBezTo>
                  <a:cubicBezTo>
                    <a:pt x="78" y="605"/>
                    <a:pt x="100" y="627"/>
                    <a:pt x="100" y="655"/>
                  </a:cubicBezTo>
                  <a:close/>
                  <a:moveTo>
                    <a:pt x="100" y="855"/>
                  </a:moveTo>
                  <a:lnTo>
                    <a:pt x="100" y="855"/>
                  </a:lnTo>
                  <a:cubicBezTo>
                    <a:pt x="100" y="883"/>
                    <a:pt x="78" y="905"/>
                    <a:pt x="50" y="905"/>
                  </a:cubicBezTo>
                  <a:cubicBezTo>
                    <a:pt x="23" y="905"/>
                    <a:pt x="0" y="883"/>
                    <a:pt x="0" y="855"/>
                  </a:cubicBezTo>
                  <a:lnTo>
                    <a:pt x="0" y="855"/>
                  </a:lnTo>
                  <a:cubicBezTo>
                    <a:pt x="0" y="827"/>
                    <a:pt x="23" y="805"/>
                    <a:pt x="50" y="805"/>
                  </a:cubicBezTo>
                  <a:cubicBezTo>
                    <a:pt x="78" y="805"/>
                    <a:pt x="100" y="827"/>
                    <a:pt x="100" y="855"/>
                  </a:cubicBezTo>
                  <a:close/>
                  <a:moveTo>
                    <a:pt x="100" y="1055"/>
                  </a:moveTo>
                  <a:lnTo>
                    <a:pt x="100" y="1055"/>
                  </a:lnTo>
                  <a:cubicBezTo>
                    <a:pt x="100" y="1083"/>
                    <a:pt x="78" y="1105"/>
                    <a:pt x="50" y="1105"/>
                  </a:cubicBezTo>
                  <a:cubicBezTo>
                    <a:pt x="23" y="1105"/>
                    <a:pt x="0" y="1083"/>
                    <a:pt x="0" y="1055"/>
                  </a:cubicBezTo>
                  <a:lnTo>
                    <a:pt x="0" y="1055"/>
                  </a:lnTo>
                  <a:cubicBezTo>
                    <a:pt x="0" y="1028"/>
                    <a:pt x="23" y="1005"/>
                    <a:pt x="50" y="1005"/>
                  </a:cubicBezTo>
                  <a:cubicBezTo>
                    <a:pt x="78" y="1005"/>
                    <a:pt x="100" y="1028"/>
                    <a:pt x="100" y="1055"/>
                  </a:cubicBezTo>
                  <a:close/>
                  <a:moveTo>
                    <a:pt x="100" y="1255"/>
                  </a:moveTo>
                  <a:lnTo>
                    <a:pt x="100" y="1255"/>
                  </a:lnTo>
                  <a:cubicBezTo>
                    <a:pt x="100" y="1283"/>
                    <a:pt x="78" y="1305"/>
                    <a:pt x="50" y="1305"/>
                  </a:cubicBezTo>
                  <a:cubicBezTo>
                    <a:pt x="23" y="1305"/>
                    <a:pt x="0" y="1283"/>
                    <a:pt x="0" y="1255"/>
                  </a:cubicBezTo>
                  <a:lnTo>
                    <a:pt x="0" y="1255"/>
                  </a:lnTo>
                  <a:cubicBezTo>
                    <a:pt x="0" y="1228"/>
                    <a:pt x="23" y="1205"/>
                    <a:pt x="50" y="1205"/>
                  </a:cubicBezTo>
                  <a:cubicBezTo>
                    <a:pt x="78" y="1205"/>
                    <a:pt x="100" y="1228"/>
                    <a:pt x="100" y="1255"/>
                  </a:cubicBezTo>
                  <a:close/>
                  <a:moveTo>
                    <a:pt x="100" y="1455"/>
                  </a:moveTo>
                  <a:lnTo>
                    <a:pt x="100" y="1456"/>
                  </a:lnTo>
                  <a:cubicBezTo>
                    <a:pt x="100" y="1483"/>
                    <a:pt x="78" y="1506"/>
                    <a:pt x="50" y="1506"/>
                  </a:cubicBezTo>
                  <a:cubicBezTo>
                    <a:pt x="23" y="1506"/>
                    <a:pt x="0" y="1483"/>
                    <a:pt x="0" y="1456"/>
                  </a:cubicBezTo>
                  <a:lnTo>
                    <a:pt x="0" y="1455"/>
                  </a:lnTo>
                  <a:cubicBezTo>
                    <a:pt x="0" y="1428"/>
                    <a:pt x="23" y="1405"/>
                    <a:pt x="50" y="1405"/>
                  </a:cubicBezTo>
                  <a:cubicBezTo>
                    <a:pt x="78" y="1405"/>
                    <a:pt x="100" y="1428"/>
                    <a:pt x="100" y="1455"/>
                  </a:cubicBezTo>
                  <a:close/>
                  <a:moveTo>
                    <a:pt x="100" y="1656"/>
                  </a:moveTo>
                  <a:lnTo>
                    <a:pt x="100" y="1656"/>
                  </a:lnTo>
                  <a:cubicBezTo>
                    <a:pt x="100" y="1683"/>
                    <a:pt x="78" y="1706"/>
                    <a:pt x="50" y="1706"/>
                  </a:cubicBezTo>
                  <a:cubicBezTo>
                    <a:pt x="23" y="1706"/>
                    <a:pt x="0" y="1683"/>
                    <a:pt x="0" y="1656"/>
                  </a:cubicBezTo>
                  <a:lnTo>
                    <a:pt x="0" y="1656"/>
                  </a:lnTo>
                  <a:cubicBezTo>
                    <a:pt x="0" y="1628"/>
                    <a:pt x="23" y="1606"/>
                    <a:pt x="50" y="1606"/>
                  </a:cubicBezTo>
                  <a:cubicBezTo>
                    <a:pt x="78" y="1606"/>
                    <a:pt x="100" y="1628"/>
                    <a:pt x="100" y="1656"/>
                  </a:cubicBezTo>
                  <a:close/>
                  <a:moveTo>
                    <a:pt x="100" y="1856"/>
                  </a:moveTo>
                  <a:lnTo>
                    <a:pt x="100" y="1856"/>
                  </a:lnTo>
                  <a:cubicBezTo>
                    <a:pt x="100" y="1883"/>
                    <a:pt x="78" y="1906"/>
                    <a:pt x="50" y="1906"/>
                  </a:cubicBezTo>
                  <a:cubicBezTo>
                    <a:pt x="23" y="1906"/>
                    <a:pt x="0" y="1883"/>
                    <a:pt x="0" y="1856"/>
                  </a:cubicBezTo>
                  <a:lnTo>
                    <a:pt x="0" y="1856"/>
                  </a:lnTo>
                  <a:cubicBezTo>
                    <a:pt x="0" y="1828"/>
                    <a:pt x="23" y="1806"/>
                    <a:pt x="50" y="1806"/>
                  </a:cubicBezTo>
                  <a:cubicBezTo>
                    <a:pt x="78" y="1806"/>
                    <a:pt x="100" y="1828"/>
                    <a:pt x="100" y="1856"/>
                  </a:cubicBezTo>
                  <a:close/>
                  <a:moveTo>
                    <a:pt x="100" y="2056"/>
                  </a:moveTo>
                  <a:lnTo>
                    <a:pt x="100" y="2056"/>
                  </a:lnTo>
                  <a:cubicBezTo>
                    <a:pt x="100" y="2083"/>
                    <a:pt x="78" y="2106"/>
                    <a:pt x="50" y="2106"/>
                  </a:cubicBezTo>
                  <a:cubicBezTo>
                    <a:pt x="23" y="2106"/>
                    <a:pt x="0" y="2083"/>
                    <a:pt x="0" y="2056"/>
                  </a:cubicBezTo>
                  <a:lnTo>
                    <a:pt x="0" y="2056"/>
                  </a:lnTo>
                  <a:cubicBezTo>
                    <a:pt x="0" y="2028"/>
                    <a:pt x="23" y="2006"/>
                    <a:pt x="50" y="2006"/>
                  </a:cubicBezTo>
                  <a:cubicBezTo>
                    <a:pt x="78" y="2006"/>
                    <a:pt x="100" y="2028"/>
                    <a:pt x="100" y="2056"/>
                  </a:cubicBezTo>
                  <a:close/>
                  <a:moveTo>
                    <a:pt x="100" y="2256"/>
                  </a:moveTo>
                  <a:lnTo>
                    <a:pt x="100" y="2256"/>
                  </a:lnTo>
                  <a:cubicBezTo>
                    <a:pt x="100" y="2284"/>
                    <a:pt x="78" y="2306"/>
                    <a:pt x="50" y="2306"/>
                  </a:cubicBezTo>
                  <a:cubicBezTo>
                    <a:pt x="23" y="2306"/>
                    <a:pt x="0" y="2284"/>
                    <a:pt x="0" y="2256"/>
                  </a:cubicBezTo>
                  <a:lnTo>
                    <a:pt x="0" y="2256"/>
                  </a:lnTo>
                  <a:cubicBezTo>
                    <a:pt x="0" y="2228"/>
                    <a:pt x="23" y="2206"/>
                    <a:pt x="50" y="2206"/>
                  </a:cubicBezTo>
                  <a:cubicBezTo>
                    <a:pt x="78" y="2206"/>
                    <a:pt x="100" y="2228"/>
                    <a:pt x="100" y="2256"/>
                  </a:cubicBezTo>
                  <a:close/>
                  <a:moveTo>
                    <a:pt x="100" y="2456"/>
                  </a:moveTo>
                  <a:lnTo>
                    <a:pt x="100" y="2456"/>
                  </a:lnTo>
                  <a:cubicBezTo>
                    <a:pt x="100" y="2484"/>
                    <a:pt x="78" y="2506"/>
                    <a:pt x="50" y="2506"/>
                  </a:cubicBezTo>
                  <a:cubicBezTo>
                    <a:pt x="23" y="2506"/>
                    <a:pt x="0" y="2484"/>
                    <a:pt x="0" y="2456"/>
                  </a:cubicBezTo>
                  <a:lnTo>
                    <a:pt x="0" y="2456"/>
                  </a:lnTo>
                  <a:cubicBezTo>
                    <a:pt x="0" y="2428"/>
                    <a:pt x="23" y="2406"/>
                    <a:pt x="50" y="2406"/>
                  </a:cubicBezTo>
                  <a:cubicBezTo>
                    <a:pt x="78" y="2406"/>
                    <a:pt x="100" y="2428"/>
                    <a:pt x="100" y="2456"/>
                  </a:cubicBezTo>
                  <a:close/>
                  <a:moveTo>
                    <a:pt x="100" y="2656"/>
                  </a:moveTo>
                  <a:lnTo>
                    <a:pt x="100" y="2656"/>
                  </a:lnTo>
                  <a:cubicBezTo>
                    <a:pt x="100" y="2684"/>
                    <a:pt x="78" y="2706"/>
                    <a:pt x="50" y="2706"/>
                  </a:cubicBezTo>
                  <a:cubicBezTo>
                    <a:pt x="23" y="2706"/>
                    <a:pt x="0" y="2684"/>
                    <a:pt x="0" y="2656"/>
                  </a:cubicBezTo>
                  <a:lnTo>
                    <a:pt x="0" y="2656"/>
                  </a:lnTo>
                  <a:cubicBezTo>
                    <a:pt x="0" y="2628"/>
                    <a:pt x="23" y="2606"/>
                    <a:pt x="50" y="2606"/>
                  </a:cubicBezTo>
                  <a:cubicBezTo>
                    <a:pt x="78" y="2606"/>
                    <a:pt x="100" y="2628"/>
                    <a:pt x="100" y="2656"/>
                  </a:cubicBezTo>
                  <a:close/>
                  <a:moveTo>
                    <a:pt x="100" y="2856"/>
                  </a:moveTo>
                  <a:lnTo>
                    <a:pt x="100" y="2856"/>
                  </a:lnTo>
                  <a:cubicBezTo>
                    <a:pt x="100" y="2884"/>
                    <a:pt x="78" y="2906"/>
                    <a:pt x="50" y="2906"/>
                  </a:cubicBezTo>
                  <a:cubicBezTo>
                    <a:pt x="23" y="2906"/>
                    <a:pt x="0" y="2884"/>
                    <a:pt x="0" y="2856"/>
                  </a:cubicBezTo>
                  <a:lnTo>
                    <a:pt x="0" y="2856"/>
                  </a:lnTo>
                  <a:cubicBezTo>
                    <a:pt x="0" y="2828"/>
                    <a:pt x="23" y="2806"/>
                    <a:pt x="50" y="2806"/>
                  </a:cubicBezTo>
                  <a:cubicBezTo>
                    <a:pt x="78" y="2806"/>
                    <a:pt x="100" y="2828"/>
                    <a:pt x="100" y="2856"/>
                  </a:cubicBezTo>
                  <a:close/>
                  <a:moveTo>
                    <a:pt x="100" y="3056"/>
                  </a:moveTo>
                  <a:lnTo>
                    <a:pt x="100" y="3056"/>
                  </a:lnTo>
                  <a:cubicBezTo>
                    <a:pt x="100" y="3084"/>
                    <a:pt x="78" y="3106"/>
                    <a:pt x="50" y="3106"/>
                  </a:cubicBezTo>
                  <a:cubicBezTo>
                    <a:pt x="23" y="3106"/>
                    <a:pt x="0" y="3084"/>
                    <a:pt x="0" y="3056"/>
                  </a:cubicBezTo>
                  <a:lnTo>
                    <a:pt x="0" y="3056"/>
                  </a:lnTo>
                  <a:cubicBezTo>
                    <a:pt x="0" y="3029"/>
                    <a:pt x="23" y="3006"/>
                    <a:pt x="50" y="3006"/>
                  </a:cubicBezTo>
                  <a:cubicBezTo>
                    <a:pt x="78" y="3006"/>
                    <a:pt x="100" y="3029"/>
                    <a:pt x="100" y="3056"/>
                  </a:cubicBezTo>
                  <a:close/>
                  <a:moveTo>
                    <a:pt x="100" y="3256"/>
                  </a:moveTo>
                  <a:lnTo>
                    <a:pt x="100" y="3256"/>
                  </a:lnTo>
                  <a:cubicBezTo>
                    <a:pt x="100" y="3284"/>
                    <a:pt x="78" y="3306"/>
                    <a:pt x="50" y="3306"/>
                  </a:cubicBezTo>
                  <a:cubicBezTo>
                    <a:pt x="23" y="3306"/>
                    <a:pt x="0" y="3284"/>
                    <a:pt x="0" y="3256"/>
                  </a:cubicBezTo>
                  <a:lnTo>
                    <a:pt x="0" y="3256"/>
                  </a:lnTo>
                  <a:cubicBezTo>
                    <a:pt x="0" y="3229"/>
                    <a:pt x="23" y="3206"/>
                    <a:pt x="50" y="3206"/>
                  </a:cubicBezTo>
                  <a:cubicBezTo>
                    <a:pt x="78" y="3206"/>
                    <a:pt x="100" y="3229"/>
                    <a:pt x="100" y="3256"/>
                  </a:cubicBezTo>
                  <a:close/>
                  <a:moveTo>
                    <a:pt x="100" y="3456"/>
                  </a:moveTo>
                  <a:lnTo>
                    <a:pt x="100" y="3457"/>
                  </a:lnTo>
                  <a:cubicBezTo>
                    <a:pt x="100" y="3484"/>
                    <a:pt x="78" y="3507"/>
                    <a:pt x="50" y="3507"/>
                  </a:cubicBezTo>
                  <a:cubicBezTo>
                    <a:pt x="23" y="3507"/>
                    <a:pt x="0" y="3484"/>
                    <a:pt x="0" y="3457"/>
                  </a:cubicBezTo>
                  <a:lnTo>
                    <a:pt x="0" y="3456"/>
                  </a:lnTo>
                  <a:cubicBezTo>
                    <a:pt x="0" y="3429"/>
                    <a:pt x="23" y="3406"/>
                    <a:pt x="50" y="3406"/>
                  </a:cubicBezTo>
                  <a:cubicBezTo>
                    <a:pt x="78" y="3406"/>
                    <a:pt x="100" y="3429"/>
                    <a:pt x="100" y="3456"/>
                  </a:cubicBezTo>
                  <a:close/>
                  <a:moveTo>
                    <a:pt x="100" y="3657"/>
                  </a:moveTo>
                  <a:lnTo>
                    <a:pt x="100" y="3657"/>
                  </a:lnTo>
                  <a:cubicBezTo>
                    <a:pt x="100" y="3684"/>
                    <a:pt x="78" y="3707"/>
                    <a:pt x="50" y="3707"/>
                  </a:cubicBezTo>
                  <a:cubicBezTo>
                    <a:pt x="23" y="3707"/>
                    <a:pt x="0" y="3684"/>
                    <a:pt x="0" y="3657"/>
                  </a:cubicBezTo>
                  <a:lnTo>
                    <a:pt x="0" y="3657"/>
                  </a:lnTo>
                  <a:cubicBezTo>
                    <a:pt x="0" y="3629"/>
                    <a:pt x="23" y="3607"/>
                    <a:pt x="50" y="3607"/>
                  </a:cubicBezTo>
                  <a:cubicBezTo>
                    <a:pt x="78" y="3607"/>
                    <a:pt x="100" y="3629"/>
                    <a:pt x="100" y="3657"/>
                  </a:cubicBezTo>
                  <a:close/>
                  <a:moveTo>
                    <a:pt x="100" y="3857"/>
                  </a:moveTo>
                  <a:lnTo>
                    <a:pt x="100" y="3857"/>
                  </a:lnTo>
                  <a:cubicBezTo>
                    <a:pt x="100" y="3884"/>
                    <a:pt x="78" y="3907"/>
                    <a:pt x="50" y="3907"/>
                  </a:cubicBezTo>
                  <a:cubicBezTo>
                    <a:pt x="23" y="3907"/>
                    <a:pt x="0" y="3884"/>
                    <a:pt x="0" y="3857"/>
                  </a:cubicBezTo>
                  <a:lnTo>
                    <a:pt x="0" y="3857"/>
                  </a:lnTo>
                  <a:cubicBezTo>
                    <a:pt x="0" y="3829"/>
                    <a:pt x="23" y="3807"/>
                    <a:pt x="50" y="3807"/>
                  </a:cubicBezTo>
                  <a:cubicBezTo>
                    <a:pt x="78" y="3807"/>
                    <a:pt x="100" y="3829"/>
                    <a:pt x="100" y="3857"/>
                  </a:cubicBezTo>
                  <a:close/>
                  <a:moveTo>
                    <a:pt x="100" y="4057"/>
                  </a:moveTo>
                  <a:lnTo>
                    <a:pt x="100" y="4057"/>
                  </a:lnTo>
                  <a:cubicBezTo>
                    <a:pt x="100" y="4084"/>
                    <a:pt x="78" y="4107"/>
                    <a:pt x="50" y="4107"/>
                  </a:cubicBezTo>
                  <a:cubicBezTo>
                    <a:pt x="23" y="4107"/>
                    <a:pt x="0" y="4084"/>
                    <a:pt x="0" y="4057"/>
                  </a:cubicBezTo>
                  <a:lnTo>
                    <a:pt x="0" y="4057"/>
                  </a:lnTo>
                  <a:cubicBezTo>
                    <a:pt x="0" y="4029"/>
                    <a:pt x="23" y="4007"/>
                    <a:pt x="50" y="4007"/>
                  </a:cubicBezTo>
                  <a:cubicBezTo>
                    <a:pt x="78" y="4007"/>
                    <a:pt x="100" y="4029"/>
                    <a:pt x="100" y="4057"/>
                  </a:cubicBezTo>
                  <a:close/>
                  <a:moveTo>
                    <a:pt x="100" y="4257"/>
                  </a:moveTo>
                  <a:lnTo>
                    <a:pt x="100" y="4257"/>
                  </a:lnTo>
                  <a:cubicBezTo>
                    <a:pt x="100" y="4285"/>
                    <a:pt x="78" y="4307"/>
                    <a:pt x="50" y="4307"/>
                  </a:cubicBezTo>
                  <a:cubicBezTo>
                    <a:pt x="23" y="4307"/>
                    <a:pt x="0" y="4285"/>
                    <a:pt x="0" y="4257"/>
                  </a:cubicBezTo>
                  <a:lnTo>
                    <a:pt x="0" y="4257"/>
                  </a:lnTo>
                  <a:cubicBezTo>
                    <a:pt x="0" y="4229"/>
                    <a:pt x="23" y="4207"/>
                    <a:pt x="50" y="4207"/>
                  </a:cubicBezTo>
                  <a:cubicBezTo>
                    <a:pt x="78" y="4207"/>
                    <a:pt x="100" y="4229"/>
                    <a:pt x="100" y="4257"/>
                  </a:cubicBezTo>
                  <a:close/>
                  <a:moveTo>
                    <a:pt x="100" y="4457"/>
                  </a:moveTo>
                  <a:lnTo>
                    <a:pt x="100" y="4457"/>
                  </a:lnTo>
                  <a:cubicBezTo>
                    <a:pt x="100" y="4485"/>
                    <a:pt x="78" y="4507"/>
                    <a:pt x="50" y="4507"/>
                  </a:cubicBezTo>
                  <a:cubicBezTo>
                    <a:pt x="23" y="4507"/>
                    <a:pt x="0" y="4485"/>
                    <a:pt x="0" y="4457"/>
                  </a:cubicBezTo>
                  <a:lnTo>
                    <a:pt x="0" y="4457"/>
                  </a:lnTo>
                  <a:cubicBezTo>
                    <a:pt x="0" y="4429"/>
                    <a:pt x="23" y="4407"/>
                    <a:pt x="50" y="4407"/>
                  </a:cubicBezTo>
                  <a:cubicBezTo>
                    <a:pt x="78" y="4407"/>
                    <a:pt x="100" y="4429"/>
                    <a:pt x="100" y="4457"/>
                  </a:cubicBezTo>
                  <a:close/>
                  <a:moveTo>
                    <a:pt x="204" y="4453"/>
                  </a:moveTo>
                  <a:lnTo>
                    <a:pt x="204" y="4453"/>
                  </a:lnTo>
                  <a:cubicBezTo>
                    <a:pt x="232" y="4453"/>
                    <a:pt x="254" y="4476"/>
                    <a:pt x="254" y="4503"/>
                  </a:cubicBezTo>
                  <a:cubicBezTo>
                    <a:pt x="254" y="4531"/>
                    <a:pt x="232" y="4553"/>
                    <a:pt x="204" y="4553"/>
                  </a:cubicBezTo>
                  <a:lnTo>
                    <a:pt x="204" y="4553"/>
                  </a:lnTo>
                  <a:cubicBezTo>
                    <a:pt x="177" y="4553"/>
                    <a:pt x="154" y="4531"/>
                    <a:pt x="154" y="4503"/>
                  </a:cubicBezTo>
                  <a:cubicBezTo>
                    <a:pt x="154" y="4476"/>
                    <a:pt x="177" y="4453"/>
                    <a:pt x="204" y="4453"/>
                  </a:cubicBezTo>
                  <a:close/>
                  <a:moveTo>
                    <a:pt x="404" y="4453"/>
                  </a:moveTo>
                  <a:lnTo>
                    <a:pt x="405" y="4453"/>
                  </a:lnTo>
                  <a:cubicBezTo>
                    <a:pt x="432" y="4453"/>
                    <a:pt x="455" y="4476"/>
                    <a:pt x="455" y="4503"/>
                  </a:cubicBezTo>
                  <a:cubicBezTo>
                    <a:pt x="455" y="4531"/>
                    <a:pt x="432" y="4553"/>
                    <a:pt x="405" y="4553"/>
                  </a:cubicBezTo>
                  <a:lnTo>
                    <a:pt x="404" y="4553"/>
                  </a:lnTo>
                  <a:cubicBezTo>
                    <a:pt x="377" y="4553"/>
                    <a:pt x="354" y="4531"/>
                    <a:pt x="354" y="4503"/>
                  </a:cubicBezTo>
                  <a:cubicBezTo>
                    <a:pt x="354" y="4476"/>
                    <a:pt x="377" y="4453"/>
                    <a:pt x="404" y="4453"/>
                  </a:cubicBezTo>
                  <a:close/>
                  <a:moveTo>
                    <a:pt x="605" y="4453"/>
                  </a:moveTo>
                  <a:lnTo>
                    <a:pt x="605" y="4453"/>
                  </a:lnTo>
                  <a:cubicBezTo>
                    <a:pt x="632" y="4453"/>
                    <a:pt x="655" y="4476"/>
                    <a:pt x="655" y="4503"/>
                  </a:cubicBezTo>
                  <a:cubicBezTo>
                    <a:pt x="655" y="4531"/>
                    <a:pt x="632" y="4553"/>
                    <a:pt x="605" y="4553"/>
                  </a:cubicBezTo>
                  <a:lnTo>
                    <a:pt x="605" y="4553"/>
                  </a:lnTo>
                  <a:cubicBezTo>
                    <a:pt x="577" y="4553"/>
                    <a:pt x="555" y="4531"/>
                    <a:pt x="555" y="4503"/>
                  </a:cubicBezTo>
                  <a:cubicBezTo>
                    <a:pt x="555" y="4476"/>
                    <a:pt x="577" y="4453"/>
                    <a:pt x="605" y="4453"/>
                  </a:cubicBezTo>
                  <a:close/>
                  <a:moveTo>
                    <a:pt x="805" y="4453"/>
                  </a:moveTo>
                  <a:lnTo>
                    <a:pt x="805" y="4453"/>
                  </a:lnTo>
                  <a:cubicBezTo>
                    <a:pt x="832" y="4453"/>
                    <a:pt x="855" y="4476"/>
                    <a:pt x="855" y="4503"/>
                  </a:cubicBezTo>
                  <a:cubicBezTo>
                    <a:pt x="855" y="4531"/>
                    <a:pt x="832" y="4553"/>
                    <a:pt x="805" y="4553"/>
                  </a:cubicBezTo>
                  <a:lnTo>
                    <a:pt x="805" y="4553"/>
                  </a:lnTo>
                  <a:cubicBezTo>
                    <a:pt x="777" y="4553"/>
                    <a:pt x="755" y="4531"/>
                    <a:pt x="755" y="4503"/>
                  </a:cubicBezTo>
                  <a:cubicBezTo>
                    <a:pt x="755" y="4476"/>
                    <a:pt x="777" y="4453"/>
                    <a:pt x="805" y="4453"/>
                  </a:cubicBezTo>
                  <a:close/>
                  <a:moveTo>
                    <a:pt x="1005" y="4453"/>
                  </a:moveTo>
                  <a:lnTo>
                    <a:pt x="1005" y="4453"/>
                  </a:lnTo>
                  <a:cubicBezTo>
                    <a:pt x="1032" y="4453"/>
                    <a:pt x="1055" y="4476"/>
                    <a:pt x="1055" y="4503"/>
                  </a:cubicBezTo>
                  <a:cubicBezTo>
                    <a:pt x="1055" y="4531"/>
                    <a:pt x="1032" y="4553"/>
                    <a:pt x="1005" y="4553"/>
                  </a:cubicBezTo>
                  <a:lnTo>
                    <a:pt x="1005" y="4553"/>
                  </a:lnTo>
                  <a:cubicBezTo>
                    <a:pt x="977" y="4553"/>
                    <a:pt x="955" y="4531"/>
                    <a:pt x="955" y="4503"/>
                  </a:cubicBezTo>
                  <a:cubicBezTo>
                    <a:pt x="955" y="4476"/>
                    <a:pt x="977" y="4453"/>
                    <a:pt x="1005" y="4453"/>
                  </a:cubicBezTo>
                  <a:close/>
                  <a:moveTo>
                    <a:pt x="1205" y="4453"/>
                  </a:moveTo>
                  <a:lnTo>
                    <a:pt x="1205" y="4453"/>
                  </a:lnTo>
                  <a:cubicBezTo>
                    <a:pt x="1233" y="4453"/>
                    <a:pt x="1255" y="4476"/>
                    <a:pt x="1255" y="4503"/>
                  </a:cubicBezTo>
                  <a:cubicBezTo>
                    <a:pt x="1255" y="4531"/>
                    <a:pt x="1233" y="4553"/>
                    <a:pt x="1205" y="4553"/>
                  </a:cubicBezTo>
                  <a:lnTo>
                    <a:pt x="1205" y="4553"/>
                  </a:lnTo>
                  <a:cubicBezTo>
                    <a:pt x="1177" y="4553"/>
                    <a:pt x="1155" y="4531"/>
                    <a:pt x="1155" y="4503"/>
                  </a:cubicBezTo>
                  <a:cubicBezTo>
                    <a:pt x="1155" y="4476"/>
                    <a:pt x="1177" y="4453"/>
                    <a:pt x="1205" y="4453"/>
                  </a:cubicBezTo>
                  <a:close/>
                  <a:moveTo>
                    <a:pt x="1405" y="4453"/>
                  </a:moveTo>
                  <a:lnTo>
                    <a:pt x="1405" y="4453"/>
                  </a:lnTo>
                  <a:cubicBezTo>
                    <a:pt x="1433" y="4453"/>
                    <a:pt x="1455" y="4476"/>
                    <a:pt x="1455" y="4503"/>
                  </a:cubicBezTo>
                  <a:cubicBezTo>
                    <a:pt x="1455" y="4531"/>
                    <a:pt x="1433" y="4553"/>
                    <a:pt x="1405" y="4553"/>
                  </a:cubicBezTo>
                  <a:lnTo>
                    <a:pt x="1405" y="4553"/>
                  </a:lnTo>
                  <a:cubicBezTo>
                    <a:pt x="1377" y="4553"/>
                    <a:pt x="1355" y="4531"/>
                    <a:pt x="1355" y="4503"/>
                  </a:cubicBezTo>
                  <a:cubicBezTo>
                    <a:pt x="1355" y="4476"/>
                    <a:pt x="1377" y="4453"/>
                    <a:pt x="1405" y="4453"/>
                  </a:cubicBezTo>
                  <a:close/>
                  <a:moveTo>
                    <a:pt x="1605" y="4453"/>
                  </a:moveTo>
                  <a:lnTo>
                    <a:pt x="1605" y="4453"/>
                  </a:lnTo>
                  <a:cubicBezTo>
                    <a:pt x="1633" y="4453"/>
                    <a:pt x="1655" y="4476"/>
                    <a:pt x="1655" y="4503"/>
                  </a:cubicBezTo>
                  <a:cubicBezTo>
                    <a:pt x="1655" y="4531"/>
                    <a:pt x="1633" y="4553"/>
                    <a:pt x="1605" y="4553"/>
                  </a:cubicBezTo>
                  <a:lnTo>
                    <a:pt x="1605" y="4553"/>
                  </a:lnTo>
                  <a:cubicBezTo>
                    <a:pt x="1577" y="4553"/>
                    <a:pt x="1555" y="4531"/>
                    <a:pt x="1555" y="4503"/>
                  </a:cubicBezTo>
                  <a:cubicBezTo>
                    <a:pt x="1555" y="4476"/>
                    <a:pt x="1577" y="4453"/>
                    <a:pt x="1605" y="4453"/>
                  </a:cubicBezTo>
                  <a:close/>
                  <a:moveTo>
                    <a:pt x="1805" y="4453"/>
                  </a:moveTo>
                  <a:lnTo>
                    <a:pt x="1805" y="4453"/>
                  </a:lnTo>
                  <a:cubicBezTo>
                    <a:pt x="1833" y="4453"/>
                    <a:pt x="1855" y="4476"/>
                    <a:pt x="1855" y="4503"/>
                  </a:cubicBezTo>
                  <a:cubicBezTo>
                    <a:pt x="1855" y="4531"/>
                    <a:pt x="1833" y="4553"/>
                    <a:pt x="1805" y="4553"/>
                  </a:cubicBezTo>
                  <a:lnTo>
                    <a:pt x="1805" y="4553"/>
                  </a:lnTo>
                  <a:cubicBezTo>
                    <a:pt x="1778" y="4553"/>
                    <a:pt x="1755" y="4531"/>
                    <a:pt x="1755" y="4503"/>
                  </a:cubicBezTo>
                  <a:cubicBezTo>
                    <a:pt x="1755" y="4476"/>
                    <a:pt x="1778" y="4453"/>
                    <a:pt x="1805" y="4453"/>
                  </a:cubicBezTo>
                  <a:close/>
                  <a:moveTo>
                    <a:pt x="2005" y="4453"/>
                  </a:moveTo>
                  <a:lnTo>
                    <a:pt x="2005" y="4453"/>
                  </a:lnTo>
                  <a:cubicBezTo>
                    <a:pt x="2033" y="4453"/>
                    <a:pt x="2055" y="4476"/>
                    <a:pt x="2055" y="4503"/>
                  </a:cubicBezTo>
                  <a:cubicBezTo>
                    <a:pt x="2055" y="4531"/>
                    <a:pt x="2033" y="4553"/>
                    <a:pt x="2005" y="4553"/>
                  </a:cubicBezTo>
                  <a:lnTo>
                    <a:pt x="2005" y="4553"/>
                  </a:lnTo>
                  <a:cubicBezTo>
                    <a:pt x="1978" y="4553"/>
                    <a:pt x="1955" y="4531"/>
                    <a:pt x="1955" y="4503"/>
                  </a:cubicBezTo>
                  <a:cubicBezTo>
                    <a:pt x="1955" y="4476"/>
                    <a:pt x="1978" y="4453"/>
                    <a:pt x="2005" y="4453"/>
                  </a:cubicBezTo>
                  <a:close/>
                  <a:moveTo>
                    <a:pt x="2205" y="4453"/>
                  </a:moveTo>
                  <a:lnTo>
                    <a:pt x="2205" y="4453"/>
                  </a:lnTo>
                  <a:cubicBezTo>
                    <a:pt x="2233" y="4453"/>
                    <a:pt x="2255" y="4476"/>
                    <a:pt x="2255" y="4503"/>
                  </a:cubicBezTo>
                  <a:cubicBezTo>
                    <a:pt x="2255" y="4531"/>
                    <a:pt x="2233" y="4553"/>
                    <a:pt x="2205" y="4553"/>
                  </a:cubicBezTo>
                  <a:lnTo>
                    <a:pt x="2205" y="4553"/>
                  </a:lnTo>
                  <a:cubicBezTo>
                    <a:pt x="2178" y="4553"/>
                    <a:pt x="2155" y="4531"/>
                    <a:pt x="2155" y="4503"/>
                  </a:cubicBezTo>
                  <a:cubicBezTo>
                    <a:pt x="2155" y="4476"/>
                    <a:pt x="2178" y="4453"/>
                    <a:pt x="2205" y="4453"/>
                  </a:cubicBezTo>
                  <a:close/>
                  <a:moveTo>
                    <a:pt x="2405" y="4453"/>
                  </a:moveTo>
                  <a:lnTo>
                    <a:pt x="2406" y="4453"/>
                  </a:lnTo>
                  <a:cubicBezTo>
                    <a:pt x="2433" y="4453"/>
                    <a:pt x="2456" y="4476"/>
                    <a:pt x="2456" y="4503"/>
                  </a:cubicBezTo>
                  <a:cubicBezTo>
                    <a:pt x="2456" y="4531"/>
                    <a:pt x="2433" y="4553"/>
                    <a:pt x="2406" y="4553"/>
                  </a:cubicBezTo>
                  <a:lnTo>
                    <a:pt x="2405" y="4553"/>
                  </a:lnTo>
                  <a:cubicBezTo>
                    <a:pt x="2378" y="4553"/>
                    <a:pt x="2355" y="4531"/>
                    <a:pt x="2355" y="4503"/>
                  </a:cubicBezTo>
                  <a:cubicBezTo>
                    <a:pt x="2355" y="4476"/>
                    <a:pt x="2378" y="4453"/>
                    <a:pt x="2405" y="4453"/>
                  </a:cubicBezTo>
                  <a:close/>
                  <a:moveTo>
                    <a:pt x="2606" y="4453"/>
                  </a:moveTo>
                  <a:lnTo>
                    <a:pt x="2606" y="4453"/>
                  </a:lnTo>
                  <a:cubicBezTo>
                    <a:pt x="2633" y="4453"/>
                    <a:pt x="2656" y="4476"/>
                    <a:pt x="2656" y="4503"/>
                  </a:cubicBezTo>
                  <a:cubicBezTo>
                    <a:pt x="2656" y="4531"/>
                    <a:pt x="2633" y="4553"/>
                    <a:pt x="2606" y="4553"/>
                  </a:cubicBezTo>
                  <a:lnTo>
                    <a:pt x="2606" y="4553"/>
                  </a:lnTo>
                  <a:cubicBezTo>
                    <a:pt x="2578" y="4553"/>
                    <a:pt x="2556" y="4531"/>
                    <a:pt x="2556" y="4503"/>
                  </a:cubicBezTo>
                  <a:cubicBezTo>
                    <a:pt x="2556" y="4476"/>
                    <a:pt x="2578" y="4453"/>
                    <a:pt x="2606" y="4453"/>
                  </a:cubicBezTo>
                  <a:close/>
                  <a:moveTo>
                    <a:pt x="2806" y="4453"/>
                  </a:moveTo>
                  <a:lnTo>
                    <a:pt x="2806" y="4453"/>
                  </a:lnTo>
                  <a:cubicBezTo>
                    <a:pt x="2833" y="4453"/>
                    <a:pt x="2856" y="4476"/>
                    <a:pt x="2856" y="4503"/>
                  </a:cubicBezTo>
                  <a:cubicBezTo>
                    <a:pt x="2856" y="4531"/>
                    <a:pt x="2833" y="4553"/>
                    <a:pt x="2806" y="4553"/>
                  </a:cubicBezTo>
                  <a:lnTo>
                    <a:pt x="2806" y="4553"/>
                  </a:lnTo>
                  <a:cubicBezTo>
                    <a:pt x="2778" y="4553"/>
                    <a:pt x="2756" y="4531"/>
                    <a:pt x="2756" y="4503"/>
                  </a:cubicBezTo>
                  <a:cubicBezTo>
                    <a:pt x="2756" y="4476"/>
                    <a:pt x="2778" y="4453"/>
                    <a:pt x="2806" y="4453"/>
                  </a:cubicBezTo>
                  <a:close/>
                  <a:moveTo>
                    <a:pt x="3006" y="4453"/>
                  </a:moveTo>
                  <a:lnTo>
                    <a:pt x="3006" y="4453"/>
                  </a:lnTo>
                  <a:cubicBezTo>
                    <a:pt x="3033" y="4453"/>
                    <a:pt x="3056" y="4476"/>
                    <a:pt x="3056" y="4503"/>
                  </a:cubicBezTo>
                  <a:cubicBezTo>
                    <a:pt x="3056" y="4531"/>
                    <a:pt x="3033" y="4553"/>
                    <a:pt x="3006" y="4553"/>
                  </a:cubicBezTo>
                  <a:lnTo>
                    <a:pt x="3006" y="4553"/>
                  </a:lnTo>
                  <a:cubicBezTo>
                    <a:pt x="2978" y="4553"/>
                    <a:pt x="2956" y="4531"/>
                    <a:pt x="2956" y="4503"/>
                  </a:cubicBezTo>
                  <a:cubicBezTo>
                    <a:pt x="2956" y="4476"/>
                    <a:pt x="2978" y="4453"/>
                    <a:pt x="3006" y="4453"/>
                  </a:cubicBezTo>
                  <a:close/>
                  <a:moveTo>
                    <a:pt x="3206" y="4453"/>
                  </a:moveTo>
                  <a:lnTo>
                    <a:pt x="3206" y="4453"/>
                  </a:lnTo>
                  <a:cubicBezTo>
                    <a:pt x="3234" y="4453"/>
                    <a:pt x="3256" y="4476"/>
                    <a:pt x="3256" y="4503"/>
                  </a:cubicBezTo>
                  <a:cubicBezTo>
                    <a:pt x="3256" y="4531"/>
                    <a:pt x="3234" y="4553"/>
                    <a:pt x="3206" y="4553"/>
                  </a:cubicBezTo>
                  <a:lnTo>
                    <a:pt x="3206" y="4553"/>
                  </a:lnTo>
                  <a:cubicBezTo>
                    <a:pt x="3178" y="4553"/>
                    <a:pt x="3156" y="4531"/>
                    <a:pt x="3156" y="4503"/>
                  </a:cubicBezTo>
                  <a:cubicBezTo>
                    <a:pt x="3156" y="4476"/>
                    <a:pt x="3178" y="4453"/>
                    <a:pt x="3206" y="4453"/>
                  </a:cubicBezTo>
                  <a:close/>
                  <a:moveTo>
                    <a:pt x="3406" y="4453"/>
                  </a:moveTo>
                  <a:lnTo>
                    <a:pt x="3406" y="4453"/>
                  </a:lnTo>
                  <a:cubicBezTo>
                    <a:pt x="3434" y="4453"/>
                    <a:pt x="3456" y="4476"/>
                    <a:pt x="3456" y="4503"/>
                  </a:cubicBezTo>
                  <a:cubicBezTo>
                    <a:pt x="3456" y="4531"/>
                    <a:pt x="3434" y="4553"/>
                    <a:pt x="3406" y="4553"/>
                  </a:cubicBezTo>
                  <a:lnTo>
                    <a:pt x="3406" y="4553"/>
                  </a:lnTo>
                  <a:cubicBezTo>
                    <a:pt x="3378" y="4553"/>
                    <a:pt x="3356" y="4531"/>
                    <a:pt x="3356" y="4503"/>
                  </a:cubicBezTo>
                  <a:cubicBezTo>
                    <a:pt x="3356" y="4476"/>
                    <a:pt x="3378" y="4453"/>
                    <a:pt x="3406" y="4453"/>
                  </a:cubicBezTo>
                  <a:close/>
                  <a:moveTo>
                    <a:pt x="3606" y="4453"/>
                  </a:moveTo>
                  <a:lnTo>
                    <a:pt x="3606" y="4453"/>
                  </a:lnTo>
                  <a:cubicBezTo>
                    <a:pt x="3634" y="4453"/>
                    <a:pt x="3656" y="4476"/>
                    <a:pt x="3656" y="4503"/>
                  </a:cubicBezTo>
                  <a:cubicBezTo>
                    <a:pt x="3656" y="4531"/>
                    <a:pt x="3634" y="4553"/>
                    <a:pt x="3606" y="4553"/>
                  </a:cubicBezTo>
                  <a:lnTo>
                    <a:pt x="3606" y="4553"/>
                  </a:lnTo>
                  <a:cubicBezTo>
                    <a:pt x="3578" y="4553"/>
                    <a:pt x="3556" y="4531"/>
                    <a:pt x="3556" y="4503"/>
                  </a:cubicBezTo>
                  <a:cubicBezTo>
                    <a:pt x="3556" y="4476"/>
                    <a:pt x="3578" y="4453"/>
                    <a:pt x="3606" y="4453"/>
                  </a:cubicBezTo>
                  <a:close/>
                  <a:moveTo>
                    <a:pt x="3806" y="4453"/>
                  </a:moveTo>
                  <a:lnTo>
                    <a:pt x="3806" y="4453"/>
                  </a:lnTo>
                  <a:cubicBezTo>
                    <a:pt x="3834" y="4453"/>
                    <a:pt x="3856" y="4476"/>
                    <a:pt x="3856" y="4503"/>
                  </a:cubicBezTo>
                  <a:cubicBezTo>
                    <a:pt x="3856" y="4531"/>
                    <a:pt x="3834" y="4553"/>
                    <a:pt x="3806" y="4553"/>
                  </a:cubicBezTo>
                  <a:lnTo>
                    <a:pt x="3806" y="4553"/>
                  </a:lnTo>
                  <a:cubicBezTo>
                    <a:pt x="3779" y="4553"/>
                    <a:pt x="3756" y="4531"/>
                    <a:pt x="3756" y="4503"/>
                  </a:cubicBezTo>
                  <a:cubicBezTo>
                    <a:pt x="3756" y="4476"/>
                    <a:pt x="3779" y="4453"/>
                    <a:pt x="3806" y="4453"/>
                  </a:cubicBezTo>
                  <a:close/>
                  <a:moveTo>
                    <a:pt x="4006" y="4453"/>
                  </a:moveTo>
                  <a:lnTo>
                    <a:pt x="4006" y="4453"/>
                  </a:lnTo>
                  <a:cubicBezTo>
                    <a:pt x="4034" y="4453"/>
                    <a:pt x="4056" y="4476"/>
                    <a:pt x="4056" y="4503"/>
                  </a:cubicBezTo>
                  <a:cubicBezTo>
                    <a:pt x="4056" y="4531"/>
                    <a:pt x="4034" y="4553"/>
                    <a:pt x="4006" y="4553"/>
                  </a:cubicBezTo>
                  <a:lnTo>
                    <a:pt x="4006" y="4553"/>
                  </a:lnTo>
                  <a:cubicBezTo>
                    <a:pt x="3979" y="4553"/>
                    <a:pt x="3956" y="4531"/>
                    <a:pt x="3956" y="4503"/>
                  </a:cubicBezTo>
                  <a:cubicBezTo>
                    <a:pt x="3956" y="4476"/>
                    <a:pt x="3979" y="4453"/>
                    <a:pt x="4006" y="4453"/>
                  </a:cubicBezTo>
                  <a:close/>
                  <a:moveTo>
                    <a:pt x="4206" y="4453"/>
                  </a:moveTo>
                  <a:lnTo>
                    <a:pt x="4206" y="4453"/>
                  </a:lnTo>
                  <a:cubicBezTo>
                    <a:pt x="4234" y="4453"/>
                    <a:pt x="4256" y="4476"/>
                    <a:pt x="4256" y="4503"/>
                  </a:cubicBezTo>
                  <a:cubicBezTo>
                    <a:pt x="4256" y="4531"/>
                    <a:pt x="4234" y="4553"/>
                    <a:pt x="4206" y="4553"/>
                  </a:cubicBezTo>
                  <a:lnTo>
                    <a:pt x="4206" y="4553"/>
                  </a:lnTo>
                  <a:cubicBezTo>
                    <a:pt x="4179" y="4553"/>
                    <a:pt x="4156" y="4531"/>
                    <a:pt x="4156" y="4503"/>
                  </a:cubicBezTo>
                  <a:cubicBezTo>
                    <a:pt x="4156" y="4476"/>
                    <a:pt x="4179" y="4453"/>
                    <a:pt x="4206" y="4453"/>
                  </a:cubicBezTo>
                  <a:close/>
                  <a:moveTo>
                    <a:pt x="4406" y="4453"/>
                  </a:moveTo>
                  <a:lnTo>
                    <a:pt x="4407" y="4453"/>
                  </a:lnTo>
                  <a:cubicBezTo>
                    <a:pt x="4434" y="4453"/>
                    <a:pt x="4457" y="4476"/>
                    <a:pt x="4457" y="4503"/>
                  </a:cubicBezTo>
                  <a:cubicBezTo>
                    <a:pt x="4457" y="4531"/>
                    <a:pt x="4434" y="4553"/>
                    <a:pt x="4407" y="4553"/>
                  </a:cubicBezTo>
                  <a:lnTo>
                    <a:pt x="4406" y="4553"/>
                  </a:lnTo>
                  <a:cubicBezTo>
                    <a:pt x="4379" y="4553"/>
                    <a:pt x="4356" y="4531"/>
                    <a:pt x="4356" y="4503"/>
                  </a:cubicBezTo>
                  <a:cubicBezTo>
                    <a:pt x="4356" y="4476"/>
                    <a:pt x="4379" y="4453"/>
                    <a:pt x="4406" y="4453"/>
                  </a:cubicBezTo>
                  <a:close/>
                  <a:moveTo>
                    <a:pt x="4607" y="4453"/>
                  </a:moveTo>
                  <a:lnTo>
                    <a:pt x="4607" y="4453"/>
                  </a:lnTo>
                  <a:cubicBezTo>
                    <a:pt x="4634" y="4453"/>
                    <a:pt x="4657" y="4476"/>
                    <a:pt x="4657" y="4503"/>
                  </a:cubicBezTo>
                  <a:cubicBezTo>
                    <a:pt x="4657" y="4531"/>
                    <a:pt x="4634" y="4553"/>
                    <a:pt x="4607" y="4553"/>
                  </a:cubicBezTo>
                  <a:lnTo>
                    <a:pt x="4607" y="4553"/>
                  </a:lnTo>
                  <a:cubicBezTo>
                    <a:pt x="4579" y="4553"/>
                    <a:pt x="4557" y="4531"/>
                    <a:pt x="4557" y="4503"/>
                  </a:cubicBezTo>
                  <a:cubicBezTo>
                    <a:pt x="4557" y="4476"/>
                    <a:pt x="4579" y="4453"/>
                    <a:pt x="4607" y="4453"/>
                  </a:cubicBezTo>
                  <a:close/>
                  <a:moveTo>
                    <a:pt x="4807" y="4453"/>
                  </a:moveTo>
                  <a:lnTo>
                    <a:pt x="4807" y="4453"/>
                  </a:lnTo>
                  <a:cubicBezTo>
                    <a:pt x="4834" y="4453"/>
                    <a:pt x="4857" y="4476"/>
                    <a:pt x="4857" y="4503"/>
                  </a:cubicBezTo>
                  <a:cubicBezTo>
                    <a:pt x="4857" y="4531"/>
                    <a:pt x="4834" y="4553"/>
                    <a:pt x="4807" y="4553"/>
                  </a:cubicBezTo>
                  <a:lnTo>
                    <a:pt x="4807" y="4553"/>
                  </a:lnTo>
                  <a:cubicBezTo>
                    <a:pt x="4779" y="4553"/>
                    <a:pt x="4757" y="4531"/>
                    <a:pt x="4757" y="4503"/>
                  </a:cubicBezTo>
                  <a:cubicBezTo>
                    <a:pt x="4757" y="4476"/>
                    <a:pt x="4779" y="4453"/>
                    <a:pt x="4807" y="4453"/>
                  </a:cubicBezTo>
                  <a:close/>
                  <a:moveTo>
                    <a:pt x="5007" y="4453"/>
                  </a:moveTo>
                  <a:lnTo>
                    <a:pt x="5007" y="4453"/>
                  </a:lnTo>
                  <a:cubicBezTo>
                    <a:pt x="5034" y="4453"/>
                    <a:pt x="5057" y="4476"/>
                    <a:pt x="5057" y="4503"/>
                  </a:cubicBezTo>
                  <a:cubicBezTo>
                    <a:pt x="5057" y="4531"/>
                    <a:pt x="5034" y="4553"/>
                    <a:pt x="5007" y="4553"/>
                  </a:cubicBezTo>
                  <a:lnTo>
                    <a:pt x="5007" y="4553"/>
                  </a:lnTo>
                  <a:cubicBezTo>
                    <a:pt x="4979" y="4553"/>
                    <a:pt x="4957" y="4531"/>
                    <a:pt x="4957" y="4503"/>
                  </a:cubicBezTo>
                  <a:cubicBezTo>
                    <a:pt x="4957" y="4476"/>
                    <a:pt x="4979" y="4453"/>
                    <a:pt x="5007" y="4453"/>
                  </a:cubicBezTo>
                  <a:close/>
                  <a:moveTo>
                    <a:pt x="5207" y="4453"/>
                  </a:moveTo>
                  <a:lnTo>
                    <a:pt x="5207" y="4453"/>
                  </a:lnTo>
                  <a:cubicBezTo>
                    <a:pt x="5235" y="4453"/>
                    <a:pt x="5257" y="4476"/>
                    <a:pt x="5257" y="4503"/>
                  </a:cubicBezTo>
                  <a:cubicBezTo>
                    <a:pt x="5257" y="4531"/>
                    <a:pt x="5235" y="4553"/>
                    <a:pt x="5207" y="4553"/>
                  </a:cubicBezTo>
                  <a:lnTo>
                    <a:pt x="5207" y="4553"/>
                  </a:lnTo>
                  <a:cubicBezTo>
                    <a:pt x="5179" y="4553"/>
                    <a:pt x="5157" y="4531"/>
                    <a:pt x="5157" y="4503"/>
                  </a:cubicBezTo>
                  <a:cubicBezTo>
                    <a:pt x="5157" y="4476"/>
                    <a:pt x="5179" y="4453"/>
                    <a:pt x="5207" y="4453"/>
                  </a:cubicBezTo>
                  <a:close/>
                  <a:moveTo>
                    <a:pt x="5407" y="4453"/>
                  </a:moveTo>
                  <a:lnTo>
                    <a:pt x="5407" y="4453"/>
                  </a:lnTo>
                  <a:cubicBezTo>
                    <a:pt x="5435" y="4453"/>
                    <a:pt x="5457" y="4476"/>
                    <a:pt x="5457" y="4503"/>
                  </a:cubicBezTo>
                  <a:cubicBezTo>
                    <a:pt x="5457" y="4531"/>
                    <a:pt x="5435" y="4553"/>
                    <a:pt x="5407" y="4553"/>
                  </a:cubicBezTo>
                  <a:lnTo>
                    <a:pt x="5407" y="4553"/>
                  </a:lnTo>
                  <a:cubicBezTo>
                    <a:pt x="5379" y="4553"/>
                    <a:pt x="5357" y="4531"/>
                    <a:pt x="5357" y="4503"/>
                  </a:cubicBezTo>
                  <a:cubicBezTo>
                    <a:pt x="5357" y="4476"/>
                    <a:pt x="5379" y="4453"/>
                    <a:pt x="5407" y="4453"/>
                  </a:cubicBezTo>
                  <a:close/>
                  <a:moveTo>
                    <a:pt x="5607" y="4453"/>
                  </a:moveTo>
                  <a:lnTo>
                    <a:pt x="5607" y="4453"/>
                  </a:lnTo>
                  <a:cubicBezTo>
                    <a:pt x="5635" y="4453"/>
                    <a:pt x="5657" y="4476"/>
                    <a:pt x="5657" y="4503"/>
                  </a:cubicBezTo>
                  <a:cubicBezTo>
                    <a:pt x="5657" y="4531"/>
                    <a:pt x="5635" y="4553"/>
                    <a:pt x="5607" y="4553"/>
                  </a:cubicBezTo>
                  <a:lnTo>
                    <a:pt x="5607" y="4553"/>
                  </a:lnTo>
                  <a:cubicBezTo>
                    <a:pt x="5579" y="4553"/>
                    <a:pt x="5557" y="4531"/>
                    <a:pt x="5557" y="4503"/>
                  </a:cubicBezTo>
                  <a:cubicBezTo>
                    <a:pt x="5557" y="4476"/>
                    <a:pt x="5579" y="4453"/>
                    <a:pt x="5607" y="4453"/>
                  </a:cubicBezTo>
                  <a:close/>
                  <a:moveTo>
                    <a:pt x="5807" y="4453"/>
                  </a:moveTo>
                  <a:lnTo>
                    <a:pt x="5807" y="4453"/>
                  </a:lnTo>
                  <a:cubicBezTo>
                    <a:pt x="5835" y="4453"/>
                    <a:pt x="5857" y="4476"/>
                    <a:pt x="5857" y="4503"/>
                  </a:cubicBezTo>
                  <a:cubicBezTo>
                    <a:pt x="5857" y="4531"/>
                    <a:pt x="5835" y="4553"/>
                    <a:pt x="5807" y="4553"/>
                  </a:cubicBezTo>
                  <a:lnTo>
                    <a:pt x="5807" y="4553"/>
                  </a:lnTo>
                  <a:cubicBezTo>
                    <a:pt x="5780" y="4553"/>
                    <a:pt x="5757" y="4531"/>
                    <a:pt x="5757" y="4503"/>
                  </a:cubicBezTo>
                  <a:cubicBezTo>
                    <a:pt x="5757" y="4476"/>
                    <a:pt x="5780" y="4453"/>
                    <a:pt x="5807" y="4453"/>
                  </a:cubicBezTo>
                  <a:close/>
                  <a:moveTo>
                    <a:pt x="6007" y="4453"/>
                  </a:moveTo>
                  <a:lnTo>
                    <a:pt x="6007" y="4453"/>
                  </a:lnTo>
                  <a:cubicBezTo>
                    <a:pt x="6035" y="4453"/>
                    <a:pt x="6057" y="4476"/>
                    <a:pt x="6057" y="4503"/>
                  </a:cubicBezTo>
                  <a:cubicBezTo>
                    <a:pt x="6057" y="4531"/>
                    <a:pt x="6035" y="4553"/>
                    <a:pt x="6007" y="4553"/>
                  </a:cubicBezTo>
                  <a:lnTo>
                    <a:pt x="6007" y="4553"/>
                  </a:lnTo>
                  <a:cubicBezTo>
                    <a:pt x="5980" y="4553"/>
                    <a:pt x="5957" y="4531"/>
                    <a:pt x="5957" y="4503"/>
                  </a:cubicBezTo>
                  <a:cubicBezTo>
                    <a:pt x="5957" y="4476"/>
                    <a:pt x="5980" y="4453"/>
                    <a:pt x="6007" y="4453"/>
                  </a:cubicBezTo>
                  <a:close/>
                  <a:moveTo>
                    <a:pt x="6207" y="4453"/>
                  </a:moveTo>
                  <a:lnTo>
                    <a:pt x="6207" y="4453"/>
                  </a:lnTo>
                  <a:cubicBezTo>
                    <a:pt x="6235" y="4453"/>
                    <a:pt x="6257" y="4476"/>
                    <a:pt x="6257" y="4503"/>
                  </a:cubicBezTo>
                  <a:cubicBezTo>
                    <a:pt x="6257" y="4531"/>
                    <a:pt x="6235" y="4553"/>
                    <a:pt x="6207" y="4553"/>
                  </a:cubicBezTo>
                  <a:lnTo>
                    <a:pt x="6207" y="4553"/>
                  </a:lnTo>
                  <a:cubicBezTo>
                    <a:pt x="6180" y="4553"/>
                    <a:pt x="6157" y="4531"/>
                    <a:pt x="6157" y="4503"/>
                  </a:cubicBezTo>
                  <a:cubicBezTo>
                    <a:pt x="6157" y="4476"/>
                    <a:pt x="6180" y="4453"/>
                    <a:pt x="6207" y="4453"/>
                  </a:cubicBezTo>
                  <a:close/>
                  <a:moveTo>
                    <a:pt x="6407" y="4453"/>
                  </a:moveTo>
                  <a:lnTo>
                    <a:pt x="6408" y="4453"/>
                  </a:lnTo>
                  <a:cubicBezTo>
                    <a:pt x="6435" y="4453"/>
                    <a:pt x="6458" y="4476"/>
                    <a:pt x="6458" y="4503"/>
                  </a:cubicBezTo>
                  <a:cubicBezTo>
                    <a:pt x="6458" y="4531"/>
                    <a:pt x="6435" y="4553"/>
                    <a:pt x="6408" y="4553"/>
                  </a:cubicBezTo>
                  <a:lnTo>
                    <a:pt x="6407" y="4553"/>
                  </a:lnTo>
                  <a:cubicBezTo>
                    <a:pt x="6380" y="4553"/>
                    <a:pt x="6357" y="4531"/>
                    <a:pt x="6357" y="4503"/>
                  </a:cubicBezTo>
                  <a:cubicBezTo>
                    <a:pt x="6357" y="4476"/>
                    <a:pt x="6380" y="4453"/>
                    <a:pt x="6407" y="4453"/>
                  </a:cubicBezTo>
                  <a:close/>
                  <a:moveTo>
                    <a:pt x="6608" y="4453"/>
                  </a:moveTo>
                  <a:lnTo>
                    <a:pt x="6608" y="4453"/>
                  </a:lnTo>
                  <a:cubicBezTo>
                    <a:pt x="6635" y="4453"/>
                    <a:pt x="6658" y="4476"/>
                    <a:pt x="6658" y="4503"/>
                  </a:cubicBezTo>
                  <a:cubicBezTo>
                    <a:pt x="6658" y="4531"/>
                    <a:pt x="6635" y="4553"/>
                    <a:pt x="6608" y="4553"/>
                  </a:cubicBezTo>
                  <a:lnTo>
                    <a:pt x="6608" y="4553"/>
                  </a:lnTo>
                  <a:cubicBezTo>
                    <a:pt x="6580" y="4553"/>
                    <a:pt x="6558" y="4531"/>
                    <a:pt x="6558" y="4503"/>
                  </a:cubicBezTo>
                  <a:cubicBezTo>
                    <a:pt x="6558" y="4476"/>
                    <a:pt x="6580" y="4453"/>
                    <a:pt x="6608" y="4453"/>
                  </a:cubicBezTo>
                  <a:close/>
                  <a:moveTo>
                    <a:pt x="6808" y="4453"/>
                  </a:moveTo>
                  <a:lnTo>
                    <a:pt x="6808" y="4453"/>
                  </a:lnTo>
                  <a:cubicBezTo>
                    <a:pt x="6835" y="4453"/>
                    <a:pt x="6858" y="4476"/>
                    <a:pt x="6858" y="4503"/>
                  </a:cubicBezTo>
                  <a:cubicBezTo>
                    <a:pt x="6858" y="4531"/>
                    <a:pt x="6835" y="4553"/>
                    <a:pt x="6808" y="4553"/>
                  </a:cubicBezTo>
                  <a:lnTo>
                    <a:pt x="6808" y="4553"/>
                  </a:lnTo>
                  <a:cubicBezTo>
                    <a:pt x="6780" y="4553"/>
                    <a:pt x="6758" y="4531"/>
                    <a:pt x="6758" y="4503"/>
                  </a:cubicBezTo>
                  <a:cubicBezTo>
                    <a:pt x="6758" y="4476"/>
                    <a:pt x="6780" y="4453"/>
                    <a:pt x="6808" y="4453"/>
                  </a:cubicBezTo>
                  <a:close/>
                  <a:moveTo>
                    <a:pt x="7008" y="4453"/>
                  </a:moveTo>
                  <a:lnTo>
                    <a:pt x="7008" y="4453"/>
                  </a:lnTo>
                  <a:cubicBezTo>
                    <a:pt x="7035" y="4453"/>
                    <a:pt x="7058" y="4476"/>
                    <a:pt x="7058" y="4503"/>
                  </a:cubicBezTo>
                  <a:cubicBezTo>
                    <a:pt x="7058" y="4531"/>
                    <a:pt x="7035" y="4553"/>
                    <a:pt x="7008" y="4553"/>
                  </a:cubicBezTo>
                  <a:lnTo>
                    <a:pt x="7008" y="4553"/>
                  </a:lnTo>
                  <a:cubicBezTo>
                    <a:pt x="6980" y="4553"/>
                    <a:pt x="6958" y="4531"/>
                    <a:pt x="6958" y="4503"/>
                  </a:cubicBezTo>
                  <a:cubicBezTo>
                    <a:pt x="6958" y="4476"/>
                    <a:pt x="6980" y="4453"/>
                    <a:pt x="7008" y="4453"/>
                  </a:cubicBezTo>
                  <a:close/>
                  <a:moveTo>
                    <a:pt x="7208" y="4453"/>
                  </a:moveTo>
                  <a:lnTo>
                    <a:pt x="7208" y="4453"/>
                  </a:lnTo>
                  <a:cubicBezTo>
                    <a:pt x="7236" y="4453"/>
                    <a:pt x="7258" y="4476"/>
                    <a:pt x="7258" y="4503"/>
                  </a:cubicBezTo>
                  <a:cubicBezTo>
                    <a:pt x="7258" y="4531"/>
                    <a:pt x="7236" y="4553"/>
                    <a:pt x="7208" y="4553"/>
                  </a:cubicBezTo>
                  <a:lnTo>
                    <a:pt x="7208" y="4553"/>
                  </a:lnTo>
                  <a:cubicBezTo>
                    <a:pt x="7180" y="4553"/>
                    <a:pt x="7158" y="4531"/>
                    <a:pt x="7158" y="4503"/>
                  </a:cubicBezTo>
                  <a:cubicBezTo>
                    <a:pt x="7158" y="4476"/>
                    <a:pt x="7180" y="4453"/>
                    <a:pt x="7208" y="4453"/>
                  </a:cubicBezTo>
                  <a:close/>
                  <a:moveTo>
                    <a:pt x="7408" y="4453"/>
                  </a:moveTo>
                  <a:lnTo>
                    <a:pt x="7408" y="4453"/>
                  </a:lnTo>
                  <a:cubicBezTo>
                    <a:pt x="7436" y="4453"/>
                    <a:pt x="7458" y="4476"/>
                    <a:pt x="7458" y="4503"/>
                  </a:cubicBezTo>
                  <a:cubicBezTo>
                    <a:pt x="7458" y="4531"/>
                    <a:pt x="7436" y="4553"/>
                    <a:pt x="7408" y="4553"/>
                  </a:cubicBezTo>
                  <a:lnTo>
                    <a:pt x="7408" y="4553"/>
                  </a:lnTo>
                  <a:cubicBezTo>
                    <a:pt x="7380" y="4553"/>
                    <a:pt x="7358" y="4531"/>
                    <a:pt x="7358" y="4503"/>
                  </a:cubicBezTo>
                  <a:cubicBezTo>
                    <a:pt x="7358" y="4476"/>
                    <a:pt x="7380" y="4453"/>
                    <a:pt x="7408" y="4453"/>
                  </a:cubicBezTo>
                  <a:close/>
                  <a:moveTo>
                    <a:pt x="7608" y="4453"/>
                  </a:moveTo>
                  <a:lnTo>
                    <a:pt x="7608" y="4453"/>
                  </a:lnTo>
                  <a:cubicBezTo>
                    <a:pt x="7636" y="4453"/>
                    <a:pt x="7658" y="4476"/>
                    <a:pt x="7658" y="4503"/>
                  </a:cubicBezTo>
                  <a:cubicBezTo>
                    <a:pt x="7658" y="4531"/>
                    <a:pt x="7636" y="4553"/>
                    <a:pt x="7608" y="4553"/>
                  </a:cubicBezTo>
                  <a:lnTo>
                    <a:pt x="7608" y="4553"/>
                  </a:lnTo>
                  <a:cubicBezTo>
                    <a:pt x="7580" y="4553"/>
                    <a:pt x="7558" y="4531"/>
                    <a:pt x="7558" y="4503"/>
                  </a:cubicBezTo>
                  <a:cubicBezTo>
                    <a:pt x="7558" y="4476"/>
                    <a:pt x="7580" y="4453"/>
                    <a:pt x="7608" y="4453"/>
                  </a:cubicBezTo>
                  <a:close/>
                  <a:moveTo>
                    <a:pt x="7808" y="4453"/>
                  </a:moveTo>
                  <a:lnTo>
                    <a:pt x="7808" y="4453"/>
                  </a:lnTo>
                  <a:cubicBezTo>
                    <a:pt x="7836" y="4453"/>
                    <a:pt x="7858" y="4476"/>
                    <a:pt x="7858" y="4503"/>
                  </a:cubicBezTo>
                  <a:cubicBezTo>
                    <a:pt x="7858" y="4531"/>
                    <a:pt x="7836" y="4553"/>
                    <a:pt x="7808" y="4553"/>
                  </a:cubicBezTo>
                  <a:lnTo>
                    <a:pt x="7808" y="4553"/>
                  </a:lnTo>
                  <a:cubicBezTo>
                    <a:pt x="7781" y="4553"/>
                    <a:pt x="7758" y="4531"/>
                    <a:pt x="7758" y="4503"/>
                  </a:cubicBezTo>
                  <a:cubicBezTo>
                    <a:pt x="7758" y="4476"/>
                    <a:pt x="7781" y="4453"/>
                    <a:pt x="7808" y="4453"/>
                  </a:cubicBezTo>
                  <a:close/>
                  <a:moveTo>
                    <a:pt x="8008" y="4453"/>
                  </a:moveTo>
                  <a:lnTo>
                    <a:pt x="8008" y="4453"/>
                  </a:lnTo>
                  <a:cubicBezTo>
                    <a:pt x="8036" y="4453"/>
                    <a:pt x="8058" y="4476"/>
                    <a:pt x="8058" y="4503"/>
                  </a:cubicBezTo>
                  <a:cubicBezTo>
                    <a:pt x="8058" y="4531"/>
                    <a:pt x="8036" y="4553"/>
                    <a:pt x="8008" y="4553"/>
                  </a:cubicBezTo>
                  <a:lnTo>
                    <a:pt x="8008" y="4553"/>
                  </a:lnTo>
                  <a:cubicBezTo>
                    <a:pt x="7981" y="4553"/>
                    <a:pt x="7958" y="4531"/>
                    <a:pt x="7958" y="4503"/>
                  </a:cubicBezTo>
                  <a:cubicBezTo>
                    <a:pt x="7958" y="4476"/>
                    <a:pt x="7981" y="4453"/>
                    <a:pt x="8008" y="4453"/>
                  </a:cubicBezTo>
                  <a:close/>
                  <a:moveTo>
                    <a:pt x="8208" y="4453"/>
                  </a:moveTo>
                  <a:lnTo>
                    <a:pt x="8208" y="4453"/>
                  </a:lnTo>
                  <a:cubicBezTo>
                    <a:pt x="8236" y="4453"/>
                    <a:pt x="8258" y="4476"/>
                    <a:pt x="8258" y="4503"/>
                  </a:cubicBezTo>
                  <a:cubicBezTo>
                    <a:pt x="8258" y="4531"/>
                    <a:pt x="8236" y="4553"/>
                    <a:pt x="8208" y="4553"/>
                  </a:cubicBezTo>
                  <a:lnTo>
                    <a:pt x="8208" y="4553"/>
                  </a:lnTo>
                  <a:cubicBezTo>
                    <a:pt x="8181" y="4553"/>
                    <a:pt x="8158" y="4531"/>
                    <a:pt x="8158" y="4503"/>
                  </a:cubicBezTo>
                  <a:cubicBezTo>
                    <a:pt x="8158" y="4476"/>
                    <a:pt x="8181" y="4453"/>
                    <a:pt x="8208" y="4453"/>
                  </a:cubicBezTo>
                  <a:close/>
                  <a:moveTo>
                    <a:pt x="8408" y="4453"/>
                  </a:moveTo>
                  <a:lnTo>
                    <a:pt x="8409" y="4453"/>
                  </a:lnTo>
                  <a:cubicBezTo>
                    <a:pt x="8436" y="4453"/>
                    <a:pt x="8459" y="4476"/>
                    <a:pt x="8459" y="4503"/>
                  </a:cubicBezTo>
                  <a:cubicBezTo>
                    <a:pt x="8459" y="4531"/>
                    <a:pt x="8436" y="4553"/>
                    <a:pt x="8409" y="4553"/>
                  </a:cubicBezTo>
                  <a:lnTo>
                    <a:pt x="8408" y="4553"/>
                  </a:lnTo>
                  <a:cubicBezTo>
                    <a:pt x="8381" y="4553"/>
                    <a:pt x="8358" y="4531"/>
                    <a:pt x="8358" y="4503"/>
                  </a:cubicBezTo>
                  <a:cubicBezTo>
                    <a:pt x="8358" y="4476"/>
                    <a:pt x="8381" y="4453"/>
                    <a:pt x="8408" y="4453"/>
                  </a:cubicBezTo>
                  <a:close/>
                  <a:moveTo>
                    <a:pt x="8609" y="4453"/>
                  </a:moveTo>
                  <a:lnTo>
                    <a:pt x="8609" y="4453"/>
                  </a:lnTo>
                  <a:cubicBezTo>
                    <a:pt x="8636" y="4453"/>
                    <a:pt x="8659" y="4476"/>
                    <a:pt x="8659" y="4503"/>
                  </a:cubicBezTo>
                  <a:cubicBezTo>
                    <a:pt x="8659" y="4531"/>
                    <a:pt x="8636" y="4553"/>
                    <a:pt x="8609" y="4553"/>
                  </a:cubicBezTo>
                  <a:lnTo>
                    <a:pt x="8609" y="4553"/>
                  </a:lnTo>
                  <a:cubicBezTo>
                    <a:pt x="8581" y="4553"/>
                    <a:pt x="8559" y="4531"/>
                    <a:pt x="8559" y="4503"/>
                  </a:cubicBezTo>
                  <a:cubicBezTo>
                    <a:pt x="8559" y="4476"/>
                    <a:pt x="8581" y="4453"/>
                    <a:pt x="8609" y="4453"/>
                  </a:cubicBezTo>
                  <a:close/>
                  <a:moveTo>
                    <a:pt x="8809" y="4453"/>
                  </a:moveTo>
                  <a:lnTo>
                    <a:pt x="8809" y="4453"/>
                  </a:lnTo>
                  <a:cubicBezTo>
                    <a:pt x="8836" y="4453"/>
                    <a:pt x="8859" y="4476"/>
                    <a:pt x="8859" y="4503"/>
                  </a:cubicBezTo>
                  <a:cubicBezTo>
                    <a:pt x="8859" y="4531"/>
                    <a:pt x="8836" y="4553"/>
                    <a:pt x="8809" y="4553"/>
                  </a:cubicBezTo>
                  <a:lnTo>
                    <a:pt x="8809" y="4553"/>
                  </a:lnTo>
                  <a:cubicBezTo>
                    <a:pt x="8781" y="4553"/>
                    <a:pt x="8759" y="4531"/>
                    <a:pt x="8759" y="4503"/>
                  </a:cubicBezTo>
                  <a:cubicBezTo>
                    <a:pt x="8759" y="4476"/>
                    <a:pt x="8781" y="4453"/>
                    <a:pt x="8809" y="4453"/>
                  </a:cubicBezTo>
                  <a:close/>
                  <a:moveTo>
                    <a:pt x="9009" y="4453"/>
                  </a:moveTo>
                  <a:lnTo>
                    <a:pt x="9009" y="4453"/>
                  </a:lnTo>
                  <a:cubicBezTo>
                    <a:pt x="9036" y="4453"/>
                    <a:pt x="9059" y="4476"/>
                    <a:pt x="9059" y="4503"/>
                  </a:cubicBezTo>
                  <a:cubicBezTo>
                    <a:pt x="9059" y="4531"/>
                    <a:pt x="9036" y="4553"/>
                    <a:pt x="9009" y="4553"/>
                  </a:cubicBezTo>
                  <a:lnTo>
                    <a:pt x="9009" y="4553"/>
                  </a:lnTo>
                  <a:cubicBezTo>
                    <a:pt x="8981" y="4553"/>
                    <a:pt x="8959" y="4531"/>
                    <a:pt x="8959" y="4503"/>
                  </a:cubicBezTo>
                  <a:cubicBezTo>
                    <a:pt x="8959" y="4476"/>
                    <a:pt x="8981" y="4453"/>
                    <a:pt x="9009" y="4453"/>
                  </a:cubicBezTo>
                  <a:close/>
                  <a:moveTo>
                    <a:pt x="9209" y="4453"/>
                  </a:moveTo>
                  <a:lnTo>
                    <a:pt x="9209" y="4453"/>
                  </a:lnTo>
                  <a:cubicBezTo>
                    <a:pt x="9237" y="4453"/>
                    <a:pt x="9259" y="4476"/>
                    <a:pt x="9259" y="4503"/>
                  </a:cubicBezTo>
                  <a:cubicBezTo>
                    <a:pt x="9259" y="4531"/>
                    <a:pt x="9237" y="4553"/>
                    <a:pt x="9209" y="4553"/>
                  </a:cubicBezTo>
                  <a:lnTo>
                    <a:pt x="9209" y="4553"/>
                  </a:lnTo>
                  <a:cubicBezTo>
                    <a:pt x="9181" y="4553"/>
                    <a:pt x="9159" y="4531"/>
                    <a:pt x="9159" y="4503"/>
                  </a:cubicBezTo>
                  <a:cubicBezTo>
                    <a:pt x="9159" y="4476"/>
                    <a:pt x="9181" y="4453"/>
                    <a:pt x="9209" y="4453"/>
                  </a:cubicBezTo>
                  <a:close/>
                  <a:moveTo>
                    <a:pt x="9409" y="4453"/>
                  </a:moveTo>
                  <a:lnTo>
                    <a:pt x="9409" y="4453"/>
                  </a:lnTo>
                  <a:cubicBezTo>
                    <a:pt x="9437" y="4453"/>
                    <a:pt x="9459" y="4476"/>
                    <a:pt x="9459" y="4503"/>
                  </a:cubicBezTo>
                  <a:cubicBezTo>
                    <a:pt x="9459" y="4531"/>
                    <a:pt x="9437" y="4553"/>
                    <a:pt x="9409" y="4553"/>
                  </a:cubicBezTo>
                  <a:lnTo>
                    <a:pt x="9409" y="4553"/>
                  </a:lnTo>
                  <a:cubicBezTo>
                    <a:pt x="9381" y="4553"/>
                    <a:pt x="9359" y="4531"/>
                    <a:pt x="9359" y="4503"/>
                  </a:cubicBezTo>
                  <a:cubicBezTo>
                    <a:pt x="9359" y="4476"/>
                    <a:pt x="9381" y="4453"/>
                    <a:pt x="9409" y="4453"/>
                  </a:cubicBezTo>
                  <a:close/>
                  <a:moveTo>
                    <a:pt x="9609" y="4453"/>
                  </a:moveTo>
                  <a:lnTo>
                    <a:pt x="9609" y="4453"/>
                  </a:lnTo>
                  <a:cubicBezTo>
                    <a:pt x="9637" y="4453"/>
                    <a:pt x="9659" y="4476"/>
                    <a:pt x="9659" y="4503"/>
                  </a:cubicBezTo>
                  <a:cubicBezTo>
                    <a:pt x="9659" y="4531"/>
                    <a:pt x="9637" y="4553"/>
                    <a:pt x="9609" y="4553"/>
                  </a:cubicBezTo>
                  <a:lnTo>
                    <a:pt x="9609" y="4553"/>
                  </a:lnTo>
                  <a:cubicBezTo>
                    <a:pt x="9581" y="4553"/>
                    <a:pt x="9559" y="4531"/>
                    <a:pt x="9559" y="4503"/>
                  </a:cubicBezTo>
                  <a:cubicBezTo>
                    <a:pt x="9559" y="4476"/>
                    <a:pt x="9581" y="4453"/>
                    <a:pt x="9609" y="4453"/>
                  </a:cubicBezTo>
                  <a:close/>
                  <a:moveTo>
                    <a:pt x="9809" y="4453"/>
                  </a:moveTo>
                  <a:lnTo>
                    <a:pt x="9809" y="4453"/>
                  </a:lnTo>
                  <a:cubicBezTo>
                    <a:pt x="9837" y="4453"/>
                    <a:pt x="9859" y="4476"/>
                    <a:pt x="9859" y="4503"/>
                  </a:cubicBezTo>
                  <a:cubicBezTo>
                    <a:pt x="9859" y="4531"/>
                    <a:pt x="9837" y="4553"/>
                    <a:pt x="9809" y="4553"/>
                  </a:cubicBezTo>
                  <a:lnTo>
                    <a:pt x="9809" y="4553"/>
                  </a:lnTo>
                  <a:cubicBezTo>
                    <a:pt x="9782" y="4553"/>
                    <a:pt x="9759" y="4531"/>
                    <a:pt x="9759" y="4503"/>
                  </a:cubicBezTo>
                  <a:cubicBezTo>
                    <a:pt x="9759" y="4476"/>
                    <a:pt x="9782" y="4453"/>
                    <a:pt x="9809" y="4453"/>
                  </a:cubicBezTo>
                  <a:close/>
                  <a:moveTo>
                    <a:pt x="9900" y="4444"/>
                  </a:moveTo>
                  <a:lnTo>
                    <a:pt x="9900" y="4444"/>
                  </a:lnTo>
                  <a:cubicBezTo>
                    <a:pt x="9900" y="4417"/>
                    <a:pt x="9923" y="4394"/>
                    <a:pt x="9950" y="4394"/>
                  </a:cubicBezTo>
                  <a:cubicBezTo>
                    <a:pt x="9978" y="4394"/>
                    <a:pt x="10000" y="4417"/>
                    <a:pt x="10000" y="4444"/>
                  </a:cubicBezTo>
                  <a:lnTo>
                    <a:pt x="10000" y="4444"/>
                  </a:lnTo>
                  <a:cubicBezTo>
                    <a:pt x="10000" y="4472"/>
                    <a:pt x="9978" y="4494"/>
                    <a:pt x="9950" y="4494"/>
                  </a:cubicBezTo>
                  <a:cubicBezTo>
                    <a:pt x="9923" y="4494"/>
                    <a:pt x="9900" y="4472"/>
                    <a:pt x="9900" y="4444"/>
                  </a:cubicBezTo>
                  <a:close/>
                  <a:moveTo>
                    <a:pt x="9900" y="4244"/>
                  </a:moveTo>
                  <a:lnTo>
                    <a:pt x="9900" y="4244"/>
                  </a:lnTo>
                  <a:cubicBezTo>
                    <a:pt x="9900" y="4217"/>
                    <a:pt x="9923" y="4194"/>
                    <a:pt x="9950" y="4194"/>
                  </a:cubicBezTo>
                  <a:cubicBezTo>
                    <a:pt x="9978" y="4194"/>
                    <a:pt x="10000" y="4217"/>
                    <a:pt x="10000" y="4244"/>
                  </a:cubicBezTo>
                  <a:lnTo>
                    <a:pt x="10000" y="4244"/>
                  </a:lnTo>
                  <a:cubicBezTo>
                    <a:pt x="10000" y="4272"/>
                    <a:pt x="9978" y="4294"/>
                    <a:pt x="9950" y="4294"/>
                  </a:cubicBezTo>
                  <a:cubicBezTo>
                    <a:pt x="9923" y="4294"/>
                    <a:pt x="9900" y="4272"/>
                    <a:pt x="9900" y="4244"/>
                  </a:cubicBezTo>
                  <a:close/>
                  <a:moveTo>
                    <a:pt x="9900" y="4044"/>
                  </a:moveTo>
                  <a:lnTo>
                    <a:pt x="9900" y="4044"/>
                  </a:lnTo>
                  <a:cubicBezTo>
                    <a:pt x="9900" y="4016"/>
                    <a:pt x="9923" y="3994"/>
                    <a:pt x="9950" y="3994"/>
                  </a:cubicBezTo>
                  <a:cubicBezTo>
                    <a:pt x="9978" y="3994"/>
                    <a:pt x="10000" y="4016"/>
                    <a:pt x="10000" y="4044"/>
                  </a:cubicBezTo>
                  <a:lnTo>
                    <a:pt x="10000" y="4044"/>
                  </a:lnTo>
                  <a:cubicBezTo>
                    <a:pt x="10000" y="4072"/>
                    <a:pt x="9978" y="4094"/>
                    <a:pt x="9950" y="4094"/>
                  </a:cubicBezTo>
                  <a:cubicBezTo>
                    <a:pt x="9923" y="4094"/>
                    <a:pt x="9900" y="4072"/>
                    <a:pt x="9900" y="4044"/>
                  </a:cubicBezTo>
                  <a:close/>
                  <a:moveTo>
                    <a:pt x="9900" y="3844"/>
                  </a:moveTo>
                  <a:lnTo>
                    <a:pt x="9900" y="3844"/>
                  </a:lnTo>
                  <a:cubicBezTo>
                    <a:pt x="9900" y="3816"/>
                    <a:pt x="9923" y="3794"/>
                    <a:pt x="9950" y="3794"/>
                  </a:cubicBezTo>
                  <a:cubicBezTo>
                    <a:pt x="9978" y="3794"/>
                    <a:pt x="10000" y="3816"/>
                    <a:pt x="10000" y="3844"/>
                  </a:cubicBezTo>
                  <a:lnTo>
                    <a:pt x="10000" y="3844"/>
                  </a:lnTo>
                  <a:cubicBezTo>
                    <a:pt x="10000" y="3872"/>
                    <a:pt x="9978" y="3894"/>
                    <a:pt x="9950" y="3894"/>
                  </a:cubicBezTo>
                  <a:cubicBezTo>
                    <a:pt x="9923" y="3894"/>
                    <a:pt x="9900" y="3872"/>
                    <a:pt x="9900" y="3844"/>
                  </a:cubicBezTo>
                  <a:close/>
                  <a:moveTo>
                    <a:pt x="9900" y="3644"/>
                  </a:moveTo>
                  <a:lnTo>
                    <a:pt x="9900" y="3644"/>
                  </a:lnTo>
                  <a:cubicBezTo>
                    <a:pt x="9900" y="3616"/>
                    <a:pt x="9923" y="3594"/>
                    <a:pt x="9950" y="3594"/>
                  </a:cubicBezTo>
                  <a:cubicBezTo>
                    <a:pt x="9978" y="3594"/>
                    <a:pt x="10000" y="3616"/>
                    <a:pt x="10000" y="3644"/>
                  </a:cubicBezTo>
                  <a:lnTo>
                    <a:pt x="10000" y="3644"/>
                  </a:lnTo>
                  <a:cubicBezTo>
                    <a:pt x="10000" y="3672"/>
                    <a:pt x="9978" y="3694"/>
                    <a:pt x="9950" y="3694"/>
                  </a:cubicBezTo>
                  <a:cubicBezTo>
                    <a:pt x="9923" y="3694"/>
                    <a:pt x="9900" y="3672"/>
                    <a:pt x="9900" y="3644"/>
                  </a:cubicBezTo>
                  <a:close/>
                  <a:moveTo>
                    <a:pt x="9900" y="3444"/>
                  </a:moveTo>
                  <a:lnTo>
                    <a:pt x="9900" y="3444"/>
                  </a:lnTo>
                  <a:cubicBezTo>
                    <a:pt x="9900" y="3416"/>
                    <a:pt x="9923" y="3394"/>
                    <a:pt x="9950" y="3394"/>
                  </a:cubicBezTo>
                  <a:cubicBezTo>
                    <a:pt x="9978" y="3394"/>
                    <a:pt x="10000" y="3416"/>
                    <a:pt x="10000" y="3444"/>
                  </a:cubicBezTo>
                  <a:lnTo>
                    <a:pt x="10000" y="3444"/>
                  </a:lnTo>
                  <a:cubicBezTo>
                    <a:pt x="10000" y="3471"/>
                    <a:pt x="9978" y="3494"/>
                    <a:pt x="9950" y="3494"/>
                  </a:cubicBezTo>
                  <a:cubicBezTo>
                    <a:pt x="9923" y="3494"/>
                    <a:pt x="9900" y="3471"/>
                    <a:pt x="9900" y="3444"/>
                  </a:cubicBezTo>
                  <a:close/>
                  <a:moveTo>
                    <a:pt x="9900" y="3244"/>
                  </a:moveTo>
                  <a:lnTo>
                    <a:pt x="9900" y="3244"/>
                  </a:lnTo>
                  <a:cubicBezTo>
                    <a:pt x="9900" y="3216"/>
                    <a:pt x="9923" y="3194"/>
                    <a:pt x="9950" y="3194"/>
                  </a:cubicBezTo>
                  <a:cubicBezTo>
                    <a:pt x="9978" y="3194"/>
                    <a:pt x="10000" y="3216"/>
                    <a:pt x="10000" y="3244"/>
                  </a:cubicBezTo>
                  <a:lnTo>
                    <a:pt x="10000" y="3244"/>
                  </a:lnTo>
                  <a:cubicBezTo>
                    <a:pt x="10000" y="3271"/>
                    <a:pt x="9978" y="3294"/>
                    <a:pt x="9950" y="3294"/>
                  </a:cubicBezTo>
                  <a:cubicBezTo>
                    <a:pt x="9923" y="3294"/>
                    <a:pt x="9900" y="3271"/>
                    <a:pt x="9900" y="3244"/>
                  </a:cubicBezTo>
                  <a:close/>
                  <a:moveTo>
                    <a:pt x="9900" y="3044"/>
                  </a:moveTo>
                  <a:lnTo>
                    <a:pt x="9900" y="3044"/>
                  </a:lnTo>
                  <a:cubicBezTo>
                    <a:pt x="9900" y="3016"/>
                    <a:pt x="9923" y="2994"/>
                    <a:pt x="9950" y="2994"/>
                  </a:cubicBezTo>
                  <a:cubicBezTo>
                    <a:pt x="9978" y="2994"/>
                    <a:pt x="10000" y="3016"/>
                    <a:pt x="10000" y="3044"/>
                  </a:cubicBezTo>
                  <a:lnTo>
                    <a:pt x="10000" y="3044"/>
                  </a:lnTo>
                  <a:cubicBezTo>
                    <a:pt x="10000" y="3071"/>
                    <a:pt x="9978" y="3094"/>
                    <a:pt x="9950" y="3094"/>
                  </a:cubicBezTo>
                  <a:cubicBezTo>
                    <a:pt x="9923" y="3094"/>
                    <a:pt x="9900" y="3071"/>
                    <a:pt x="9900" y="3044"/>
                  </a:cubicBezTo>
                  <a:close/>
                  <a:moveTo>
                    <a:pt x="9900" y="2844"/>
                  </a:moveTo>
                  <a:lnTo>
                    <a:pt x="9900" y="2843"/>
                  </a:lnTo>
                  <a:cubicBezTo>
                    <a:pt x="9900" y="2816"/>
                    <a:pt x="9923" y="2793"/>
                    <a:pt x="9950" y="2793"/>
                  </a:cubicBezTo>
                  <a:cubicBezTo>
                    <a:pt x="9978" y="2793"/>
                    <a:pt x="10000" y="2816"/>
                    <a:pt x="10000" y="2843"/>
                  </a:cubicBezTo>
                  <a:lnTo>
                    <a:pt x="10000" y="2844"/>
                  </a:lnTo>
                  <a:cubicBezTo>
                    <a:pt x="10000" y="2871"/>
                    <a:pt x="9978" y="2894"/>
                    <a:pt x="9950" y="2894"/>
                  </a:cubicBezTo>
                  <a:cubicBezTo>
                    <a:pt x="9923" y="2894"/>
                    <a:pt x="9900" y="2871"/>
                    <a:pt x="9900" y="2844"/>
                  </a:cubicBezTo>
                  <a:close/>
                  <a:moveTo>
                    <a:pt x="9900" y="2643"/>
                  </a:moveTo>
                  <a:lnTo>
                    <a:pt x="9900" y="2643"/>
                  </a:lnTo>
                  <a:cubicBezTo>
                    <a:pt x="9900" y="2616"/>
                    <a:pt x="9923" y="2593"/>
                    <a:pt x="9950" y="2593"/>
                  </a:cubicBezTo>
                  <a:cubicBezTo>
                    <a:pt x="9978" y="2593"/>
                    <a:pt x="10000" y="2616"/>
                    <a:pt x="10000" y="2643"/>
                  </a:cubicBezTo>
                  <a:lnTo>
                    <a:pt x="10000" y="2643"/>
                  </a:lnTo>
                  <a:cubicBezTo>
                    <a:pt x="10000" y="2671"/>
                    <a:pt x="9978" y="2693"/>
                    <a:pt x="9950" y="2693"/>
                  </a:cubicBezTo>
                  <a:cubicBezTo>
                    <a:pt x="9923" y="2693"/>
                    <a:pt x="9900" y="2671"/>
                    <a:pt x="9900" y="2643"/>
                  </a:cubicBezTo>
                  <a:close/>
                  <a:moveTo>
                    <a:pt x="9900" y="2443"/>
                  </a:moveTo>
                  <a:lnTo>
                    <a:pt x="9900" y="2443"/>
                  </a:lnTo>
                  <a:cubicBezTo>
                    <a:pt x="9900" y="2416"/>
                    <a:pt x="9923" y="2393"/>
                    <a:pt x="9950" y="2393"/>
                  </a:cubicBezTo>
                  <a:cubicBezTo>
                    <a:pt x="9978" y="2393"/>
                    <a:pt x="10000" y="2416"/>
                    <a:pt x="10000" y="2443"/>
                  </a:cubicBezTo>
                  <a:lnTo>
                    <a:pt x="10000" y="2443"/>
                  </a:lnTo>
                  <a:cubicBezTo>
                    <a:pt x="10000" y="2471"/>
                    <a:pt x="9978" y="2493"/>
                    <a:pt x="9950" y="2493"/>
                  </a:cubicBezTo>
                  <a:cubicBezTo>
                    <a:pt x="9923" y="2493"/>
                    <a:pt x="9900" y="2471"/>
                    <a:pt x="9900" y="2443"/>
                  </a:cubicBezTo>
                  <a:close/>
                  <a:moveTo>
                    <a:pt x="9900" y="2243"/>
                  </a:moveTo>
                  <a:lnTo>
                    <a:pt x="9900" y="2243"/>
                  </a:lnTo>
                  <a:cubicBezTo>
                    <a:pt x="9900" y="2216"/>
                    <a:pt x="9923" y="2193"/>
                    <a:pt x="9950" y="2193"/>
                  </a:cubicBezTo>
                  <a:cubicBezTo>
                    <a:pt x="9978" y="2193"/>
                    <a:pt x="10000" y="2216"/>
                    <a:pt x="10000" y="2243"/>
                  </a:cubicBezTo>
                  <a:lnTo>
                    <a:pt x="10000" y="2243"/>
                  </a:lnTo>
                  <a:cubicBezTo>
                    <a:pt x="10000" y="2271"/>
                    <a:pt x="9978" y="2293"/>
                    <a:pt x="9950" y="2293"/>
                  </a:cubicBezTo>
                  <a:cubicBezTo>
                    <a:pt x="9923" y="2293"/>
                    <a:pt x="9900" y="2271"/>
                    <a:pt x="9900" y="2243"/>
                  </a:cubicBezTo>
                  <a:close/>
                  <a:moveTo>
                    <a:pt x="9900" y="2043"/>
                  </a:moveTo>
                  <a:lnTo>
                    <a:pt x="9900" y="2043"/>
                  </a:lnTo>
                  <a:cubicBezTo>
                    <a:pt x="9900" y="2015"/>
                    <a:pt x="9923" y="1993"/>
                    <a:pt x="9950" y="1993"/>
                  </a:cubicBezTo>
                  <a:cubicBezTo>
                    <a:pt x="9978" y="1993"/>
                    <a:pt x="10000" y="2015"/>
                    <a:pt x="10000" y="2043"/>
                  </a:cubicBezTo>
                  <a:lnTo>
                    <a:pt x="10000" y="2043"/>
                  </a:lnTo>
                  <a:cubicBezTo>
                    <a:pt x="10000" y="2071"/>
                    <a:pt x="9978" y="2093"/>
                    <a:pt x="9950" y="2093"/>
                  </a:cubicBezTo>
                  <a:cubicBezTo>
                    <a:pt x="9923" y="2093"/>
                    <a:pt x="9900" y="2071"/>
                    <a:pt x="9900" y="2043"/>
                  </a:cubicBezTo>
                  <a:close/>
                  <a:moveTo>
                    <a:pt x="9900" y="1843"/>
                  </a:moveTo>
                  <a:lnTo>
                    <a:pt x="9900" y="1843"/>
                  </a:lnTo>
                  <a:cubicBezTo>
                    <a:pt x="9900" y="1815"/>
                    <a:pt x="9923" y="1793"/>
                    <a:pt x="9950" y="1793"/>
                  </a:cubicBezTo>
                  <a:cubicBezTo>
                    <a:pt x="9978" y="1793"/>
                    <a:pt x="10000" y="1815"/>
                    <a:pt x="10000" y="1843"/>
                  </a:cubicBezTo>
                  <a:lnTo>
                    <a:pt x="10000" y="1843"/>
                  </a:lnTo>
                  <a:cubicBezTo>
                    <a:pt x="10000" y="1871"/>
                    <a:pt x="9978" y="1893"/>
                    <a:pt x="9950" y="1893"/>
                  </a:cubicBezTo>
                  <a:cubicBezTo>
                    <a:pt x="9923" y="1893"/>
                    <a:pt x="9900" y="1871"/>
                    <a:pt x="9900" y="1843"/>
                  </a:cubicBezTo>
                  <a:close/>
                  <a:moveTo>
                    <a:pt x="9900" y="1643"/>
                  </a:moveTo>
                  <a:lnTo>
                    <a:pt x="9900" y="1643"/>
                  </a:lnTo>
                  <a:cubicBezTo>
                    <a:pt x="9900" y="1615"/>
                    <a:pt x="9923" y="1593"/>
                    <a:pt x="9950" y="1593"/>
                  </a:cubicBezTo>
                  <a:cubicBezTo>
                    <a:pt x="9978" y="1593"/>
                    <a:pt x="10000" y="1615"/>
                    <a:pt x="10000" y="1643"/>
                  </a:cubicBezTo>
                  <a:lnTo>
                    <a:pt x="10000" y="1643"/>
                  </a:lnTo>
                  <a:cubicBezTo>
                    <a:pt x="10000" y="1671"/>
                    <a:pt x="9978" y="1693"/>
                    <a:pt x="9950" y="1693"/>
                  </a:cubicBezTo>
                  <a:cubicBezTo>
                    <a:pt x="9923" y="1693"/>
                    <a:pt x="9900" y="1671"/>
                    <a:pt x="9900" y="1643"/>
                  </a:cubicBezTo>
                  <a:close/>
                  <a:moveTo>
                    <a:pt x="9900" y="1443"/>
                  </a:moveTo>
                  <a:lnTo>
                    <a:pt x="9900" y="1443"/>
                  </a:lnTo>
                  <a:cubicBezTo>
                    <a:pt x="9900" y="1415"/>
                    <a:pt x="9923" y="1393"/>
                    <a:pt x="9950" y="1393"/>
                  </a:cubicBezTo>
                  <a:cubicBezTo>
                    <a:pt x="9978" y="1393"/>
                    <a:pt x="10000" y="1415"/>
                    <a:pt x="10000" y="1443"/>
                  </a:cubicBezTo>
                  <a:lnTo>
                    <a:pt x="10000" y="1443"/>
                  </a:lnTo>
                  <a:cubicBezTo>
                    <a:pt x="10000" y="1470"/>
                    <a:pt x="9978" y="1493"/>
                    <a:pt x="9950" y="1493"/>
                  </a:cubicBezTo>
                  <a:cubicBezTo>
                    <a:pt x="9923" y="1493"/>
                    <a:pt x="9900" y="1470"/>
                    <a:pt x="9900" y="1443"/>
                  </a:cubicBezTo>
                  <a:close/>
                  <a:moveTo>
                    <a:pt x="9900" y="1243"/>
                  </a:moveTo>
                  <a:lnTo>
                    <a:pt x="9900" y="1243"/>
                  </a:lnTo>
                  <a:cubicBezTo>
                    <a:pt x="9900" y="1215"/>
                    <a:pt x="9923" y="1193"/>
                    <a:pt x="9950" y="1193"/>
                  </a:cubicBezTo>
                  <a:cubicBezTo>
                    <a:pt x="9978" y="1193"/>
                    <a:pt x="10000" y="1215"/>
                    <a:pt x="10000" y="1243"/>
                  </a:cubicBezTo>
                  <a:lnTo>
                    <a:pt x="10000" y="1243"/>
                  </a:lnTo>
                  <a:cubicBezTo>
                    <a:pt x="10000" y="1270"/>
                    <a:pt x="9978" y="1293"/>
                    <a:pt x="9950" y="1293"/>
                  </a:cubicBezTo>
                  <a:cubicBezTo>
                    <a:pt x="9923" y="1293"/>
                    <a:pt x="9900" y="1270"/>
                    <a:pt x="9900" y="1243"/>
                  </a:cubicBezTo>
                  <a:close/>
                  <a:moveTo>
                    <a:pt x="9900" y="1043"/>
                  </a:moveTo>
                  <a:lnTo>
                    <a:pt x="9900" y="1043"/>
                  </a:lnTo>
                  <a:cubicBezTo>
                    <a:pt x="9900" y="1015"/>
                    <a:pt x="9923" y="993"/>
                    <a:pt x="9950" y="993"/>
                  </a:cubicBezTo>
                  <a:cubicBezTo>
                    <a:pt x="9978" y="993"/>
                    <a:pt x="10000" y="1015"/>
                    <a:pt x="10000" y="1043"/>
                  </a:cubicBezTo>
                  <a:lnTo>
                    <a:pt x="10000" y="1043"/>
                  </a:lnTo>
                  <a:cubicBezTo>
                    <a:pt x="10000" y="1070"/>
                    <a:pt x="9978" y="1093"/>
                    <a:pt x="9950" y="1093"/>
                  </a:cubicBezTo>
                  <a:cubicBezTo>
                    <a:pt x="9923" y="1093"/>
                    <a:pt x="9900" y="1070"/>
                    <a:pt x="9900" y="1043"/>
                  </a:cubicBezTo>
                  <a:close/>
                  <a:moveTo>
                    <a:pt x="9900" y="843"/>
                  </a:moveTo>
                  <a:lnTo>
                    <a:pt x="9900" y="842"/>
                  </a:lnTo>
                  <a:cubicBezTo>
                    <a:pt x="9900" y="815"/>
                    <a:pt x="9923" y="792"/>
                    <a:pt x="9950" y="792"/>
                  </a:cubicBezTo>
                  <a:cubicBezTo>
                    <a:pt x="9978" y="792"/>
                    <a:pt x="10000" y="815"/>
                    <a:pt x="10000" y="842"/>
                  </a:cubicBezTo>
                  <a:lnTo>
                    <a:pt x="10000" y="843"/>
                  </a:lnTo>
                  <a:cubicBezTo>
                    <a:pt x="10000" y="870"/>
                    <a:pt x="9978" y="893"/>
                    <a:pt x="9950" y="893"/>
                  </a:cubicBezTo>
                  <a:cubicBezTo>
                    <a:pt x="9923" y="893"/>
                    <a:pt x="9900" y="870"/>
                    <a:pt x="9900" y="843"/>
                  </a:cubicBezTo>
                  <a:close/>
                  <a:moveTo>
                    <a:pt x="9900" y="642"/>
                  </a:moveTo>
                  <a:lnTo>
                    <a:pt x="9900" y="642"/>
                  </a:lnTo>
                  <a:cubicBezTo>
                    <a:pt x="9900" y="615"/>
                    <a:pt x="9923" y="592"/>
                    <a:pt x="9950" y="592"/>
                  </a:cubicBezTo>
                  <a:cubicBezTo>
                    <a:pt x="9978" y="592"/>
                    <a:pt x="10000" y="615"/>
                    <a:pt x="10000" y="642"/>
                  </a:cubicBezTo>
                  <a:lnTo>
                    <a:pt x="10000" y="642"/>
                  </a:lnTo>
                  <a:cubicBezTo>
                    <a:pt x="10000" y="670"/>
                    <a:pt x="9978" y="692"/>
                    <a:pt x="9950" y="692"/>
                  </a:cubicBezTo>
                  <a:cubicBezTo>
                    <a:pt x="9923" y="692"/>
                    <a:pt x="9900" y="670"/>
                    <a:pt x="9900" y="642"/>
                  </a:cubicBezTo>
                  <a:close/>
                  <a:moveTo>
                    <a:pt x="9900" y="442"/>
                  </a:moveTo>
                  <a:lnTo>
                    <a:pt x="9900" y="442"/>
                  </a:lnTo>
                  <a:cubicBezTo>
                    <a:pt x="9900" y="415"/>
                    <a:pt x="9923" y="392"/>
                    <a:pt x="9950" y="392"/>
                  </a:cubicBezTo>
                  <a:cubicBezTo>
                    <a:pt x="9978" y="392"/>
                    <a:pt x="10000" y="415"/>
                    <a:pt x="10000" y="442"/>
                  </a:cubicBezTo>
                  <a:lnTo>
                    <a:pt x="10000" y="442"/>
                  </a:lnTo>
                  <a:cubicBezTo>
                    <a:pt x="10000" y="470"/>
                    <a:pt x="9978" y="492"/>
                    <a:pt x="9950" y="492"/>
                  </a:cubicBezTo>
                  <a:cubicBezTo>
                    <a:pt x="9923" y="492"/>
                    <a:pt x="9900" y="470"/>
                    <a:pt x="9900" y="442"/>
                  </a:cubicBezTo>
                  <a:close/>
                  <a:moveTo>
                    <a:pt x="9900" y="242"/>
                  </a:moveTo>
                  <a:lnTo>
                    <a:pt x="9900" y="242"/>
                  </a:lnTo>
                  <a:cubicBezTo>
                    <a:pt x="9900" y="215"/>
                    <a:pt x="9923" y="192"/>
                    <a:pt x="9950" y="192"/>
                  </a:cubicBezTo>
                  <a:cubicBezTo>
                    <a:pt x="9978" y="192"/>
                    <a:pt x="10000" y="215"/>
                    <a:pt x="10000" y="242"/>
                  </a:cubicBezTo>
                  <a:lnTo>
                    <a:pt x="10000" y="242"/>
                  </a:lnTo>
                  <a:cubicBezTo>
                    <a:pt x="10000" y="270"/>
                    <a:pt x="9978" y="292"/>
                    <a:pt x="9950" y="292"/>
                  </a:cubicBezTo>
                  <a:cubicBezTo>
                    <a:pt x="9923" y="292"/>
                    <a:pt x="9900" y="270"/>
                    <a:pt x="9900" y="242"/>
                  </a:cubicBez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Rectangle 87"/>
            <p:cNvSpPr/>
            <p:nvPr/>
          </p:nvSpPr>
          <p:spPr>
            <a:xfrm>
              <a:off x="2897280" y="1066680"/>
              <a:ext cx="760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0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</a:t>
              </a:r>
              <a:r>
                <a:rPr b="1" lang="ar-SY" sz="1000" spc="-1" strike="noStrike">
                  <a:solidFill>
                    <a:srgbClr val="008000"/>
                  </a:solidFill>
                  <a:latin typeface="Calibri"/>
                  <a:cs typeface="Arial"/>
                </a:rPr>
                <a:t>لبيئة التسهيلية</a:t>
              </a: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Rectangle 89"/>
            <p:cNvSpPr/>
            <p:nvPr/>
          </p:nvSpPr>
          <p:spPr>
            <a:xfrm>
              <a:off x="3538800" y="11336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6" name="Group 95"/>
            <p:cNvGrpSpPr/>
            <p:nvPr/>
          </p:nvGrpSpPr>
          <p:grpSpPr>
            <a:xfrm>
              <a:off x="7423200" y="2990880"/>
              <a:ext cx="838080" cy="749160"/>
              <a:chOff x="7423200" y="2990880"/>
              <a:chExt cx="838080" cy="749160"/>
            </a:xfrm>
          </p:grpSpPr>
          <p:sp>
            <p:nvSpPr>
              <p:cNvPr id="307" name="Rectangle 90"/>
              <p:cNvSpPr/>
              <p:nvPr/>
            </p:nvSpPr>
            <p:spPr>
              <a:xfrm>
                <a:off x="7435800" y="3014640"/>
                <a:ext cx="825480" cy="725400"/>
              </a:xfrm>
              <a:prstGeom prst="rect">
                <a:avLst/>
              </a:prstGeom>
              <a:solidFill>
                <a:srgbClr val="243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08" name="Picture 91" descr=""/>
              <p:cNvPicPr/>
              <p:nvPr/>
            </p:nvPicPr>
            <p:blipFill>
              <a:blip r:embed="rId4"/>
              <a:stretch/>
            </p:blipFill>
            <p:spPr>
              <a:xfrm>
                <a:off x="7435800" y="3016080"/>
                <a:ext cx="824040" cy="72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Rectangle 92"/>
              <p:cNvSpPr/>
              <p:nvPr/>
            </p:nvSpPr>
            <p:spPr>
              <a:xfrm>
                <a:off x="7435800" y="3014640"/>
                <a:ext cx="825480" cy="725400"/>
              </a:xfrm>
              <a:prstGeom prst="rect">
                <a:avLst/>
              </a:prstGeom>
              <a:solidFill>
                <a:srgbClr val="243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10" name="Picture 93" descr=""/>
              <p:cNvPicPr/>
              <p:nvPr/>
            </p:nvPicPr>
            <p:blipFill>
              <a:blip r:embed="rId5"/>
              <a:stretch/>
            </p:blipFill>
            <p:spPr>
              <a:xfrm>
                <a:off x="7423200" y="2990880"/>
                <a:ext cx="82404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Rectangle 94"/>
              <p:cNvSpPr/>
              <p:nvPr/>
            </p:nvSpPr>
            <p:spPr>
              <a:xfrm>
                <a:off x="7423200" y="2990880"/>
                <a:ext cx="824040" cy="725400"/>
              </a:xfrm>
              <a:prstGeom prst="rect">
                <a:avLst/>
              </a:prstGeom>
              <a:noFill/>
              <a:ln cap="rnd" w="1260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2" name="Rectangle 96"/>
            <p:cNvSpPr/>
            <p:nvPr/>
          </p:nvSpPr>
          <p:spPr>
            <a:xfrm>
              <a:off x="7858800" y="304164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Rectangle 97"/>
            <p:cNvSpPr/>
            <p:nvPr/>
          </p:nvSpPr>
          <p:spPr>
            <a:xfrm>
              <a:off x="7616880" y="3048120"/>
              <a:ext cx="5364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0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هيئة الاستشارية العلمية والفنية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Rectangle 98"/>
            <p:cNvSpPr/>
            <p:nvPr/>
          </p:nvSpPr>
          <p:spPr>
            <a:xfrm>
              <a:off x="8017200" y="32637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Rectangle 99"/>
            <p:cNvSpPr/>
            <p:nvPr/>
          </p:nvSpPr>
          <p:spPr>
            <a:xfrm>
              <a:off x="4808520" y="2262240"/>
              <a:ext cx="625320" cy="48240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Rectangle 100"/>
            <p:cNvSpPr/>
            <p:nvPr/>
          </p:nvSpPr>
          <p:spPr>
            <a:xfrm>
              <a:off x="4800600" y="2262240"/>
              <a:ext cx="6094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مكتب التقييم في الصندو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103"/>
            <p:cNvSpPr/>
            <p:nvPr/>
          </p:nvSpPr>
          <p:spPr>
            <a:xfrm>
              <a:off x="5328000" y="255888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Rectangle 104"/>
            <p:cNvSpPr/>
            <p:nvPr/>
          </p:nvSpPr>
          <p:spPr>
            <a:xfrm>
              <a:off x="6400800" y="4038480"/>
              <a:ext cx="68580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الأمانة العامة، والهيئات المتعاملة مع الصندو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Rectangle 108"/>
            <p:cNvSpPr/>
            <p:nvPr/>
          </p:nvSpPr>
          <p:spPr>
            <a:xfrm>
              <a:off x="7121880" y="463860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109"/>
            <p:cNvSpPr/>
            <p:nvPr/>
          </p:nvSpPr>
          <p:spPr>
            <a:xfrm>
              <a:off x="6872400" y="47894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Oval 110"/>
            <p:cNvSpPr/>
            <p:nvPr/>
          </p:nvSpPr>
          <p:spPr>
            <a:xfrm>
              <a:off x="7107120" y="4915080"/>
              <a:ext cx="1140120" cy="1020600"/>
            </a:xfrm>
            <a:prstGeom prst="ellipse">
              <a:avLst/>
            </a:prstGeom>
            <a:solidFill>
              <a:srgbClr val="885fa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Rectangle 111"/>
            <p:cNvSpPr/>
            <p:nvPr/>
          </p:nvSpPr>
          <p:spPr>
            <a:xfrm>
              <a:off x="7238880" y="5021280"/>
              <a:ext cx="838440" cy="13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0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البلدان الشريكة، المنظمات غير الحكومية، القطاع الخاص، المجتمعات المحلية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Rectangle 117"/>
            <p:cNvSpPr/>
            <p:nvPr/>
          </p:nvSpPr>
          <p:spPr>
            <a:xfrm>
              <a:off x="8088480" y="56577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Rectangle 118"/>
            <p:cNvSpPr/>
            <p:nvPr/>
          </p:nvSpPr>
          <p:spPr>
            <a:xfrm>
              <a:off x="7715520" y="58071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17"/>
            <p:cNvSpPr/>
            <p:nvPr/>
          </p:nvSpPr>
          <p:spPr>
            <a:xfrm>
              <a:off x="2893680" y="1709640"/>
              <a:ext cx="53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000" spc="-1" strike="noStrike">
                  <a:solidFill>
                    <a:srgbClr val="008000"/>
                  </a:solidFill>
                  <a:latin typeface="Calibri"/>
                  <a:cs typeface="Arial"/>
                </a:rPr>
                <a:t>الإشراف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Rectangle 23"/>
            <p:cNvSpPr/>
            <p:nvPr/>
          </p:nvSpPr>
          <p:spPr>
            <a:xfrm>
              <a:off x="4187160" y="1117440"/>
              <a:ext cx="1480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000" spc="-1" strike="noStrike">
                  <a:solidFill>
                    <a:srgbClr val="008000"/>
                  </a:solidFill>
                  <a:latin typeface="Calibri"/>
                  <a:cs typeface="Arial"/>
                </a:rPr>
                <a:t>سياسة المتابعة والتقيي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TextBox 120"/>
          <p:cNvSpPr/>
          <p:nvPr/>
        </p:nvSpPr>
        <p:spPr>
          <a:xfrm>
            <a:off x="3124080" y="4443480"/>
            <a:ext cx="2743200" cy="946440"/>
          </a:xfrm>
          <a:prstGeom prst="rect">
            <a:avLst/>
          </a:prstGeom>
          <a:solidFill>
            <a:srgbClr val="6d94b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1400" spc="-1" strike="noStrike">
                <a:solidFill>
                  <a:srgbClr val="000000"/>
                </a:solidFill>
                <a:latin typeface="Calibri"/>
                <a:cs typeface="Arial"/>
              </a:rPr>
              <a:t>استعراضات حوافظ العمليات والبرامج، وتقارير التنفيذ السنوية، واستعراضات المتابعة السنوية وأدوات التتبّع، ومنتصف الم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21"/>
          <p:cNvSpPr/>
          <p:nvPr/>
        </p:nvSpPr>
        <p:spPr>
          <a:xfrm>
            <a:off x="2819520" y="5562720"/>
            <a:ext cx="3733560" cy="520200"/>
          </a:xfrm>
          <a:prstGeom prst="rect">
            <a:avLst/>
          </a:prstGeom>
          <a:solidFill>
            <a:srgbClr val="816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1400" spc="-1" strike="noStrike">
                <a:solidFill>
                  <a:srgbClr val="000000"/>
                </a:solidFill>
                <a:latin typeface="Calibri"/>
                <a:cs typeface="Arial"/>
              </a:rPr>
              <a:t>مؤشرات المشروعات، والمتابعة، وجمع البيانات، وتدفقات المعلوم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22"/>
          <p:cNvSpPr/>
          <p:nvPr/>
        </p:nvSpPr>
        <p:spPr>
          <a:xfrm>
            <a:off x="3886200" y="28195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23"/>
          <p:cNvSpPr/>
          <p:nvPr/>
        </p:nvSpPr>
        <p:spPr>
          <a:xfrm>
            <a:off x="3886200" y="2798640"/>
            <a:ext cx="609480" cy="7030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000" spc="-1" strike="noStrike">
                <a:solidFill>
                  <a:srgbClr val="000000"/>
                </a:solidFill>
                <a:latin typeface="Calibri"/>
                <a:cs typeface="Arial"/>
              </a:rPr>
              <a:t>دراس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Y" sz="1000" spc="-1" strike="noStrike">
                <a:solidFill>
                  <a:srgbClr val="000000"/>
                </a:solidFill>
                <a:latin typeface="Calibri"/>
                <a:cs typeface="Arial"/>
              </a:rPr>
              <a:t>عن الأدا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Y" sz="1000" spc="-1" strike="noStrike">
                <a:solidFill>
                  <a:srgbClr val="000000"/>
                </a:solidFill>
                <a:latin typeface="Calibri"/>
                <a:cs typeface="Arial"/>
              </a:rPr>
              <a:t>العا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24"/>
          <p:cNvSpPr/>
          <p:nvPr/>
        </p:nvSpPr>
        <p:spPr>
          <a:xfrm>
            <a:off x="4419720" y="3030480"/>
            <a:ext cx="304560" cy="246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25"/>
          <p:cNvSpPr/>
          <p:nvPr/>
        </p:nvSpPr>
        <p:spPr>
          <a:xfrm>
            <a:off x="3581280" y="3505320"/>
            <a:ext cx="1524240" cy="1098360"/>
          </a:xfrm>
          <a:prstGeom prst="rect">
            <a:avLst/>
          </a:prstGeom>
          <a:solidFill>
            <a:srgbClr val="48b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1100" spc="-1" strike="noStrike">
                <a:solidFill>
                  <a:srgbClr val="000000"/>
                </a:solidFill>
                <a:latin typeface="Calibri"/>
                <a:cs typeface="Arial"/>
              </a:rPr>
              <a:t>تقييمات أثر وإجراءات وأداء: المشروعات، والبرامج، وحوافظ عمليات البلدان، ومحاور التركيز المشتركة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26"/>
          <p:cNvSpPr/>
          <p:nvPr/>
        </p:nvSpPr>
        <p:spPr>
          <a:xfrm>
            <a:off x="5105520" y="3809880"/>
            <a:ext cx="228600" cy="370080"/>
          </a:xfrm>
          <a:prstGeom prst="rect">
            <a:avLst/>
          </a:prstGeom>
          <a:solidFill>
            <a:srgbClr val="48b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27"/>
          <p:cNvSpPr/>
          <p:nvPr/>
        </p:nvSpPr>
        <p:spPr>
          <a:xfrm>
            <a:off x="5029200" y="4114800"/>
            <a:ext cx="304920" cy="230040"/>
          </a:xfrm>
          <a:prstGeom prst="rect">
            <a:avLst/>
          </a:prstGeom>
          <a:solidFill>
            <a:srgbClr val="48b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18960" y="59400"/>
            <a:ext cx="746748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c00000"/>
              </a:solidFill>
              <a:latin typeface="Calibri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63360"/>
          <a:ext cx="9144000" cy="6545520"/>
        </p:xfrm>
        <a:graphic>
          <a:graphicData uri="http://schemas.openxmlformats.org/drawingml/2006/table">
            <a:tbl>
              <a:tblPr/>
              <a:tblGrid>
                <a:gridCol w="2857680"/>
                <a:gridCol w="6286320"/>
              </a:tblGrid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ct val="12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شري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2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أدوار والمسؤوليات الرئيس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جلس صندوق البيئة العال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ضع سياسات بشأن: المتابعة والتقييم/ والإشراف على وظائف المتابعة والتقييم/ والبيئة التسهيلية بشأن المتابعة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كتب التقييم في صندوق البيئة العال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قييم المستقل في صندوق البيئة العالمية/ الإشراف على تقييمات المشروعات والبرامج، والإشراف على ملاءمة وأداء أنظمة المتابعة ونوعيتها عموماً، وتحديد الشروط والمتطلبات الدنيا بشأن المتابعة والتقييم في صندوق البيئة العالمية / وتبادل وتعميم المعرفة التقييم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2243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أمانة العامة لصندوق البيئة العال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ضع أطر النتائج على مستوى مجالات التركيز والمؤسسة، متابعة حافظة عمليات الصندوق فيما بين الهيئات ومجالات التركيز، الإبلاغ عن وتضمين الدروس المستفادة من متابعة حافظة العمليات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ستعراض متطلبات الصندوق من المتابعة والتقييم في المشروعات والبرامج المقترح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نسيق أنشطة إدارة معرفة الشراك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4691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ات العمليات في الهيئات المتعاملة مع الصندو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تابعة حافظة عمليات صندوق البيئة العالمية المعهودة للهيئات المتعاملة مع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إبلاغ عن التقدّم المحرز في المشروعات والبرامج وحوافظ العمليات لدى الهيئات وعن نتائجها والتعلّم والدروس المستفادة / التأكد من المتابعة على مستوى المشروعات والبرامج / الإدارة التكيّفية للمشروعات والبرامج / الإشراك المنهجي للبلدان الشريكة وتبادل المعلومات بشأن متابعة وتقييم المشروعات على مستوى البلدان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ات التقييم في الهيئات المتعاملة مع الصندوق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قييمات المشروعات والبرامج و/أو التقييمات المستقلة التي تقوم بها الهيئات المتعاملة مع صندوق البيئة العال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عل صندوق البيئة العالمية جزءاً لا يتجزأ من التقييمات ذات الصلة التي تقوم بها الهيئات المتعاملة معه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هيئة الاستشارية العلمية والفن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قديم المشورة بشأن القضايا العملية / الفنية في عمليات المتابعة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ساندة المؤشرات العلمية والفنية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ساندة إدارة المعرفة وتبادل المعلوم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راكز تنسيق عمليات صندوق البيئة العالم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عاون بشأن المتابعة والتقييم على مستوى: حوافظ العمليات، والمشروعات، والبرامج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أصحاب المصلحة المباشرة الآخرون (أي المنظمات غير الحكومية، ومنظمات المجتمع المدني، والأوساط الأكاديمية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شاركة في أنشطة وآليات المتاب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عرض وجهات النظر والتصورات في عمليات التقيي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sp>
        <p:nvSpPr>
          <p:cNvPr id="33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FA0C-1936-450E-82D6-1E6EE3D7756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6"/>
          <p:cNvGrpSpPr/>
          <p:nvPr/>
        </p:nvGrpSpPr>
        <p:grpSpPr>
          <a:xfrm>
            <a:off x="5029200" y="1644480"/>
            <a:ext cx="3352680" cy="4451400"/>
            <a:chOff x="5029200" y="1644480"/>
            <a:chExt cx="3352680" cy="4451400"/>
          </a:xfrm>
        </p:grpSpPr>
        <p:pic>
          <p:nvPicPr>
            <p:cNvPr id="339" name="Group 15" descr=""/>
            <p:cNvPicPr/>
            <p:nvPr/>
          </p:nvPicPr>
          <p:blipFill>
            <a:blip r:embed="rId1"/>
            <a:stretch/>
          </p:blipFill>
          <p:spPr>
            <a:xfrm>
              <a:off x="5029200" y="1644480"/>
              <a:ext cx="3352680" cy="33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Box 13"/>
            <p:cNvSpPr/>
            <p:nvPr/>
          </p:nvSpPr>
          <p:spPr>
            <a:xfrm>
              <a:off x="5768640" y="5130000"/>
              <a:ext cx="25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stainabil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Rectangle 14"/>
            <p:cNvSpPr/>
            <p:nvPr/>
          </p:nvSpPr>
          <p:spPr>
            <a:xfrm>
              <a:off x="5029200" y="5043240"/>
              <a:ext cx="3292920" cy="1052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2" name="Title 1" descr=""/>
          <p:cNvPicPr/>
          <p:nvPr/>
        </p:nvPicPr>
        <p:blipFill>
          <a:blip r:embed="rId2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" name=""/>
          <p:cNvGraphicFramePr/>
          <p:nvPr/>
        </p:nvGraphicFramePr>
        <p:xfrm>
          <a:off x="1219320" y="1143000"/>
          <a:ext cx="3809880" cy="41148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ial"/>
                        </a:rPr>
                        <a:t>المُدخل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ial"/>
                        </a:rPr>
                        <a:t>المُخرج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ial"/>
                        </a:rPr>
                        <a:t>النوات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ial"/>
                        </a:rPr>
                        <a:t>الأث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9317-A5A5-4495-A7B5-66C7AE915A3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AutoShape 25"/>
          <p:cNvSpPr/>
          <p:nvPr/>
        </p:nvSpPr>
        <p:spPr>
          <a:xfrm>
            <a:off x="2657520" y="1371600"/>
            <a:ext cx="1152360" cy="3600360"/>
          </a:xfrm>
          <a:prstGeom prst="downArrow">
            <a:avLst>
              <a:gd name="adj1" fmla="val 50000"/>
              <a:gd name="adj2" fmla="val 781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AutoShape 26"/>
          <p:cNvSpPr/>
          <p:nvPr/>
        </p:nvSpPr>
        <p:spPr>
          <a:xfrm>
            <a:off x="4724280" y="1676520"/>
            <a:ext cx="719280" cy="93492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AutoShape 27"/>
          <p:cNvSpPr/>
          <p:nvPr/>
        </p:nvSpPr>
        <p:spPr>
          <a:xfrm>
            <a:off x="4724280" y="2798640"/>
            <a:ext cx="719280" cy="93528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5280"/>
              <a:gd name="textAreaBottom" fmla="*/ 6782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AutoShape 28"/>
          <p:cNvSpPr/>
          <p:nvPr/>
        </p:nvSpPr>
        <p:spPr>
          <a:xfrm>
            <a:off x="4724280" y="3865680"/>
            <a:ext cx="719280" cy="93492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29"/>
          <p:cNvSpPr/>
          <p:nvPr/>
        </p:nvSpPr>
        <p:spPr>
          <a:xfrm>
            <a:off x="5257800" y="3886200"/>
            <a:ext cx="314316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ff00"/>
                </a:solidFill>
                <a:latin typeface="Calibri"/>
                <a:cs typeface="Arial"/>
              </a:rPr>
              <a:t>هل النتائج جيدة أو مفيدة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30"/>
          <p:cNvSpPr/>
          <p:nvPr/>
        </p:nvSpPr>
        <p:spPr>
          <a:xfrm>
            <a:off x="5257800" y="2819520"/>
            <a:ext cx="313524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ff00"/>
                </a:solidFill>
                <a:latin typeface="Calibri"/>
                <a:cs typeface="Arial"/>
              </a:rPr>
              <a:t>هل حصلت على القيمة مقابل المال (أو الجهد)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31"/>
          <p:cNvSpPr/>
          <p:nvPr/>
        </p:nvSpPr>
        <p:spPr>
          <a:xfrm>
            <a:off x="5257800" y="1676520"/>
            <a:ext cx="313524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ff00"/>
                </a:solidFill>
                <a:latin typeface="Calibri"/>
                <a:cs typeface="Arial"/>
              </a:rPr>
              <a:t>هل قمت بدفع أو فعل ما هو أكثر من اللازم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Down Arrow 16"/>
          <p:cNvSpPr/>
          <p:nvPr/>
        </p:nvSpPr>
        <p:spPr>
          <a:xfrm rot="17497200">
            <a:off x="4713120" y="4672080"/>
            <a:ext cx="457200" cy="990360"/>
          </a:xfrm>
          <a:prstGeom prst="downArrow">
            <a:avLst>
              <a:gd name="adj1" fmla="val 50000"/>
              <a:gd name="adj2" fmla="val 445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oup 23"/>
          <p:cNvGrpSpPr/>
          <p:nvPr/>
        </p:nvGrpSpPr>
        <p:grpSpPr>
          <a:xfrm>
            <a:off x="2862360" y="2286000"/>
            <a:ext cx="1557000" cy="2590920"/>
            <a:chOff x="2862360" y="2286000"/>
            <a:chExt cx="1557000" cy="2590920"/>
          </a:xfrm>
        </p:grpSpPr>
        <p:sp>
          <p:nvSpPr>
            <p:cNvPr id="354" name="Right Brace 18"/>
            <p:cNvSpPr/>
            <p:nvPr/>
          </p:nvSpPr>
          <p:spPr>
            <a:xfrm>
              <a:off x="2862360" y="2286000"/>
              <a:ext cx="533160" cy="259092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13680 h 2590920"/>
                <a:gd name="textAreaBottom" fmla="*/ 257724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6"/>
                    <a:pt x="10800" y="371"/>
                  </a:cubicBezTo>
                  <a:lnTo>
                    <a:pt x="10800" y="10429"/>
                  </a:lnTo>
                  <a:cubicBezTo>
                    <a:pt x="10800" y="10615"/>
                    <a:pt x="16200" y="10800"/>
                    <a:pt x="21600" y="10800"/>
                  </a:cubicBezTo>
                  <a:cubicBezTo>
                    <a:pt x="16200" y="10800"/>
                    <a:pt x="10800" y="10986"/>
                    <a:pt x="10800" y="11171"/>
                  </a:cubicBezTo>
                  <a:lnTo>
                    <a:pt x="10800" y="21229"/>
                  </a:lnTo>
                  <a:cubicBezTo>
                    <a:pt x="10800" y="21415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19"/>
            <p:cNvSpPr/>
            <p:nvPr/>
          </p:nvSpPr>
          <p:spPr>
            <a:xfrm rot="5400000">
              <a:off x="2912760" y="3141720"/>
              <a:ext cx="2248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44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نتائج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6" name="Rectangle 29"/>
          <p:cNvSpPr/>
          <p:nvPr/>
        </p:nvSpPr>
        <p:spPr>
          <a:xfrm>
            <a:off x="5257800" y="5029200"/>
            <a:ext cx="314316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ff00"/>
                </a:solidFill>
                <a:latin typeface="Calibri"/>
                <a:cs typeface="Arial"/>
              </a:rPr>
              <a:t>هل ستدوم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3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3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5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38A9-244C-43C4-9F92-975D895521A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Content Placeholder 4" descr=""/>
          <p:cNvPicPr/>
          <p:nvPr/>
        </p:nvPicPr>
        <p:blipFill>
          <a:blip r:embed="rId2"/>
          <a:stretch/>
        </p:blipFill>
        <p:spPr>
          <a:xfrm>
            <a:off x="1809720" y="895320"/>
            <a:ext cx="7108920" cy="5505480"/>
          </a:xfrm>
          <a:prstGeom prst="rect">
            <a:avLst/>
          </a:prstGeom>
          <a:ln w="0">
            <a:noFill/>
          </a:ln>
        </p:spPr>
      </p:pic>
      <p:sp>
        <p:nvSpPr>
          <p:cNvPr id="360" name="Straight Connector 6"/>
          <p:cNvSpPr/>
          <p:nvPr/>
        </p:nvSpPr>
        <p:spPr>
          <a:xfrm>
            <a:off x="4191120" y="2819520"/>
            <a:ext cx="457200" cy="3045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traight Connector 8"/>
          <p:cNvSpPr/>
          <p:nvPr/>
        </p:nvSpPr>
        <p:spPr>
          <a:xfrm flipV="1">
            <a:off x="5562000" y="2437920"/>
            <a:ext cx="228600" cy="3812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traight Connector 10"/>
          <p:cNvSpPr/>
          <p:nvPr/>
        </p:nvSpPr>
        <p:spPr>
          <a:xfrm>
            <a:off x="6095880" y="3581280"/>
            <a:ext cx="30492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traight Connector 12"/>
          <p:cNvSpPr/>
          <p:nvPr/>
        </p:nvSpPr>
        <p:spPr>
          <a:xfrm>
            <a:off x="5791320" y="4343400"/>
            <a:ext cx="304560" cy="457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traight Connector 14"/>
          <p:cNvSpPr/>
          <p:nvPr/>
        </p:nvSpPr>
        <p:spPr>
          <a:xfrm flipH="1">
            <a:off x="4038480" y="3886200"/>
            <a:ext cx="457200" cy="457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8960" y="11426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تابعة والتقييم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M&amp;E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) والإدارة المستندة إلى تحقيق النتائج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RBM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) في صندوق البيئة العالمية – 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5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سياسة المتابعة والتقييم بشأن صندوق البيئة العالمية – 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5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شروط والمتطلبات الدنيا بشأن المتابعة والتقي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إشراك مراكز تنسيق عمليات صندوق البيئة العالم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خطط التقييم بشأن صندوق البيئة العالمية – 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5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قاعدة بيانات الاستفسارات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ASK 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تقييم المناخي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Climate-Ev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جماعة الممارسين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6D5D-CBE8-4E0E-B23D-A5672DCEC4E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152280" y="358560"/>
            <a:ext cx="90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900" spc="-1" strike="noStrike">
                <a:solidFill>
                  <a:srgbClr val="c00000"/>
                </a:solidFill>
                <a:latin typeface="Calibri"/>
                <a:cs typeface="Times New Roman"/>
              </a:rPr>
              <a:t>الشروط والمتطلبات الدنيا بشأن المتابعة والتقييم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7200" indent="-45720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وضع خطط المتابعة والتقي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خطة متابعة وتقييم ملموسة وكاملة الموازنة بمصادقة من المسؤول التنفيذي الأول بشأن المشروعات الكبيرة وبموافقة منه بشأن المشروعات المتوسطة الحج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مؤشرات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SM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وجوب تصويب المشروعات مع أطر نتائج مجالات تركيز صندوق البيئة العالم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بيانات أساسية بشأن المتابعة والتقييم بمصادقة من المسؤول التنفيذي الأو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تضمين الخطة عمليات استعراض في منتصف المدة (حسب الاقتضاء أو التوقّع) وتقييمات نهائ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البيئة المؤسسية والموازنة بشأن المتابعة والتقي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D91B-A878-4285-AD2A-EEF2E4D1C85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21896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نفيذ خطط المتابعة والتقي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تضمّن عملية متابعة والإشراف على المشروعات/البرامج تنفيذ خطة متابعة وتقييم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 algn="r" rtl="1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مؤشرات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</a:t>
            </a:r>
            <a:r>
              <a:rPr b="0" lang="ar-SY" sz="2800" spc="-1" strike="noStrike">
                <a:solidFill>
                  <a:srgbClr val="006600"/>
                </a:solidFill>
                <a:latin typeface="Calibri"/>
                <a:ea typeface="Arial"/>
              </a:rPr>
              <a:t> بشأن الخطوات/التنفي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 algn="r" rtl="1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مؤشرات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</a:t>
            </a:r>
            <a:r>
              <a:rPr b="0" lang="ar-SY" sz="2800" spc="-1" strike="noStrike">
                <a:solidFill>
                  <a:srgbClr val="006600"/>
                </a:solidFill>
                <a:latin typeface="Calibri"/>
                <a:ea typeface="Arial"/>
              </a:rPr>
              <a:t> بشأن النتائج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 algn="r" rtl="1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تحديد معلومات أساسية كاملة للمشروع المعني وجمع البيانات اللازمة لاستعراض مدى التقدّم المُحر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 algn="r" rtl="1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تفعيل البيئة المؤسسية اللازمة للمتابعة والتقييم وإنفاق الموازنة المُخصّصة حسب الخط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5CFE-5C65-49CE-AB4B-6BC6A265D02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9480" indent="-429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قييمات المشروعات/البرامج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لا بدّ من تقييم المشروعات والبرامج الكبيرة عند الانتهاء من تنفيذ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ينبغي على التقييمات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أن تكون مستقلة عن إدارة المشروعات أو أن تستعرضها وحدات التقييم في الهيئات المتعاملة مع صندوق البيئة العال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تطبيق قواعد ومعايير التقييم المعتمدة في الهيئة المعنية المتعاملة مع صندوق البيئة العال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أن تقيّم كحد أدنى: المخرجات والنواتج، واحتمال الاستدامة، والتقيّد بالشروط والمتطلبات الدنيا 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 و 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 بشأن المتابعة والتقيي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أن تتضمن: بيانات عن عملية التقييم نفسها (شاملة وثيقة المهام والصلاحيات)، وبيانات المشروع المعني الأساسية، والدروس المُستفا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أن يتم إرسالها إلى مكتب التقييم في صندوق البيئة العالمية في غضون 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 شهراً من إنجاز المشروع/البرنامج المعن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7960" indent="-368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7960" indent="-3686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2400" spc="-1" strike="noStrike">
                <a:solidFill>
                  <a:srgbClr val="000000"/>
                </a:solidFill>
                <a:latin typeface="Calibri"/>
                <a:cs typeface="Arial"/>
              </a:rPr>
              <a:t>سيتم وضع إرشادات بشأن تقييم المشروعات متوسطة الحجم/التقييمات البي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D50E-CAE9-4627-8AE2-97BAA297E47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1371600" y="426960"/>
            <a:ext cx="7924680" cy="7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12193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إشراك مراكز تنسيق عمليات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080" indent="-586080" algn="r" rtl="1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على خطط المتابعة والتقييم بيان كيف سيتم إشراك مراكز تنسيق العملي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080" indent="-586080" algn="r" rtl="1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ضرورة إطلاع مراكز تنسيق العمليات على أنشطة المتابعة والتقييم، شاملة استعراضات منتصف المدة والتقييمات النهائية، مع استلام المسودات للتعليق عليها ومن ثم التقارير النها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080" indent="-586080" algn="r" rtl="1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دعوة مراكز تنسيق العمليات للإسهام في أجوبة الإدارة (عند الاقتضاء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080" indent="-586080" algn="r" rtl="1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تبُّع الهيئات المتعاملة مع صندوق البيئة العالمية تطبيق هذا الشرط المطلوب في مشروعاتها وبرامجها التي يمولها الصندو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67A0-5E65-436C-A55B-907932E01F5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-76680" y="358560"/>
            <a:ext cx="906804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c00000"/>
                </a:solidFill>
                <a:latin typeface="Calibri"/>
                <a:cs typeface="Times New Roman"/>
              </a:rPr>
              <a:t>إشراك مراكز تنسيق العمليات التي يمولها صندوق البيئة العالمي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219320" y="249120"/>
            <a:ext cx="7924680" cy="8604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تتبُّع المساندة من صندوق البيئة العالمية </a:t>
            </a:r>
            <a:r>
              <a:rPr b="0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على مستوى البلدان</a:t>
            </a:r>
            <a:r>
              <a:rPr b="1" lang="ar-SY" sz="2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إطلاع أصحاب المصلحة المباشرة والتشاور </a:t>
            </a:r>
            <a:r>
              <a:rPr b="0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معهم في خطط وتنفيذ ونتائج أنشطة صندوق البيئة العالمية في البلدان المعنيّة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تعميم </a:t>
            </a:r>
            <a:r>
              <a:rPr b="0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المعلومات عن المتابعة والتقييم، وتشجيع الاستفادة من توصيات عمليات التقييم </a:t>
            </a: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والدروس المكتسبة من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مساعدة مكتب التقييم، </a:t>
            </a:r>
            <a:r>
              <a:rPr b="0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باعتبارها نقطة الدخول الأولى إلى البلدان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 rtl="1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حديد أصحاب المصلحة المباشرة الرئيسيين المعنيين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 rtl="1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نسيق الاجتماعات واللقاءات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 rtl="1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المساعدة في وضع جداول الأعمال اللازمة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 rtl="1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نسيق أجوبة البلدان على تلك التقييم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A385-9F6D-47D2-B888-C1BA9B480BE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استراتيجية صندوق البيئة العالمية – 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 المشتركة بين المجالات بشأن التنمية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المُكوّن الخامس: تعزيز قدرات متابعة وتقييم الآثار والاتجاهات البيئية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ضرورة أن يكون ذلك أولوية في خطة العمل بشأن تنمية قدرات التقييم الذاتي الوطن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ضرورة أن تكون خطة تنمية القدرات مشروعاً متوسط الحجم أو إدماجها في مقترح أوسع نطاقاً سيتم وضعه كمشروع متوسط الحجم أو كبير الحجم – وإن كان متوسط الحجم يجب أن يكون التمويل مشتركاً بنسبة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1: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إمكانية النظر في إنشاء شراكات إقلي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التمويل من مبلغ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$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44</a:t>
            </a:r>
            <a:r>
              <a:rPr b="0" lang="ar-SY" sz="2400" spc="-1" strike="noStrike">
                <a:solidFill>
                  <a:srgbClr val="006600"/>
                </a:solidFill>
                <a:latin typeface="Calibri"/>
                <a:ea typeface="Arial"/>
              </a:rPr>
              <a:t> مليون دولار أمريكي مخصّص لعمليات تنمية القدر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E3EE-D3C8-408C-A18A-B390552467B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c00000"/>
                </a:solidFill>
                <a:latin typeface="Calibri"/>
                <a:cs typeface="Times New Roman"/>
              </a:rPr>
              <a:t>خطط التقييم بشأن صندوق البيئة العالمية – </a:t>
            </a:r>
            <a:r>
              <a:rPr b="1" lang="ar-SY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5</a:t>
            </a:r>
            <a:r>
              <a:rPr b="1" lang="ar-SY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6551-AE98-470A-B8FD-3818E4646289}" type="slidenum">
              <a:rPr b="0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1450800" y="231840"/>
            <a:ext cx="7693200" cy="7128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523520" y="9903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وحيد وتدعيم أنواع شواهد التقييم الأربع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2060"/>
                </a:solidFill>
                <a:latin typeface="Calibri"/>
                <a:cs typeface="Arial"/>
              </a:rPr>
              <a:t>تقييمات حوافظ عمليات قُطْريّة: في حدود </a:t>
            </a:r>
            <a:r>
              <a:rPr b="0" lang="ar-SY" sz="2400" spc="-1" strike="noStrike">
                <a:solidFill>
                  <a:srgbClr val="002060"/>
                </a:solidFill>
                <a:latin typeface="Calibri"/>
                <a:ea typeface="Arial"/>
              </a:rPr>
              <a:t>15</a:t>
            </a:r>
            <a:r>
              <a:rPr b="0" lang="ar-SY" sz="2400" spc="-1" strike="noStrike">
                <a:solidFill>
                  <a:srgbClr val="002060"/>
                </a:solidFill>
                <a:latin typeface="Calibri"/>
                <a:ea typeface="Arial"/>
              </a:rPr>
              <a:t> تقييماً في فترة صندوق البيئة العالمية – </a:t>
            </a:r>
            <a:r>
              <a:rPr b="0" lang="ar-SY" sz="2400" spc="-1" strike="noStrike">
                <a:solidFill>
                  <a:srgbClr val="002060"/>
                </a:solidFill>
                <a:latin typeface="Calibri"/>
                <a:ea typeface="Arial"/>
              </a:rPr>
              <a:t>5</a:t>
            </a:r>
            <a:r>
              <a:rPr b="0" lang="ar-SY" sz="24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2060"/>
                </a:solidFill>
                <a:latin typeface="Calibri"/>
                <a:cs typeface="Arial"/>
              </a:rPr>
              <a:t>تقييمات الأثر: الجهد الرئيسي في مجال المياه الدولية وعمل إضافي على مجالات التركيز الأخر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2060"/>
                </a:solidFill>
                <a:latin typeface="Calibri"/>
                <a:cs typeface="Arial"/>
              </a:rPr>
              <a:t>تقييمات الأداء: استمرار وازدياد قوة التقارير السنوية عن التقدّم المُحرز فضلاً عن الاستعراض المستقل للخطوات والإجراء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2060"/>
                </a:solidFill>
                <a:latin typeface="Calibri"/>
                <a:cs typeface="Arial"/>
              </a:rPr>
              <a:t>تقييمات محاور التركيز: استراتيجيات مجالات التركيز والتكيّ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من شأن شواهد التقييم هذه تسهيل وضع الدراسة الخامسة عن الأداء العام لصندوق البيئة العالمية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S5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 بحيث تتطلب عملاً إضافياً أقل مما تطلبته الدراسة الرابعة عن الأداء العام لصندوق البيئة العالمية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S4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76320" y="35856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متابعة والتقييم والإدارة المستندة إلى تحقيق النتائج في صندوق البيئة العالمية – </a:t>
            </a:r>
            <a:r>
              <a:rPr b="1" lang="ar-SY" sz="2800" spc="-1" strike="noStrike">
                <a:solidFill>
                  <a:srgbClr val="c00000"/>
                </a:solidFill>
                <a:latin typeface="Calibri"/>
                <a:ea typeface="Simplified Arabic"/>
              </a:rPr>
              <a:t>5</a:t>
            </a:r>
            <a:r>
              <a:rPr b="1" lang="ar-SY" sz="2800" spc="-1" strike="noStrike">
                <a:solidFill>
                  <a:srgbClr val="c00000"/>
                </a:solidFill>
                <a:latin typeface="Calibri"/>
                <a:ea typeface="Simplified Arabic"/>
              </a:rPr>
              <a:t> </a:t>
            </a:r>
            <a:r>
              <a:rPr b="1" lang="ar-SY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لتحقق من - ودرجات تقديرات ومدى - التقدّم المحرز نحو تحقيق الأثر المنشود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لحفاظ على تغطية عملية الإصلاح: دورة وأنماط مشروعات صندوق البيئة العالمية، والقدرة على الوصول المباشر، ونظام التخصيص الشفاف للموارد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R</a:t>
            </a: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، والفقرة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زيادة فهم الدور التحفيزي الذي يسهم به صندوق البيئة العالم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تجاهات مدى الالتزام والدوافع من اعتبارات البلد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تجاهات المشاكل البيئية وملاءمة صندوق البيئة العالمية للاتفاقيات المعن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لمزيد من النظرة المتعمقة في استراتيجيات مجالات التركيز، شاملة إدارة الغابات بما يحقق استدام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تحسين فهم الأثر الطويل الأمد الناجم عن صندوق البيئة العالم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0" y="6172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67AC-21B3-4D18-A129-787B803E1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c00000"/>
                </a:solidFill>
                <a:latin typeface="Calibri"/>
                <a:cs typeface="Times New Roman"/>
              </a:rPr>
              <a:t>قاعدة بيانات الاستفسارات 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ASK 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52352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ersity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 Change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6ABB-EE42-4530-9618-7E61C09EC07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Right Arrow 7"/>
          <p:cNvSpPr/>
          <p:nvPr/>
        </p:nvSpPr>
        <p:spPr>
          <a:xfrm rot="3333000">
            <a:off x="3957480" y="10108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ight Arrow 8"/>
          <p:cNvSpPr/>
          <p:nvPr/>
        </p:nvSpPr>
        <p:spPr>
          <a:xfrm rot="3333000">
            <a:off x="680760" y="35254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8759880" cy="792000"/>
          </a:xfrm>
          <a:prstGeom prst="rect">
            <a:avLst/>
          </a:prstGeom>
          <a:ln w="0">
            <a:noFill/>
          </a:ln>
        </p:spPr>
      </p:pic>
      <p:sp>
        <p:nvSpPr>
          <p:cNvPr id="40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849C-45E1-47F3-A4A4-0BA294330AA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480060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4" name="TextBox 5"/>
          <p:cNvSpPr/>
          <p:nvPr/>
        </p:nvSpPr>
        <p:spPr>
          <a:xfrm>
            <a:off x="5638680" y="2362320"/>
            <a:ext cx="289584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ffff"/>
                </a:solidFill>
                <a:latin typeface="Calibri"/>
                <a:cs typeface="Arial"/>
              </a:rPr>
              <a:t>من وثائق مكتب التقيي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5257800" y="3657600"/>
            <a:ext cx="274320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ffff"/>
                </a:solidFill>
                <a:latin typeface="Calibri"/>
                <a:cs typeface="Arial"/>
              </a:rPr>
              <a:t>تقرير تقيي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7"/>
          <p:cNvSpPr/>
          <p:nvPr/>
        </p:nvSpPr>
        <p:spPr>
          <a:xfrm>
            <a:off x="5867280" y="4800600"/>
            <a:ext cx="2971800" cy="5806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ffffff"/>
                </a:solidFill>
                <a:latin typeface="Calibri"/>
                <a:cs typeface="Arial"/>
              </a:rPr>
              <a:t>تقييم سنوي لحافظة عمليات قُطْريّة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7" name="Straight Arrow Connector 9"/>
          <p:cNvCxnSpPr/>
          <p:nvPr/>
        </p:nvCxnSpPr>
        <p:spPr>
          <a:xfrm flipH="1">
            <a:off x="3809160" y="2513520"/>
            <a:ext cx="1753560" cy="6102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8" name="Straight Arrow Connector 10"/>
          <p:cNvCxnSpPr>
            <a:stCxn id="405" idx="1"/>
          </p:cNvCxnSpPr>
          <p:nvPr/>
        </p:nvCxnSpPr>
        <p:spPr>
          <a:xfrm flipH="1">
            <a:off x="4190400" y="3841920"/>
            <a:ext cx="1067400" cy="2732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9" name="Straight Arrow Connector 11"/>
          <p:cNvCxnSpPr>
            <a:stCxn id="406" idx="1"/>
          </p:cNvCxnSpPr>
          <p:nvPr/>
        </p:nvCxnSpPr>
        <p:spPr>
          <a:xfrm flipH="1">
            <a:off x="5333400" y="4970520"/>
            <a:ext cx="533880" cy="2880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6D11-C2E4-48B4-8CC9-FF6167FD5F8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7315200" cy="63244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1905120" cy="25779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413" name="Right Arrow 6"/>
          <p:cNvSpPr/>
          <p:nvPr/>
        </p:nvSpPr>
        <p:spPr>
          <a:xfrm rot="1623600">
            <a:off x="2200320" y="3165120"/>
            <a:ext cx="636480" cy="45720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c00000"/>
                </a:solidFill>
                <a:latin typeface="Calibri"/>
                <a:cs typeface="Times New Roman"/>
              </a:rPr>
              <a:t>شبكة التقييم المناخي 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Climate-EV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 algn="r" rt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جماعة ممارسين في مجال تقييم تغيّر المناخ والتنم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700" spc="-1" strike="noStrike">
                <a:solidFill>
                  <a:srgbClr val="000000"/>
                </a:solidFill>
                <a:latin typeface="Calibri"/>
                <a:cs typeface="Arial"/>
              </a:rPr>
              <a:t>تبادل أفضل الممارسات بشأن تقييم تغيّر المناخ والتنمي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700" spc="-1" strike="noStrike">
                <a:solidFill>
                  <a:srgbClr val="000000"/>
                </a:solidFill>
                <a:latin typeface="Calibri"/>
                <a:cs typeface="Arial"/>
              </a:rPr>
              <a:t>أكثر من </a:t>
            </a:r>
            <a:r>
              <a:rPr b="0" lang="ar-SY" sz="2700" spc="-1" strike="noStrike">
                <a:solidFill>
                  <a:srgbClr val="000000"/>
                </a:solidFill>
                <a:latin typeface="Calibri"/>
                <a:ea typeface="Arial"/>
              </a:rPr>
              <a:t>500</a:t>
            </a:r>
            <a:r>
              <a:rPr b="0" lang="ar-SY" sz="2700" spc="-1" strike="noStrike">
                <a:solidFill>
                  <a:srgbClr val="000000"/>
                </a:solidFill>
                <a:latin typeface="Calibri"/>
                <a:ea typeface="Arial"/>
              </a:rPr>
              <a:t> عضو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أدوات مشاركة على شبكة الإنترنت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476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الموقع على شبكة الإنترنت: 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مجموعة المهنيين أعضاء شبكة 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Linked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وسائل التواصل الاجتماع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رسائل إخبار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مُدوّنَة (عما قريب!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290A-135A-45FF-96BD-5E120B94B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A040-5B2C-4874-8DF7-8B170AB41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أسئلة عن سياسات المتابعة والتقيي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أسئلة عن شبكة التقييم المناخي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-E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بادل المعرفة في مجال التقييمات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هل تصلك التقييمات الصادرة عن صندوق البيئة العالمية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ما شكل أدوات المعرفة التقييمية الأكثر فائدة لك في عملك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3BC1-70FE-4521-B4EA-45669671CB1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c00000"/>
                </a:solidFill>
                <a:latin typeface="Calibri"/>
                <a:cs typeface="Times New Roman"/>
              </a:rPr>
              <a:t>شكراً لكم 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C192-78DA-4BA8-B072-02333DB7555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9" name="Title 1" descr=""/>
          <p:cNvPicPr/>
          <p:nvPr/>
        </p:nvPicPr>
        <p:blipFill>
          <a:blip r:embed="rId3"/>
          <a:stretch/>
        </p:blipFill>
        <p:spPr>
          <a:xfrm>
            <a:off x="1523880" y="274680"/>
            <a:ext cx="7467840" cy="1023840"/>
          </a:xfrm>
          <a:prstGeom prst="rect">
            <a:avLst/>
          </a:prstGeom>
          <a:ln w="0">
            <a:noFill/>
          </a:ln>
        </p:spPr>
      </p:pic>
      <p:sp>
        <p:nvSpPr>
          <p:cNvPr id="150" name="Content Placeholder 2"/>
          <p:cNvSpPr/>
          <p:nvPr/>
        </p:nvSpPr>
        <p:spPr>
          <a:xfrm>
            <a:off x="1295280" y="129528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6600"/>
                </a:solidFill>
                <a:latin typeface="Calibri"/>
                <a:cs typeface="Simplified Arabic"/>
              </a:rPr>
              <a:t>المتابعة 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هي إحدى الأدوات الرئيسية في الإدارة المستندة إلى تحقيق النتائ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تقييم 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هو ”معاينة للواقع“ في المتابعة </a:t>
            </a:r>
            <a:r>
              <a:rPr b="0" lang="ar-SY" sz="3200" spc="-1" strike="noStrike">
                <a:solidFill>
                  <a:srgbClr val="006600"/>
                </a:solidFill>
                <a:latin typeface="Calibri"/>
                <a:cs typeface="Simplified Arabic"/>
              </a:rPr>
              <a:t>والإدارة المستندة إلى تحقيق النتائ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6600"/>
                </a:solidFill>
                <a:latin typeface="Calibri"/>
                <a:cs typeface="Simplified Arabic"/>
              </a:rPr>
              <a:t>المتابعة والإدارة المستندة إلى تحقيق النتائج 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هما بيان لما إذا كانت المؤسسة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Simplified Arabic"/>
              </a:rPr>
              <a:t>“</a:t>
            </a:r>
            <a:r>
              <a:rPr b="0" lang="ar-SY" sz="3200" spc="-1" strike="noStrike">
                <a:solidFill>
                  <a:srgbClr val="006600"/>
                </a:solidFill>
                <a:latin typeface="Calibri"/>
                <a:cs typeface="Simplified Arabic"/>
              </a:rPr>
              <a:t>سائرة في الطريق المرسوم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مكن للتقييم بيان ما إذا كانت المؤسسة </a:t>
            </a:r>
            <a:r>
              <a:rPr b="0" lang="ar-SY" sz="3200" spc="-1" strike="noStrike">
                <a:solidFill>
                  <a:srgbClr val="c00000"/>
                </a:solidFill>
                <a:latin typeface="Calibri"/>
                <a:ea typeface="Simplified Arabic"/>
              </a:rPr>
              <a:t>”سائرة على الطريق </a:t>
            </a:r>
            <a:r>
              <a:rPr b="1" lang="ar-SY" sz="32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صحيح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Simplified Arabic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294920" y="1066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00000"/>
                </a:solidFill>
                <a:latin typeface="Calibri"/>
                <a:cs typeface="Simplified Arabic"/>
              </a:rPr>
              <a:t>هدفان رئيسيان هما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شجيع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ساءلة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 عن تحقيق أهداف الصندوق، وذلك من خلال تقييم: </a:t>
            </a: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Simplified Arabic"/>
              </a:rPr>
              <a:t>النتائج، والفعالية، والإجراءات، والأداء </a:t>
            </a:r>
            <a:r>
              <a:rPr b="0" lang="ar-SY" sz="2800" spc="-1" strike="noStrike">
                <a:solidFill>
                  <a:srgbClr val="663300"/>
                </a:solidFill>
                <a:latin typeface="Calibri"/>
                <a:cs typeface="Simplified Arabic"/>
              </a:rPr>
              <a:t>عند الشركاء العاملين على أنشطة صندوق البيئة العالم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شجيع: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تعلّم، والمعلومات التقييمية، وتبادل المعرفة 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بشأن النتائج والدروس المستفادة فيما بين الصندوق وشركائه كأساس لاتخاذ القرارات بشأن: السياسات، والاستراتيجيات، وإدارة البرامج، والبرامج، والمشروعات، وتحسين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عرفة والأداء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6118-2FAE-4633-9886-2CCE100FAB4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6D2D-AD0B-4F63-A751-ED2E0AE50E8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Content Placeholder 2"/>
          <p:cNvSpPr/>
          <p:nvPr/>
        </p:nvSpPr>
        <p:spPr>
          <a:xfrm>
            <a:off x="1219320" y="1143000"/>
            <a:ext cx="739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على مستوى حافظة العمليات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تتبّع التقدم المُحرز نحو تحقيق النواتج المنشو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صطلحات الموحدة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تحقيق الانسجام فيما بين مجالات التركي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تعلّم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إدماج الدروس المستفادة في قرارات الإدار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علومات التقييمية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هي إطار منسجم من أجل تحسين عملية اتخاذ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Rectangle 2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4"/>
          <p:cNvGrpSpPr/>
          <p:nvPr/>
        </p:nvGrpSpPr>
        <p:grpSpPr>
          <a:xfrm>
            <a:off x="1219320" y="1447920"/>
            <a:ext cx="7467120" cy="3819240"/>
            <a:chOff x="1219320" y="1447920"/>
            <a:chExt cx="7467120" cy="3819240"/>
          </a:xfrm>
        </p:grpSpPr>
        <p:sp>
          <p:nvSpPr>
            <p:cNvPr id="159" name="Text Box 5"/>
            <p:cNvSpPr/>
            <p:nvPr/>
          </p:nvSpPr>
          <p:spPr>
            <a:xfrm>
              <a:off x="1219320" y="1447920"/>
              <a:ext cx="24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تصاميم المشروعات والبرام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3737160" y="1447920"/>
              <a:ext cx="24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تنفي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6255720" y="1447920"/>
              <a:ext cx="243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تقيي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Line 8"/>
            <p:cNvSpPr/>
            <p:nvPr/>
          </p:nvSpPr>
          <p:spPr>
            <a:xfrm>
              <a:off x="3659760" y="1598760"/>
              <a:ext cx="60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5995080" y="1598760"/>
              <a:ext cx="60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1479600" y="2077200"/>
              <a:ext cx="191556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نهج الإطار المنطقي/إطار النتائ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خطة المتابعة والتقييم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AutoShape 11"/>
            <p:cNvSpPr/>
            <p:nvPr/>
          </p:nvSpPr>
          <p:spPr>
            <a:xfrm>
              <a:off x="2782080" y="3493080"/>
              <a:ext cx="3994200" cy="1415880"/>
            </a:xfrm>
            <a:prstGeom prst="rightArrow">
              <a:avLst>
                <a:gd name="adj1" fmla="val 50000"/>
                <a:gd name="adj2" fmla="val 7052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12"/>
            <p:cNvSpPr/>
            <p:nvPr/>
          </p:nvSpPr>
          <p:spPr>
            <a:xfrm>
              <a:off x="3595680" y="3965040"/>
              <a:ext cx="165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إدارة، المتابعة، والتعلّ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3824280" y="2077200"/>
              <a:ext cx="217080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متابعة التقدّم المُحرز؛ التصحيح في منتصف المدة حسب الحاجة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6429240" y="2077200"/>
              <a:ext cx="217080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تقييمات النهائية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دروس المستفادة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69" name="AutoShape 15"/>
            <p:cNvCxnSpPr>
              <a:stCxn id="168" idx="2"/>
              <a:endCxn id="164" idx="2"/>
            </p:cNvCxnSpPr>
            <p:nvPr/>
          </p:nvCxnSpPr>
          <p:spPr>
            <a:xfrm rot="5400000">
              <a:off x="4975560" y="-30960"/>
              <a:ext cx="1080" cy="5076720"/>
            </a:xfrm>
            <a:prstGeom prst="bentConnector3">
              <a:avLst>
                <a:gd name="adj1" fmla="val 1435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" name="Text Box 16"/>
            <p:cNvSpPr/>
            <p:nvPr/>
          </p:nvSpPr>
          <p:spPr>
            <a:xfrm>
              <a:off x="4582440" y="4990680"/>
              <a:ext cx="257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دروس المستفادة؛ الممارسات الجيدة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Text Box 17"/>
          <p:cNvSpPr/>
          <p:nvPr/>
        </p:nvSpPr>
        <p:spPr>
          <a:xfrm>
            <a:off x="2525040" y="5562720"/>
            <a:ext cx="70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200" spc="-1" strike="noStrike">
                <a:solidFill>
                  <a:srgbClr val="000000"/>
                </a:solidFill>
                <a:latin typeface="Calibri"/>
                <a:cs typeface="Arial"/>
              </a:rPr>
              <a:t>تعديلاً عن وثيقة البنك الدولي: </a:t>
            </a:r>
            <a:r>
              <a:rPr b="0" i="1" lang="ar-SY" sz="1200" spc="-1" strike="noStrike">
                <a:solidFill>
                  <a:srgbClr val="000000"/>
                </a:solidFill>
                <a:latin typeface="Calibri"/>
                <a:cs typeface="Arial"/>
              </a:rPr>
              <a:t>التركيز على النتائج في استراتيجيات المساعدة القُطرية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cs typeface="Arial"/>
              </a:rPr>
              <a:t>، يوليو/تموز 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2005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cs typeface="Arial"/>
              </a:rPr>
              <a:t>، ص 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13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328D-8EF0-4B0C-B888-F25FA4F8AF9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2" descr=""/>
          <p:cNvPicPr/>
          <p:nvPr/>
        </p:nvPicPr>
        <p:blipFill>
          <a:blip r:embed="rId1"/>
          <a:stretch/>
        </p:blipFill>
        <p:spPr>
          <a:xfrm>
            <a:off x="762120" y="262080"/>
            <a:ext cx="8076960" cy="8841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Group 40"/>
          <p:cNvGrpSpPr/>
          <p:nvPr/>
        </p:nvGrpSpPr>
        <p:grpSpPr>
          <a:xfrm>
            <a:off x="1295280" y="1447920"/>
            <a:ext cx="7009920" cy="4418640"/>
            <a:chOff x="1295280" y="1447920"/>
            <a:chExt cx="7009920" cy="4418640"/>
          </a:xfrm>
        </p:grpSpPr>
        <p:sp>
          <p:nvSpPr>
            <p:cNvPr id="177" name="Text Box 56"/>
            <p:cNvSpPr/>
            <p:nvPr/>
          </p:nvSpPr>
          <p:spPr>
            <a:xfrm>
              <a:off x="1295280" y="4265280"/>
              <a:ext cx="140976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مستوى العمليات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من القاعدة إلى القمة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Box 55"/>
            <p:cNvSpPr/>
            <p:nvPr/>
          </p:nvSpPr>
          <p:spPr>
            <a:xfrm>
              <a:off x="1599840" y="1779120"/>
              <a:ext cx="11811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مستوى المؤسسي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من القمة إلى القاعدة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41"/>
            <p:cNvGrpSpPr/>
            <p:nvPr/>
          </p:nvGrpSpPr>
          <p:grpSpPr>
            <a:xfrm>
              <a:off x="3428640" y="1447920"/>
              <a:ext cx="4876560" cy="4418640"/>
              <a:chOff x="3428640" y="1447920"/>
              <a:chExt cx="4876560" cy="4418640"/>
            </a:xfrm>
          </p:grpSpPr>
          <p:sp>
            <p:nvSpPr>
              <p:cNvPr id="180" name="AutoShape 42"/>
              <p:cNvSpPr/>
              <p:nvPr/>
            </p:nvSpPr>
            <p:spPr>
              <a:xfrm>
                <a:off x="3428640" y="1447920"/>
                <a:ext cx="4876560" cy="441864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43"/>
              <p:cNvSpPr/>
              <p:nvPr/>
            </p:nvSpPr>
            <p:spPr>
              <a:xfrm>
                <a:off x="5235840" y="4761720"/>
                <a:ext cx="11631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أهداف المشروعات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44"/>
              <p:cNvSpPr/>
              <p:nvPr/>
            </p:nvSpPr>
            <p:spPr>
              <a:xfrm>
                <a:off x="5080320" y="3075480"/>
                <a:ext cx="149436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مجال التركيز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الغاي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45"/>
              <p:cNvSpPr/>
              <p:nvPr/>
            </p:nvSpPr>
            <p:spPr>
              <a:xfrm>
                <a:off x="5470560" y="1559160"/>
                <a:ext cx="86832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الغايات الاستراتيجي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لصندوق البيئة العالمي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Line 46"/>
              <p:cNvSpPr/>
              <p:nvPr/>
            </p:nvSpPr>
            <p:spPr>
              <a:xfrm>
                <a:off x="4529880" y="3889800"/>
                <a:ext cx="267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5237640" y="4122360"/>
                <a:ext cx="11797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أهداف مجالات التركيز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Line 48"/>
              <p:cNvSpPr/>
              <p:nvPr/>
            </p:nvSpPr>
            <p:spPr>
              <a:xfrm>
                <a:off x="3979080" y="4820040"/>
                <a:ext cx="377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Line 49"/>
              <p:cNvSpPr/>
              <p:nvPr/>
            </p:nvSpPr>
            <p:spPr>
              <a:xfrm>
                <a:off x="5159160" y="2726640"/>
                <a:ext cx="141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Text Box 50"/>
            <p:cNvSpPr/>
            <p:nvPr/>
          </p:nvSpPr>
          <p:spPr>
            <a:xfrm>
              <a:off x="2705040" y="1839240"/>
              <a:ext cx="1714320" cy="36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منافع البيئية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آثار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نوات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مُخرجات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51"/>
            <p:cNvSpPr/>
            <p:nvPr/>
          </p:nvSpPr>
          <p:spPr>
            <a:xfrm flipV="1">
              <a:off x="3352680" y="365724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52"/>
            <p:cNvSpPr/>
            <p:nvPr/>
          </p:nvSpPr>
          <p:spPr>
            <a:xfrm>
              <a:off x="3352680" y="255276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AutoShape 53"/>
            <p:cNvSpPr/>
            <p:nvPr/>
          </p:nvSpPr>
          <p:spPr>
            <a:xfrm flipH="1">
              <a:off x="2666880" y="1779120"/>
              <a:ext cx="304560" cy="110484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0600 h 1104840"/>
                <a:gd name="textAreaBottom" fmla="*/ 10742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AutoShape 54"/>
            <p:cNvSpPr/>
            <p:nvPr/>
          </p:nvSpPr>
          <p:spPr>
            <a:xfrm flipH="1">
              <a:off x="2666880" y="4099320"/>
              <a:ext cx="304560" cy="138096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6360 h 1380960"/>
                <a:gd name="textAreaBottom" fmla="*/ 1344600 h 13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3D0D-8173-4EF0-9C62-2D47D5F0F9D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196" name="Title 1" descr=""/>
          <p:cNvPicPr/>
          <p:nvPr/>
        </p:nvPicPr>
        <p:blipFill>
          <a:blip r:embed="rId2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alibri"/>
                <a:cs typeface="Arial"/>
              </a:rPr>
              <a:t>على مستوى المشروع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رفع تقارير عن: بدء المشروع، وتأخيراته، وإلغاءات المشرو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قديم تقرير عن تنفيذ المشروع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IR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قديم تقرير عن أدوات التتبُّ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alibri"/>
                <a:cs typeface="Arial"/>
              </a:rPr>
              <a:t>على مستوى الهيئات المتعاملة مع الصندو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قرير عرض عام عن حافظة العملي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قارير عن مجالات التركي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ight Arrow 10"/>
          <p:cNvSpPr/>
          <p:nvPr/>
        </p:nvSpPr>
        <p:spPr>
          <a:xfrm>
            <a:off x="1447920" y="5029200"/>
            <a:ext cx="4572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dcd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Calibri"/>
                <a:cs typeface="Arial"/>
              </a:rPr>
              <a:t>مُدخلات في تقرير المتابعة السنو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Down Arrow 16"/>
          <p:cNvSpPr/>
          <p:nvPr/>
        </p:nvSpPr>
        <p:spPr>
          <a:xfrm>
            <a:off x="3581280" y="480060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Right Brace 6" descr=""/>
          <p:cNvPicPr/>
          <p:nvPr/>
        </p:nvPicPr>
        <p:blipFill>
          <a:blip r:embed="rId3"/>
          <a:stretch/>
        </p:blipFill>
        <p:spPr>
          <a:xfrm>
            <a:off x="3492360" y="2182680"/>
            <a:ext cx="1335240" cy="21146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7"/>
          <p:cNvSpPr/>
          <p:nvPr/>
        </p:nvSpPr>
        <p:spPr>
          <a:xfrm>
            <a:off x="2362320" y="2819520"/>
            <a:ext cx="1066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Calibri"/>
                <a:cs typeface="Arial"/>
              </a:rPr>
              <a:t>يجب إتاحة هذه المعلومات لمراكز التنسي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9A3D-B100-4C97-A76A-47D5B2222E0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Lisa</cp:lastModifiedBy>
  <dcterms:modified xsi:type="dcterms:W3CDTF">2012-04-22T23:44:17Z</dcterms:modified>
  <cp:revision>300</cp:revision>
  <dc:subject/>
  <dc:title>Slide 1</dc:title>
</cp:coreProperties>
</file>