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382B-E8D3-48ED-AC49-56706F1577A1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2A8-8409-45EA-808E-063A2093451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8C3B-9EAF-48C3-BA0A-A4C439F4751B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C53F-BC1A-4342-A74F-A119E1F12194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BF6-50D9-4A51-9A15-26841651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B1C-556B-4392-982C-A396C69B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86C-2CA6-42EB-9F96-E3864C37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B3B-9963-498C-A937-6E9712DC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E113-104A-4D94-9E24-A0A197E0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9AD2-392A-4F32-893C-33756308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D212-6FDE-4197-BFA7-C610E649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00AA-0539-4E69-AC87-AD20B633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CECE-A85E-428E-AA96-9EDF026E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1E13-347B-4B9F-9888-5C8AD793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B052-8D05-4431-A85C-C11DD45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2EA-4F41-402D-93D0-26E06C25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5E88-0CC9-43C1-81DA-B25DB8C2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2E64-9969-45B8-A82B-F20FC26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A286-64A2-42CF-A38F-777175D5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5BA8-6FB8-4705-B548-A1473C07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5AB1-E1CD-49E7-90DB-34E8BFA5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07075-44F7-475F-8B76-5565335E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630C7-0367-422B-AF8D-64CAA950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7768-3427-4C98-B9D6-D2FC9897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821C0-C437-4BB1-8727-5A6D751E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E338-C4BB-4BCD-8D1A-90440B0D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ABF-C4EB-4E5D-A8F3-7CD58A8C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761A-74C5-46F8-BA72-34721CA2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AFBD-2FEE-4EDA-98D6-F06EABFF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77C0-6A7E-494C-A3A0-B30918FD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F928-C1E2-4EE7-8864-7E0B1951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A9DB-B208-4811-A647-73ACFDE6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74FC-041B-464A-AE23-20D1805E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8E41-944F-4F90-8F69-DC11BCA8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20097-7C67-48CD-BAD2-3FE2376E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F6A20-7C7F-469C-9A8B-DD394010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5A67E-BF73-4973-B8D5-8C8DCC43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4E3-2958-47B3-9647-03117540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54E67-F5D6-4531-8F12-7DDC3138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9E015-38A3-43BD-B5E8-67DAD7FA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74D1-2281-40AA-9AD3-914CD0C1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B4BB-72CE-4ED3-A3A2-5A12BF8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378F9-BEC9-466C-BDD8-535E6E38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008EB-22AF-4B38-B6AF-0C3AB14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31CF-18E9-4825-B1B7-8B882149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D244-0C38-4379-A0B4-236C5327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8E83E-DFC3-4546-98F4-DED2AF61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310-2AAF-4ABA-9A95-150113D1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F94-0D79-428A-B01E-BB19939D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066-8C4B-47DE-977C-02BB25BF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6D7-422E-4898-9FD8-F7BD506E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B94-7300-4E64-9D2B-B14557BD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864C-B9F0-4143-BB78-F2E02C5B04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9379-1639-4A6A-8565-01F2DBE748A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DDEC-C3C2-4EA7-AE85-B33F7EB6D0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B8DB-EFE9-4DD2-B0A1-25C099ED5C7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التنوع البيولوج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0666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Arial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–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فبراير/شباط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2012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حر الميت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257800" y="38088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تنوع البيولو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90720" y="1600200"/>
            <a:ext cx="75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هدف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: حفظ التنوع البيولوجي والاستخدام المستدام له والحفاظ على سلع وخدمات الأنظمة الإيك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اتفاقية المعنية ب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4"/>
          <p:cNvSpPr/>
          <p:nvPr/>
        </p:nvSpPr>
        <p:spPr>
          <a:xfrm>
            <a:off x="2209680" y="1522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057400" y="160020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استدامة أنظمة المناطق المح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التمويل المستدام لأنظمة المناطق المحم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زيادة العناصر الممثلة للأنظمة الإيكولوجية البحرية والبري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زيادة الأنواع والسلالات المهددة بالانقراض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سين فعالية إدارة المناطق الموجو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 جعل التنوع البيولوجي والاستخدام المستدام له جزءاً لا يتجزأ من عمليات الإنتاج براً وبحراً وفي القطاع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زيز أطر السياسات والأطر التنظيم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فيذ أطر إدارة السلالات الغازية الغريب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تاج سلع وخدمات صديقة للتنوع البيولوج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82880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3581280" y="3581280"/>
          <a:ext cx="2514600" cy="1879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58128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809880" y="1295280"/>
            <a:ext cx="480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 بناء القدرات اللازمة لتنفيذ بروتوكول قرطاجنة بشأن للسلامة البيولو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شروعات البلد الواحد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شروعات إقليمية وشبه إقليم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شروع نوعية متخصصة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82880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a5.sphotos.ak.fbcdn.net/hphotos-ak-snc4/40657_143878558968574_131120676911029_284703_2862555_n.jpg"/>
          <p:cNvPicPr/>
          <p:nvPr/>
        </p:nvPicPr>
        <p:blipFill>
          <a:blip r:embed="rId1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04920" y="990720"/>
            <a:ext cx="86104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بناء قدرات الوصول إلى الموارد الجينية وتقاسم المناف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ناء قدرات الحكومات للوفاء بالتزاماتها بموجب المادة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5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تفاقية التنوع البيولوج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ناء القدرات لدى المجموعات الرئيسية من أصحاب المصال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182880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اللجنة المجتمعية للمراقبة البيئية ــ Santiago Quiotepec"/>
          <p:cNvPicPr/>
          <p:nvPr/>
        </p:nvPicPr>
        <p:blipFill>
          <a:blip r:embed="rId1"/>
          <a:srcRect l="0" t="16676" r="0" b="7098"/>
          <a:stretch/>
        </p:blipFill>
        <p:spPr>
          <a:xfrm>
            <a:off x="2362320" y="3048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4495680" y="990720"/>
            <a:ext cx="426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 دمج الالتزامات الواردة في اتفاقية التنوع البيولوجي ضمن عمليات التخطيط الوطني من خلال الأنشطة الداعم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تقديم مساندة للأنشطة الداعمة لمراجعة خطة العمل الوطنية للتنوع البيولوجي وفق الخطة الإستراتيجية الجديدة لاتفاقية التنوع البيولوج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فيذ إرشادات ذات صلة بآلية تبادل المعلوم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049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إستراتيجية التنوع البيولو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الاتفاق الذي تم التوصل إليه بشأن بناء قدرات إمكانات الحصول والوصول ومشاطرة المنافع "/>
          <p:cNvPicPr/>
          <p:nvPr/>
        </p:nvPicPr>
        <p:blipFill>
          <a:blip r:embed="rId1"/>
          <a:stretch/>
        </p:blipFill>
        <p:spPr>
          <a:xfrm>
            <a:off x="0" y="16002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925040" cy="61196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533520" y="1522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صدي للعوامل المُسببة لفقدان التنوع البيولو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0"/>
          <p:cNvSpPr/>
          <p:nvPr/>
        </p:nvSpPr>
        <p:spPr>
          <a:xfrm>
            <a:off x="228600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2"/>
          <p:cNvSpPr/>
          <p:nvPr/>
        </p:nvSpPr>
        <p:spPr>
          <a:xfrm>
            <a:off x="365760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6"/>
          <p:cNvSpPr/>
          <p:nvPr/>
        </p:nvSpPr>
        <p:spPr>
          <a:xfrm>
            <a:off x="762120" y="38098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8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9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20"/>
          <p:cNvSpPr/>
          <p:nvPr/>
        </p:nvSpPr>
        <p:spPr>
          <a:xfrm>
            <a:off x="838080" y="4800600"/>
            <a:ext cx="762012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768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 على اهتمام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Lisa</cp:lastModifiedBy>
  <dcterms:modified xsi:type="dcterms:W3CDTF">2012-04-22T23:44:59Z</dcterms:modified>
  <cp:revision>29</cp:revision>
  <dc:subject/>
  <dc:title>Focal Area and Cross Cutting Strategies – Biodiversity</dc:title>
</cp:coreProperties>
</file>