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067-E57B-4E53-9B30-858BE5CEE7AD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14B3-7AFC-4E7C-B35C-D5C2146FA33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4FCE-568C-4EC7-ACE2-7E3A183A36A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35A8-9F60-416D-BE27-AA772A7E502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508-D834-449A-8FB7-2B280B88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BBF-0D3D-4414-BB15-F121AB9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858-5555-4D68-B395-4CB7AFCC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1B3-6A80-4865-8E6A-DE226E9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A07-E5AF-4C85-877F-D47DB98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34E0-B01A-4C8B-A4A0-697B47F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9975-8210-4D28-8492-33E0598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8DAB-ABC1-444F-ABA0-9ACB229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78A8-BD5F-46B1-AC05-E7564AFF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E5A-1D15-4D5E-BD0C-65A4327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765-A9C7-4774-8294-55BEB71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652-2E72-4EB3-BAC6-B5791AD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E6F-C601-4F4B-B859-61DF1E6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601-AF4F-44FE-86E3-CE6374C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0A69-3EF0-4129-83ED-748FA66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B396-8E61-491E-B5AA-9DDAFA7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2C4B-4F84-471D-B0C8-952DF928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C2D4-ACD2-4D68-BB3E-9E50ACD0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27F0-314B-45F4-9182-35C5936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317D-F9BB-459A-B9F2-0F742BA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D062-9A56-4FF9-9574-A4EC667A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78CE-F54D-4448-9747-DFF71F3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A6C-452A-471E-8179-20CA6FB5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66A3-D946-4CE0-93E9-FBD07AF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2AC3-B00C-421D-B3E0-996A71F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AB83-8065-4406-82C6-8DA7633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AF9D-4A29-4E6C-B454-6BEE1D8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4E70-4CE2-4860-95B5-9F57CC6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42D2-A6A8-45B3-96E3-B7356BE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1B06-A067-484C-8318-F7F5FD46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5D45-B4F8-42CE-AFAB-3E03A7D5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DA93-0D0B-43F5-9E57-96CFCFE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8DC5-5D78-4783-8635-1B5DC94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3B4-82B9-44FC-BEEC-2D073E0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0DA0-9E7F-4465-962F-3E85C24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ACF1-172D-4212-AEB6-491A08C2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3C6B-3952-4DFA-A4BB-4232919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FAC1-AB31-40D9-9596-BDAEB02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6829-6F6F-4AD4-B3CA-01205CA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25D6-15BD-44C7-9CBE-C0DA23F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373F-906D-4C8E-883B-7244E1FE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D8B7-FC1F-4979-B253-08144B0C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089D-B582-4C24-B44B-B78A2491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F76-DD24-4208-B53C-3D54137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403-D62F-4066-B2EB-A6EDEC1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D60-63AB-4ED9-9A1B-3D1A15B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FCC-F5C1-434B-884B-9889DFD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15E-02B6-4924-8A31-A7F6D45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F820-30A1-4260-B369-00A9CB5B99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261C-2F2E-4907-A5E4-90BE49DA16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2C1B-5B3B-4310-9A03-F9C40B2A1E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E1D9-A309-426D-BE45-BBDF466B22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تنوع البيولوج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57800" y="38088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تنوع البيولو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هدف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: حفظ التنوع البيولوجي والاستخدام المستدام له والحفاظ على سلع وخدمات الأنظمة الإيك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اتفاقية المعنية ب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ستدامة أنظمة المناطق المح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لتمويل المستدام لأنظمة المناطق المح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عناصر الممثلة للأنظمة الإيكولوجية البحرية والبر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أنواع والسلالات المهددة بالانقرا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فعالية إدارة المناطق المو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جعل التنوع البيولوجي والاستخدام المستدام له جزءاً لا يتجزأ من عمليات الإنتاج براً وبحراً وفي القطاع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أطر السياسات والأطر التنظي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أطر إدارة السلالات الغازية الغريب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تاج سلع وخدمات صديقة للتنوع البيولوج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3581280" y="358128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58128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القدرات اللازمة لتنفيذ بروتوكول قرطاجنة بشأن للسلامة البيولو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البلد الواحد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إقليمية وشبه إقليم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 نوعية متخصصة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قدرات الوصول إلى الموارد الجينية وتقاسم المناف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قدرات الحكومات للوفاء بالتزاماتها بموجب المادة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5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تفاقية التنوع البيولوج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القدرات لدى المجموعات الرئيسية من أصحاب المصال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اللجنة المجتمعية للمراقبة البيئية ــ Santiago Quiotepec"/>
          <p:cNvPicPr/>
          <p:nvPr/>
        </p:nvPicPr>
        <p:blipFill>
          <a:blip r:embed="rId1"/>
          <a:srcRect l="0" t="16676" r="0" b="7098"/>
          <a:stretch/>
        </p:blipFill>
        <p:spPr>
          <a:xfrm>
            <a:off x="2362320" y="3048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دمج الالتزامات الواردة في اتفاقية التنوع البيولوجي ضمن عمليات التخطيط الوطني من خلال الأنشطة الداعم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تقديم مساندة للأنشطة الداعمة لمراجعة خطة العمل الوطنية للتنوع البيولوجي وفق الخطة الإستراتيجية الجديدة لاتفاقية التنوع البيولوج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إرشادات ذات صلة بآلية تبادل المعلوم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الاتفاق الذي تم التوصل إليه بشأن بناء قدرات إمكانات الحصول والوصول ومشاطرة المنافع "/>
          <p:cNvPicPr/>
          <p:nvPr/>
        </p:nvPicPr>
        <p:blipFill>
          <a:blip r:embed="rId1"/>
          <a:stretch/>
        </p:blipFill>
        <p:spPr>
          <a:xfrm>
            <a:off x="0" y="16002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925040" cy="6119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5335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صدي للعوامل المُسببة لفقدان التنوع البيولو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>
            <a:off x="22860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2"/>
          <p:cNvSpPr/>
          <p:nvPr/>
        </p:nvSpPr>
        <p:spPr>
          <a:xfrm>
            <a:off x="36576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6"/>
          <p:cNvSpPr/>
          <p:nvPr/>
        </p:nvSpPr>
        <p:spPr>
          <a:xfrm>
            <a:off x="762120" y="38098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8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9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20"/>
          <p:cNvSpPr/>
          <p:nvPr/>
        </p:nvSpPr>
        <p:spPr>
          <a:xfrm>
            <a:off x="838080" y="4800600"/>
            <a:ext cx="76201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76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3:44:59Z</dcterms:modified>
  <cp:revision>29</cp:revision>
  <dc:subject/>
  <dc:title>Focal Area and Cross Cutting Strategies – Biodiversity</dc:title>
</cp:coreProperties>
</file>