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DBBA-716A-4298-86B2-D62B1B7D9289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720D-5799-4752-9F58-F86816C7CAC6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FB55-D2AF-4F9C-B182-9AC97686DEF8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9018-EA9A-473C-9DBE-81AE1119BFCE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352-AA5F-4813-A357-4D0B209A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CAB-1CB8-4898-9B26-B0E23A3C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E2E-F90F-4D27-9BFA-AF6F365B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53F-76A3-40D2-80FD-C5EFB5C9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3476-C635-4083-BC53-C3BE1F1F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2375-8E78-4CE5-A82A-458863D6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C5B5-8728-44DB-B426-6FCE6076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CED9-8ECE-4547-AD70-010D70A9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748A-F5E1-4E31-A256-E143B787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19A5-4D63-4AA4-B01C-28B618B4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8653-106B-4BE7-89DB-9D13F2CF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836-4BEB-4BBA-A0EB-64BADCB2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B3AB-E3AA-4385-8282-F413D19B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0DD1-97CA-4039-816A-E3EBE74E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B03A-2152-4C14-A778-E3A8E6B0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080F-3A4A-4A1F-A534-7905231E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E266-42A9-46D7-A735-76BFBB8F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EA81-D65A-4170-99EF-FB6E5A26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F9C5-8291-4DCF-BC95-1E6007A9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87F2-03CD-4A9F-A9AF-5CEB9275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094A-7697-4A9E-A775-0E74D696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6CA4-C8BF-4A22-9AEC-5CF0EE8F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5C7-7580-490D-BB55-79006996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1A8C-2ABC-46E4-965F-F2D3532F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DEFD7-C7D8-48DD-B140-19F28BF2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A4E5-AEE2-4D40-8D06-F6713428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85332-7085-4CC4-83C2-72BECE8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CAD5C-3E92-4243-A91A-F07DECDB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F106-AC51-4BFC-B160-0D4C75E4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2994-57B6-484D-BA0A-7160F0DA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3A1E-1C6B-42AF-8963-DB0C906D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4DD6-EF49-4259-B11A-AF89F853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16D99-A7AD-41CC-94DF-6C698B9F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283-E7E5-43AB-9FF3-6B2EDC4B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3327-9666-4D2E-AA3C-BF780285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D964E-311A-44DF-BFFB-955A9697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401CF-B402-4CA2-9FA9-E9EE9802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2BFF-AA89-44BB-B281-57584767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2770A-7A84-4DBA-A03B-3D374DF0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99B9-D41D-4379-9D9D-549EE5D9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6E07A-61E4-4391-9FA9-4B9D7513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EC9F3-88F6-4236-BE8B-C0B26176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50504-5AFC-41C5-9E85-AE4CC5C1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BBE-ED57-4109-A1C0-4142AF29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A33-5314-46B0-8409-6BCC0DBC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826-DFEB-4E03-AF3E-098C550B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D5C-BE30-45AB-99E0-2227915C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746-BF54-46D1-896C-89C570C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CFB6-196F-4049-ADE0-FFD2C38F72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625B-EF7E-49E2-90D9-063C881C5AF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9D79-2085-49D6-8E5D-681930DC23B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9002-EF2E-4C79-AEB3-0856FB29B87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التنوع البيولوج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0666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Arial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–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فبراير/شباط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2012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حر الميت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257800" y="38088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تنوع البيولو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90720" y="1600200"/>
            <a:ext cx="754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هدف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: حفظ التنوع البيولوجي والاستخدام المستدام له والحفاظ على سلع وخدمات الأنظمة الإيك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اتفاقية المعنية ب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4"/>
          <p:cNvSpPr/>
          <p:nvPr/>
        </p:nvSpPr>
        <p:spPr>
          <a:xfrm>
            <a:off x="2209680" y="1522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057400" y="1600200"/>
            <a:ext cx="64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سين استدامة أنظمة المناطق المح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سين التمويل المستدام لأنظمة المناطق المحم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زيادة العناصر الممثلة للأنظمة الإيكولوجية البحرية والبري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زيادة الأنواع والسلالات المهددة بالانقراض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سين فعالية إدارة المناطق الموجو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 جعل التنوع البيولوجي والاستخدام المستدام له جزءاً لا يتجزأ من عمليات الإنتاج براً وبحراً وفي القطاع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زيز أطر السياسات والأطر التنظيم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فيذ أطر إدارة السلالات الغازية الغريب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تاج سلع وخدمات صديقة للتنوع البيولوج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182880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3581280" y="3581280"/>
          <a:ext cx="2514600" cy="1879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58128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809880" y="1295280"/>
            <a:ext cx="480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 بناء القدرات اللازمة لتنفيذ بروتوكول قرطاجنة بشأن للسلامة البيولو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شروعات البلد الواحد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شروعات إقليمية وشبه إقليم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شروع نوعية متخصصة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82880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a5.sphotos.ak.fbcdn.net/hphotos-ak-snc4/40657_143878558968574_131120676911029_284703_2862555_n.jpg"/>
          <p:cNvPicPr/>
          <p:nvPr/>
        </p:nvPicPr>
        <p:blipFill>
          <a:blip r:embed="rId1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04920" y="990720"/>
            <a:ext cx="86104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بناء قدرات الوصول إلى الموارد الجينية وتقاسم المناف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ناء قدرات الحكومات للوفاء بالتزاماتها بموجب المادة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5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تفاقية التنوع البيولوج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ناء القدرات لدى المجموعات الرئيسية من أصحاب المصال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182880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اللجنة المجتمعية للمراقبة البيئية ــ Santiago Quiotepec"/>
          <p:cNvPicPr/>
          <p:nvPr/>
        </p:nvPicPr>
        <p:blipFill>
          <a:blip r:embed="rId1"/>
          <a:srcRect l="0" t="16676" r="0" b="7098"/>
          <a:stretch/>
        </p:blipFill>
        <p:spPr>
          <a:xfrm>
            <a:off x="2362320" y="3048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4495680" y="990720"/>
            <a:ext cx="426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 دمج الالتزامات الواردة في اتفاقية التنوع البيولوجي ضمن عمليات التخطيط الوطني من خلال الأنشطة الداعم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تقديم مساندة للأنشطة الداعمة لمراجعة خطة العمل الوطنية للتنوع البيولوجي وفق الخطة الإستراتيجية الجديدة لاتفاقية التنوع البيولوج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فيذ إرشادات ذات صلة بآلية تبادل المعلوم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049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الاتفاق الذي تم التوصل إليه بشأن بناء قدرات إمكانات الحصول والوصول ومشاطرة المنافع "/>
          <p:cNvPicPr/>
          <p:nvPr/>
        </p:nvPicPr>
        <p:blipFill>
          <a:blip r:embed="rId1"/>
          <a:stretch/>
        </p:blipFill>
        <p:spPr>
          <a:xfrm>
            <a:off x="0" y="16002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925040" cy="61196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533520" y="1522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صدي للعوامل المُسببة لفقدان التنوع البيولو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0"/>
          <p:cNvSpPr/>
          <p:nvPr/>
        </p:nvSpPr>
        <p:spPr>
          <a:xfrm>
            <a:off x="228600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2"/>
          <p:cNvSpPr/>
          <p:nvPr/>
        </p:nvSpPr>
        <p:spPr>
          <a:xfrm>
            <a:off x="365760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6"/>
          <p:cNvSpPr/>
          <p:nvPr/>
        </p:nvSpPr>
        <p:spPr>
          <a:xfrm>
            <a:off x="762120" y="38098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8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9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20"/>
          <p:cNvSpPr/>
          <p:nvPr/>
        </p:nvSpPr>
        <p:spPr>
          <a:xfrm>
            <a:off x="838080" y="4800600"/>
            <a:ext cx="762012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768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شكراً على اهتمامك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Lisa</cp:lastModifiedBy>
  <dcterms:modified xsi:type="dcterms:W3CDTF">2012-04-22T23:44:59Z</dcterms:modified>
  <cp:revision>29</cp:revision>
  <dc:subject/>
  <dc:title>Focal Area and Cross Cutting Strategies – Biodiversity</dc:title>
</cp:coreProperties>
</file>