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173C-29CB-4DCC-A723-52F96ABBB6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9724-49A8-43FC-8922-12FE485053F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0A34-40CE-4E50-A335-50F997D5E7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6402-46ED-4A16-8464-E0CC4EDBDA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E4D-3309-48B6-8948-7E453D81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F0F-14E4-46C8-BF49-E28D8D7D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F6C-542B-4547-A8B5-BCF46893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7F6-2DAB-4991-9D31-0FA79F9C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5E39-611D-4DFA-9B84-9ACBE5C6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609B-5AFB-4215-8B56-5D133889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122C-74A4-4490-96F3-44F09344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0C70-71BA-4C1D-955D-B43D70E0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89D9-A11C-4A05-B357-E4EE62C5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C03B-1E99-448D-8FE1-84F24CBC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5573-E177-4ECB-A42D-884A632D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37C-78FC-4A4F-9C93-7BD26583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1D25-719F-4110-B93D-CBD892BE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DE4C-A3A5-48F2-AEC6-62CF0816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3B5C-8DD5-4F4C-98B7-85102D1D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3A2B-047D-408E-9B40-A940BD09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93A1-022C-40ED-9366-F8D9EB42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513E-2DD1-4863-B937-20CAF9D3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7E0B-232E-43E4-B604-A42E18B4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7974-934A-453E-93C2-07B04502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98D7-B824-4DAE-B07B-1668CCCF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FC6D-A01E-4D44-B101-852360E8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D91-9B52-481D-87CE-8CC42C69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E7DC-CE74-4256-ADC6-B99B3F78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757D-16DA-489D-B25F-FA387427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0694-E183-4018-9586-E38DEB5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5CF1-23B2-4399-B58C-A4568D05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D065-30BA-4182-9FC4-62D93D26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18E5-9E78-45B4-8AE5-07206296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6238-514E-42AF-96EA-91F9F3ED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FAD12-DD72-4024-8F2E-63119E8B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9928-0492-48B0-B71F-EA61BE18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26EB5-821F-491A-A61B-A8272182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FA3-445F-4E8C-9A66-124DA0FC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4F88C-9641-47EC-A3A7-F2FFB3EB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A22EF-7EB6-4178-9911-8FFEAF1C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BE1D0-2A2D-4938-9774-D61F4BD9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36A1-133B-42B3-BD2D-22558211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A6538-8793-492F-AF5E-09A2BE6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A85C-ABAE-4FE4-B069-F002B7D6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0C8D-6BCF-4013-BAB6-52B25F3B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D2AA-1C50-47FD-8363-FEB6424F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31E6B-5505-451C-A7C3-05F97D70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BC7-6DB8-4F21-80D3-64964862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2DE-40A0-4B1D-BE63-4D401799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E20-2BF9-4353-BD33-C1C924E7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8DC-3C37-4327-AC47-9A0906CC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89E-C958-4C94-832C-5D60123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DCCF-CCF2-4D78-95F3-EBC9BE77B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AEBC-CD1E-483D-9568-AA607FAD1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BA69-F06F-4C87-915C-780626180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9DD1-1347-4978-B216-6AFAB6513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Biod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0666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990720" y="380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90720" y="1600200"/>
            <a:ext cx="7543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conservation and sustainable use of biodiversity and the maintenance of ecosystem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on Biologic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4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057400" y="16002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rove the sustainability of protected ar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Sustainable Financing of Protected Area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Marine and Terrestrial Ecosystem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Threatened Species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Management Effectiveness of Existing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mainstream biodiversity conservation and sustainable use into production landscapes/ seascapes and s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licy and Regulatory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Invasive Alien Species Management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Biodiversity-friendly Goods an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6629400" y="4978440"/>
          <a:ext cx="2514600" cy="1879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97844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809880" y="129528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Build capacity to implement the Cartagena Protocol on Bio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countr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or sub-regional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matic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a5.sphotos.ak.fbcdn.net/hphotos-ak-snc4/40657_143878558968574_131120676911029_284703_2862555_n.jpg"/>
          <p:cNvPicPr/>
          <p:nvPr/>
        </p:nvPicPr>
        <p:blipFill>
          <a:blip r:embed="rId1"/>
          <a:stretch/>
        </p:blipFill>
        <p:spPr>
          <a:xfrm>
            <a:off x="0" y="190512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04920" y="990720"/>
            <a:ext cx="86104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Build capacity on access to genetic resources and benefit-sha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building of governments for meeting their obligations under Article 15 of the C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capacity within key stakehold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ommunity Environmental Surveillance Committee- Santiago Quiotepec"/>
          <p:cNvPicPr/>
          <p:nvPr/>
        </p:nvPicPr>
        <p:blipFill>
          <a:blip r:embed="rId1"/>
          <a:srcRect l="0" t="17156" r="0" b="-17149"/>
          <a:stretch/>
        </p:blipFill>
        <p:spPr>
          <a:xfrm>
            <a:off x="2362320" y="3292560"/>
            <a:ext cx="42670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4495680" y="99072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Integrate CBD obligations into national planning processes through 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ing activity support could be provided for revising NBSAPs in line with the CBD’s new strategic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of guidance related to the Clearing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Reached Agreement for ABS"/>
          <p:cNvPicPr/>
          <p:nvPr/>
        </p:nvPicPr>
        <p:blipFill>
          <a:blip r:embed="rId1"/>
          <a:stretch/>
        </p:blipFill>
        <p:spPr>
          <a:xfrm>
            <a:off x="380880" y="18288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s to Key Drivers of Biodiversit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ject 2" descr=""/>
          <p:cNvPicPr/>
          <p:nvPr/>
        </p:nvPicPr>
        <p:blipFill>
          <a:blip r:embed="rId1"/>
          <a:stretch/>
        </p:blipFill>
        <p:spPr>
          <a:xfrm>
            <a:off x="395280" y="614520"/>
            <a:ext cx="8748720" cy="6127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"/>
          <p:cNvSpPr/>
          <p:nvPr/>
        </p:nvSpPr>
        <p:spPr>
          <a:xfrm>
            <a:off x="51814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2"/>
          <p:cNvSpPr/>
          <p:nvPr/>
        </p:nvSpPr>
        <p:spPr>
          <a:xfrm>
            <a:off x="70102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6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8"/>
          <p:cNvSpPr/>
          <p:nvPr/>
        </p:nvSpPr>
        <p:spPr>
          <a:xfrm>
            <a:off x="762120" y="44956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>
            <a:off x="762120" y="5257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0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Lisa</cp:lastModifiedBy>
  <dcterms:modified xsi:type="dcterms:W3CDTF">2012-04-22T22:03:40Z</dcterms:modified>
  <cp:revision>22</cp:revision>
  <dc:subject/>
  <dc:title>Focal Area and Cross Cutting Strategies – Biodiversity</dc:title>
</cp:coreProperties>
</file>