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A32-784B-4097-BACF-000D89E65F3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6DE-6978-4F86-97B2-5142722297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8270-6D5C-406C-ADBC-19D606EF15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467-90A3-4423-9C40-4F12145395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C57-771A-42B6-8082-1DA82802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D15-637E-4720-8C8E-57C39B0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9B9-14AA-4B98-AFBC-2314F919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ACA-6F3E-4DE6-80AC-F94B2175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14B0-CEBE-4F49-95B2-466D31C5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3BFC-64AB-4F2B-B580-A8FEDAFB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026-091C-4306-915D-8E84C0E6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5724-D4F7-4F10-989A-D1F7528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8D8E-A67A-43E5-A8DB-A3A046C7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855-878E-4734-8922-B4A7ED41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0422-BBF4-49BB-B8DE-2B33502D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5DB-6274-4391-82AC-5C9305AB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C2B-670E-46E6-91E9-C8F1EFB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758-E726-44EE-8B69-FDC377F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AAF5-4C38-4F71-893F-535A4231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715C-6A13-4A7D-B136-04ABA6B1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A2C7-0627-4E96-BE2B-CD086D5D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F345-6930-4ED2-BAB7-29590854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7C99-C348-44CC-AD87-0F97D5D8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4037-CBC3-46E6-8F65-32F9FE8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7B8E-E9F2-47CD-82CB-3AB9AE20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0B9C-F314-4335-95FC-D40EDEF6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E40-7E7D-44B7-A45F-E65FC582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A4C0-ACEB-478F-A40C-8249B195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158B-220E-411C-B369-C9CE895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478D-B184-4726-B3C1-DA9777B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8E96-E20F-468F-9E91-C2EF5EFC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A5DD-39AD-4949-B8DB-3A4C8C2D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EBB1-1BBF-4539-AE2F-AEA1BF06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C5E8-44A6-4645-ADF0-73922B4B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A1E9-7B9C-4E84-8D8A-03448F65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4C96-EAAE-410B-9213-515345D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1E7A-76D1-46DD-97D9-0565849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193-1FC6-4FBF-A67D-CB97600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F2B4-F0A9-4A3B-B124-FF457F10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AF1B-AB4C-4AD5-A1C6-1EC0C6E9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929A-114A-4CB3-B927-35290469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52B9-4381-4298-8B95-BB1798D1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7070-72DB-439A-8E5A-5761DD1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B244-72F1-4278-9C77-1A9B36D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8D7C-53BC-4B7E-80F3-AF292CF6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F0259-2DEE-424E-B349-78D178AD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324F-DD17-45DD-8E96-47722BBB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9FD-F9D3-425E-942E-702D709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9A0-E9F9-460E-92B0-D67976CA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830-EBFD-40AE-9A84-611DC30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AE3-8864-45B9-924E-5696744B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7B0-5539-4489-9714-30104EB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6957-385D-4495-835D-6184DF9F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D896-EB23-494B-B610-203455D96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C93-67BC-48F3-B096-9E6FC1556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75AC-B9BE-4A91-A6A5-A83822A64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0666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190512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04920" y="990720"/>
            <a:ext cx="86104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ommunity Environmental Surveillance Committee- Santiago Quiotepec"/>
          <p:cNvPicPr/>
          <p:nvPr/>
        </p:nvPicPr>
        <p:blipFill>
          <a:blip r:embed="rId1"/>
          <a:srcRect l="0" t="17156" r="0" b="-17149"/>
          <a:stretch/>
        </p:blipFill>
        <p:spPr>
          <a:xfrm>
            <a:off x="2362320" y="3292560"/>
            <a:ext cx="4267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Reached Agreement for ABS"/>
          <p:cNvPicPr/>
          <p:nvPr/>
        </p:nvPicPr>
        <p:blipFill>
          <a:blip r:embed="rId1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2" descr=""/>
          <p:cNvPicPr/>
          <p:nvPr/>
        </p:nvPicPr>
        <p:blipFill>
          <a:blip r:embed="rId1"/>
          <a:stretch/>
        </p:blipFill>
        <p:spPr>
          <a:xfrm>
            <a:off x="395280" y="614520"/>
            <a:ext cx="8748720" cy="6127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Lisa</cp:lastModifiedBy>
  <dcterms:modified xsi:type="dcterms:W3CDTF">2012-04-22T22:03:40Z</dcterms:modified>
  <cp:revision>22</cp:revision>
  <dc:subject/>
  <dc:title>Focal Area and Cross Cutting Strategies – Biodiversity</dc:title>
</cp:coreProperties>
</file>