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743F-DC42-4F6A-8C50-603894B965F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7BF-C4AB-4E2F-8C05-AC0F08C5A5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EC0D-9E42-49DA-9835-CAA5AC0E19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EDF4-24E7-43A1-B514-52AE6D8DB1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A1F-45CA-4A8F-A818-CB52AAF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DC1-2AC3-4B0D-9470-B4C9D686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57F-FB5D-4319-9502-8C2F9E04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B44-9741-4F4E-AD59-6506F28A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F307-7F84-4970-AEEB-2F2E4BB5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51B6-EECE-4F4F-8120-5AFFCFF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4F69-FEDD-4892-87FE-F809819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30D-CFF9-445F-B8AA-6FAA5DD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AA96-880F-4152-AD88-54EF0D3B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A278-1350-455F-87FD-09A1BC6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5C34-0B0E-413D-BBD3-89E88B3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9ED-3A87-4863-999C-DADDE62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D0F7-9351-433F-9268-5947A85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FA60-981B-4111-A283-F2EF845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8EE3-78CE-441A-95A8-188B24A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703-926D-4BC3-8D03-4739CA94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DCD-5D87-453F-834E-E1FB1B37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0AF1-B60E-40FD-93A5-5B28587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36AD-0533-43C0-9203-601040D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E5CE-4AD8-48FB-86BD-62C67CA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F70F-A0C3-4517-8ED8-1FC7408A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9BE7-590E-48B8-B66D-ED73952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F4-C9D9-452E-AF85-C8889B3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804A-F387-41CD-9A26-8481EBB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5AB1-CF7C-43C9-BDDA-61C4D452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F989-926A-4282-8F34-FE976C1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CEFA-0790-49F4-8F66-A902C8A9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0F4FB-442B-4D0E-ADBF-6F5FF3F1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B1D6-F710-4432-B3BD-70018239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C9D4-6790-4B9A-8803-FE15E9B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D66D-4282-4E46-9506-806F7F16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FF8C-96F9-428B-976A-FCEF6DE4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60BB-4055-4541-8606-72C90A97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3A6-D77B-41FA-8AC4-439FBBCE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8070-B1B3-4FC6-9202-FD66F35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D787-FD9A-4DCD-9E67-CA066149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C281-BE0A-44DE-888F-6D5E643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922E-F7BA-444A-9F58-A19404A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1C4B-E309-4FB9-AAA8-3355DB5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9AFA-F540-477C-98E3-4C2F440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BC96-4321-4AAE-A8CC-92FFDA78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0E3C-8758-49CF-BE24-968B0858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965E-FF90-40FD-9976-49462E51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0CD-94F2-45EA-9C02-99080307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667-2406-437C-BAE5-B38A875F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94B-EA1C-4DCF-BEB2-4E553DD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F47-A60E-42A1-8847-52F1314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562-361A-4F1A-9F03-F4554DF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38C-EF9B-418C-A47D-11E41D69B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42C9-39F6-437E-A9B5-BB1FAFCB8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E6B6-C400-4F41-8516-D4EF5E6B7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03C2-CE5A-4244-9161-10F5D6748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0666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190512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04920" y="990720"/>
            <a:ext cx="86104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ommunity Environmental Surveillance Committee- Santiago Quiotepec"/>
          <p:cNvPicPr/>
          <p:nvPr/>
        </p:nvPicPr>
        <p:blipFill>
          <a:blip r:embed="rId1"/>
          <a:srcRect l="0" t="17156" r="0" b="-17149"/>
          <a:stretch/>
        </p:blipFill>
        <p:spPr>
          <a:xfrm>
            <a:off x="2362320" y="329256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Reached Agreement for ABS"/>
          <p:cNvPicPr/>
          <p:nvPr/>
        </p:nvPicPr>
        <p:blipFill>
          <a:blip r:embed="rId1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2" descr=""/>
          <p:cNvPicPr/>
          <p:nvPr/>
        </p:nvPicPr>
        <p:blipFill>
          <a:blip r:embed="rId1"/>
          <a:stretch/>
        </p:blipFill>
        <p:spPr>
          <a:xfrm>
            <a:off x="395280" y="614520"/>
            <a:ext cx="8748720" cy="6127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Lisa</cp:lastModifiedBy>
  <dcterms:modified xsi:type="dcterms:W3CDTF">2012-04-22T22:03:40Z</dcterms:modified>
  <cp:revision>22</cp:revision>
  <dc:subject/>
  <dc:title>Focal Area and Cross Cutting Strategies – Biodiversity</dc:title>
</cp:coreProperties>
</file>