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714-0FDA-4EBE-B034-B71331F5CD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C80-B991-43F7-A0D9-4824E353B3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CA4-92CC-4F5C-A6E7-563ED9F77A9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4E5-FC22-4CE3-9117-E9FECBAD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884-C8FF-4B38-B872-5250D6A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DA8-7026-4326-A25A-FB4B32AB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E8F-9C7A-46DB-9F5D-E3A0A2B2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6D2-3494-4F5F-8EA1-84E3F4E3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91A-C05F-4C7B-95FE-F3F3DF5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845C-BDCE-44E4-A9AA-F7A19F7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7D8-2F2F-4923-8C8A-91A2310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54D-FEC6-496E-83D1-4B16B06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DB62-2C7D-4BD6-922C-BEA4F57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715-ED05-4345-A028-7AEFF9A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063-6F12-4937-8C01-0EBC4DBE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40D4-F350-4299-AAE8-1559FC2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95FE-BE03-4540-A00B-E2A9FB2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DA4D-EFCA-4588-813E-751CC7EB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0B8-28A8-4614-BCA9-D3F6859C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B71A-3E18-440F-AB8D-403E0D0F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F3A2-8F2A-4156-AD5A-AA319451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C30E-2FE5-4EA2-9AC4-45BD9819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7478-BC74-4E97-9E11-D1A870BB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1CE0-7236-4BE2-B877-793FD03C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CE26-5755-4028-9575-0A6610C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47E-A24F-4A90-81D3-701D376F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465B-CA1C-4192-B36B-0C8F1C36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71EE-16D7-4630-9A46-37D3089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5012-1715-498B-B059-0FA0AB3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D3F6-E940-4669-A45A-576F498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C70D-322F-4BB6-B33B-6133CE4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4F45-BC01-4107-ABD5-BAEB54A7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580A-F2DF-4086-9172-84D03911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E6F-EC2D-4759-9460-457BCA8A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E08-628C-4B19-AA00-1391B53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3D3-0660-4768-9975-D7264DB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D3B-86A1-4D6D-8CEB-5D009F1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264-2240-49AE-A469-F1E376A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915-DF44-4A57-96F9-F689123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4B3B-F1C2-4BAA-8329-100832C03E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ADCD-3F79-47C5-B7EE-5686CCAA85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167-F0E3-4E8B-AF54-D3E3FBAE0F5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8000"/>
                </a:solidFill>
                <a:latin typeface="Calibri"/>
                <a:cs typeface="Arial"/>
              </a:rPr>
              <a:t>مجال التركيز والإستراتيجيات الشاملة ــ تدهور الأراض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Arial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فبراير/شباط 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r>
              <a:rPr b="0" lang="ar-SA" sz="30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30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أية أسئلة؟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شكراً ل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إستراتيجية مجال التركي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Arial"/>
              </a:rPr>
              <a:t>(مكافحة التصحّر وإزالة الغاب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وسيع نطاق حافظة المشروعات المعنية بمكافحة تدهور الأراضي ــ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بلداً مؤهلاً من خلال إدراج تدهور الأراضي ضمن 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واجه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مسببات رئيسية لتدهور النظم الإيكولوجية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نمط استخدام الأراضي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إدارة غير المستدامة للموارد الطبيعية واستهلاكها، و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9920" indent="-27108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إطار الداع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اتفاقية الأمم المتحدة لمكافحة التصح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تنفيذ إستراتيجية عشرية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سنوات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تركيز على نظم الإنتاج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ــ الأراضي الزراعية والمراعي والغاب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ولويات عملية التجديد الخامسة لموارد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الحفاظ على تدفقات خدمات الأنظمة الإيكولوجية الزراعية أو تحسينها لتحقيق استدامة سبل كسب العيش للمجتمعات المح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عزيز البيئة الداعمة للقطاع الزراع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تحسين الإدارة الزراعية والتدفق المستدام للخدمات في الأنظمة الإيكولوجية الزراع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ستدامة للأراض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 indent="-27324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632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52280" y="1295280"/>
            <a:ext cx="6172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حقيق تدفقات مستدامة من خدمات النظم الإيكولوجية الحراجية في المناطق القاحلة وشبه القاحلة وشبه الرطبة، ويتضمن ذلك تحقيق الاستدامة لسبل كسب العيش لمن يعتمدون على الغا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زيز البيئة الداعمة لقطاع الغابات في البلدان التي بها نسبة كبيرة من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حسين إدارة الغابات والتدفق المستدام للخدمات في الأنظمة الإيكولوجية الحراجية في مناطق الأراضي الجاف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زيادة الاستثمارات في الإدارة المستدامة للغابات في النظم الإيكولوجية الحراجية في الأراضي الجا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47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خفيف الضغوط على الموارد الطبيعية من الاستخدامات المتنافسة للأراضي في المناطق الأكثر اتساع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بيئة داعمة وشاملة لعدة قطاعات من أجل الإدارة المتكاملة للأراضي واللاندسكي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ممارسات الإدارة المتكاملة للأراضي المعتمدة لدى المجتمعات المح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زيادة الاستثمارات في الإدارة المتكاملة للأراضي (اللاندسكيب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 ــ الهدف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زيادة القدرة على تطبيق أدوات إدارة تتسم بالتكيف في إطار الإدارة المستدامة للأراضي (اللاندسك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صد نتائج برامج عمل اتفاقية الأمم المتحدة لمكافحة التصح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افر الجهود والعمل بأفضل الممارسات من أجل إدارة الموارد الطبي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 rtl="1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ضع إرشادات وتطوير أدوات لتقييم استقرار النظم الإيكولوجية والقدرة على مجابهة تغير المناخ، والحفاظ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منظمة لذلك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بيئي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 تقديم سلع وخدمات النظم الإيكولوجية الزراعية والحراجية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فض انبعاثات غازات الاحتباس الحراري المتأتية من الزراعة،  وإزالة الغابات وتدهورها، وزيادة امتصاص الكربو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تعرض النظم الإيكولوجية الزراعية والحراجية لمخاطر وأضرار تغير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ناخ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الآثار الأخرى التي من صنع الإنسان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نافع الوطنية الاجتماعية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اقتصاد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04460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8000"/>
          </a:bodyPr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دامة سبل كسب العيش لمن يعتمدون على استخدام الموارد الطبيعية وإدارتها (الأراضي، والمياه، والتنوع البيولوجي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لمخاطر والأضرار بسبب آثار تغير المناخ على من يعتمدون على استخدام الموارد الطبيعية وإدارتها في النظم الإيكولوجية الزراعية والحرج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3808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أهداف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إنمائية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للأل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6"/>
          <p:cNvSpPr/>
          <p:nvPr/>
        </p:nvSpPr>
        <p:spPr>
          <a:xfrm rot="10800000">
            <a:off x="297144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3:45:47Z</dcterms:modified>
  <cp:revision>60</cp:revision>
  <dc:subject/>
  <dc:title>Focal Area and Cross Cutting Strategies – Land Degradation</dc:title>
</cp:coreProperties>
</file>