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38354-35F9-4F53-BADE-A6A782EAE8FE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2D20B-023E-4334-A6AD-863BF8BABD63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حلقة العمل الموسعة على مستوى البلدان الأعضاء في صندوق البيئة العالمي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Header Placeholder 3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حلقة العمل الموسعة على مستوى البلدان الأعضاء في صندوق البيئة العالمي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6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20080-0802-40E2-BDDA-731819439378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ECE9-1858-4F19-8021-E278139B3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249A-6A6C-440F-A079-FCF771A9B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68B2-F5E3-4041-9B07-19916BDFE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167B-6A4B-4D0D-B30B-DCB908312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3459C-CC5D-401D-BE8E-F00213103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EE86B-C078-4506-A036-AC6722F31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E66C8-C5E1-441C-948C-5D2795B0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07D6A-1E6D-49ED-B196-D0A04D03F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C7057-BDFF-4715-AC0B-09F472342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157E5-E59D-439B-AAB4-A624A4BDB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2A9B3-5542-4018-B091-8CF84CA0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8907-7EBA-4B24-A33D-CE713F70F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F711B-4738-4303-829F-4AE7A878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FCC8A-F775-4F7E-81A9-97DEAE29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1B8A4-9934-4FDA-A1AC-8B4A14D0A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155C3-5982-4282-AE41-132E22276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89856-8762-4BA8-AD42-A7AC85ED2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0DAB1-BEA7-4A06-8A2B-BC0CB51C5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41829-F951-4818-AA35-E322A1C0E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42292-18FC-41D7-A4CE-7F326D001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D18F2-175C-4450-8949-D367DFD3A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58816-12F2-4AEA-B947-38A8699A1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D70A-1813-4B1E-BD23-F5B680479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C54E9-9BF7-4705-90F6-94AAAA092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6962E-E2E0-4C5C-9B26-76AD8480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4CCF9-F161-4116-956B-5B88F955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17377-7765-4B28-A64F-A12CD556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EF5A0-9B25-49D4-8FC7-DB3B3C80C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DF67B-CF4F-456C-90C5-7ADFD75BC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BD86F-6F28-49E9-9093-4B59CE8F0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135B-23D7-40B5-884C-ED0B836D6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1201-EA91-43A9-938D-F19A6FFB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0565-AA07-40DD-9641-24496894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66A3-CBE2-48BF-BFE5-5B03905D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F086-B1A3-4CC5-BCA7-F952B5F0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E467-2438-4FC0-AEDD-05BB636B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99CED-282B-4713-A657-83EA44E4D79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0" y="0"/>
            <a:ext cx="9144000" cy="1246320"/>
            <a:chOff x="0" y="0"/>
            <a:chExt cx="9144000" cy="1246320"/>
          </a:xfrm>
        </p:grpSpPr>
        <p:pic>
          <p:nvPicPr>
            <p:cNvPr id="42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0"/>
              <a:ext cx="9119880" cy="6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A5913-FB91-4198-99E2-DDFD7CCBF26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6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86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0319B-CB03-4DAE-A9B0-72234549E79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8000"/>
                </a:solidFill>
                <a:latin typeface="Calibri"/>
                <a:cs typeface="Arial"/>
              </a:rPr>
              <a:t>مجال التركيز والإستراتيجيات الشاملة ــ تدهور الأراض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ubtitle 4"/>
          <p:cNvSpPr/>
          <p:nvPr/>
        </p:nvSpPr>
        <p:spPr>
          <a:xfrm>
            <a:off x="1219320" y="4191120"/>
            <a:ext cx="67053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642d"/>
                </a:solidFill>
                <a:latin typeface="Arial"/>
                <a:cs typeface="Times New Roman"/>
              </a:rPr>
              <a:t>حلقة العمل الموسعة على مستوى البلدان الأعضاء ف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642d"/>
                </a:solidFill>
                <a:latin typeface="Arial"/>
                <a:ea typeface="Times New Roman"/>
              </a:rPr>
              <a:t> صندوق البيئة العالمي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642d"/>
                </a:solidFill>
                <a:latin typeface="Times New Roman"/>
                <a:ea typeface="Times New Roman"/>
              </a:rPr>
              <a:t>15</a:t>
            </a:r>
            <a:r>
              <a:rPr b="0" lang="ar-SA" sz="3000" spc="-1" strike="noStrike">
                <a:solidFill>
                  <a:srgbClr val="00642d"/>
                </a:solidFill>
                <a:latin typeface="Times New Roman"/>
                <a:ea typeface="Times New Roman"/>
              </a:rPr>
              <a:t>– </a:t>
            </a:r>
            <a:r>
              <a:rPr b="0" lang="ar-SA" sz="3000" spc="-1" strike="noStrike">
                <a:solidFill>
                  <a:srgbClr val="00642d"/>
                </a:solidFill>
                <a:latin typeface="Times New Roman"/>
                <a:ea typeface="Times New Roman"/>
              </a:rPr>
              <a:t>17</a:t>
            </a:r>
            <a:r>
              <a:rPr b="0" lang="ar-SA" sz="3000" spc="-1" strike="noStrike">
                <a:solidFill>
                  <a:srgbClr val="00642d"/>
                </a:solidFill>
                <a:latin typeface="Times New Roman"/>
                <a:ea typeface="Times New Roman"/>
              </a:rPr>
              <a:t> فبراير/شباط </a:t>
            </a:r>
            <a:r>
              <a:rPr b="0" lang="ar-SA" sz="3000" spc="-1" strike="noStrike">
                <a:solidFill>
                  <a:srgbClr val="00642d"/>
                </a:solidFill>
                <a:latin typeface="Times New Roman"/>
                <a:ea typeface="Times New Roman"/>
              </a:rPr>
              <a:t>2012</a:t>
            </a:r>
            <a:r>
              <a:rPr b="0" lang="ar-SA" sz="3000" spc="-1" strike="noStrike">
                <a:solidFill>
                  <a:srgbClr val="00642d"/>
                </a:solidFill>
                <a:latin typeface="Times New Roman"/>
                <a:ea typeface="Times New Roman"/>
              </a:rPr>
              <a:t>     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000" spc="-1" strike="noStrike">
                <a:solidFill>
                  <a:srgbClr val="00642d"/>
                </a:solidFill>
                <a:latin typeface="Arial"/>
                <a:cs typeface="Times New Roman"/>
              </a:rPr>
              <a:t>البحر الميت</a:t>
            </a:r>
            <a:r>
              <a:rPr b="0" lang="ar-SA" sz="3000" spc="-1" strike="noStrike">
                <a:solidFill>
                  <a:srgbClr val="00642d"/>
                </a:solidFill>
                <a:latin typeface="Arial"/>
                <a:cs typeface="Times New Roman"/>
              </a:rPr>
              <a:t>، الأرد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  <a:cs typeface="Arial"/>
              </a:rPr>
              <a:t>أية أسئلة؟</a:t>
            </a:r>
            <a:br>
              <a:rPr sz="4000"/>
            </a:b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Calibri"/>
                <a:cs typeface="Arial"/>
              </a:rPr>
              <a:t>شكراً لك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358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br>
              <a:rPr sz="4900"/>
            </a:br>
            <a:r>
              <a:rPr b="1" lang="ar-SA" sz="4000" spc="-1" strike="noStrike">
                <a:solidFill>
                  <a:srgbClr val="000000"/>
                </a:solidFill>
                <a:latin typeface="Calibri"/>
                <a:cs typeface="Arial"/>
              </a:rPr>
              <a:t>تدهور الأراضي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Calibri"/>
                <a:cs typeface="Arial"/>
              </a:rPr>
              <a:t>إستراتيجية مجال التركيز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Calibri"/>
                <a:ea typeface="Arial"/>
              </a:rPr>
              <a:t>(مكافحة التصحّر وإزالة الغابات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1600200" y="1066320"/>
            <a:ext cx="73152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1920" indent="-331920" algn="r" rtl="1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توسيع نطاق حافظة المشروعات المعنية بمكافحة تدهور الأراضي ــ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144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بلداً مؤهلاً من خلال إدراج تدهور الأراضي ضمن نظام التخصيص الشفاف للموار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 algn="r" rtl="1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مواجهة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مسببات رئيسية لتدهور النظم الإيكولوجية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9920" indent="-271080" algn="r" rtl="1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تغير نمط استخدام الأراضي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cs typeface="Arial"/>
              </a:rPr>
              <a:t>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9920" indent="-271080" algn="r" rtl="1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 الإدارة غير المستدامة للموارد الطبيعية واستهلاكها، و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9920" indent="-271080" algn="r" rtl="1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تغير المناخ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 algn="r" rtl="1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تحسين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الإطار الداع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 algn="r" rtl="1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مساندة اتفاقية الأمم المتحدة لمكافحة التصحر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(تنفيذ إستراتيجية عشرية (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10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سنوات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 algn="r" rtl="1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زيادة التركيز على نظم الإنتاج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ــ الأراضي الزراعية والمراعي والغابا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أولويات عملية التجديد الخامسة لموارد صندوق البيئة العالمي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1600200"/>
            <a:ext cx="16765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  <a:cs typeface="Arial"/>
              </a:rPr>
              <a:t>تدهور الأراضي ــ الهدف 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523880"/>
            <a:ext cx="8534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90000"/>
              </a:lnSpc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هدف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: الحفاظ على تدفقات خدمات الأنظمة الإيكولوجية الزراعية أو تحسينها لتحقيق استدامة سبل كسب العيش للمجتمعات المحلي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7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  تعزيز البيئة الداعمة للقطاع الزراع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7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  تحسين الإدارة الزراعية والتدفق المستدام للخدمات في الأنظمة الإيكولوجية الزراع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7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  زيادة الاستثمارات في الإدارة المستدامة للأراض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47840" indent="-273240" algn="r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76320" y="4191120"/>
            <a:ext cx="41148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  <a:cs typeface="Arial"/>
              </a:rPr>
              <a:t>تدهور الأراضي ــ الهدف 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152280" y="1295280"/>
            <a:ext cx="6172200" cy="60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هدف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: تحقيق تدفقات مستدامة من خدمات النظم الإيكولوجية الحراجية في المناطق القاحلة وشبه القاحلة وشبه الرطبة، ويتضمن ذلك تحقيق الاستدامة لسبل كسب العيش لمن يعتمدون على الغاب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cs typeface="Times New Roman"/>
              </a:rPr>
              <a:t>تعزيز البيئة الداعمة لقطاع الغابات في البلدان التي بها نسبة كبيرة من الأراضي الجافة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44784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تحسين إدارة الغابات والتدفق المستدام للخدمات في الأنظمة الإيكولوجية الحراجية في مناطق الأراضي الجافة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44784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زيادة الاستثمارات في الإدارة المستدامة للغابات في النظم الإيكولوجية الحراجية في الأراضي الجاف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44784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6400800" y="2109960"/>
            <a:ext cx="242568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  <a:cs typeface="Arial"/>
              </a:rPr>
              <a:t>تدهور الأراضي ــ الهدف 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  <a:ea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219320"/>
            <a:ext cx="6705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هدف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: تخفيف الضغوط على الموارد الطبيعية من الاستخدامات المتنافسة للأراضي في المناطق الأكثر اتساعا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تعزيز بيئة داعمة وشاملة لعدة قطاعات من أجل الإدارة المتكاملة للأراضي واللاندسكي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 ممارسات الإدارة المتكاملة للأراضي المعتمدة لدى المجتمعات المحلية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 زيادة الاستثمارات في الإدارة المتكاملة للأراضي (اللاندسكيب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7315200" y="1676520"/>
            <a:ext cx="152388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  <a:cs typeface="Arial"/>
              </a:rPr>
              <a:t>تدهور الأراضي ــ الهدف 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  <a:ea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Content Placeholder 2"/>
          <p:cNvSpPr/>
          <p:nvPr/>
        </p:nvSpPr>
        <p:spPr>
          <a:xfrm>
            <a:off x="304920" y="1143000"/>
            <a:ext cx="84582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5960" indent="-345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هدف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4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: زيادة القدرة على تطبيق أدوات إدارة تتسم بالتكيف في إطار الإدارة المستدامة للأراضي (اللاندسكيب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 algn="r" rtl="1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رصد نتائج برامج عمل اتفاقية الأمم المتحدة لمكافحة التصح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 algn="r" rtl="1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تضافر الجهود والعمل بأفضل الممارسات من أجل إدارة الموارد الطبيع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 algn="r" rtl="1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وضع إرشادات وتطوير أدوات لتقييم استقرار النظم الإيكولوجية والقدرة على مجابهة تغير المناخ، والحفاظ 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على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خدمات المنظمة لذلك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533520" y="4038480"/>
            <a:ext cx="808668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المنافع البيئية العالم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560" y="114300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 algn="r" rtl="1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تحسين تقديم سلع وخدمات النظم الإيكولوجية الزراعية والحراجية</a:t>
            </a:r>
            <a:r>
              <a:rPr b="0" lang="ar-EG" sz="24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 algn="r" rtl="1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خفض انبعاثات غازات الاحتباس الحراري المتأتية من الزراعة،  وإزالة الغابات وتدهورها، وزيادة امتصاص الكربون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 algn="r" rtl="1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حد من تعرض النظم الإيكولوجية الزراعية والحراجية لمخاطر وأضرار تغير </a:t>
            </a:r>
            <a:r>
              <a:rPr b="0" lang="ar-EG" sz="2400" spc="-1" strike="noStrike">
                <a:solidFill>
                  <a:srgbClr val="000000"/>
                </a:solidFill>
                <a:latin typeface="Calibri"/>
                <a:cs typeface="Arial"/>
              </a:rPr>
              <a:t>المناخ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والآثار الأخرى التي من صنع الإنسان.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914400" y="4343400"/>
            <a:ext cx="731520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  <a:cs typeface="Arial"/>
              </a:rPr>
              <a:t>المنافع الوطنية الاجتماعية </a:t>
            </a:r>
            <a:r>
              <a:rPr b="1" lang="ar-EG" sz="3600" spc="-1" strike="noStrike">
                <a:solidFill>
                  <a:srgbClr val="000000"/>
                </a:solidFill>
                <a:latin typeface="Calibri"/>
                <a:cs typeface="Arial"/>
              </a:rPr>
              <a:t>و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  <a:cs typeface="Arial"/>
              </a:rPr>
              <a:t>الاقتصادي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044600" y="1676160"/>
            <a:ext cx="4794120" cy="3809880"/>
          </a:xfrm>
          <a:prstGeom prst="rect">
            <a:avLst/>
          </a:prstGeom>
          <a:noFill/>
          <a:ln w="66600">
            <a:solidFill>
              <a:srgbClr val="77933c"/>
            </a:solidFill>
            <a:miter/>
          </a:ln>
        </p:spPr>
        <p:txBody>
          <a:bodyPr anchor="t">
            <a:normAutofit fontScale="98000"/>
          </a:bodyPr>
          <a:p>
            <a:pPr marL="338760" indent="-338760" algn="r" rtl="1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8760" indent="-338760" algn="r" rtl="1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ستدامة سبل كسب العيش لمن يعتمدون على استخدام الموارد الطبيعية وإدارتها (الأراضي، والمياه، والتنوع البيولوجي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8760" indent="-338760" algn="r" rtl="1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حد من المخاطر والأضرار بسبب آثار تغير المناخ على من يعتمدون على استخدام الموارد الطبيعية وإدارتها في النظم الإيكولوجية الزراعية والحرجية.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380880" y="4210200"/>
            <a:ext cx="2438640" cy="11912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Calibri"/>
              </a:rPr>
              <a:t>الأهداف</a:t>
            </a: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Calibri"/>
              </a:rPr>
              <a:t>الإنمائية</a:t>
            </a: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Calibri"/>
              </a:rPr>
              <a:t>للألف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ight Arrow 6"/>
          <p:cNvSpPr/>
          <p:nvPr/>
        </p:nvSpPr>
        <p:spPr>
          <a:xfrm rot="10800000">
            <a:off x="2971440" y="4648320"/>
            <a:ext cx="762120" cy="76176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23162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3:57Z</dcterms:created>
  <dc:creator>wb350798</dc:creator>
  <dc:description/>
  <dc:language>en-US</dc:language>
  <cp:lastModifiedBy>Lisa</cp:lastModifiedBy>
  <dcterms:modified xsi:type="dcterms:W3CDTF">2012-04-22T23:45:47Z</dcterms:modified>
  <cp:revision>60</cp:revision>
  <dc:subject/>
  <dc:title>Focal Area and Cross Cutting Strategies – Land Degradation</dc:title>
</cp:coreProperties>
</file>