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E81A-46F5-4DBB-BC6F-341DCE106E2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FC39-D6BF-4C85-8D31-7979A7DA6E0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4CFE-6BC7-4143-9F7C-980C0CF9F20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F7F-9955-44EA-9800-88FA5658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532-891A-4593-A93A-DD8ACBF6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10C-ADF8-4284-BBB7-43FAF2B2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496-2AFC-4434-A6E9-42EBC159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8759-2403-4365-8019-9149C28B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192B-865D-43DD-BCB2-23C7AADF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C187-5548-4938-B6C7-3398F2A2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4DE0-B1BF-4460-BC6E-2EE1F3C4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4CBC-C0BE-4FDA-9052-17D60B81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27A1-C71E-4F41-92A0-E48EAABD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6323-96C0-45D4-95B3-DA84A3C1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7B9-0D7F-43E7-85C7-8820A392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B7B3-3101-4F4D-ABC9-C460511A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E245-DC19-43DA-9AED-173626DB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0F2C-4EF7-4927-86E3-E6DF21AE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0D67-E391-49F6-97F0-B69562CB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DD9C-667E-46EE-A4BF-D7546C6E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2D28-F7A7-4512-B6E3-9BF4259C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B49C4-8FA8-4FFC-BF7E-BE16ACF6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0FE5-C15B-4F10-AA04-8826E31F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BBC7-E648-4B7C-B1F3-F4CACAC2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9AA1-F5EE-4470-B33E-72276E0D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3A0-A052-498B-BC4E-0B5E7DE7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3E00-FBD1-47B4-8D94-DBD9FF34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90A5-D079-4493-8619-43ED2F56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92EFC-8EB3-4298-BE8B-B33138E9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9616-2ECC-4026-A597-32156307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1DB1-27EA-4FA9-BB1B-AF4040BD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F57A-04A3-4686-A189-2188F94A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B63C5-DC98-4B47-882D-089E051C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88F-081C-49F9-B62F-1D14A261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51C-F11C-4486-95D0-136789F5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BD9-8AAB-4432-A0DC-856ED437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298-0103-4D0A-A87B-3C96F308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0DC-8D85-4C66-9EF3-28F588CD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F5C-4F3B-4293-9684-6B4E0A5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F14F-513E-4225-8F3E-4DCA4F8DE95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6DBC-C1FC-431F-89D5-9E1004C68DB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5C4B-8B8C-4760-BA68-7EC9B1CE585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8000"/>
                </a:solidFill>
                <a:latin typeface="Calibri"/>
                <a:cs typeface="Arial"/>
              </a:rPr>
              <a:t>مجال التركيز والإستراتيجيات الشاملة ــ تدهور الأراض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42d"/>
                </a:solidFill>
                <a:latin typeface="Arial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42d"/>
                </a:solidFill>
                <a:latin typeface="Arial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5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– 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7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فبراير/شباط 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2012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0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حر الميت</a:t>
            </a:r>
            <a:r>
              <a:rPr b="0" lang="ar-SA" sz="3000" spc="-1" strike="noStrike">
                <a:solidFill>
                  <a:srgbClr val="00642d"/>
                </a:solidFill>
                <a:latin typeface="Arial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أية أسئلة؟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شكراً لك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إستراتيجية مجال التركي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(مكافحة التصحّر وإزالة الغابات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وسيع نطاق حافظة المشروعات المعنية بمكافحة تدهور الأراضي ــ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44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بلداً مؤهلاً من خلال إدراج تدهور الأراضي ضمن نظام التخصيص الشفاف ل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واجه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مسببات رئيسية لتدهور النظم الإيكولوجية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9920" indent="-27108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غير نمط استخدام الأراضي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9920" indent="-27108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لإدارة غير المستدامة للموارد الطبيعية واستهلاكها، و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9920" indent="-27108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سي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إطار الداع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ساندة اتفاقية الأمم المتحدة لمكافحة التصح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(تنفيذ إستراتيجية عشرية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سنوات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زيادة التركيز على نظم الإنتاج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الأراضي الزراعية والمراعي والغاب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أولويات عملية التجديد الخامسة لموارد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الحفاظ على تدفقات خدمات الأنظمة الإيكولوجية الزراعية أو تحسينها لتحقيق استدامة سبل كسب العيش للمجتمعات المحل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تعزيز البيئة الداعمة للقطاع الزراع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تحسين الإدارة الزراعية والتدفق المستدام للخدمات في الأنظمة الإيكولوجية الزراع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زيادة الاستثمارات في الإدارة المستدامة للأراض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47840" indent="-2732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76320" y="419112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52280" y="1295280"/>
            <a:ext cx="61722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دف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تحقيق تدفقات مستدامة من خدمات النظم الإيكولوجية الحراجية في المناطق القاحلة وشبه القاحلة وشبه الرطبة، ويتضمن ذلك تحقيق الاستدامة لسبل كسب العيش لمن يعتمدون على الغا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زيز البيئة الداعمة لقطاع الغابات في البلدان التي بها نسبة كبيرة من الأراضي الجاف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47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حسين إدارة الغابات والتدفق المستدام للخدمات في الأنظمة الإيكولوجية الحراجية في مناطق الأراضي الجاف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47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زيادة الاستثمارات في الإدارة المستدامة للغابات في النظم الإيكولوجية الحراجية في الأراضي الجاف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47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تخفيف الضغوط على الموارد الطبيعية من الاستخدامات المتنافسة للأراضي في المناطق الأكثر اتساع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زيز بيئة داعمة وشاملة لعدة قطاعات من أجل الإدارة المتكاملة للأراضي واللاندسكي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ممارسات الإدارة المتكاملة للأراضي المعتمدة لدى المجتمعات المحل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زيادة الاستثمارات في الإدارة المتكاملة للأراضي (اللاندسكيب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ontent Placeholder 2"/>
          <p:cNvSpPr/>
          <p:nvPr/>
        </p:nvSpPr>
        <p:spPr>
          <a:xfrm>
            <a:off x="30492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 زيادة القدرة على تطبيق أدوات إدارة تتسم بالتكيف في إطار الإدارة المستدامة للأراضي (اللاندسكي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 rtl="1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صد نتائج برامج عمل اتفاقية الأمم المتحدة لمكافحة التصح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 rtl="1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ضافر الجهود والعمل بأفضل الممارسات من أجل إدارة الموارد الطبي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 rtl="1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ضع إرشادات وتطوير أدوات لتقييم استقرار النظم الإيكولوجية والقدرة على مجابهة تغير المناخ، والحفاظ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ى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دمات المنظمة لذلك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8086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لمنافع البيئي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سين تقديم سلع وخدمات النظم الإيكولوجية الزراعية والحراجية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خفض انبعاثات غازات الاحتباس الحراري المتأتية من الزراعة،  وإزالة الغابات وتدهورها، وزيادة امتصاص الكربو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تعرض النظم الإيكولوجية الزراعية والحراجية لمخاطر وأضرار تغير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ناخ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والآثار الأخرى التي من صنع الإنسان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منافع الوطنية الاجتماعية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اقتصاد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04460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 fontScale="98000"/>
          </a:bodyPr>
          <a:p>
            <a:pPr marL="338760" indent="-3387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ستدامة سبل كسب العيش لمن يعتمدون على استخدام الموارد الطبيعية وإدارتها (الأراضي، والمياه، والتنوع البيولوجي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المخاطر والأضرار بسبب آثار تغير المناخ على من يعتمدون على استخدام الموارد الطبيعية وإدارتها في النظم الإيكولوجية الزراعية والحرج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3808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الأهداف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الإنمائية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للألف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ight Arrow 6"/>
          <p:cNvSpPr/>
          <p:nvPr/>
        </p:nvSpPr>
        <p:spPr>
          <a:xfrm rot="10800000">
            <a:off x="297144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Lisa</cp:lastModifiedBy>
  <dcterms:modified xsi:type="dcterms:W3CDTF">2012-04-22T23:45:47Z</dcterms:modified>
  <cp:revision>60</cp:revision>
  <dc:subject/>
  <dc:title>Focal Area and Cross Cutting Strategies – Land Degradation</dc:title>
</cp:coreProperties>
</file>