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928C-0BE9-4B47-A5A5-9C83967E72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EE86-4673-4CD2-9B01-71EEFC11EB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6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1610-3552-40B1-8E61-5950158214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C568-9185-44D2-9AAF-42E051D7D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1456-A23E-4C6F-B577-9456D5D3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07FE-3D40-4F9A-A943-C6E194D31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6A6E-BF7F-4018-8B16-C3BA59DE1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25EE-AA11-4079-994D-4E3419972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D26A-2145-41AE-B3F8-F9A7465A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A88C-F228-45CD-8830-715E5C58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8530-1CC5-445B-B770-E2871486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47E0-FF9A-4DF4-855F-3BFB9CCE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2702-CD6F-4036-AB3F-390FC547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6828-7CFE-441F-8500-0FD769D1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D650-BF01-41E7-935B-852DE833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FBCC-3BD4-4C11-B55B-F8082586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BD5B-7DB0-40B9-B87F-1F86D8E9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C1C9-1EB5-49F8-94F9-D7E54194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E3C0-381C-46A7-918D-98886E63B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CC7B-1633-4DC4-8290-D4DB89178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0D19D-0797-4C7F-B940-3CD1D5B87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F40D0-303F-47BD-9086-A0C32953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ADC10-D04F-47C4-8348-86125FA1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1290C-2DBC-4CDF-8A48-0710DDED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111FD-D459-459E-AD86-64E87523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800F-7B69-4603-93E5-D1ADF6FC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4E3AA-1EED-423C-9E91-E58A1952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F3B40-9BA2-49C5-A83C-84597BA8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40DA9-D46C-47A8-A801-ED8CCA8D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8719B-47A4-429C-992B-0A71CFA5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C4A34-2053-456A-B52C-A59F211E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D6FC9-9B18-4699-B207-1793B43B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CF7A2-2A71-48E2-99F2-73351A03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D53C0-0CC1-4F36-BF59-6D02719D3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F1340-1192-4F6F-AE46-190ED560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567AA-FF0C-4AAD-B674-DD43980E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7AF4-2ADF-42BE-B2A5-6B681B78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747A2-2CE5-4B6A-9EEF-7442CAD9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54B9B-F2F0-415A-B68D-FFEB17B6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0B984-917C-4E4B-9D66-E4A38483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31E6C-F973-4EF7-BCE2-02638CEF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CF80F-E7A5-4C38-B707-E48E0A0C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79CCC-371C-4C60-9AA1-33F0322D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61DA6-0B3B-4517-828B-910C5D81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ED16E-5E2E-4B72-BF55-366C9B6C6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E9DD7-E70A-4512-B3CD-D78CB3BB1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B9F5-2B11-40B6-9506-F9AAD28C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5548-D106-41A5-AE9F-AEA27F36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2422-1AEE-4F7F-A5DF-2C19853E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D1BC-4E89-4635-A670-1DA72AF6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9538-089E-4211-AF47-CCDFE08B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032D-6A19-4AC5-A81E-EC8FD89195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-273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825F-D57A-4C1D-8D82-4F5FB41C58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3AC6-A4FC-4704-8881-776DE5E0D5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B298-9D7A-4B97-920E-00A9E316CC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Focal Area and Cross Cutting Strategies – Land Degrad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ubtitle 4"/>
          <p:cNvSpPr/>
          <p:nvPr/>
        </p:nvSpPr>
        <p:spPr>
          <a:xfrm>
            <a:off x="1219320" y="419112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2d"/>
                </a:solidFill>
                <a:latin typeface="Calibri"/>
              </a:rPr>
              <a:t>15 to 17 February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2d"/>
                </a:solidFill>
                <a:latin typeface="Calibri"/>
              </a:rPr>
              <a:t>Dead Sea, Jor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22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42d"/>
                </a:solidFill>
                <a:latin typeface="Calibri"/>
              </a:rPr>
              <a:t>Questions?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642d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358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Land Degradation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Focal Area Strategy</a:t>
            </a:r>
            <a:br>
              <a:rPr sz="5400"/>
            </a:b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(Combating Desertification and Deforest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600200" y="1066320"/>
            <a:ext cx="7315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and LD portfolio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44 eligible countries through inclusion of LD into ST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ress three ma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rivers of ecosystem degrad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nd use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-sustainable natural resources management and consumption, 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mate chang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abling frame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pport to UNCC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implementation of 10-year strateg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focus on production system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- agriculture rangelands, and forest landsca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F-5 Prio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1676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and Degradation Objectiv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14264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bjective 1: Maintain or improve flows of agro-ecosystem services to sustain livelihoods of local communit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 enabling environment within the agricultural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d agriculture management and sustainable flow of services in agro-eco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d investments in SL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71440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5029200" y="4191120"/>
            <a:ext cx="4114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and Degradation Objectiv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228600" y="1066680"/>
            <a:ext cx="6172200" cy="48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 2: Generate sustainable flows of forest ecosystem services in arid, semi-arid and sub-humid zones, including sustaining livelihoods of forest-dependent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hanced enabling environment within the forest sector in drylands dominated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d forest management and sustained flows of forest ecosystem services in drylan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d investments in SFM in dryland forest eco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>
              <a:lnSpc>
                <a:spcPts val="1397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6553080" y="1981080"/>
            <a:ext cx="242568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and Degradation Objectiv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219320"/>
            <a:ext cx="6705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bjective 3: Reduce pressures on natural resources from competing land uses in the wider landsca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hanced cross-sector enabling environment for integrated landscap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grated landscape management practices adopted by local communit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d investments in integrated landscap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7010280" y="1752480"/>
            <a:ext cx="1524240" cy="33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and Degradation Objective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Content Placeholder 2"/>
          <p:cNvSpPr/>
          <p:nvPr/>
        </p:nvSpPr>
        <p:spPr>
          <a:xfrm>
            <a:off x="304920" y="990720"/>
            <a:ext cx="84582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 4: Increase capacity to apply adaptive management tools in S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s-monitoring of UNCCD action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streaming synergies and best practices for Natural Resourc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of guidelines and tools for assessing ecosystem stability, resilience and maintenance of regulating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533520" y="3886200"/>
            <a:ext cx="808668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bal Environmental Benef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560" y="1143000"/>
            <a:ext cx="83818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proved provision of agro-ecosystem and forest ecosystem goods and servi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ed GHG emissions from agriculture, deforestation and forest degradation and increased carbon sequestr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ed vulnerability of agro-ecosystem and forest ecosystems to climate change and other human-induced impa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914400" y="4267080"/>
            <a:ext cx="731520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ational Socio-economic Benef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6840" y="1676160"/>
            <a:ext cx="4794120" cy="3809880"/>
          </a:xfrm>
          <a:prstGeom prst="rect">
            <a:avLst/>
          </a:prstGeom>
          <a:noFill/>
          <a:ln w="66600">
            <a:solidFill>
              <a:srgbClr val="77933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ustained livelihoods for people dependent on the use and management of natural resources (land, water, and biodiversity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duced vulnerability to impacts of CC of people dependent on the use and management of natural resources in agricultural and forest ecosystem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3"/>
          <p:cNvSpPr/>
          <p:nvPr/>
        </p:nvSpPr>
        <p:spPr>
          <a:xfrm>
            <a:off x="6324480" y="4210200"/>
            <a:ext cx="2438640" cy="11912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Millenn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Development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206" name="Right Arrow 6"/>
          <p:cNvSpPr/>
          <p:nvPr/>
        </p:nvSpPr>
        <p:spPr>
          <a:xfrm>
            <a:off x="5410080" y="4648320"/>
            <a:ext cx="762120" cy="76176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2"/>
          <a:stretch/>
        </p:blipFill>
        <p:spPr>
          <a:xfrm>
            <a:off x="6324480" y="1523880"/>
            <a:ext cx="2316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3:57Z</dcterms:created>
  <dc:creator>wb350798</dc:creator>
  <dc:description/>
  <dc:language>en-US</dc:language>
  <cp:lastModifiedBy>Lisa</cp:lastModifiedBy>
  <dcterms:modified xsi:type="dcterms:W3CDTF">2012-04-22T22:17:52Z</dcterms:modified>
  <cp:revision>53</cp:revision>
  <dc:subject/>
  <dc:title>Focal Area and Cross Cutting Strategies – Land Degradation</dc:title>
</cp:coreProperties>
</file>