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8FDA-1C44-4F8E-91E8-EB2E9257D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00DD-F1A7-4A7E-B72C-9AD0A5F97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6C50-22A5-441A-9BB6-2468A09CB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11E-6635-406F-A2BB-217CC680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D5A-664F-4748-B865-ADF0AF00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E1A-F960-456F-A896-E32B32CF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EE5-A839-43F0-BCA6-ED2B3180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EFCA-1647-45A8-95A2-A3650805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F070-416D-4413-BACA-8D86BF05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A5A0-3391-4F18-AA6B-17732917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0696-3832-4A91-8BBC-BD0788AB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B35F-373E-4B18-9276-425B5954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247A-9486-4022-A27E-15ED6EA6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45BA-9457-4F53-B963-06477D37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3C2-B3EC-40E3-8A7E-D1639D94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328D-E8E4-4102-9EAC-930C4363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B3EC-547A-435D-9F0E-343E3BAD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E49D-80FC-4936-96D9-228A1453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75AA-5C55-4125-B229-A44D7C33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4596-93B7-421A-895F-6818B28F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2760-E0DB-4CF3-B435-B7588A5E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19EB-E3FE-44AA-9D68-6CB41BE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54CE-1E72-4AAD-8C87-DF3EBB81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B58B-A1E7-48BE-A848-3D70C77D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5910-7A82-429D-9F7B-E5F03104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942-3EA4-4B7D-A112-9C6F375A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BEC2-C9AB-4D6D-BC9C-58A6A478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9657-3FA6-4B76-B78F-B5B0F23F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C318-4593-46C9-8F38-4E66C610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E685-DA41-4D76-9621-E88010B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E7B95-4631-4381-B9CC-C120FB7B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07F5-B959-40A5-9259-DB03E47E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42A7-173E-4E79-B5BD-DBDC2AA0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4638E-9E8B-4F8E-93F6-0A500DA9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B598F-871F-44C5-A7B5-7990DB97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0B93F-FAF9-41CC-AF7C-75701577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7C2-3C79-42C2-A09E-FD56128A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3F6A-CA49-46C0-87B7-183429B2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2337-7629-4FA9-8D20-21303870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C2D40-BEFD-477D-AEF7-4E3A8B3C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5EF9-C6D5-42DC-AAE5-BA89612A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FE70-07AA-426E-8E6F-6BCC034B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2D55-C058-4876-B040-DE5A8466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F46F7-E232-4697-8735-25F98CA0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FF5BD-84E6-4BBA-A9AA-49F05738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53FCA-B18B-438F-8B54-B97889FF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D16-7CBE-48D2-8143-B844253F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4AE-59BB-4E98-A42D-1E1568C5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50F-D177-47FE-B844-546653ED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C14-A5BB-4BC2-8D25-83DC401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605-1C15-4DCD-B5FE-33D54C63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1D91-4C44-4CC2-BCAD-DC31B35B2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3625-6F07-4DB7-8D86-310BB80C3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2BBF-D8AD-465D-A76B-E667BFE86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B92E-9081-4611-9827-CD0996760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22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focus on production 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- agriculture rangelands, and forest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142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28600" y="1066680"/>
            <a:ext cx="617220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5242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Content Placeholder 2"/>
          <p:cNvSpPr/>
          <p:nvPr/>
        </p:nvSpPr>
        <p:spPr>
          <a:xfrm>
            <a:off x="304920" y="990720"/>
            <a:ext cx="8458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80866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560" y="11430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73152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tional Socio-economic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Lisa</cp:lastModifiedBy>
  <dcterms:modified xsi:type="dcterms:W3CDTF">2012-04-22T22:17:52Z</dcterms:modified>
  <cp:revision>53</cp:revision>
  <dc:subject/>
  <dc:title>Focal Area and Cross Cutting Strategies – Land Degradation</dc:title>
</cp:coreProperties>
</file>