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3FF9-9A39-4A22-8219-8E6B145D2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B0A6-4EA1-44E0-91F1-18BBB1C12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14FF-2D94-4133-864A-4A8E819FB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0A4-F3D0-4494-B098-6E068309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389-ECE3-4411-9729-64170FBA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1F3-2F03-4B9F-A2C0-D33A039D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9E5-07B9-4FD6-9236-7CD32DBC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CD13-3F9E-474B-A13E-D2CDCE5A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16CE-A736-43ED-8718-A0539491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8AA5-C65C-4B78-B399-E27D9D96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7322-E800-4D14-BBCE-2D379A61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53E-03FF-442A-B013-1C2B77CB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A797-6B0B-4E5C-A558-D71FBCB1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810F-AF6F-4666-9127-483BDFF8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EAD-2FBE-4313-9824-F173F6E6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9F72-4F24-4E36-9724-B20BD832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38F2-9370-44DD-BBA4-22E510F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7ECF-0E75-416A-8940-A82F505E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CFF7-171C-4E43-8A87-18B28221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0204-4B7E-4004-B33E-A884E2B7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0656-4BFA-474A-8916-A935A240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F826-A2AD-4DF1-BD78-E8D23FB0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3091-9ACD-43FC-B02A-022E398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ED7D3-E132-47B2-A27F-FDBA4AF4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6A38-8F16-4669-9012-894EA0B5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90C-4882-458B-9A3A-B335DC78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5E89-51DD-4BC3-9578-6A291928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2023-6BDA-448F-9B7D-84DDD1C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D743-B038-4D32-A6CC-8540994A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0A98-4F5F-429F-A72B-5E51065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F783-6CE8-4793-AD0B-17DCE438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568B-240E-45EE-9989-E8F0112F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472C-1288-4900-81D9-0B0322BC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71250-A927-41E2-82FC-15C6C299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B9CF-377F-4272-9812-00A34326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832B-4F4F-4BEA-8C86-4C49C739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517-10FE-4019-AC4F-16197C70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40A51-9C0F-49EA-A7A1-04515BB9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E08A5-ED0B-48E6-9FAA-A92841E0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BCD0-C049-4A03-AC8E-FEBAC937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82558-2482-478E-9822-DC57DE7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6A75-1894-4224-BDDB-1A279B0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E70C-462F-4E8C-A896-E94F196A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60321-D506-4F19-B0AF-0256483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E567-DB4F-47EC-9211-5275074B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4B5F1-2CF7-4A12-B697-603D484C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B88-4E69-4958-BDDA-5F42F495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EA8-50BC-4304-AAF0-61B7B1D2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5BA-8EB1-4E7B-B7A2-EDEC976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D00-3342-4C8A-BF46-A2205434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5D5-1289-49C9-B85F-90E724AD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8E88-3EE5-453D-8560-C820F99F8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8C7C-F50D-4012-8467-F9A490B72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5F0-5527-45B2-84E7-C1031DE60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B1EE-0C4A-4B0C-B8E9-A1BF27332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142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28600" y="1066680"/>
            <a:ext cx="617220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ontent Placeholder 2"/>
          <p:cNvSpPr/>
          <p:nvPr/>
        </p:nvSpPr>
        <p:spPr>
          <a:xfrm>
            <a:off x="304920" y="990720"/>
            <a:ext cx="8458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80866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560" y="11430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73152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Lisa</cp:lastModifiedBy>
  <dcterms:modified xsi:type="dcterms:W3CDTF">2012-04-22T22:17:52Z</dcterms:modified>
  <cp:revision>53</cp:revision>
  <dc:subject/>
  <dc:title>Focal Area and Cross Cutting Strategies – Land Degradation</dc:title>
</cp:coreProperties>
</file>