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8460-D21B-46F2-9BE3-68F343C41B65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14D0-40C8-4858-85F4-AC933E5B27B5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8FC8-E458-44EA-9B67-5CB2D5371640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8EA7-6B54-4CF6-A044-9DDED01501D7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</a:t>
            </a: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6EA9-27F2-4738-881D-5C144CD5E89A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56C-2ACB-4CEC-9092-D6A77E87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0D9-55ED-4E49-B343-AFD918CA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B49-4F87-4305-BE3C-AF8C3E78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47E-EFC5-4328-B5AD-99353C6D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FD44-146D-462F-8F34-3B19DFB7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290A-EF08-42C5-B635-518F42FE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2AB3-F04D-40AD-984B-99146E35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6D48-D20F-4718-84D6-16E2C9FE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E0E9-671B-4281-AB87-7B5ED703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F50F-B1BC-463B-82DD-5E47328E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2A3B-0D94-4836-A300-0D39E076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A53-BF08-4DA0-A35F-7FC0EB32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E149-48B2-4271-8033-A78B3AD6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35BC-06B7-4E96-9D3D-F2CDA2FB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4690-21B4-47C6-A70C-F175C87B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2DA9-1336-4C60-81BA-00DAFA03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994E-449D-41B7-BE6B-55E08D69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8D85-6F20-4014-966C-B1055771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00F93-4B02-4388-88B7-0EB0FC8E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3ABF0-25D9-4FFD-B612-868D7C3D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0A26-A8C8-43BB-B51D-869A2F39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7227-1B9E-4987-842C-DB8EAA7F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9D0-0160-4633-9E1F-657940CC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B544-71B8-40CA-9608-21C03C6A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60893-24CD-4FC0-9AB4-0D4028F1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BE03B-0301-4B7C-9620-F8128064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8FCF-45FC-4046-B76A-6E345A0E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91D67-F025-4F6C-BF82-1B923FB2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FF5C4-6C27-4BF8-B494-EC83BD93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9506-18B1-41B6-95DD-0817A727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5858B-F6AB-4B31-9271-154B5CAF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CE1E9-AAA1-4FB8-B647-C7AAC26B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2ED0A-6B69-47E2-AEBF-1A1CA315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BA1-5BB5-4768-8847-EE301EE4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4E6F7-97B3-4CC4-A196-B2E68499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12B15-B129-4900-A51D-F961A85F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0CD44-4BAA-4231-8F3A-F83DD44A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21EF7-A599-434C-B96D-D5AB1414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449A1-0C2C-4843-A17C-848C2FBC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1CF20-F35B-45E6-9525-EE63DD36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4D754-AE0A-4ED6-9E96-17D5FDF0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2D048-3981-4614-9220-AD163B30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C2C74-7201-43CF-AA00-D1222138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05512-7FCE-4EF9-9EFC-EB69261A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C38-96C0-4CE4-9012-0A57B00B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1D5EA-B6A7-42B8-A475-320D3EA3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23606-335A-4552-BDBD-F9CE9C52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A3F8D-49B2-49B6-B0A7-F1F14305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13E8D-8119-4BA0-B3E6-03B35B31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83622-5A85-4F7F-9AEE-BBB3F357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AA0BF-7953-4CD6-A01A-BBAF1A79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18C9A-0DBC-4322-96E4-63CA4C0F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3A624-D541-46F3-A31E-08AB9FCE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318E0-3570-4242-809F-528293BF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F0D5C-1670-41A2-A812-B7C8555C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8F4-E653-45F8-8D77-8B1784E1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2FA55-37B1-4262-8C0C-1880685E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0D6-E061-44D6-8C79-372AD92C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AAA-1B93-4DB4-9276-E54779DA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73C-8206-4E44-86CA-F65121F4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E42A-66AD-4120-8833-B4E6620440E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8FB0-168B-4BBE-98EE-63291BFD6DA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0C93-B1D8-41F8-93F8-FCF2C1E5483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A28E-B614-4875-A77F-50FD5C2FBAE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DC0A-4AC8-4D1C-8597-CB732B38ABA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مجال التركيز والإستراتيجيات الشاملة ــ المياه الدولية</a:t>
            </a: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2952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-30168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حفيز التعاون بين مختلف الدول لإحداث توازن بين الاستخدامات المتضاربة للمياه في أحواض المياه السطحية والجوفية العابرة للحدود مع أخذ التغيرات والتقلبات المناخية في الحسبان في الوقت نفس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 algn="r" rtl="1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إحداث المزيد من التطوير في السياسات والتدابير الإقليمية المحددة في برامج العمل الإستراتيجي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ع العمل على الجدية في تنفيذه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648320" y="1494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55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:  تحفيز التعاون بين مختلف الدول لإعادة بناء مصائد الأسماك البحرية والحد من تلوث الشواطئ والنظم الإيكولوجية البحرية الكبيرة مع أخذ التغيرات والتقلبات المناخية في الحسبا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فيذ برامج العمل الإستراتيجي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ع إدخال إصلاحات وعمل استثمارات تعمل على تحقيق النتائج المرجوة ــ إصلاحات قانونية ومؤسسية وعلى مستوى السياسات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دخال إصلاحات وإبرام شراكات إستراتيجية بين الهيئات والوكالات المعن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:  تدعيم بناء القدرات الأساسية، وحفز التعلم، ومساندة الاحتياجات البحثية المستهدفة من أجل الإدارة المشتركة المستندة إلى النظم الإيكولوجية للأنظمة المائية العابرة للحدو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 algn="r" rtl="1"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ساهم اللجان الوطنية المشتركة بين الوزارات في إعداد وتطوير برامج العمل الإستراتيجي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لإنشاء أو تعزيز المؤسسات من أجل الإدارة المشتركة بين مختلف الدول واتخاذ ما يلزم من إجراءات تبعاً ل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Object 3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تشجيع الإدارة الفعالة للمناطق البحرية خارج نطاق الولاية الوطنية (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ABNJ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طوير واختبار التكنولوجيا وترتيبات الإدارة من أجل بيئات المحيطات وأعماق البحار والجبال البحرية التي لا تصل سطح الماء أو المساعدة في تقليل ما يتم صيده من أسماك </a:t>
            </a:r>
            <a:r>
              <a:rPr b="1" lang="ar-LB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ونا وغيرها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نحو غير مناسب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-380880" y="1447920"/>
            <a:ext cx="4930560" cy="4114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نهج صندوق البيئة العالمية المستند إلى النظم الإيكولوجية إزاء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إدارة متعددة النطاق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114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نظومة إيكولوجية بحرية كبي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منظومة إيكولوجية بحرية كبيرة في بحر جنوب الصين ــ برنامج الأمم المتحدة للبيئة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لديات الساحل/النطاق الإقليمي للإدارة المتكاملة للسواحل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دان نانغ، فييتنام، برنامج الأمم المتحدة الإنمائي ــ الشراكات المعنية بالإدارة البيئية لبحار شرق آسيا ــ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UNDP PEMSEA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طاق ربط الأحواض النهر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حوض/دلتا نهر الميكونغ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PA Mekong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 ــ البنك الدولي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واقع إرشادية                                                                                                                        في مجتمعات مح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hu Quoc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Fish Refugia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 فيتنام ــ برنامج الأمم المتحدة للبيئة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مؤشرات الرصد والتقييم لمتابعة نتائج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مشروعات المياه العابرة للحدو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8284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ات العمليات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ـ اعتماد العمليات والإصلاحات المتفق عليها على المستوى الإقليمي والوطني لقطاع محد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ات الحد من الضغوط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ـ تنفيذ التدابير الفعلية التي تعمل على الحد من الضغوط والتوت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ات الموقف البيئي وموقف موارد المياه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ـ التحسين الفعلي في موارد المياه/بيئة المياه/الظروف الاقتصادية والاجتما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فز التعلم، وتبادل الخبرات ــ </a:t>
            </a:r>
            <a:r>
              <a:rPr b="0" lang="ar-EG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ة المعارف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iwlearn.net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أية أسئلة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Lisa</cp:lastModifiedBy>
  <dcterms:modified xsi:type="dcterms:W3CDTF">2012-04-22T23:46:23Z</dcterms:modified>
  <cp:revision>35</cp:revision>
  <dc:subject/>
  <dc:title>Focal Area and Cross Cutting Strategies – International Waters</dc:title>
</cp:coreProperties>
</file>