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A37C-6F2F-4AF5-AEFF-EE0BE3E00777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FB2-F78A-41E7-9217-A2F9A5DDCB23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E8C7-02E3-4829-9DFC-7AB4C932174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856-93BA-40CD-9BF3-5692804EB1A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AEC7-52FF-41A7-8C30-31C7B650954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637-BD7C-46FE-BFB6-C953EA59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DAD-38EB-454F-926E-0F88E7FD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918-F19D-4926-980A-88CBB754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73A-2643-4B08-B29A-99B75747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8A3-E9B9-4F35-9504-B0A70AA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25F7-DC33-4946-BC26-C5793172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1EAF-A2F0-4488-AD3F-436DAE9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DE18-3373-4A9B-9FDB-CC4B1803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9B1D-88B3-4589-9FEB-6F26CDBC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2DCD-FE11-4E2F-BC00-DB0B39C1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2A45-BECD-41C3-AC93-9BB1733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589-430B-4BF8-821E-31391145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B8BF-9ED2-4054-8DD0-01F347D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63FF-06B0-4EA0-B304-338C585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6117-F3C9-4124-A64C-C0ED8EAD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2636-A8DB-43CE-97F5-117C66DC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F7BE-AAF1-4D87-9E00-CDA00DD2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2BAB-180B-4FD7-B2A9-11D887C5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6ABD-B942-4522-B689-C04212F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FD0B-EFDD-4055-955C-39960AC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1C8E-0166-4781-8E63-85DB707F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4B0A-9D3E-4A12-A395-DE3FFB48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7D1-44D3-4FB2-89DF-44144BD8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2F6B-7383-4316-A2F1-AC3343F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5678-63BC-46FA-AF31-CC277FA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569B-DF7A-4CEB-A384-49C070A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04DE-9D97-4C2E-9F8F-D1051E4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EE80-715F-4BA2-A832-3FA2DADF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211B-834F-4044-B847-75CF9919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C0B8-83E1-4123-A64F-773C9514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FA89-0659-4727-9433-59893384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99C4-4CEA-437B-9E4A-1DE9D279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D92D8-390D-4E86-B0F1-EA061418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EF7-BCAE-427E-BFB8-B488AC8D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F5273-258C-4EB8-BF0C-93ACC170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9B0B-1085-452E-9000-B11762D1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73BB-1ED8-4FB7-AF15-C83A39EF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1AE3-9E84-428B-844B-1BEFA51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3406-AA39-48ED-8F8C-722C29E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8F4E-421C-4E22-9DF9-7E28A44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8ACE-4955-4B84-BA61-7D0891EC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B47E-1FAF-42E1-90D4-EEDF1666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C0B1-7D53-4302-B710-89C77F84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18C7-BE8F-4422-BDF1-5B09E106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8EC-86AD-4329-8062-65EC8D8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3E04-18D1-4462-A2E9-249CFBA3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D30CB-6456-40A8-A593-44A4EA63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3F97-FFBF-47FF-BBE0-AD33C307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60B9-3D48-4DCC-BA99-2FA91B93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BC41-8C95-4A48-B311-E4DDD816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8227F-A883-4554-8550-369CF0E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78C9-DBB3-466D-A1EC-B02EEFC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A6EE-1C04-491E-BE6D-83D7CC77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EDCA7-6D4C-491F-9F4E-876DA492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4B16-7746-4A51-8BC9-54BB525F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68F-842E-47EF-9A58-7C78698F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7767-09D8-4135-AF17-E0986FE0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5D6-C27E-400C-A095-ABA8A77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AC2-FE4E-4BBA-9AA6-AAF978B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809-9DA1-4D8B-AD57-389A65B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EE17-D407-44A1-ACDA-3981F4C576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D6C8-6D7C-444E-ABAE-B34B2D9713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EDCF-7C4F-4869-9FE7-4F81515584D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DDD-FE61-4F10-8ECB-96E9138B75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35FD-233D-4997-ABD0-040ED45DAEC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مياه الدولية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حفيز التعاون بين مختلف الدول لإحداث توازن بين الاستخدامات المتضاربة للمياه في أحواض المياه السطحية والجوفية العابرة للحدود مع أخذ التغيرات والتقلبات المناخية في الحسبان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إحداث المزيد من التطوير في السياسات والتدابير الإقليمية المحددة في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العمل على الجدية في تنفيذه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49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حفيز التعاون بين مختلف الدول لإعادة بناء مصائد الأسماك البحرية والحد من تلوث الشواطئ والنظم الإيكولوجية البحرية الكبيرة مع أخذ التغيرات والتقلبات المناخية في الحسبا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فيذ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إدخال إصلاحات وعمل استثمارات تعمل على تحقيق النتائج المرجوة ــ إصلاحات قانونية ومؤسسية وعلى مستوى السياس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دخال إصلاحات وإبرام شراكات إستراتيجية بين الهيئات والوكالات المعن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دعيم بناء القدرات الأساسية، وحفز التعلم، ومساندة الاحتياجات البحثية المستهدفة من أجل الإدارة المشتركة المستندة إلى النظم الإيكولوجية للأنظمة المائية العابرة للحدو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 algn="r" rtl="1"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ساهم اللجان الوطنية المشتركة بين الوزارات في إعداد وتطوير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لإنشاء أو تعزيز المؤسسات من أجل الإدارة المشتركة بين مختلف الدول واتخاذ ما يلزم من إجراءات تبعاً ل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شجيع الإدارة الفعالة للمناطق البحرية خارج نطاق الولاية الوطنية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ABNJ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طوير واختبار التكنولوجيا وترتيبات الإدارة من أجل بيئات المحيطات وأعماق البحار والجبال البحرية التي لا تصل سطح الماء أو المساعدة في تقليل ما يتم صيده من أسماك </a:t>
            </a:r>
            <a:r>
              <a:rPr b="1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ونا وغيرها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نحو غير مناس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-380880" y="1447920"/>
            <a:ext cx="493056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هج صندوق البيئة العالمية المستند إلى النظم الإيكولوجية إزاء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متعددة النطاق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ظومة إيكولوجية بحرية كبي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منظومة إيكولوجية بحرية كبيرة في بحر جنوب الصين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يات الساحل/النطاق الإقليمي للإدارة المتكاملة للسواح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دان نانغ، فييتنام، برنامج الأمم المتحدة الإنمائي ــ الشراكات المعنية بالإدارة البيئية لبحار شرق آسيا ــ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UNDP PEMSE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طاق ربط الأحواض النه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حوض/دلتا نهر الميكونغ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PA Mekong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ــ البنك الدولي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قع إرشادية                                                                                                                        في مجتمعات 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hu Quoc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ish Refugi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فيتنام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رصد والتقييم لمتابعة نتائج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شروعات المياه العابرة للحدو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عمليات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عتماد العمليات والإصلاحات المتفق عليها على المستوى الإقليمي والوطني لقطاع محد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حد من الضغوط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تنفيذ التدابير الفعلية التي تعمل على الحد من الضغوط والتوت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موقف البيئي وموقف موارد المياه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لتحسين الفعلي في موارد المياه/بيئة المياه/الظروف الاقتصادية والاجتما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فز التعلم، وتبادل الخبرات ــ </a:t>
            </a:r>
            <a:r>
              <a:rPr b="0" lang="ar-EG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ة المعارف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wlearn.net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أية أسئلة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3:46:23Z</dcterms:modified>
  <cp:revision>35</cp:revision>
  <dc:subject/>
  <dc:title>Focal Area and Cross Cutting Strategies – International Waters</dc:title>
</cp:coreProperties>
</file>