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dt" idx="1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9516-4606-4809-A98C-3ABA8D4A6C30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 type="sldNum" idx="1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D25A-4FA3-440A-A8D4-3521E9333CE1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EA17-A147-4CD1-BC2D-4EB1193C5CCC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Calibri"/>
              </a:rPr>
              <a:t>Climatic variability and change explicitly included for freshwater basins and LMEs and their co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Calibri"/>
              </a:rPr>
              <a:t>Aquifers/groundwater explicitly included for true integrated water resources management (100 x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Calibri"/>
              </a:rPr>
              <a:t>ICM Critical in all marine projects for climatic vari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4E66-AA36-4DCD-AA75-AB66B48C4A7C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Calibri"/>
              </a:rPr>
              <a:t>Progressive funding provided to countries adopting progressive commitments to joint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Calibri"/>
              </a:rPr>
              <a:t>First, foundational capacity building projects- build trust &amp; confidence, undertake joint fact-finding, make commit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Calibri"/>
              </a:rPr>
              <a:t>Follow-up projects &amp; programs to help implement  joint commitments to national/local reforms and investments and support for waterbody-based adaptive management institutions for IWRM in basins and ICM at coasts</a:t>
            </a:r>
            <a:r>
              <a:rPr b="0" lang="arn-CL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E1C9-B546-4E0A-B647-59F7D4683DE2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559A-6FB1-4087-939A-C4E5338C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3143-D2FC-4DC4-9C19-CF845478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38CC-7A3F-436E-B3F9-177C74A8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EEB8-CE05-43BB-9392-1B39C07D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9D6F-81D8-4E8F-BEB6-AF5E565D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FED6-AC51-4DD5-A873-551E84C8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CAA1-BBA7-4A13-8877-8BF1268E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2937-9902-44E0-8A3F-42C04947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8916-9D47-4242-AD0B-77887A7D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A729-CA04-425C-AE6A-BB8CEAB0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F964-B15E-43AA-81CE-B90B4029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391E-8B5E-4A05-8379-A398778B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D3E4-3429-4DDE-9EFC-B1A969E3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862D-B0ED-4EAA-9242-71794BA3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D2A3-C1A6-4922-BC72-062E2EB4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A6EC-0E01-4A45-9674-85996F3D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0EE3-9DB8-4AA8-83D9-47116270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4D655-FBBE-4213-97A6-25C009968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26FF7-E774-4E6F-9F21-2B3CDBE5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40B49-9B0F-493D-B041-1584C425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4960D-4E82-4052-808C-8A085905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D8B01-A866-4429-9917-CAF4CC99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8928-CE34-4815-9A57-92D03A84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752CF-7916-4721-97FB-22BCD3C7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96A70-6EE7-4EAE-B19C-0B2CE85F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ACEB0-4447-4BDA-83ED-C7530521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D8858-22AC-4EDC-9B8A-E3420A6C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57E14-EC5E-4850-B770-103702B2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5DE8F-DCAB-4FC9-962A-0F6B5D94D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B38DF-AB17-452B-ABD0-5F6B6BCD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4138F-B267-4D59-BEC3-75D4E898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0FAFA-A435-422A-B44F-57422FAD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6F04B-C4E5-4A7B-8CDE-DCC30D0B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1576-D101-44AA-8AEB-903F0E1C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B2EE6-514F-4F53-A997-98B87802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B5E5F-3ED4-43D0-838B-C9F4001D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4831D-B966-4091-B316-163D3607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CC015-A92F-45B1-A68F-A946E83E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F50B6-B066-4C03-AC10-6994F349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8DDD9-10B5-4271-9824-927A0440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9E20A-218C-43D8-9B38-E3B32447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6D184-1138-485C-BC60-CD76E323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2B47A-91C1-4661-BB50-07A89AD15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41181-4809-4B9A-85A9-34259417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EDD6-906B-4665-A434-441036E9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E17EC-F35E-4F1C-B446-F754DE99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E3B19-8A83-4DE0-86BE-49AB3835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66BB0-0E5F-4D10-BDA5-7D00B65A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C73CB-ACB6-43C8-9C4C-7EEB1593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E8A65-BC2D-43E1-A80B-10841951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51690-70EE-47CD-85F9-16AD2F10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C5467-D509-4CCE-8E30-5833EB4F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32A59-EAED-4EC8-99B4-F4404942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9F4CC-4A41-4F40-B88C-D0A456FE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BA1E6-9F99-48DE-942B-B432DB2E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B481-59C3-485F-AD23-FA6EF063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D4CA7-CF22-40CE-98B0-AFE16161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4F59-E78C-4B0C-BDFE-F94FEE06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52C5-52BD-4A3A-A39C-3B466262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79C2-2C38-4A28-A44E-AF60E6F5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8666-3922-4D09-AC3F-7B57C669690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58DC-FA34-4A5E-83F7-5C7B2AF97ED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EA8A-E18A-40D0-9D57-860F239533D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738C-D064-4176-8EFC-FCDCBB103EC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74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AB3F-1A42-49DC-BC45-71DAD2BD908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wlearn.net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642d"/>
                </a:solidFill>
                <a:latin typeface="Calibri"/>
                <a:cs typeface="Arial"/>
              </a:rPr>
              <a:t>مجال التركيز والإستراتيجيات الشاملة ــ المياه الدولية</a:t>
            </a: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ubtitle 4"/>
          <p:cNvSpPr/>
          <p:nvPr/>
        </p:nvSpPr>
        <p:spPr>
          <a:xfrm>
            <a:off x="1295280" y="411480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حلقة العمل الموسعة على مستوى البلدان الأعضاء ف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صندوق البيئة العال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15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–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17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فبراير/شباط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2012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بحر الميت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، الأرد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أهداف العملية الخامسة لتجديد موارد صندوق البيئة العالمية فيما يتعلق بالمياه الدول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t">
            <a:normAutofit fontScale="88000"/>
          </a:bodyPr>
          <a:p>
            <a:pPr marL="301680" indent="-30168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هدف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: تحفيز التعاون بين مختلف الدول لإحداث توازن بين الاستخدامات المتضاربة للمياه في أحواض المياه السطحية والجوفية العابرة للحدود مع أخذ التغيرات والتقلبات المناخية في الحسبان في الوقت نفس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 algn="r" rtl="1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إحداث المزيد من التطوير في السياسات والتدابير الإقليمية المحددة في برامج العمل الإستراتيجي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مع العمل على الجدية في تنفيذها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Content Placeholder 2"/>
          <p:cNvSpPr/>
          <p:nvPr/>
        </p:nvSpPr>
        <p:spPr>
          <a:xfrm>
            <a:off x="609480" y="2819520"/>
            <a:ext cx="3962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2"/>
          <p:cNvGraphicFramePr/>
          <p:nvPr/>
        </p:nvGraphicFramePr>
        <p:xfrm>
          <a:off x="4800600" y="1981080"/>
          <a:ext cx="3809880" cy="27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981080"/>
                    <a:ext cx="380988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4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648320" y="1494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55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الهدف 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:  تحفيز التعاون بين مختلف الدول لإعادة بناء مصائد الأسماك البحرية والحد من تلوث الشواطئ والنظم الإيكولوجية البحرية الكبيرة مع أخذ التغيرات والتقلبات المناخية في الحسبا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نفيذ برامج العمل الإستراتيجي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مع إدخال إصلاحات وعمل استثمارات تعمل على تحقيق النتائج المرجوة ــ إصلاحات قانونية ومؤسسية وعلى مستوى السياسات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إدخال إصلاحات وإبرام شراكات إستراتيجية بين الهيئات والوكالات المعني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أهداف العملية الخامسة لتجديد موارد صندوق البيئة العالمية فيما يتعلق بالمياه الدولي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8" name="Object 3"/>
          <p:cNvGraphicFramePr/>
          <p:nvPr/>
        </p:nvGraphicFramePr>
        <p:xfrm>
          <a:off x="380880" y="1981080"/>
          <a:ext cx="422748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42274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الهدف 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:  تدعيم بناء القدرات الأساسية، وحفز التعلم، ومساندة الاحتياجات البحثية المستهدفة من أجل الإدارة المشتركة المستندة إلى النظم الإيكولوجية للأنظمة المائية العابرة للحدو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 algn="r" rtl="1">
              <a:buClr>
                <a:srgbClr val="0000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ساهم اللجان الوطنية المشتركة بين الوزارات في إعداد وتطوير برامج العمل الإستراتيجي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لإنشاء أو تعزيز المؤسسات من أجل الإدارة المشتركة بين مختلف الدول واتخاذ ما يلزم من إجراءات تبعاً لذل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أهداف العملية الخامسة لتجديد موارد صندوق البيئة العالمية فيما يتعلق بالمياه الدولي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2" name="Object 3"/>
          <p:cNvGraphicFramePr/>
          <p:nvPr/>
        </p:nvGraphicFramePr>
        <p:xfrm>
          <a:off x="4572000" y="1905120"/>
          <a:ext cx="419112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05120"/>
                    <a:ext cx="419112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64832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هدف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: تشجيع الإدارة الفعالة للمناطق البحرية خارج نطاق الولاية الوطنية (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ABNJ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 algn="r" rtl="1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طوير واختبار التكنولوجيا وترتيبات الإدارة من أجل بيئات المحيطات وأعماق البحار والجبال البحرية التي لا تصل سطح الماء أو المساعدة في تقليل ما يتم صيده من أسماك </a:t>
            </a:r>
            <a:r>
              <a:rPr b="1" lang="ar-LB" sz="2400" spc="-1" strike="noStrike">
                <a:solidFill>
                  <a:srgbClr val="000000"/>
                </a:solidFill>
                <a:latin typeface="Calibri"/>
                <a:cs typeface="Arial"/>
              </a:rPr>
              <a:t>التونا وغيرها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على نحو غير مناسب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أهداف العملية الخامسة لتجديد موارد صندوق البيئة العالمية فيما يتعلق بالمياه الدولي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6" name="Object 2"/>
          <p:cNvGraphicFramePr/>
          <p:nvPr/>
        </p:nvGraphicFramePr>
        <p:xfrm>
          <a:off x="457200" y="1828800"/>
          <a:ext cx="41004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41004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-380880" y="1447920"/>
            <a:ext cx="4930560" cy="41148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نهج صندوق البيئة العالمية المستند إلى النظم الإيكولوجية إزاء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إدارة متعددة النطاق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48320" y="1219320"/>
            <a:ext cx="4114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نظومة إيكولوجية بحرية كبي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  <a:ea typeface="Arial"/>
              </a:rPr>
              <a:t>(منظومة إيكولوجية بحرية كبيرة في بحر جنوب الصين ــ برنامج الأمم المتحدة للبيئة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لديات الساحل/النطاق الإقليمي للإدارة المتكاملة للسواحل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  <a:ea typeface="Arial"/>
              </a:rPr>
              <a:t>(دان نانغ، فييتنام، برنامج الأمم المتحدة الإنمائي ــ الشراكات المعنية بالإدارة البيئية لبحار شرق آسيا ــ 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UNDP PEMSEA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نطاق ربط الأحواض النهر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  <a:ea typeface="Arial"/>
              </a:rPr>
              <a:t>(حوض/دلتا نهر الميكونغ 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GPA Mekong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  <a:ea typeface="Arial"/>
              </a:rPr>
              <a:t> ــ البنك الدولي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واقع إرشادية                                                                                                                        في مجتمعات محل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Phu Quoc </a:t>
            </a: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Fish Refugia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  <a:ea typeface="Arial"/>
              </a:rPr>
              <a:t> فيتنام ــ برنامج الأمم المتحدة للبيئة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alibri"/>
                <a:cs typeface="Arial"/>
              </a:rPr>
              <a:t>مؤشرات الرصد والتقييم لمتابعة نتائج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  <a:cs typeface="Arial"/>
              </a:rPr>
              <a:t>مشروعات المياه العابرة للحدو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828440" y="14479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 rtl="1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ؤشرات العمليات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ـ اعتماد العمليات والإصلاحات المتفق عليها على المستوى الإقليمي والوطني لقطاع محد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ؤشرات الحد من الضغوط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ـ تنفيذ التدابير الفعلية التي تعمل على الحد من الضغوط والتوت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ؤشرات الموقف البيئي وموقف موارد المياه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ـ التحسين الفعلي في موارد المياه/بيئة المياه/الظروف الاقتصادية والاجتماع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فز التعلم، وتبادل الخبرات ــ </a:t>
            </a:r>
            <a:r>
              <a:rPr b="0" lang="ar-EG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دارة المعارف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fr-FR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www.iwlearn.net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0" y="838080"/>
            <a:ext cx="18111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642d"/>
                </a:solidFill>
                <a:latin typeface="Calibri"/>
                <a:cs typeface="Arial"/>
              </a:rPr>
              <a:t>أية أسئلة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0:46Z</dcterms:created>
  <dc:creator>wb350798</dc:creator>
  <dc:description/>
  <dc:language>en-US</dc:language>
  <cp:lastModifiedBy>Lisa</cp:lastModifiedBy>
  <dcterms:modified xsi:type="dcterms:W3CDTF">2012-04-22T23:46:23Z</dcterms:modified>
  <cp:revision>35</cp:revision>
  <dc:subject/>
  <dc:title>Focal Area and Cross Cutting Strategies – International Waters</dc:title>
</cp:coreProperties>
</file>