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D58-9D70-4450-AA12-6C747F2110F1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270-7833-49E9-A53C-0CC90D4C9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D4E-F560-4174-A6E8-4EE3EAB73F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F258-1427-45E6-BA52-F76DA67C62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5A1-2593-481E-89DF-10767EBE09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5DF-56F3-492E-A184-44596D11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69D-291F-4EF0-B239-82351AE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204-7BFF-4AFF-8F4D-5BD6B34F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597-202F-4773-8CEC-6C88F2F7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23C-205B-468B-96B0-22F91DBA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D523-668A-4314-9727-B8E798DE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147-272C-485E-BBE9-D4F05B5A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319-1380-47D7-99D5-5525433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E6FB-6427-4A98-8637-CD577DE7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D3B-F9C8-4810-9574-3BD3F67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72C-5FEE-4338-B047-8F54BFB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0DA-D272-4A7E-94DF-253F728B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0720-A366-48B9-8E7E-B274D5E5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BCE5-DEB8-4786-BC8A-D87567A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BC3-041B-457D-96BC-047ED00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B2F0-B72A-4D71-B4A7-F6003AAC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2007-3626-4969-B349-C9C1ECB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FCC2-6CBA-4D89-9740-A01BC135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DC96-A312-4643-91DA-E618C5E7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3389-859D-4328-87A2-888E4F0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8A06-D537-4284-A722-8D2C7EBC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0E2E-CFD9-4A4F-ABCB-2036215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0FF-283E-4424-8397-E81A556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2F69-2944-4F21-91C2-8FF122C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CDD9-961D-4009-9038-EF92B9D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695E-1708-4C57-8FF6-536FE6C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23F8-38E4-4501-8268-5E93F00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506C-B4E7-43F3-9C76-077BD8D7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8FA2-5281-426F-825A-D22C6950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0FE3-A197-4E2C-ACB7-FCE8617B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8E4F-6E05-4A15-AB48-F788BB05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608E-F707-4410-A84A-C56A9FCF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13A6-7BEB-4017-966E-7B0E7B26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D97-1E18-457F-8AC2-09C63C5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33F4-889B-42BE-8361-C508AAB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1B3E-23DA-4765-860D-7586344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2327-4E66-4A7C-8F2E-E62364F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8004-B570-43EF-B7AF-CEBF7B8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FA2E-A79A-4C60-A70A-9FA50CA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52E3-40C3-4D52-8F04-E39B5F4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ECF5-24E6-470D-9144-FA90782E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2EC5-4358-44AF-B73D-4F6E456F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CB07-0515-4527-AE86-975BF6D9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5802-2A2E-43F6-8C18-CBEB4630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693-4D79-4DB5-A9F6-93EEBA3C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2CA9-AE9E-4753-8234-11BF6B02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9762-DFA1-4C73-906C-BB459E49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3090-054D-4B39-9CF7-80A81B9F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AE54-AE33-4EDE-BD80-CD9502F8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C9356-5F41-4AE0-9874-5386B68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2912-C20E-4480-A77B-9972883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1B363-7DD6-4E7B-8D1C-71CF9AD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A8C9-8B0B-4CB7-8C39-F9620EC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ABD2-F779-4956-AC2F-E0B400C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B220-7459-4FD3-9433-DF151F90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629-3632-4E10-BB64-DEEA08B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5B7DD-2ADC-44EE-92FC-0EFC8680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EAC-3D66-4016-8E76-23FBC23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81E-07F0-4017-9588-A338053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BA2-8FF0-4931-B692-459C928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DCC-D561-428B-BBCB-44610A9E1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00FF-3A77-4A07-B9A0-E066B85DE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13E-6231-4E06-9874-DCABDF756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5133-1F29-4D78-BB35-E06398504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57E-69D1-4A4F-9B1B-964EA2FC5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-8806" r="0" b="8819"/>
          <a:stretch/>
        </p:blipFill>
        <p:spPr>
          <a:xfrm>
            <a:off x="-533520" y="1447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GPA Mekong River Basin/delta - World Ban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Demo 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20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2:18:31Z</dcterms:modified>
  <cp:revision>29</cp:revision>
  <dc:subject/>
  <dc:title>Focal Area and Cross Cutting Strategies – International Waters</dc:title>
</cp:coreProperties>
</file>