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9B46-0EC0-407D-935C-C891594DCEAD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A3F7-CA4C-4C78-A7E3-48C2D1AE10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B71F-7B49-4150-B694-749A23E6DA1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9A75-D53C-4FCC-95AF-4D7613764BF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B861-E633-4E86-9570-5B5C2C8A882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A9F5-70E0-41D1-823D-26FEFDCB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A29-308C-48CF-AC38-FE8CE147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B53-6043-4834-99B2-6B028860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68D-5CB9-4EE3-94AC-982EF219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E212-3DA2-4FD6-85AF-A88E9892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4651-A3A9-428B-804D-120C5821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4FD6-07D6-4D5C-A083-C599AFED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B376-CED3-40B0-9D08-F768165A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3769-8DEE-481A-B44E-50F3F01D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F2B6-D0CE-4B5B-92E8-A787335A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33BB-E85B-416B-9910-D252F3C9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CEDF-89B6-497E-962E-48BB440F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BE64-CE8B-47E2-B4A9-4F623372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1AE2-BB8A-49DA-950C-3E192DFF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2AC5-B7AD-4110-8BFF-3C739454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B194-1C00-4BEB-8799-E5C37A73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9E1D-4003-47A5-8178-8447FF7D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22C28-8AB0-46D1-A2D6-22BE1AB2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10BDC-4DDC-49C8-A97C-B6F1DB1F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1F520-9E84-417B-B098-D00939FF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3A4D6-EBC3-4AC0-850F-9C109A8B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0FC51-6664-413C-8738-9BF9B603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1D46-123B-4F7F-82D4-7E23617E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E6C99-87CD-4D31-8B89-3F2A1ABA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35AB0-3A83-41E3-8866-5662E597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181F2-9433-4233-9E77-53D81343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F804C-2DE0-403B-8ADF-EFCCC20A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8127A-D861-4260-9F99-D7F820F5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2D69B-45A8-4D31-BDD3-A40A9118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ACAE0-70FF-40D5-95E4-5FDA53BD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6F0B6-ACC5-4428-BDF0-D77AD952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89504-0362-42D5-AD21-D1EFF162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65342-1AF2-433D-B1F5-97071D4C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B8E-4E71-4DC5-961E-1FEF3C0A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59432-7FEA-445C-80B8-45066DB8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780FE-E609-4C95-B815-ECA6C8FE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F2B42-9521-46B9-96DC-96778468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ECB99-D40D-43A4-AC3A-B3CF3F91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A7A50-6EE7-4AFF-9E3D-BA7E93BE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66997-14D4-4E24-BE10-09283F0C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AFF19-F5DE-4C3B-884D-1F9C39AF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FDDBF-94B4-4A78-AB09-A2381450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C437-59CB-4107-A928-7CAE8399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5583F-BBCD-42A6-848D-236A2F81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379-5E20-4C59-823C-38AC49A4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61347-98A5-429F-84BB-2015AA06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AF31D-6F67-4758-A1CF-63317747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AE484-3666-4541-8595-01CC2A7C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6787A-7325-4928-8D34-E72AAEF2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3DC50-E2D1-41AC-A457-4F2F91CB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EF8A9-090D-4C27-8CE6-AE2C71A1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C5B7B-528E-41FC-89D1-30508B51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D9F46-289B-4857-B0DE-3ADB5CDD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45CA7-3D1C-4213-BFCB-B275C7F4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ECB37-E1ED-4883-BE8A-3842F12C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0B73-7493-480D-AB55-AF969B35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6855D-319E-415C-BF01-6C66B197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319-94CD-4034-A29F-71BE126B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9B1-C9B0-429B-BB1E-1DF65AC0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6A7-D0AA-4687-BFB1-4EAF86AF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4837-42BF-4F8F-A160-0F2AD1ABCA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7993-240D-4449-B44E-3F859F7A84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F964-C31D-4630-951C-E51E9C44F1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A439-1701-4EA0-8890-48502202D3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0D86-6A39-4984-88AC-376DD143F6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wlearn.net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International Wa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2952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1: Catalyze multi-state cooperation to balance conflicting water uses in transboundary surface and groundwater basins while considering climatic variability and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development and implementation of regional policies and measures identified in agreed SA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Object 1"/>
          <p:cNvGraphicFramePr/>
          <p:nvPr/>
        </p:nvGraphicFramePr>
        <p:xfrm>
          <a:off x="4800600" y="1981080"/>
          <a:ext cx="380988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talyze multi-state cooperation to rebuild marine fisheries and reduce pollution of coasts and Large Marine Ecosystems while considering climatic variability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ation of SAPs with reforms and investments that produce results - policy, legal, institutio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rms and multi-agency strategic partnershi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380880" y="1981080"/>
          <a:ext cx="42274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2274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3:  Support foundational capacity building, portfolio learning, and targeted research needs for joint, ecosystem-based management of trans-boundary water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inter-ministry committees would contribute to development of SAP, to establish or strengthen institutions for multi-state, collective management and subsequent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Object 5"/>
          <p:cNvGraphicFramePr/>
          <p:nvPr/>
        </p:nvGraphicFramePr>
        <p:xfrm>
          <a:off x="4572000" y="1905120"/>
          <a:ext cx="419112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05120"/>
                    <a:ext cx="41911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4: Promote  effective management of Marine Areas Beyond National Jurisdiction (ABNJ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nd test technology and management arrangements for both pelagic and deep-sea environments and seamounts or help reduce tuna/other by-cat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Object 7"/>
          <p:cNvGraphicFramePr/>
          <p:nvPr/>
        </p:nvGraphicFramePr>
        <p:xfrm>
          <a:off x="457200" y="1828800"/>
          <a:ext cx="41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rcRect l="0" t="-8806" r="0" b="8819"/>
          <a:stretch/>
        </p:blipFill>
        <p:spPr>
          <a:xfrm>
            <a:off x="-533520" y="1447920"/>
            <a:ext cx="4930920" cy="41148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 IW Ecosystem-Based Approach 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Management at Multiple 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1640" y="1371240"/>
            <a:ext cx="4343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rge Marine Ecosystem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South China Sea LME-UNE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astal Municipality/Provincial ICM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Da Nang, Vietnam - UNDP PEMSEA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ver Basin Linkage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GPA Mekong River Basin/delta - World Bank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cal Community-based                                                                                                                           Demo Sit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Phu Quoc </a:t>
            </a:r>
            <a:r>
              <a:rPr b="0" i="1" lang="en-US" sz="1900" spc="-1" strike="noStrike">
                <a:solidFill>
                  <a:srgbClr val="000000"/>
                </a:solidFill>
                <a:latin typeface="Calibri"/>
              </a:rPr>
              <a:t>Fish Refugi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Vietnam- UNE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200" y="763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onitoring &amp; Evaluation Indicators to Track Results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 of Transboundary Water Projec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90476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rocess indicator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 Adoption of agreed processes &amp; reforms regionally and nationally for particular se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Stress Reduction indicator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 Implementation of on-the-ground measures leading to reduced stre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Environmental/Water Resources Status indicator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 Actual improvement in water resources/water environment/socio-economic condi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rtfolio learning, experience sharing, KM (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wlearn.n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0" y="838080"/>
            <a:ext cx="1811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Lisa</cp:lastModifiedBy>
  <dcterms:modified xsi:type="dcterms:W3CDTF">2012-04-22T22:18:31Z</dcterms:modified>
  <cp:revision>29</cp:revision>
  <dc:subject/>
  <dc:title>Focal Area and Cross Cutting Strategies – International Waters</dc:title>
</cp:coreProperties>
</file>