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579A-6D50-483C-B921-85E679A366D2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E1A8-DEBD-41F2-8734-1B2A228047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8A05-6024-4467-9B59-8EE09C68377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3AC8-FD3E-470D-AADD-A09F2CEEEF8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3521-587E-4FFC-BAE4-3DF3A98011A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115-EC6A-473A-A22D-C327B84A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6EDC-3A58-455D-8FBE-9446FB77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24AE-2600-4ACC-972E-889D08AB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D14E-8DD6-425B-ACFD-2AECA14F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6E9A-B389-41C0-A138-1C7916B8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BDA2-0D6B-4DFF-873A-75D6571B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4660-F6EA-45F2-9909-C5DC33F6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25D9-F7BB-44ED-9FBD-B25EA3D0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DA31-9360-4C72-ADE6-3C0D8343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A1C4-29FB-4821-BECD-CBCBC902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1B21-001F-4F34-93B9-A3DF7F45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9839-6440-44F6-BF21-3875B7C2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25D8-6AE1-433C-B4DA-DBB9C057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B899-0EE4-4632-90E0-2D163281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35BE-7C31-496C-B504-2849E162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43DC-F7BE-452B-9B3F-167DA2D5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3D55-20BB-492C-A350-8EA0960A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A6318-C269-492F-A58F-9D78B9A1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0D0E7-1B3B-4415-B452-C8142E8F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1830E-C7B4-4BF6-B0B0-92985AEE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785CB-48A5-4F3C-84E7-31965B6F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2B75D-4B45-4D63-A89B-780343A5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CDE-2793-48B0-B366-AE6688A4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E94C2-E2CF-433C-84FE-9B01001F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9B2F1-0E7F-42D8-B89E-631812F0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2647A-0473-4A4F-903D-3C03629E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B444F-97E7-4900-B0FC-1FF86F21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430CC-3775-42A1-B2B1-97828EF5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51D66-5625-4CB1-A916-A5EA6A96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F042A-897E-416B-825D-3247FFC0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69CAF-64A9-45C7-9189-B32650E3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482CE-8BF1-450F-8291-D54055E0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D6000-C5C3-438A-8AA0-BAB99400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4947-D414-4333-9144-F2BD6E1B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0DA99-F873-461C-AFCE-18CC86BA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8D26D-A7E3-4DA0-AD30-10D6DE07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C8CCD-AEAF-4336-AD63-808FC228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1A4E0-77F6-4BA0-8F77-A0ECFDB1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6D503-7672-4E0A-A6B9-E33E4CC4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CE22A-DDAD-4928-8554-38D4C5DA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B0C7C-7E27-4794-803E-A7CCEB1E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52F32-BFCE-4CDF-B83E-F49A5BFF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0F855-0F53-4EAF-B953-36B1259B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511AB-D7A0-42EB-9CDF-8AFAAA32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1476-8BA2-4652-A3B6-1C0CC0D0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BB348-5A63-4DE2-A77A-9AE77B21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3C39D-10BD-4213-AFBC-C2C70DAC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F54B4-41B1-4315-A737-A0F60F59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B983B-35EB-4097-ADA8-DC4623C7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9D74C-67F6-4750-902B-9DFC553A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0C1BE-045F-4744-8257-B9FD00EB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64167-7B61-46FF-94E8-74A6FA93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AB8C0-58A2-45D3-8260-672FF161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662E3-8A56-436D-9254-53240008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AA159-67C2-475E-8EB0-C9F012E8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40F-B02C-449D-B514-7A0201DD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335B0-F64C-4D73-B1D5-BE983A32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754-5264-42C6-A1D6-9D8132EE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061-356B-4C82-B73B-ACF33E71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2647-2522-450C-9ACA-3579C56B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E47E-DD3E-4BAD-8D5C-C5304E7A46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445B-26AD-4195-B340-B21FEA2F47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5307-3613-4162-BB74-A9B6FEDF43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4239-0979-42BD-BC05-B5DDCB25CD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6D5D-8775-402D-AE1D-A8C44B1F65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wlearn.net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International Wa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295280" y="41148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1: Catalyze multi-state cooperation to balance conflicting water uses in transboundary surface and groundwater basins while considering climatic variability and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development and implementation of regional policies and measures identified in agreed SA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1" name="Object 1"/>
          <p:cNvGraphicFramePr/>
          <p:nvPr/>
        </p:nvGraphicFramePr>
        <p:xfrm>
          <a:off x="4800600" y="1981080"/>
          <a:ext cx="380988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80988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talyze multi-state cooperation to rebuild marine fisheries and reduce pollution of coasts and Large Marine Ecosystems while considering climatic variability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ation of SAPs with reforms and investments that produce results - policy, legal, institutio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rms and multi-agency strategic partnershi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380880" y="1981080"/>
          <a:ext cx="42274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42274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3:  Support foundational capacity building, portfolio learning, and targeted research needs for joint, ecosystem-based management of trans-boundary water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inter-ministry committees would contribute to development of SAP, to establish or strengthen institutions for multi-state, collective management and subsequent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Object 5"/>
          <p:cNvGraphicFramePr/>
          <p:nvPr/>
        </p:nvGraphicFramePr>
        <p:xfrm>
          <a:off x="4572000" y="1905120"/>
          <a:ext cx="419112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05120"/>
                    <a:ext cx="41911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4: Promote  effective management of Marine Areas Beyond National Jurisdiction (ABNJ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nd test technology and management arrangements for both pelagic and deep-sea environments and seamounts or help reduce tuna/other by-cat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Object 7"/>
          <p:cNvGraphicFramePr/>
          <p:nvPr/>
        </p:nvGraphicFramePr>
        <p:xfrm>
          <a:off x="457200" y="1828800"/>
          <a:ext cx="41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41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rcRect l="0" t="-8806" r="0" b="8819"/>
          <a:stretch/>
        </p:blipFill>
        <p:spPr>
          <a:xfrm>
            <a:off x="-533520" y="1447920"/>
            <a:ext cx="4930920" cy="41148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 IW Ecosystem-Based Approach 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Management at Multiple 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1640" y="1371240"/>
            <a:ext cx="4343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rge Marine Ecosystem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South China Sea LME-UNE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astal Municipality/Provincial ICM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Da Nang, Vietnam - UNDP PEMSEA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ver Basin Linkage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GPA Mekong River Basin/delta - World Bank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cal Community-based                                                                                                                           Demo Sit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Phu Quoc </a:t>
            </a:r>
            <a:r>
              <a:rPr b="0" i="1" lang="en-US" sz="1900" spc="-1" strike="noStrike">
                <a:solidFill>
                  <a:srgbClr val="000000"/>
                </a:solidFill>
                <a:latin typeface="Calibri"/>
              </a:rPr>
              <a:t>Fish Refugia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Vietnam- UNE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200" y="763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onitoring &amp; Evaluation Indicators to Track Results 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 of Transboundary Water Projec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90476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rocess indicator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– Adoption of agreed processes &amp; reforms regionally and nationally for particular se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Stress Reduction indicator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– Implementation of on-the-ground measures leading to reduced stre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Environmental/Water Resources Status indicator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– Actual improvement in water resources/water environment/socio-economic condi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rtfolio learning, experience sharing, KM (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wlearn.n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0" y="838080"/>
            <a:ext cx="1811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Lisa</cp:lastModifiedBy>
  <dcterms:modified xsi:type="dcterms:W3CDTF">2012-04-22T22:18:31Z</dcterms:modified>
  <cp:revision>29</cp:revision>
  <dc:subject/>
  <dc:title>Focal Area and Cross Cutting Strategies – International Waters</dc:title>
</cp:coreProperties>
</file>