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FC4-2F7B-480D-B94B-A447F968586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42D7-CB5A-47AF-AA40-44E81B425AA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54B-4CDE-4582-8BC5-ABD110F27E5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03E2-98D9-46B8-A025-E741F321DBB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5C4-ED65-412D-9C1D-E1C206C63DE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A10-7DD9-4722-83BA-7EF0B44AD4E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B14-3AD6-468D-96E5-257CA107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000-31BB-4156-80FE-4FD2DB3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D7B-E7A0-41B7-A6EC-41E41C48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79D-2B88-4BD4-9240-FE1154E3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3B10-354C-4DB0-8E06-ABAC342B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EC4-7AD3-4670-A526-5EDCBAC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FED2-8989-476D-B8F0-5D2BA94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17B7-B383-4A9E-A110-E9810AD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972E-9A54-4440-BA46-368A0C2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00D-34BC-4454-B55D-A6041153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DB91-A1B1-4696-BF75-23323C3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CF9-3DBD-4C04-80B7-BF0735D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4E50-6DD7-4E6D-B50F-D5A734D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0E65-A447-43C4-AE13-92BE957D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D55-19B4-408E-9BD7-C9BF530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E44-5D30-4B20-A121-BA65537B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364D-48FC-4E0C-A2B9-F9FF8F99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084D-E4EB-4189-B5D5-0D6982D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BA73-28B2-4AFF-8B88-4DB451D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B048-2C76-452B-8F57-8EB189BC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5AC8-2678-4FBE-9027-6D8C235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0805-9514-4BDF-B032-5355B568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C85-6E96-4936-9DC9-3121B8C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36D5-4089-4370-9AB8-6175ADE7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A834-3870-459E-9040-F010DE8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4338-7240-474F-A179-B338DA2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4F77-BF36-4E17-B4D3-9367F8B5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06A1-0ED5-48BA-8EBE-19C171F0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45A6-A0B0-409C-8847-B275B7AA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7E81-886C-478B-8836-B69547A8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7BCD-143A-45DB-8AF2-F0CF265D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7C03-35DF-4E8F-895B-718D1D4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4E80-3723-441E-80A7-0379F56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EF0-86C2-411B-AB59-217F33F2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9C90-088F-47D1-ABC2-DBA4684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B57B-3737-448C-8D0E-314A56A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4308-9078-49D1-82BE-F88E5A9F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B1B9-6130-45C0-9551-820809A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6B5C-51D4-4E01-95AE-586B851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2648-A373-4B9F-A4F6-D89B3A9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EC8C-5C23-4ABF-BE9B-07D41C8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34BA-996D-416B-9043-97A3E84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CB12-728A-45B4-94F6-F3F99D7E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2BE-16B1-4E4D-9AE8-A5D44EB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DE2-3396-44E5-A62C-8958F6A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98A-CDAE-4F0E-BC7E-FF9C092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676-9F4E-4C53-848E-9D70DA8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7E1-FD0C-4D06-B4DC-FC24804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C8E-E1EB-4C3C-A476-60976E7DD5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D2FA-0C96-4BD1-A7AC-5E400AA509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EA8-C061-4C7A-BB8C-2D62D3A7C7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442F-AF35-41EE-8DD0-25FDA8B998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  </a:t>
            </a: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الحد من إزالة الغابات وتدهورها ــ برنامج التمويل الإضاف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143000" y="41911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مل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موسع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عل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مستو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لدان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أعضاء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صندوق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يئ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براير/شباط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آ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حفي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56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ستثمار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ق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دهو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)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عظيم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ف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تعد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نسب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واف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ثلاً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ايي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ساه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قي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  <a:ea typeface="Arial"/>
              </a:rPr>
              <a:t> على الأق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سق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يبلغ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جمي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لدا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ؤه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تقد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ل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C:\Users\wb346313\Documents\Pictures\WB_Photos\RW001S18_Francis Dobs.jpg"/>
          <p:cNvPicPr/>
          <p:nvPr/>
        </p:nvPicPr>
        <p:blipFill>
          <a:blip r:embed="rId1"/>
          <a:stretch/>
        </p:blipFill>
        <p:spPr>
          <a:xfrm>
            <a:off x="2286000" y="1143000"/>
            <a:ext cx="426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ية الخامسة لتجديد موارد صندوق البيئة العالمية بشأن الإدارة المستدامة للغابات/الحد من إزالة الغابات وتدهورها ــ البرنامج الإضا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7621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خلق منافع ببيئية واجتماعية متعددة من خلال تمويل المشروعات المعنية بالغا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ه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النسب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371600"/>
            <a:ext cx="850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تيح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نافع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بيئ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واجتماع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تعدد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غي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شأ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بطاء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تير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ستوائ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أ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ساهم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دو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ب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لغا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خفيف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آثا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تنوع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بيولوج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تب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وطناً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جمي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بات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الحيوان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بر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دهو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أراض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وف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سب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س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عيش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خدم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ي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ساس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ئ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لاي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اس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52388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uscus"/>
          <p:cNvPicPr/>
          <p:nvPr/>
        </p:nvPicPr>
        <p:blipFill>
          <a:blip r:embed="rId3"/>
          <a:stretch/>
        </p:blipFill>
        <p:spPr>
          <a:xfrm>
            <a:off x="228600" y="274320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performer29"/>
          <p:cNvPicPr/>
          <p:nvPr/>
        </p:nvPicPr>
        <p:blipFill>
          <a:blip r:embed="rId4"/>
          <a:stretch/>
        </p:blipFill>
        <p:spPr>
          <a:xfrm>
            <a:off x="1219320" y="4648320"/>
            <a:ext cx="19047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سابق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1320" y="1020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موّ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ذ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ئه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/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حتى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ان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ُقد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اند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صو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ل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ونيو/حزيران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ه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ُعرف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نح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فض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دار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 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ع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هذ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جني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و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ج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مل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ط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بر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ثلاث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ازو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حوض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ونغ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جديدة/بورني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ثم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40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ntent Placeholder 5" descr=""/>
          <p:cNvPicPr/>
          <p:nvPr/>
        </p:nvPicPr>
        <p:blipFill>
          <a:blip r:embed="rId1"/>
          <a:stretch/>
        </p:blipFill>
        <p:spPr>
          <a:xfrm>
            <a:off x="536400" y="2743200"/>
            <a:ext cx="334656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Content Placeholder 6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4572000" cy="28958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114800" y="1600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ثلت الاستثمارات التي تمت في إطار عملية التجديد الرابعة لموارد الصندوق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صورة رئيسية في مشروعات ذات مجال تركيز واحد هو حفظ التنوع البيولوجي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،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ثم عدم التشديد على المنافع المحتملة المتعددة.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C:\Users\wb308856\Documents\FY_2012\Jobs into Arabic\2012001645\GEF_target\2012001645ARAeng011-Figure.tiff"/>
          <p:cNvPicPr/>
          <p:nvPr/>
        </p:nvPicPr>
        <p:blipFill>
          <a:blip r:embed="rId3"/>
          <a:stretch/>
        </p:blipFill>
        <p:spPr>
          <a:xfrm>
            <a:off x="3657600" y="2819520"/>
            <a:ext cx="51084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هدف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حقيق منافع بيئية متعددة من وراء تحسين إدارة جميع أنواع الغابات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تأتى التمويل من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للصندوق  </a:t>
            </a:r>
            <a:br>
              <a:rPr sz="2600"/>
            </a:b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(التنوع البيولوجي، وتغير المناخ، وتدهور الأراضي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إعداد حافظة تمويل مستقلة عن النظام الشفاف لتخصيص الموارد لإتاحة حافز تمويل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قي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دفق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تدام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ع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ياس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انون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نظيم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فاذ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قواني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إدارت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صا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منتج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وظيف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خطيط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شهاد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حق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لاس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ور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خشاب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كامل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حرائق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سالي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را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ياز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استخدام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ناز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يه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درات/تجرب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دفع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قاب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أدو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قيي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اقتصاد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زر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محل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عم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اق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بدائ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وقود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زي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ب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تو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ظ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بي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لاندسكيب)؛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ea typeface="Arial"/>
              </a:rPr>
              <a:t> 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نشط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تمع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صغيرة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عزيز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داعم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لح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1426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ابق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تغير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نمط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مكان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أنشط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خطيط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ذ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ص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لي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فاضلات)؛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قدر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ف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مؤسس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رص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ختبار واعتماد أساليب تسمح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بتحقيق إيرادات من أسواق الكربو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lowchart: Process 3"/>
          <p:cNvSpPr/>
          <p:nvPr/>
        </p:nvSpPr>
        <p:spPr>
          <a:xfrm>
            <a:off x="685800" y="1143000"/>
            <a:ext cx="2895480" cy="83808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Process 6"/>
          <p:cNvSpPr/>
          <p:nvPr/>
        </p:nvSpPr>
        <p:spPr>
          <a:xfrm>
            <a:off x="685800" y="2743200"/>
            <a:ext cx="289548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Process 7"/>
          <p:cNvSpPr/>
          <p:nvPr/>
        </p:nvSpPr>
        <p:spPr>
          <a:xfrm>
            <a:off x="685800" y="4114800"/>
            <a:ext cx="2895480" cy="38088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owchart: Process 8"/>
          <p:cNvSpPr/>
          <p:nvPr/>
        </p:nvSpPr>
        <p:spPr>
          <a:xfrm>
            <a:off x="685800" y="1981080"/>
            <a:ext cx="2895480" cy="6098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Process 9"/>
          <p:cNvSpPr/>
          <p:nvPr/>
        </p:nvSpPr>
        <p:spPr>
          <a:xfrm>
            <a:off x="685800" y="3505320"/>
            <a:ext cx="2895480" cy="53316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Process 10"/>
          <p:cNvSpPr/>
          <p:nvPr/>
        </p:nvSpPr>
        <p:spPr>
          <a:xfrm>
            <a:off x="685800" y="4495680"/>
            <a:ext cx="2895480" cy="53352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003400" y="145908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غي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نا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1517400" y="3059280"/>
            <a:ext cx="13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تنو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يولو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904040" y="419112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تدهو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أراض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1"/>
          <p:cNvCxnSpPr>
            <a:stCxn id="211" idx="3"/>
          </p:cNvCxnSpPr>
          <p:nvPr/>
        </p:nvCxnSpPr>
        <p:spPr>
          <a:xfrm flipV="1">
            <a:off x="3581280" y="1980360"/>
            <a:ext cx="1067760" cy="3056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8" name="Straight Arrow Connector 23"/>
          <p:cNvCxnSpPr/>
          <p:nvPr/>
        </p:nvCxnSpPr>
        <p:spPr>
          <a:xfrm flipV="1">
            <a:off x="3581280" y="3428640"/>
            <a:ext cx="99144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9" name="Straight Arrow Connector 25"/>
          <p:cNvCxnSpPr>
            <a:stCxn id="213" idx="3"/>
          </p:cNvCxnSpPr>
          <p:nvPr/>
        </p:nvCxnSpPr>
        <p:spPr>
          <a:xfrm flipV="1">
            <a:off x="3580920" y="4190400"/>
            <a:ext cx="122004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20" name="Oval 28"/>
          <p:cNvSpPr/>
          <p:nvPr/>
        </p:nvSpPr>
        <p:spPr>
          <a:xfrm>
            <a:off x="4572000" y="1371600"/>
            <a:ext cx="152388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1"/>
          <p:cNvSpPr/>
          <p:nvPr/>
        </p:nvSpPr>
        <p:spPr>
          <a:xfrm rot="16200000">
            <a:off x="3765600" y="2573280"/>
            <a:ext cx="304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وجه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مجا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ركي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عن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ب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ح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 ـ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برنام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ضا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736600" y="1730520"/>
            <a:ext cx="2595600" cy="2639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5"/>
          <p:cNvSpPr/>
          <p:nvPr/>
        </p:nvSpPr>
        <p:spPr>
          <a:xfrm rot="20649000">
            <a:off x="5369400" y="2468520"/>
            <a:ext cx="175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 rot="440400">
            <a:off x="5823360" y="329976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خفي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بعاث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اج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7318440" y="21448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7586640" y="21448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0"/>
          <p:cNvSpPr/>
          <p:nvPr/>
        </p:nvSpPr>
        <p:spPr>
          <a:xfrm>
            <a:off x="7746480" y="22860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1"/>
          <p:cNvSpPr/>
          <p:nvPr/>
        </p:nvSpPr>
        <p:spPr>
          <a:xfrm>
            <a:off x="7932600" y="2525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2"/>
          <p:cNvSpPr/>
          <p:nvPr/>
        </p:nvSpPr>
        <p:spPr>
          <a:xfrm>
            <a:off x="8003160" y="27432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4"/>
          <p:cNvSpPr/>
          <p:nvPr/>
        </p:nvSpPr>
        <p:spPr>
          <a:xfrm>
            <a:off x="7907400" y="3135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8135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7"/>
          <p:cNvSpPr/>
          <p:nvPr/>
        </p:nvSpPr>
        <p:spPr>
          <a:xfrm>
            <a:off x="7656480" y="336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8"/>
          <p:cNvSpPr/>
          <p:nvPr/>
        </p:nvSpPr>
        <p:spPr>
          <a:xfrm>
            <a:off x="6858000" y="4648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9"/>
          <p:cNvSpPr/>
          <p:nvPr/>
        </p:nvSpPr>
        <p:spPr>
          <a:xfrm>
            <a:off x="480060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أمريك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990720" y="51055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.8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6"/>
          <p:cNvSpPr/>
          <p:nvPr/>
        </p:nvSpPr>
        <p:spPr>
          <a:xfrm>
            <a:off x="990720" y="5410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جمالي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مشروع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إدار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مستدام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لغابات/الحد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ن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زال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غاب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وتدهو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4"/>
          <p:cNvSpPr/>
          <p:nvPr/>
        </p:nvSpPr>
        <p:spPr>
          <a:xfrm>
            <a:off x="5029200" y="495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Lisa</cp:lastModifiedBy>
  <dcterms:modified xsi:type="dcterms:W3CDTF">2012-04-22T23:47:01Z</dcterms:modified>
  <cp:revision>38</cp:revision>
  <dc:subject/>
  <dc:title>Focal Area and Cross Cutting Strategies –Sustainable Forest Management</dc:title>
</cp:coreProperties>
</file>