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DF05-207A-47F9-B215-0CB40E6D60E1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747B-BCBA-43A3-A794-FD3859D48F62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مارس/آذار </a:t>
            </a: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كيف، أوكراني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D6DB-9E4E-4194-8387-14BFDF838BF4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algn="r" rtl="1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cument GEF/R.5/19/Rev.1  -- revised to deal with some formatting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958E-A82C-4CF4-8782-4593CE82A2DB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مارس/آذار </a:t>
            </a: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كيف، أوكراني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مارس/آذار </a:t>
            </a: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كيف، أوكراني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Potential projects: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ational forest policy reformulation, protected area management, capacity building for monitoring GHG emissions from deforestation and forest degradation, certification of timber and non-timber forest product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DF14-96D8-4FE1-BF66-E7CC2CC3E8AC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C5FA-4F9B-4AC4-9251-E2A89ADE615A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6176-9793-4169-8394-51739B73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C210-F5C3-4CB3-BE94-67280A9B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4C2E-6BBC-4385-A6AF-FDAAEA3B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C3CE-26AB-4B5A-BB4D-F055ED66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DFFE-C9DB-4777-A3AC-4077191D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44E2-5315-47B8-B634-93FF165D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38CB-768A-4AED-8B23-457CF558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060E-F355-475E-B4DA-067F486C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ABAA-FB37-48BE-BE0A-C0B5F476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14C5-22EF-4905-A49C-8FDEBBBE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D3B0-C451-4491-8C51-C1AE37DC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BA1C-6910-43C1-8292-D9F37B3D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5EB8-B352-4074-8648-39AFC922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EE39-2A0B-4F0F-A56B-17C62AF4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2714-228F-4E0F-9186-F64B963A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737C-036B-40AA-AC96-891A47D3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DBF6-1BE9-4C8D-9D5C-55E9D745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B1153-A542-47A5-94F6-5E77CE27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D71E7-9F7E-4902-B322-F193989E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3BCDF-7ADC-43A2-B73C-1D942E4B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34FC2-2089-45CB-8033-A60516F7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AF051-EA3E-4446-A12A-D2FB5913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0999-219A-4F42-9252-2EA6618C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C589A-36C8-470C-BC9F-51A2BF23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BA779-C2F7-4F55-AC34-4BBF1717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D5518-002E-4BD8-872F-FD9D909B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EDD90-C95E-450F-B1C2-46133DA8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701B4-7D43-4CA5-9DBD-F8EB25B4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32CE2-55E3-490D-8DAE-05FEC4AA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F4FB7-E4D5-4661-8A42-55AE08EB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0903D-112A-4ABB-9EE0-9AB341E1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6A7BB-7D11-4295-B333-F01AD778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CDD77-F52A-44E0-A626-63C28118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FDAC-081B-48BD-B894-0391CF52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83865-32C9-4F12-8229-7A86BD2D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7300F-C702-428B-95A0-579CE388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7CBC5-5843-42DF-96B5-4508BC76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BF047-97A9-4F5D-B1A0-709E3416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F5970-4CCF-49FD-8271-7E5E2EF8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9B248-7F0E-491E-A861-2923B8E0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0722D-44B0-401D-86C4-ADFDA93A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DA651-07AF-42F6-AFB9-A7EE52AC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81F50-8BF6-45FA-88F1-2C2A2C97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2FB-1C30-457D-8EA2-3EF30291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8D91-A79C-4376-A9FA-E4B7E3F5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4CD9-F144-4F5F-872E-C581688B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959A-F953-42E4-8665-E2CD5124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E7B3-99E7-4AF3-9BFC-9D8FE59D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4C9F-CBBE-4F9D-ACF1-4ECFD169F5D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5BDB-DF4A-4199-AE4D-BE663D1F09E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102B-4ECB-48FA-B6F2-8B7739B1570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814F-BC74-49B4-A3B1-9A2EF4C9B00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iodiversityhotspots.org/xp/Hotspots/west_africa/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42d"/>
                </a:solidFill>
                <a:latin typeface="Calibri"/>
                <a:cs typeface="Arial"/>
              </a:rPr>
              <a:t>مجال التركيز والإستراتيجيات الشاملة ــ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  <a:ea typeface="Arial"/>
              </a:rPr>
              <a:t>  </a:t>
            </a:r>
            <a:r>
              <a:rPr b="1" lang="ar-SA" sz="3600" spc="-1" strike="noStrike">
                <a:solidFill>
                  <a:srgbClr val="00642d"/>
                </a:solidFill>
                <a:latin typeface="Calibri"/>
                <a:cs typeface="Arial"/>
              </a:rPr>
              <a:t>الحد من إزالة الغابات وتدهورها ــ برنامج التمويل الإضاف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143000" y="419112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حلقة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العمل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الموسعة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على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مستوى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البلدان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الأعضاء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ف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صندوق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البيئة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العال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15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– 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17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فبراير/شباط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البحر الميت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آلي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تحفي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عملي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خامس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تجدي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وار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صندو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شأ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إدار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مستدام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لغابات/الح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إزال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تدهورها ــ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برنام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إضاف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560" y="11430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3760" indent="-293760" algn="r" rtl="1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ستثمارات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جالي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ركيز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لصندوق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أقل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تنوع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بيولوجي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أو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دهور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أراضي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أو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غير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مناخ) ـــ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عظيم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منافع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متعدد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 algn="r" rtl="1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نسبة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حوافز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ثلاً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لايين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دولار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تنوع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بيولوجي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وتغير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مناخ ـــ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ليوني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دولار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حساب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إدارة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مستدامة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لغابات/الحد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إزالة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وتدهورها ــ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برنامج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إضافي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 algn="r" rtl="1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ساهمة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بقيمة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ليوني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دولار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أمريكي</a:t>
            </a:r>
            <a:r>
              <a:rPr b="1" lang="ar-EG" sz="2600" spc="-1" strike="noStrike">
                <a:solidFill>
                  <a:srgbClr val="000000"/>
                </a:solidFill>
                <a:latin typeface="Arial"/>
                <a:ea typeface="Arial"/>
              </a:rPr>
              <a:t> على الأقل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بموجب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نظام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شفاف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تخصيص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موارد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لوصول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إلى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مويل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حفيزي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كل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شرو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 algn="r" rtl="1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سقف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يبلغ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30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ليون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دولار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أمريكي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بموجب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نظام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شفاف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تخصيص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موارد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لوصول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إلى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مويل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حفيزي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كل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شرو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 algn="r" rtl="1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جميع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بلدان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مؤهلة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لحصول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مويل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صندوق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أن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تقدم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لحصول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مويل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حفيز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3885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642d"/>
                </a:solidFill>
                <a:latin typeface="Calibri"/>
                <a:cs typeface="Arial"/>
              </a:rPr>
              <a:t>شكراً</a:t>
            </a: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ar-SA" sz="4800" spc="-1" strike="noStrike">
                <a:solidFill>
                  <a:srgbClr val="00642d"/>
                </a:solidFill>
                <a:latin typeface="Calibri"/>
                <a:cs typeface="Arial"/>
              </a:rPr>
              <a:t>لك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4" descr="C:\Users\wb346313\Documents\Pictures\WB_Photos\RW001S18_Francis Dobs.jpg"/>
          <p:cNvPicPr/>
          <p:nvPr/>
        </p:nvPicPr>
        <p:blipFill>
          <a:blip r:embed="rId1"/>
          <a:stretch/>
        </p:blipFill>
        <p:spPr>
          <a:xfrm>
            <a:off x="2286000" y="1143000"/>
            <a:ext cx="4267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5"/>
          <p:cNvSpPr/>
          <p:nvPr/>
        </p:nvSpPr>
        <p:spPr>
          <a:xfrm>
            <a:off x="762120" y="2286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عملية الخامسة لتجديد موارد صندوق البيئة العالمية بشأن الإدارة المستدامة للغابات/الحد من إزالة الغابات وتدهورها ــ البرنامج الإضاف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914400" y="2971800"/>
            <a:ext cx="3429000" cy="2249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4648320" y="2971800"/>
            <a:ext cx="3429000" cy="22478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6"/>
          <p:cNvSpPr/>
          <p:nvPr/>
        </p:nvSpPr>
        <p:spPr>
          <a:xfrm>
            <a:off x="762120" y="11430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خلق منافع ببيئية واجتماعية متعددة من خلال تمويل المشروعات المعنية بالغا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3078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همي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النسب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صندو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بيئ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عالمية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560" y="1371600"/>
            <a:ext cx="850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 algn="r" rtl="1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تيح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منافع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بيئية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واجتماعية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متعدد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تغير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المناخ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: 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من شأن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إبطاء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وتير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إزال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استوائية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أ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يساهم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بدور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كبير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للغاي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تخفيف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آثار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غير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ناخ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التنوع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البيولوجي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: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عتبر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موطناً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لما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يزيد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60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% 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جميع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أنواع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نباتات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والحيوانات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برية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تدهور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الأراضي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: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وفر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سبل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كسب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عيش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وخدمات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بيئي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أساسي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لمئات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لايين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ناس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5" descr="hp_guinean_fores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1523880"/>
            <a:ext cx="1136520" cy="1905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cuscus"/>
          <p:cNvPicPr/>
          <p:nvPr/>
        </p:nvPicPr>
        <p:blipFill>
          <a:blip r:embed="rId3"/>
          <a:stretch/>
        </p:blipFill>
        <p:spPr>
          <a:xfrm>
            <a:off x="228600" y="2743200"/>
            <a:ext cx="1365120" cy="1638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performer29"/>
          <p:cNvPicPr/>
          <p:nvPr/>
        </p:nvPicPr>
        <p:blipFill>
          <a:blip r:embed="rId4"/>
          <a:stretch/>
        </p:blipFill>
        <p:spPr>
          <a:xfrm>
            <a:off x="1219320" y="4648320"/>
            <a:ext cx="190476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استثمارات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سابق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لصندو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بيئ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عالمي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ف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غاب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1320" y="10206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8320" indent="-328320" algn="r" rtl="1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يموّ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صندوق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بيئ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عالم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شروع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نذ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إنشائه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1991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8320" indent="-328320" algn="r" rtl="1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لم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كن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/إدار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جا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ركيز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فحتى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كان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ُقدم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ساند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صندوق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بيئ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عالم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للغاب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بصور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رئيس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خلا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جال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ركيز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تنوع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بيولوج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تدهور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أراض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8320" indent="-328320" algn="r" rtl="1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يونيو/حزيران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م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إنشاء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برنامج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إدار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ستدام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للغاب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إطار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عمل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رابع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لتجديد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وارد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صندوق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هو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ا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يُعرف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نحو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أفض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ببرنامج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حساب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دار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.  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عم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هذا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برنامج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جنيب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أموا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جال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ركيز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غير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ناخ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تدهور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أراض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أج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عملي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إدار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ستدام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للغاب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ناطق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كبرى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رئيس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ثلاث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للغاب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أمازونيا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حوض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كونغو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غينيا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جديدة/بورنيو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8320" indent="-328320" algn="r" rtl="1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جم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م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ستثمار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ا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يزيد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400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ليون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دولار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إطار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عمل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رابع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لتجديد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وارد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صندوق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Content Placeholder 5" descr=""/>
          <p:cNvPicPr/>
          <p:nvPr/>
        </p:nvPicPr>
        <p:blipFill>
          <a:blip r:embed="rId1"/>
          <a:stretch/>
        </p:blipFill>
        <p:spPr>
          <a:xfrm>
            <a:off x="536400" y="2743200"/>
            <a:ext cx="3346560" cy="3048120"/>
          </a:xfrm>
          <a:prstGeom prst="rect">
            <a:avLst/>
          </a:prstGeom>
          <a:ln w="0">
            <a:noFill/>
          </a:ln>
        </p:spPr>
      </p:pic>
      <p:pic>
        <p:nvPicPr>
          <p:cNvPr id="194" name="Content Placeholder 6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4572000" cy="28958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6"/>
          <p:cNvSpPr/>
          <p:nvPr/>
        </p:nvSpPr>
        <p:spPr>
          <a:xfrm>
            <a:off x="4114800" y="16002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مثلت الاستثمارات التي تمت في إطار عملية التجديد الرابعة لموارد الصندوق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صورة رئيسية في مشروعات ذات مجال تركيز واحد هو حفظ التنوع البيولوجي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، 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ن ثم عدم التشديد على المنافع المحتملة المتعددة.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أنواع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مشروعات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إطار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العملية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الرابعة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لتجديد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موارد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الصندو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8" descr="C:\Users\wb308856\Documents\FY_2012\Jobs into Arabic\2012001645\GEF_target\2012001645ARAeng011-Figure.tiff"/>
          <p:cNvPicPr/>
          <p:nvPr/>
        </p:nvPicPr>
        <p:blipFill>
          <a:blip r:embed="rId3"/>
          <a:stretch/>
        </p:blipFill>
        <p:spPr>
          <a:xfrm>
            <a:off x="3657600" y="2819520"/>
            <a:ext cx="51084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عملي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خامس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تجدي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وار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صندو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بيئ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عالمي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شأ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إدار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مستدام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لغابات/الح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إزال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تدهورها ــ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برنام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إضاف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2952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 algn="r" rtl="1">
              <a:lnSpc>
                <a:spcPct val="9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هدف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تحقيق منافع بيئية متعددة من وراء تحسين إدارة جميع أنواع الغابات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9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يتأتى التمويل من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مجالات تركيز للصندوق  </a:t>
            </a:r>
            <a:br>
              <a:rPr sz="2600"/>
            </a:b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(التنوع البيولوجي، وتغير المناخ، وتدهور الأراضي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9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إعداد حافظة تمويل مستقلة عن النظام الشفاف لتخصيص الموارد لإتاحة حافز تمويلي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للبلدان المعن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C:\Users\wb346313\Documents\Pictures\indonesia_boy_fuelwood_crop.jpg"/>
          <p:cNvPicPr/>
          <p:nvPr/>
        </p:nvPicPr>
        <p:blipFill>
          <a:blip r:embed="rId2"/>
          <a:stretch/>
        </p:blipFill>
        <p:spPr>
          <a:xfrm>
            <a:off x="5029200" y="4038480"/>
            <a:ext cx="3057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 rtl="1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هدف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حد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ضغوط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موارد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وتحقي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تدفقات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مستدامة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خدمات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نظ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إيكولوجية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حراج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28600" y="9144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شروع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حتمل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صياغ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إعاد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صياغ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إطار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سياس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الإطار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قانوني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التنظيمي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لها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إنفاذ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قوانين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إدارتها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كنولوجي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حصاد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ستدام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للمنتج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خشب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غير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خشب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وظيف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تخطيط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إدارة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شهادات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التحقق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سلاس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وريد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أخشاب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إدار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تكامل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لحرائق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أساليب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حسم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صراع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ث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حياز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الاستخدام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تنازع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عليها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بشأن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)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بناء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قدرات/تجرب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دفع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قابل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خدمات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نظم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إيكولوجي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أدوات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تقييم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اقتصادي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تكنولوجي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صناع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الزراع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المحلي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تي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عمل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حد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ضغوط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كفاء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ستخدام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طاق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بدائ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وقود)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زياد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ربط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إيكولوجي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ستوى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أراض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ناظر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طبيع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لاندسكيب)؛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ea typeface="Arial"/>
              </a:rPr>
              <a:t> 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أنشط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حراجي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جتمعي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الصغيرة</a:t>
            </a:r>
            <a:r>
              <a:rPr b="0" lang="ar-EG" sz="2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 rtl="1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هدف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تعزيز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بيئ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داعم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للحد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نبعاثات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غازات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احتباس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حراري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متأتي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إزال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وتدهور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28240" y="11426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 algn="r" rtl="1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مشروعات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محتمل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مسابق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عن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ستخدا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أراضي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والتغيرات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نمط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ستخدا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أراضي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مثل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إمكانات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ستخدام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أراضي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وأنشط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تخطيط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ذات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صل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وتحليل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مفاضلات)؛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بناء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قدرات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فني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والمؤسس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لرصد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نبعاثات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غازات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احتباس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حراري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متأتي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إزال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وتدهورها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ختبار واعتماد أساليب تسمح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 بتحقيق إيرادات من أسواق الكربون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تمويل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الإدارة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المستدامة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للغابات/الحد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إزالة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وتدهورها ـ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البرنامج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الإضافي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إطا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العملية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الخامسة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لتجديد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موارد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EG" sz="3000" spc="-1" strike="noStrike">
                <a:solidFill>
                  <a:srgbClr val="000000"/>
                </a:solidFill>
                <a:latin typeface="Calibri"/>
                <a:cs typeface="Arial"/>
              </a:rPr>
              <a:t>ال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صندو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lowchart: Process 3"/>
          <p:cNvSpPr/>
          <p:nvPr/>
        </p:nvSpPr>
        <p:spPr>
          <a:xfrm>
            <a:off x="685800" y="1143000"/>
            <a:ext cx="2895480" cy="838080"/>
          </a:xfrm>
          <a:prstGeom prst="flowChartProcess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lowchart: Process 6"/>
          <p:cNvSpPr/>
          <p:nvPr/>
        </p:nvSpPr>
        <p:spPr>
          <a:xfrm>
            <a:off x="685800" y="2743200"/>
            <a:ext cx="2895480" cy="1295280"/>
          </a:xfrm>
          <a:prstGeom prst="flowChartProcess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lowchart: Process 7"/>
          <p:cNvSpPr/>
          <p:nvPr/>
        </p:nvSpPr>
        <p:spPr>
          <a:xfrm>
            <a:off x="685800" y="4114800"/>
            <a:ext cx="2895480" cy="380880"/>
          </a:xfrm>
          <a:prstGeom prst="flowChartProcess">
            <a:avLst/>
          </a:prstGeom>
          <a:solidFill>
            <a:srgbClr val="cf45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lowchart: Process 8"/>
          <p:cNvSpPr/>
          <p:nvPr/>
        </p:nvSpPr>
        <p:spPr>
          <a:xfrm>
            <a:off x="685800" y="1981080"/>
            <a:ext cx="2895480" cy="609840"/>
          </a:xfrm>
          <a:prstGeom prst="flowChartProcess">
            <a:avLst/>
          </a:prstGeom>
          <a:solidFill>
            <a:srgbClr val="00b050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مشروعات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إدارة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مستدامة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للغابات/الحد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إزالة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غابات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وتدهورها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lowchart: Process 9"/>
          <p:cNvSpPr/>
          <p:nvPr/>
        </p:nvSpPr>
        <p:spPr>
          <a:xfrm>
            <a:off x="685800" y="3505320"/>
            <a:ext cx="2895480" cy="533160"/>
          </a:xfrm>
          <a:prstGeom prst="flowChartProcess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مشروعات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إدارة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ستدامة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للغابات/الحد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إزالة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غابات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وتدهورها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lowchart: Process 10"/>
          <p:cNvSpPr/>
          <p:nvPr/>
        </p:nvSpPr>
        <p:spPr>
          <a:xfrm>
            <a:off x="685800" y="4495680"/>
            <a:ext cx="2895480" cy="533520"/>
          </a:xfrm>
          <a:prstGeom prst="flowChartProcess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مشروعات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إدارة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ستدامة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للغابات/الحد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إزالة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غابات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وتدهورها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1"/>
          <p:cNvSpPr/>
          <p:nvPr/>
        </p:nvSpPr>
        <p:spPr>
          <a:xfrm>
            <a:off x="2003400" y="1459080"/>
            <a:ext cx="105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تغير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منا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2"/>
          <p:cNvSpPr/>
          <p:nvPr/>
        </p:nvSpPr>
        <p:spPr>
          <a:xfrm>
            <a:off x="1517400" y="3059280"/>
            <a:ext cx="135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تنو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بيولو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3"/>
          <p:cNvSpPr/>
          <p:nvPr/>
        </p:nvSpPr>
        <p:spPr>
          <a:xfrm>
            <a:off x="1904040" y="4191120"/>
            <a:ext cx="123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تدهور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أراض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21"/>
          <p:cNvCxnSpPr>
            <a:stCxn id="211" idx="3"/>
          </p:cNvCxnSpPr>
          <p:nvPr/>
        </p:nvCxnSpPr>
        <p:spPr>
          <a:xfrm flipV="1">
            <a:off x="3581280" y="1980360"/>
            <a:ext cx="1067760" cy="30564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218" name="Straight Arrow Connector 23"/>
          <p:cNvCxnSpPr/>
          <p:nvPr/>
        </p:nvCxnSpPr>
        <p:spPr>
          <a:xfrm flipV="1">
            <a:off x="3581280" y="3428640"/>
            <a:ext cx="991440" cy="45792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219" name="Straight Arrow Connector 25"/>
          <p:cNvCxnSpPr>
            <a:stCxn id="213" idx="3"/>
          </p:cNvCxnSpPr>
          <p:nvPr/>
        </p:nvCxnSpPr>
        <p:spPr>
          <a:xfrm flipV="1">
            <a:off x="3580920" y="4190400"/>
            <a:ext cx="1220040" cy="57204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220" name="Oval 28"/>
          <p:cNvSpPr/>
          <p:nvPr/>
        </p:nvSpPr>
        <p:spPr>
          <a:xfrm>
            <a:off x="4572000" y="1371600"/>
            <a:ext cx="1523880" cy="32004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41"/>
          <p:cNvSpPr/>
          <p:nvPr/>
        </p:nvSpPr>
        <p:spPr>
          <a:xfrm rot="16200000">
            <a:off x="3765600" y="2573280"/>
            <a:ext cx="3047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مخصصات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موجه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لمجا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تركي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معن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بالإدار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مستدام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للغابات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ح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إزال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غابات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وتدهورها ـ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برنام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إضاف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7" descr="C:\Users\wb346313\AppData\Local\Microsoft\Windows\Temporary Internet Files\Content.IE5\O5DD2061\MCj03404040000[1].wmf"/>
          <p:cNvPicPr/>
          <p:nvPr/>
        </p:nvPicPr>
        <p:blipFill>
          <a:blip r:embed="rId1"/>
          <a:stretch/>
        </p:blipFill>
        <p:spPr>
          <a:xfrm rot="3247800">
            <a:off x="5736600" y="1730520"/>
            <a:ext cx="2595600" cy="26398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5"/>
          <p:cNvSpPr/>
          <p:nvPr/>
        </p:nvSpPr>
        <p:spPr>
          <a:xfrm rot="20649000">
            <a:off x="5369400" y="2468520"/>
            <a:ext cx="175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إدار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مستدام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للغاب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6"/>
          <p:cNvSpPr/>
          <p:nvPr/>
        </p:nvSpPr>
        <p:spPr>
          <a:xfrm rot="440400">
            <a:off x="5823360" y="3299760"/>
            <a:ext cx="123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تخفي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انبعاثات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ناجم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ع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إزال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غابات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وتدهوره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7"/>
          <p:cNvSpPr/>
          <p:nvPr/>
        </p:nvSpPr>
        <p:spPr>
          <a:xfrm>
            <a:off x="7318440" y="214488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9"/>
          <p:cNvSpPr/>
          <p:nvPr/>
        </p:nvSpPr>
        <p:spPr>
          <a:xfrm>
            <a:off x="7586640" y="214488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alibri"/>
              </a:rPr>
              <a:t>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0"/>
          <p:cNvSpPr/>
          <p:nvPr/>
        </p:nvSpPr>
        <p:spPr>
          <a:xfrm>
            <a:off x="7746480" y="228600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alibri"/>
              </a:rPr>
              <a:t>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1"/>
          <p:cNvSpPr/>
          <p:nvPr/>
        </p:nvSpPr>
        <p:spPr>
          <a:xfrm>
            <a:off x="7932600" y="25257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alibri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2"/>
          <p:cNvSpPr/>
          <p:nvPr/>
        </p:nvSpPr>
        <p:spPr>
          <a:xfrm>
            <a:off x="8003160" y="27432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4"/>
          <p:cNvSpPr/>
          <p:nvPr/>
        </p:nvSpPr>
        <p:spPr>
          <a:xfrm>
            <a:off x="7907400" y="313524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5"/>
          <p:cNvSpPr/>
          <p:nvPr/>
        </p:nvSpPr>
        <p:spPr>
          <a:xfrm>
            <a:off x="8135640" y="2971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alibri"/>
              </a:rPr>
              <a:t>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57"/>
          <p:cNvSpPr/>
          <p:nvPr/>
        </p:nvSpPr>
        <p:spPr>
          <a:xfrm>
            <a:off x="7656480" y="3363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8"/>
          <p:cNvSpPr/>
          <p:nvPr/>
        </p:nvSpPr>
        <p:spPr>
          <a:xfrm>
            <a:off x="6858000" y="4648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250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200" spc="-1" strike="noStrike">
                <a:solidFill>
                  <a:srgbClr val="1f497d"/>
                </a:solidFill>
                <a:latin typeface="Calibri"/>
              </a:rPr>
              <a:t>مليون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200" spc="-1" strike="noStrike">
                <a:solidFill>
                  <a:srgbClr val="1f497d"/>
                </a:solidFill>
                <a:latin typeface="Calibri"/>
              </a:rPr>
              <a:t>دولا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9"/>
          <p:cNvSpPr/>
          <p:nvPr/>
        </p:nvSpPr>
        <p:spPr>
          <a:xfrm>
            <a:off x="4800600" y="4648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750</a:t>
            </a: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1f497d"/>
                </a:solidFill>
                <a:latin typeface="Calibri"/>
              </a:rPr>
              <a:t>مليون</a:t>
            </a: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1f497d"/>
                </a:solidFill>
                <a:latin typeface="Calibri"/>
              </a:rPr>
              <a:t>دولار</a:t>
            </a: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1f497d"/>
                </a:solidFill>
                <a:latin typeface="Calibri"/>
              </a:rPr>
              <a:t>أمريك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3"/>
          <p:cNvSpPr/>
          <p:nvPr/>
        </p:nvSpPr>
        <p:spPr>
          <a:xfrm>
            <a:off x="990720" y="510552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2.8</a:t>
            </a: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1f497d"/>
                </a:solidFill>
                <a:latin typeface="Calibri"/>
              </a:rPr>
              <a:t>مليار</a:t>
            </a: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1f497d"/>
                </a:solidFill>
                <a:latin typeface="Calibri"/>
              </a:rPr>
              <a:t>دولا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6"/>
          <p:cNvSpPr/>
          <p:nvPr/>
        </p:nvSpPr>
        <p:spPr>
          <a:xfrm>
            <a:off x="990720" y="5410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إجمالي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مليار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دولار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لمشروعات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الإدارة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المستدامة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للغابات/الحد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من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إزالة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الغابات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وتدهور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4"/>
          <p:cNvSpPr/>
          <p:nvPr/>
        </p:nvSpPr>
        <p:spPr>
          <a:xfrm>
            <a:off x="5029200" y="49528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f497d"/>
                </a:solidFill>
                <a:latin typeface="Calibri"/>
              </a:rPr>
              <a:t>مليار</a:t>
            </a: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1f497d"/>
                </a:solidFill>
                <a:latin typeface="Calibri"/>
              </a:rPr>
              <a:t>دولا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9:14:18Z</dcterms:created>
  <dc:creator>wb350798</dc:creator>
  <dc:description/>
  <dc:language>en-US</dc:language>
  <cp:lastModifiedBy>Lisa</cp:lastModifiedBy>
  <dcterms:modified xsi:type="dcterms:W3CDTF">2012-04-22T23:47:01Z</dcterms:modified>
  <cp:revision>38</cp:revision>
  <dc:subject/>
  <dc:title>Focal Area and Cross Cutting Strategies –Sustainable Forest Management</dc:title>
</cp:coreProperties>
</file>