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073E-7883-45CB-92CE-921A4632E959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5634-41A1-4051-9405-DE39F2869245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D92A-AE7B-408D-89A7-E5C660C3D02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GEF/R.5/19/Rev.1  -- revised to deal with some formatt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67A3-A310-4680-B072-E13FA1A9CE5D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مارس/آذار </a:t>
            </a: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كيف، أوكراني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tential project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forest policy reformulation, protected area management, capacity building for monitoring GHG emissions from deforestation and forest degradation, certification of timber and non-timber forest produc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F0CD-4357-4BF6-B312-8980700A550D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40E-85D2-4DD5-95F5-BB956B5CCB9F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F00-B5C0-40E6-9424-2E589275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D6E-3AEC-459D-839F-743A9DAC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BC7-00DC-4456-B442-CC7CCAD4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777-EAFD-4DDF-BC4D-A3416094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827D-FB1A-4024-A5EA-D1E9D201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2F34-CE6C-4F30-A5B5-049E29A6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1250-B592-4A4B-B3ED-021824DF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A64D-4F4A-474B-A411-A0768245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2710-2B27-4D66-9782-4A5CABA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7502-F9BE-49CF-B26A-E1FE42E3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8E44-CE67-4FEB-9DCA-7AF9189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740-B344-43E3-9A1B-28A2A2E3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B8F1-494A-4C7D-970E-A7BC2A8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8576-D28E-4CF1-A6D3-141DF6AD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9D6-3E4C-421D-A8F4-10474E31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7BBC-06BF-4B70-805E-55EF82C0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097-5545-4DBD-ADDD-E49A2340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1FD2-62A5-4369-AABC-8A6DAAF6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4228-2276-4A7D-9B0A-EF405F46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1FB5-5962-4008-B93C-165D857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85DC-C9B3-42A5-BA32-987E38C3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C04A3-DD65-468B-A246-6AFB0696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5BF-520D-46C6-817D-B799573D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8E8E-B9C2-4890-B120-44BA1431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4C6C-8038-4546-B47B-BAC05827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B11E-A563-4A67-81D9-072B7FDC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3733-20DC-4933-8CA8-A484A02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AD8A-CDE0-461E-A39E-E15F9507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89F1-D84B-419A-A169-AFB5AEE5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F352-5A69-4CB0-BEBA-1A14529D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531B-3469-4A11-B81C-B5790510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183B-C24A-409A-AE4F-F39C28D6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76D0-C911-4B5C-9497-CBC6BD96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7CE-3557-470B-887D-29B06049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46386-D077-4CAE-AAE3-457C9A60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7C795-DB91-4FBA-9990-D8558E6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7A0B-D41B-44D7-9C9B-E46B15B8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40F2-A81F-4E5A-8620-E5ED197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B7DF-F018-41BE-9F67-69C57D5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D696-6097-41BD-AAE7-F3B7A13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DF0D-E153-4F9C-B838-5FBAC752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DA820-EC74-4661-8737-6EEC9737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5B54-AD57-4FA6-83EF-49EB6BE2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805-2C11-4D7C-A7A0-F229D3FA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8BB-FFF8-4609-9D66-2314EEDD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5B6-1CEB-44E1-8130-BE4F600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1D7-DBA8-4763-8D6F-0A1BE3F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866-5DA0-4754-A46B-DDEFB857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1DA4-5995-45E4-8198-9F49AD797FD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BF18-32BD-4007-9A7D-8723A345BE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C4D7-574D-4817-B35C-C7ECAB675A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72F0-F3A6-4647-9ACF-DCAA1C941C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diversityhotspots.org/xp/Hotspots/west_africa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  </a:t>
            </a:r>
            <a:r>
              <a:rPr b="1" lang="ar-SA" sz="3600" spc="-1" strike="noStrike">
                <a:solidFill>
                  <a:srgbClr val="00642d"/>
                </a:solidFill>
                <a:latin typeface="Calibri"/>
                <a:cs typeface="Arial"/>
              </a:rPr>
              <a:t>الحد من إزالة الغابات وتدهورها ــ برنامج التمويل الإضاف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143000" y="419112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حلق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عمل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موسع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على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مستوى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لدان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أعضاء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صندوق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يئة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–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فبراير/شباط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البحر الميت</a:t>
            </a:r>
            <a:r>
              <a:rPr b="0" lang="ar-SA" sz="2800" spc="-1" strike="noStrike">
                <a:solidFill>
                  <a:srgbClr val="00642d"/>
                </a:solidFill>
                <a:latin typeface="Arial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آ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تحفي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560" y="114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ستثمارات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صندوق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أق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دهو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خ) ـ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عظيم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ف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تعد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نسب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حواف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ثلاً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ايي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وتغي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ناخ ـ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حساب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ساهم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قيم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مريكي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  <a:ea typeface="Arial"/>
              </a:rPr>
              <a:t> على الأق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موجب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نظا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شفا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تخصيص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وار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و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ك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شرو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سق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يبلغ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ليو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مريك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موجب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نظا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شفاف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تخصيص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وارد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و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إ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ك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شرو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جميع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بلدا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مؤهل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حصو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أن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تقد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للحصو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تحفيز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</a:t>
            </a: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ل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C:\Users\wb346313\Documents\Pictures\WB_Photos\RW001S18_Francis Dobs.jpg"/>
          <p:cNvPicPr/>
          <p:nvPr/>
        </p:nvPicPr>
        <p:blipFill>
          <a:blip r:embed="rId1"/>
          <a:stretch/>
        </p:blipFill>
        <p:spPr>
          <a:xfrm>
            <a:off x="2286000" y="1143000"/>
            <a:ext cx="426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ية الخامسة لتجديد موارد صندوق البيئة العالمية بشأن الإدارة المستدامة للغابات/الحد من إزالة الغابات وتدهورها ــ البرنامج الإضا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24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429000" cy="22478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762120" y="1143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خلق منافع ببيئية واجتماعية متعددة من خلال تمويل المشروعات المعنية بالغا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ه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النسب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560" y="1371600"/>
            <a:ext cx="850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تيح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منافع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بيئ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واجتماع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متعدد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غير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مناخ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من شأ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بطاء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تير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استوائية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أ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ساهم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دو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بي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لغا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تخفيف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آثا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ناخ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تنوع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بيولوج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عتب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وطناً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م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زيد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% 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جمي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نوا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نبات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الحيوان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برية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دهور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أراض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وف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سب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س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عيش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خدم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يئ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ساس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مئات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لاي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ناس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hp_guinean_for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523880"/>
            <a:ext cx="113652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uscus"/>
          <p:cNvPicPr/>
          <p:nvPr/>
        </p:nvPicPr>
        <p:blipFill>
          <a:blip r:embed="rId3"/>
          <a:stretch/>
        </p:blipFill>
        <p:spPr>
          <a:xfrm>
            <a:off x="228600" y="2743200"/>
            <a:ext cx="13651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performer29"/>
          <p:cNvPicPr/>
          <p:nvPr/>
        </p:nvPicPr>
        <p:blipFill>
          <a:blip r:embed="rId4"/>
          <a:stretch/>
        </p:blipFill>
        <p:spPr>
          <a:xfrm>
            <a:off x="1219320" y="4648320"/>
            <a:ext cx="19047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سابق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عال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غاب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1320" y="1020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موّ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شرو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ذ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شائه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991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ك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/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حتى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كان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ُقد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ساند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صو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رئيس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خل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نوع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يولوج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دهو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ونيو/حزيران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شاء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ه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ُعرف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نح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فض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حساب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دار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  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عم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هذ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جنيب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موا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جال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ركيز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غي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خ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دهو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ج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مل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ط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كبر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ئيس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ثلاث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مازوني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حوض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كونغ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غيني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جديدة/بورني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 algn="r" rtl="1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جم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ستثم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يز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40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ليو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دول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ontent Placeholder 5" descr=""/>
          <p:cNvPicPr/>
          <p:nvPr/>
        </p:nvPicPr>
        <p:blipFill>
          <a:blip r:embed="rId1"/>
          <a:stretch/>
        </p:blipFill>
        <p:spPr>
          <a:xfrm>
            <a:off x="536400" y="2743200"/>
            <a:ext cx="3346560" cy="3048120"/>
          </a:xfrm>
          <a:prstGeom prst="rect">
            <a:avLst/>
          </a:prstGeom>
          <a:ln w="0">
            <a:noFill/>
          </a:ln>
        </p:spPr>
      </p:pic>
      <p:pic>
        <p:nvPicPr>
          <p:cNvPr id="194" name="Content Placeholder 6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4572000" cy="28958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4114800" y="1600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ثلت الاستثمارات التي تمت في إطار عملية التجديد الرابعة لموارد الصندوق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صورة رئيسية في مشروعات ذات مجال تركيز واحد هو حفظ التنوع البيولوجي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،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ثم عدم التشديد على المنافع المحتملة المتعددة.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أنواع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شروعا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رابع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الصندو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8" descr="C:\Users\wb308856\Documents\FY_2012\Jobs into Arabic\2012001645\GEF_target\2012001645ARAeng011-Figure.tiff"/>
          <p:cNvPicPr/>
          <p:nvPr/>
        </p:nvPicPr>
        <p:blipFill>
          <a:blip r:embed="rId3"/>
          <a:stretch/>
        </p:blipFill>
        <p:spPr>
          <a:xfrm>
            <a:off x="3657600" y="2819520"/>
            <a:ext cx="51084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المي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هدف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حقيق منافع بيئية متعددة من وراء تحسين إدارة جميع أنواع الغابات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تأتى التمويل من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 للصندوق  </a:t>
            </a:r>
            <a:br>
              <a:rPr sz="2600"/>
            </a:b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(التنوع البيولوجي، وتغير المناخ، وتدهور الأراضي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إعداد حافظة تمويل مستقلة عن النظام الشفاف لتخصيص الموارد لإتاحة حافز تمويل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للبلدان المع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Users\wb346313\Documents\Pictures\indonesia_boy_fuelwood_crop.jpg"/>
          <p:cNvPicPr/>
          <p:nvPr/>
        </p:nvPicPr>
        <p:blipFill>
          <a:blip r:embed="rId2"/>
          <a:stretch/>
        </p:blipFill>
        <p:spPr>
          <a:xfrm>
            <a:off x="5029200" y="4038480"/>
            <a:ext cx="305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هد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ضغو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حقي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دفق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ستدامة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خدم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نظ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ة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ج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شرو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حتمل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ياغ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عاد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صياغ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سياس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إطار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قانون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تنظيم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ها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إنفاذ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قوانين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إدارتها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كنولوج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صاد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لمنتج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خشب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غي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خشب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وظيف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تخطيط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شهاد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تحقق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سلاس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وريد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خشاب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تكامل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لحرائق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سالي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حس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راع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ث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ياز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استخدام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تنازع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يها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شأن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)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بناء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قدرات/تجرب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دفع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قابل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خدم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نظ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أدوات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قييم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اقتصاد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كنولوجي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صنا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زرا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محل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ت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تعمل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د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ضغوط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كفاء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طاق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بدائل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وقود)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زياد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ربط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إيكولوجي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عل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مستوى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أراض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ناظر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طبيع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لاندسكيب)؛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ea typeface="Arial"/>
              </a:rPr>
              <a:t> 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 algn="r" rtl="1"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أنشط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حراج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مجتمعية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والصغيرة</a:t>
            </a:r>
            <a:r>
              <a:rPr b="0" lang="ar-EG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هد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عزيز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بيئ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داعم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للحد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بعاث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غاز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حتباس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ر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تأت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1426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شروع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حتم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سابق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ع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التغير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نمط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ث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مكان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ستخدا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أراض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أنشط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تخطيط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ذ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ص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حلي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فاضلات)؛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بناء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قدر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فن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المؤسس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لرصد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بعاث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غازا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حتباس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حرار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تأت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 algn="r" rtl="1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ختبار واعتماد أساليب تسمح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بتحقيق إيرادات من أسواق الكربون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إدار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مستدام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للغابات/الح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م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إزال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غابا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وتدهورها ـ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برنامج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إضاف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ف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إطا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عملي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الخامس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لتجدي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موار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cs typeface="Arial"/>
              </a:rPr>
              <a:t>ا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rial"/>
              </a:rPr>
              <a:t>صند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lowchart: Process 3"/>
          <p:cNvSpPr/>
          <p:nvPr/>
        </p:nvSpPr>
        <p:spPr>
          <a:xfrm>
            <a:off x="685800" y="1143000"/>
            <a:ext cx="2895480" cy="838080"/>
          </a:xfrm>
          <a:prstGeom prst="flowChartProcess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lowchart: Process 6"/>
          <p:cNvSpPr/>
          <p:nvPr/>
        </p:nvSpPr>
        <p:spPr>
          <a:xfrm>
            <a:off x="685800" y="2743200"/>
            <a:ext cx="2895480" cy="129528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lowchart: Process 7"/>
          <p:cNvSpPr/>
          <p:nvPr/>
        </p:nvSpPr>
        <p:spPr>
          <a:xfrm>
            <a:off x="685800" y="4114800"/>
            <a:ext cx="2895480" cy="380880"/>
          </a:xfrm>
          <a:prstGeom prst="flowChartProcess">
            <a:avLst/>
          </a:prstGeom>
          <a:solidFill>
            <a:srgbClr val="cf45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owchart: Process 8"/>
          <p:cNvSpPr/>
          <p:nvPr/>
        </p:nvSpPr>
        <p:spPr>
          <a:xfrm>
            <a:off x="685800" y="1981080"/>
            <a:ext cx="2895480" cy="609840"/>
          </a:xfrm>
          <a:prstGeom prst="flowChartProcess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lowchart: Process 9"/>
          <p:cNvSpPr/>
          <p:nvPr/>
        </p:nvSpPr>
        <p:spPr>
          <a:xfrm>
            <a:off x="685800" y="3505320"/>
            <a:ext cx="2895480" cy="53316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owchart: Process 10"/>
          <p:cNvSpPr/>
          <p:nvPr/>
        </p:nvSpPr>
        <p:spPr>
          <a:xfrm>
            <a:off x="685800" y="4495680"/>
            <a:ext cx="2895480" cy="53352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شروع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لغابات/الحد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003400" y="145908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غير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نا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1517400" y="3059280"/>
            <a:ext cx="13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تنو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يولو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1904040" y="419112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تدهور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أراض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1"/>
          <p:cNvCxnSpPr>
            <a:stCxn id="211" idx="3"/>
          </p:cNvCxnSpPr>
          <p:nvPr/>
        </p:nvCxnSpPr>
        <p:spPr>
          <a:xfrm flipV="1">
            <a:off x="3581280" y="1980360"/>
            <a:ext cx="1067760" cy="3056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218" name="Straight Arrow Connector 23"/>
          <p:cNvCxnSpPr/>
          <p:nvPr/>
        </p:nvCxnSpPr>
        <p:spPr>
          <a:xfrm flipV="1">
            <a:off x="3581280" y="3428640"/>
            <a:ext cx="991440" cy="4579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219" name="Straight Arrow Connector 25"/>
          <p:cNvCxnSpPr>
            <a:stCxn id="213" idx="3"/>
          </p:cNvCxnSpPr>
          <p:nvPr/>
        </p:nvCxnSpPr>
        <p:spPr>
          <a:xfrm flipV="1">
            <a:off x="3580920" y="4190400"/>
            <a:ext cx="1220040" cy="5720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220" name="Oval 28"/>
          <p:cNvSpPr/>
          <p:nvPr/>
        </p:nvSpPr>
        <p:spPr>
          <a:xfrm>
            <a:off x="4572000" y="1371600"/>
            <a:ext cx="1523880" cy="3200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1"/>
          <p:cNvSpPr/>
          <p:nvPr/>
        </p:nvSpPr>
        <p:spPr>
          <a:xfrm rot="16200000">
            <a:off x="3765600" y="2573280"/>
            <a:ext cx="304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خصص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وجه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مجا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تركي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عن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بالإدار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ح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تدهورها ـ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برنام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إضاف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7" descr="C:\Users\wb346313\AppData\Local\Microsoft\Windows\Temporary Internet Files\Content.IE5\O5DD2061\MCj03404040000[1].wmf"/>
          <p:cNvPicPr/>
          <p:nvPr/>
        </p:nvPicPr>
        <p:blipFill>
          <a:blip r:embed="rId1"/>
          <a:stretch/>
        </p:blipFill>
        <p:spPr>
          <a:xfrm rot="3247800">
            <a:off x="5736600" y="1730520"/>
            <a:ext cx="2595600" cy="2639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5"/>
          <p:cNvSpPr/>
          <p:nvPr/>
        </p:nvSpPr>
        <p:spPr>
          <a:xfrm rot="20649000">
            <a:off x="5369400" y="2468520"/>
            <a:ext cx="175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إدار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ستدا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لغاب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6"/>
          <p:cNvSpPr/>
          <p:nvPr/>
        </p:nvSpPr>
        <p:spPr>
          <a:xfrm rot="440400">
            <a:off x="5823360" y="3299760"/>
            <a:ext cx="123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تخفي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نبعاث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ناجم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إزال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غابا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تدهور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7318440" y="21448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7586640" y="21448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0"/>
          <p:cNvSpPr/>
          <p:nvPr/>
        </p:nvSpPr>
        <p:spPr>
          <a:xfrm>
            <a:off x="7746480" y="22860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1"/>
          <p:cNvSpPr/>
          <p:nvPr/>
        </p:nvSpPr>
        <p:spPr>
          <a:xfrm>
            <a:off x="7932600" y="2525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2"/>
          <p:cNvSpPr/>
          <p:nvPr/>
        </p:nvSpPr>
        <p:spPr>
          <a:xfrm>
            <a:off x="8003160" y="27432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4"/>
          <p:cNvSpPr/>
          <p:nvPr/>
        </p:nvSpPr>
        <p:spPr>
          <a:xfrm>
            <a:off x="7907400" y="31352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813564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alibri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7"/>
          <p:cNvSpPr/>
          <p:nvPr/>
        </p:nvSpPr>
        <p:spPr>
          <a:xfrm>
            <a:off x="7656480" y="336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8"/>
          <p:cNvSpPr/>
          <p:nvPr/>
        </p:nvSpPr>
        <p:spPr>
          <a:xfrm>
            <a:off x="6858000" y="4648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250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200" spc="-1" strike="noStrike">
                <a:solidFill>
                  <a:srgbClr val="1f497d"/>
                </a:solidFill>
                <a:latin typeface="Calibri"/>
              </a:rPr>
              <a:t>مليون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2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9"/>
          <p:cNvSpPr/>
          <p:nvPr/>
        </p:nvSpPr>
        <p:spPr>
          <a:xfrm>
            <a:off x="480060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750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ون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أمريك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3"/>
          <p:cNvSpPr/>
          <p:nvPr/>
        </p:nvSpPr>
        <p:spPr>
          <a:xfrm>
            <a:off x="990720" y="51055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2.8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6"/>
          <p:cNvSpPr/>
          <p:nvPr/>
        </p:nvSpPr>
        <p:spPr>
          <a:xfrm>
            <a:off x="990720" y="5410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إجمالي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دولار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لمشروعات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إدار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مستدام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للغابات/الحد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من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إزالة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الغابات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1f497d"/>
                </a:solidFill>
                <a:latin typeface="Calibri"/>
              </a:rPr>
              <a:t>وتدهو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4"/>
          <p:cNvSpPr/>
          <p:nvPr/>
        </p:nvSpPr>
        <p:spPr>
          <a:xfrm>
            <a:off x="5029200" y="495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مليار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1f497d"/>
                </a:solidFill>
                <a:latin typeface="Calibri"/>
              </a:rPr>
              <a:t>دول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18Z</dcterms:created>
  <dc:creator>wb350798</dc:creator>
  <dc:description/>
  <dc:language>en-US</dc:language>
  <cp:lastModifiedBy>Lisa</cp:lastModifiedBy>
  <dcterms:modified xsi:type="dcterms:W3CDTF">2012-04-22T23:47:01Z</dcterms:modified>
  <cp:revision>38</cp:revision>
  <dc:subject/>
  <dc:title>Focal Area and Cross Cutting Strategies –Sustainable Forest Management</dc:title>
</cp:coreProperties>
</file>