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3E00-C701-4037-AE64-3E6BC975E61B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C91E-00FA-4250-8C52-BBD5AEF2FE46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FD5E-EE05-421B-8661-F760984B9626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B8A8-25AD-4064-BC45-5166659E3211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62160" y="72396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F74-589F-4067-B9D3-DB025CD8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938F-E84A-41BC-B2C6-F58C26D1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EE7E-93EA-44E3-86F0-9F78DCDC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96E-7198-4664-AD38-95AF7C3F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DDEA-C537-4ABA-BB22-2DD4EC24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9522-A6F5-4F65-A249-DCE0EE8F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0F43-6398-446F-BFBB-0DD31048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8406-87CD-429C-8199-07D888CE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65E9-3369-48BF-A469-34A4CA4E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D59E-EAC2-4EC6-99B2-85F5C118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602F-1809-4B14-882C-3D6C4B4B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3973-80D1-45CD-8FD3-934D6BEE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3AE3-D5F4-4F19-B354-E93E85D0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591A-EAB6-46ED-BF52-E22F258F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E9BF-4CD6-424B-B5FE-480D8843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31B9-E663-413F-92E7-FF0DACD2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E88F-4847-4091-8509-2F7B42B1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D5E4F-0FFD-4B49-BA0D-3E4B3F87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F5F8B-5EF6-461F-B129-8E74F978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0F1B5-AE2F-48D0-B0C7-214AC396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76D26-EFA1-45EE-B3F4-FFD09EDD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636EE-0A8C-4475-8A0D-B1AE37CF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05A-E267-4925-B735-382E65ED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7DAE9-B46B-49EC-B9BC-AC40847A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7EC96-423B-4CAC-9DDF-5CBA4129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13F77-BFD0-4ED2-A34A-6851F440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095DC-DEC9-47D2-BAC4-D8D2D21E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E665D-BD10-4E87-A2FF-87385D50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03267-363A-4022-B455-4A425980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CF7DE-A929-4B04-8756-6DB25EB4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88AE0-32B2-4376-8899-40A3E654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E872C-3320-4C8B-9CF7-903C8CCD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7ED6A-3C28-4F57-84E0-7CC992AC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602C-7BCB-4958-A879-F89BAE09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51AE4-F627-40CE-BC93-C6E5C055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3FD97-3708-4BB6-B002-0056086A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246D3-C479-49FA-B29C-B1E9ABB1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04D97-6688-4357-BA11-CE6AA78C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F85B9-41F3-462C-9981-81BEE7FC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E7C71-B4CE-4267-9EC0-55827C0E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CFE5E-E399-4C19-8150-348D6160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C50AF-81D9-483D-B247-8F13D007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9D4BB-512C-47AD-B022-3B111CF9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68C7-1BC1-499D-A2D3-8456B13C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C09-AE0A-4ECF-BA14-0A2CE3F5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A5A7-6096-4282-8631-9668F423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887F-0702-48FC-A4A8-9B4FAB84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818D-02AA-42F3-A8BB-651CE3A4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D3F4-CD7F-4E9A-86F5-9F874BCDE2A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2EEB-B9BC-48CB-A9CA-86053DCC854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CA41-67C9-47FF-A50B-4440E5A4A62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7123-2AA9-4ABF-B561-54C1E2E521F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42d"/>
                </a:solidFill>
                <a:latin typeface="Calibri"/>
                <a:cs typeface="Arial"/>
              </a:rPr>
              <a:t>مجال التركيز والإستراتيجيات الشاملة ــ تغير المنا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219320" y="42670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–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فبراير/شباط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642d"/>
                </a:solidFill>
                <a:latin typeface="Calibri"/>
                <a:cs typeface="Arial"/>
              </a:rPr>
              <a:t>شكراً على اهتمامك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المبادئ التوجيهية لإستراتيجية عملية التجديد الخامسة لموارد صندوق البيئة العالم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62120" y="15238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استجابة لتوجيهات الاتفاق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نظر بعين الاعتبار إلى الظروف الوطنية للبلدان المستفي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فعالية التكاليف عند تحقيق المنافع البيئية العال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" descr="Nikki-Sa_0.tmp"/>
          <p:cNvPicPr/>
          <p:nvPr/>
        </p:nvPicPr>
        <p:blipFill>
          <a:blip r:embed="rId1"/>
          <a:stretch/>
        </p:blipFill>
        <p:spPr>
          <a:xfrm>
            <a:off x="2057400" y="2819520"/>
            <a:ext cx="5257800" cy="28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أول: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عرض ونشر ونقل التكنولوجيات منخفضة الكربو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352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تجه الأنظار نحو التكنولوجيات المبتكرة، كما تتجه أيضاً نحو التكنولوجيات ذات الأولوية المتاحة تجارياً ولم يتم اعتمادها في أسواق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مساعدة الفنية من أجل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خلق بيئة داعمة لنقل التكنولوجي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ناء القدر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وضع آليات لنقل التكنولوجي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تعاون بين بلدان الشمال والجنوب وبلدان الجنوب والجنو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شراء التراخ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استثمارات التجريب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طوير القدرات المحلية لتكييف التكنولوجيات الخارجية مع الظروف المحلية ودمج التكنولوجي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1"/>
          <a:stretch/>
        </p:blipFill>
        <p:spPr>
          <a:xfrm>
            <a:off x="0" y="2438280"/>
            <a:ext cx="34290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ثاني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حول السوق 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نحو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كفاءة استخدام الطاقة في الصناعة وقطاع المبان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2120" y="15998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قطاع الصناعي: التكنولوجيات والممارسات التي تتسم بكفاءة استخدام الطا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باني: تمت تغطية المباني السكنية، والتجارية، والمباني العامة الجديدة والمعدلة ؛ وكذلك حافظة المباني والأنظمة المستخِدمة للطا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الطاقة الشمسية والطاقة الحرارية الأرضية الضحلة من أجل التدفئة والتبر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قد يعمل ذلك على التخلص التدريجي من مركبات المواد الهيدرو كلورو فلورو كربونية المستخدمة في الصناعة والمبان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جميع المساعدة الفنية بشأن إعداد السياسات واللوائح التنظيمية وبناء القدرات؛ وآليات التمويل؛ والمشروعات التجريب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13" descr=""/>
          <p:cNvPicPr/>
          <p:nvPr/>
        </p:nvPicPr>
        <p:blipFill>
          <a:blip r:embed="rId1"/>
          <a:stretch/>
        </p:blipFill>
        <p:spPr>
          <a:xfrm>
            <a:off x="6019920" y="451476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ثال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استثمار في تكنولوجيات الطاقة المتجد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120" y="13716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رامج الطاقة المتجددة على الشبك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إنتاج اللامركزي للطاقة الكهربائية واستخدام المصادر المحلية المتجدد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عزيز القدرات الفنية للمشروعات الصغيرة والمتوسطة لتقديم خدمات التركيب والتشغيل والصيانة الخاصة بتكنولوجيات الطاقة المتجددة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ستعادة الميثان من مخلفات الكتلة الحيوية من أجل توليد الطاقة أو إنتاج الحرارة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إنتاج المستدام للكتلة الحيوية من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للحصول على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الوقود الأحفور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جميع المساعدة الفنية من أجل مساندة السياسات والمساندة التنظيمية، وبناء القدرات، ووضع آليات تمويل للاستثمارا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2895480" cy="19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2" descr=""/>
          <p:cNvPicPr/>
          <p:nvPr/>
        </p:nvPicPr>
        <p:blipFill>
          <a:blip r:embed="rId1"/>
          <a:stretch/>
        </p:blipFill>
        <p:spPr>
          <a:xfrm>
            <a:off x="0" y="3809880"/>
            <a:ext cx="3657600" cy="24336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راب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أنظمة النقل والأنظمة الحضرية التي تتسم بكفاءة استخدام الطاقة وانخفاض انبعاث الكرب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6212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شجيع الإجراءات التدخلية الشاملة من خلال تكامل أنشطة قطاعات النقل والطاقة والمياه والإسكان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ناول التخفيف من آثار تغير المناخ وأيضاً تلوث الهواء المحلي، والازدحام المروي، الخ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ساعدة الفنية والتخطيط الحضري، وإعداد آليات تمويل مبتكرة، وحملات توعية، واستثمارات في التكنولوجيات عالية الأداء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زيد من الاهتمام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با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لقياس والتوصيف الكمي للمنافع البيئية العالمية (دليل  الهيئة الاستشارية العلمية والفنية لدى صندوق البيئة العالمية لحساب المنافع المتأتية من تخفيض غازات الدفيئة [الاحتباس الحراري]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خامس: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حفظ وتعزيز مستودعات الكربون من خلال الإدارة المستدامة لاستخدام الأراضي والغاب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82844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تعزيز واستعادة وإدارة مخزونات الكربون الموجودة في أراضي الغابات وغيرها (ومن بينها أراضي المستنقعات)</a:t>
            </a:r>
            <a:r>
              <a:rPr b="0" lang="ar-EG" sz="19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الحد من انبعاثات مخزون الكربون</a:t>
            </a:r>
            <a:r>
              <a:rPr b="0" lang="ar-EG" sz="19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تتضمن الأنشطة</a:t>
            </a:r>
            <a:r>
              <a:rPr b="0" lang="ar-EG" sz="19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عروض عن الممارسات الجيدة، ووضع أنظمة للرصد والرقابة، وتعزيز السياسات والمؤسسات، الخ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الربط مع الإدارة المستدامة للغابات/الحد من إزالة الغابات وتدهور ـ البرنامج الإضافي، آلية التحفي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37782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سادس: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أنشطة الداعمة وبناء القد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14400" y="16765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قيام الأطراف غير المدرجة بالمرفق الأول بإعداد اتصالات وطني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إعداد وتحديث  تقييمات الاحتياجات من التكنولوجيا لا سيما بالنسبة للبلدان التي لم تتلق مساندة في هذا الشأن أثناء العملية الرابعة لتجديد موارد الصندوق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قد يقوم صندوق البيئة العالمية بتمويل أنشطة بغرض مساندة تطوير القدرات وتنفيذ المادة السادسة من الاتفاقية بشأن التعليم والتثقيف والتدريب والتوعية الجماهيرية وذلك بناء على التوجيهات المستقبلية لمؤتمر الأطراف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مكن أن يقوم صندوق البيئة العالمية بدور في أسواق الكربون الناشئ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تفويض مؤتمر الأطراف للصندوق بشأن نقل التكنولوجي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66680" y="152352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بوزنان الإستراتيجي بشأن نقل التكنولوجيا (قرار مؤتمر الأطراف رقم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P.1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قديم المساندة من أجل تقييم الاحتياجات من التكنولوجيا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قديم المساندة من أجل المشروعات التجريبية لنقل التكنولوجيا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نشر التكنولوجيات والمعارف الفنية التي تمت تجربتها بنجاح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عملية الخامسة لتجديد موارد صندوق البيئة العالمي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إجمالي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3.4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 (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جالات تركي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1.4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 من أجل التخفيف من آثار تغير المناخ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Foundry in China supported by GEF to improve EE.jpg"/>
          <p:cNvPicPr/>
          <p:nvPr/>
        </p:nvPicPr>
        <p:blipFill>
          <a:blip r:embed="rId1"/>
          <a:stretch/>
        </p:blipFill>
        <p:spPr>
          <a:xfrm>
            <a:off x="6781680" y="2895480"/>
            <a:ext cx="2159280" cy="1619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6781680" y="1295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6781680" y="4492800"/>
            <a:ext cx="21337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6:52Z</dcterms:created>
  <dc:creator>wb350798</dc:creator>
  <dc:description/>
  <dc:language>en-US</dc:language>
  <cp:lastModifiedBy>Lisa</cp:lastModifiedBy>
  <dcterms:modified xsi:type="dcterms:W3CDTF">2012-04-22T23:47:34Z</dcterms:modified>
  <cp:revision>107</cp:revision>
  <dc:subject/>
  <dc:title>Focal Area and Cross Cutting Strategies – Climate Change</dc:title>
</cp:coreProperties>
</file>