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55BD-7098-417C-92D0-FEF668D85599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AD79-12EF-4A8C-80C7-A6226F71C1B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9E46-EFD7-4DE7-B59A-578264E53AF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C918-9EE0-4877-B429-6C3503ADC0B4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4B0-F520-425E-A178-FBE68094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51E-FFB1-4717-BCC8-3EA8E671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2B3-C8DE-42DF-89E6-C6CF55EB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653-E36E-4BDD-9B46-CFEA8C16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2860-6ED7-49E5-905F-A8C85267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5BB9-8966-4150-959B-34701013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E1D2-54B5-4C20-951A-B51887E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AA31-CD70-4A37-844E-B18FB42D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8C55-AD55-4F49-8DD8-1F02C40D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EAC-9FCA-443E-B5AC-E215C02D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650F-1D91-47F9-9C2D-B18289FE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DFA-8EEF-4505-B3F7-38FE2DA5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7E6E-CD55-47E8-BD32-8EB614E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8FB-6B61-4415-A66E-ED2B5D95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CDF9-BE57-4E0B-B5D7-714544FC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DF99-E42C-4BD3-8311-0D0F2F3C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8F04-F158-4780-8245-B5656A2D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ED84-23BA-40B8-9962-1F9BDF03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8C5B-7E39-4737-A5FF-D7DC57A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DDF6-98F8-4DFE-9761-83A6B297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0850-63C5-486A-ADAC-2DD843A7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241F-E528-464B-AFBF-B6EA404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37A-129D-42A3-A33A-25988A3E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2B63-466C-447D-8B03-D03F7C19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485B-157C-480C-8F45-74D8C0C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D106-515D-4D8D-9F4F-0643EC6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C9CC-11A1-413B-9AD7-E4FF53B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AF19-B48B-4098-92DB-54D05BB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5F57-6313-416D-A430-5568A7E7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028B-12EC-45D7-9975-1F6647A1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BED9-141F-4CCE-976A-FD77555D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7734-6E84-4427-88EF-D68C860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C3B0-354F-48F4-99B4-E6AF76C4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287-99EE-4EF0-B6F6-1BE3F049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FBB2-647F-4439-9A4B-C602650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A966-3F0C-4FCF-9AA2-CF4DD990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29C7-A483-4687-816A-EDF0EFE7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22C0-8339-4680-AE1E-A5884B1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F0CE-8CB2-46F4-AB81-EEC86A6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5516-0BE3-4FEF-9446-1E49E46D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8BD1-1DAC-45A4-ACA0-D2675BEA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5164-91DD-4DFF-AD49-2DC6A11C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AFD3-2FEE-4B05-A4D7-0F9FEB1E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615-42A1-41AA-A892-4AFF7A53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319-3BFD-475D-99A4-8D7364B1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59E-9BD1-42DB-9B36-141D4E2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732-B843-4D7A-BCB1-D7E4343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07C-8AF0-4443-866E-A5B4EC08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2B25-E633-43E4-8A7A-FD0684EFC5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8FD4-30CA-4379-ACA2-AA546AE6A5A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4B84-F5A6-475E-B531-C3B1C86EB1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83F-1152-4B50-9958-2D5057E102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بادئ التوجيهية لإستراتيجية عملية التجديد الخامسة لموارد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الاتفاق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ر بعين الاعتبار إلى الظروف الوطنية للبلدان المستفي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عالية التكاليف عند تحقيق المنافع البيئي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81952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أول: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ونشر ونقل التكنولوجيات منخفضة الكربو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تجه الأنظار نحو التكنولوجيات المبتكرة، كما تتجه أيضاً نحو التكنولوجيات ذات الأولوية المتاحة تجارياً ولم يتم اعتمادها في أسواق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من أج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لق بيئة داعمة لنقل التكنولوجي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ضع آليات لنقل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اون بين بلدان الشمال والجنوب وبلدان الجنوب والج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شراء التراخ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قدرات المحلية لتكييف التكنولوجيات الخارجية مع الظروف المحلية ودمج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0" y="24382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ني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ول السوق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نح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كفاءة استخدام الطاقة في الصناعة وقطاع المب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قطاع الصناعي: التكنولوجيات والممارسات التي تتسم بكفاءة استخدام ا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ني: تمت تغطية المباني السكنية، والتجارية، والمباني العامة الجديدة والمعدلة ؛ وكذلك حافظة المباني والأنظمة المستخِدمة ل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طاقة الشمسية والطاقة الحرارية الأرضية الضحلة من أجل التدفئة والتبر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عمل ذلك على التخلص التدريجي من مركبات المواد الهيدرو كلورو فلورو كربونية المستخدمة في الصناعة والمبا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بشأن إعداد السياسات واللوائح التنظيمية وبناء القدرات؛ وآليات التمويل؛ والمشروع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ل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 في تكنولوجيات الطاقة المتجد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امج الطاقة المتجددة على الشبك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لامركزي للطاقة الكهربائية واستخدام المصادر المحلية المتجدد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قدرات الفنية للمشروعات الصغيرة والمتوسطة لتقديم خدمات التركيب والتشغيل والصيانة الخاصة بتكنولوجيات الطاقة المتجدد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ادة الميثان من مخلفات الكتلة الحيوية من أجل توليد الطاقة أو إنتاج الحرارة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مستدام للكتلة الحيوية من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للحصول 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وقود الأحفو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من أجل مساندة السياسات والمساندة التنظيمية، وبناء القدرات، ووضع آليات تمويل للاستثمار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8954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"/>
          <p:cNvPicPr/>
          <p:nvPr/>
        </p:nvPicPr>
        <p:blipFill>
          <a:blip r:embed="rId1"/>
          <a:stretch/>
        </p:blipFill>
        <p:spPr>
          <a:xfrm>
            <a:off x="0" y="3809880"/>
            <a:ext cx="3657600" cy="2433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راب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أنظمة النقل والأنظمة الحضرية التي تتسم بكفاءة استخدام الطاقة وانخفاض انبعاث الكرب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جيع الإجراءات التدخلية الشاملة من خلال تكامل أنشطة قطاعات النقل والطاقة والمياه والإسك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اول التخفيف من آثار تغير المناخ وأيضاً تلوث الهواء المحلي، والازدحام المروي، الخ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والتخطيط الحضري، وإعداد آليات تمويل مبتكرة، وحملات توعية، واستثمارات في التكنولوجيات عالية الأداء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اهتمام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لقياس والتوصيف الكمي للمنافع البيئية العالمية (دليل  الهيئة الاستشارية العلمية والفنية لدى صندوق البيئة العالمية لحساب المنافع المتأتية من تخفيض غازات الدفيئة [الاحتباس الحراري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خامس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فظ وتعزيز مستودعات الكربون من خلال الإدارة المستدامة لاستخدام الأراضي و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عزيز واستعادة وإدارة مخزونات الكربون الموجودة في أراضي الغابات وغيرها (ومن بينها أراضي المستنقعات)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نبعاثات مخزون الكربون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تضمن الأنشطة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عروض عن الممارسات الجيدة، ووضع أنظمة للرصد والرقابة، وتعزيز السياسات والمؤسسات، الخ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ربط مع الإدارة المستدامة للغابات/الحد من إزالة الغابات وتدهور ـ البرنامج الإضافي، آلية التحفي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سادس: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نشطة الداعمة وبناء ا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الأطراف غير المدرجة بالمرفق الأول بإعداد اتصالات وطن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وتحديث  تقييمات الاحتياجات من التكنولوجيا لا سيما بالنسبة للبلدان التي لم تتلق مساندة في هذا الشأن أثناء العملية الرابعة لتجديد موارد الصندوق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قوم صندوق البيئة العالمية بتمويل أنشطة بغرض مساندة تطوير القدرات وتنفيذ المادة السادسة من الاتفاقية بشأن التعليم والتثقيف والتدريب والتوعية الجماهيرية وذلك بناء على التوجيهات المستقبلية لمؤتمر الأطراف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يقوم صندوق البيئة العالمية بدور في أسواق الكربون الناشئ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فويض مؤتمر الأطراف للصندوق بشأن نقل التكنولوجي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بوزنان الإستراتيجي بشأن نقل التكنولوجيا (قرار مؤتمر الأطراف رق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P.1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تقييم الاحتياجات من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المشروعات التجريبية لنقل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شر التكنولوجيات والمعارف الفنية التي تمت تجربتها بنجاح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إجمالي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3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من أجل التخفيف من آثار تغير المناخ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47:34Z</dcterms:modified>
  <cp:revision>107</cp:revision>
  <dc:subject/>
  <dc:title>Focal Area and Cross Cutting Strategies – Climate Change</dc:title>
</cp:coreProperties>
</file>