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1C7B-1920-4279-AB68-81A93B5FD154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E6E7-4FC5-4943-AA98-0502767050FB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1946-6890-4874-8476-25360A91E518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3E2D-A5D3-42E7-9657-CCCD69ED4EEE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455-F43F-4F53-82A2-D2F8F10E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79B-2C89-407F-8CA7-88EB9D73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EAE-7B05-4739-AD34-7E3BC3D9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B71-DCDB-4623-8C44-F4F98C20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E024-8517-4893-AB5E-49F5C909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8E89-8B9A-47F5-8BA5-C78532F4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D6BC-756E-446C-A3B8-46674ED5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188F-2663-4168-8D4C-C568A546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1417-53C6-4F28-BEA4-5C1D5BA9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2047-6BE6-436C-B682-D0DD94ED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ABFA-FD48-40F9-8223-F1CC0CEB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684-320F-46B0-9EC9-CA57D2D9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10FF-E677-40AF-ACDA-7EB28216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D8C3-3689-498C-B245-7CF0A36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5921-B1AE-4D7B-8848-1640F2B5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83A7-33EB-4398-AF79-8F4FBAEF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4CD6-6D7E-452A-90DC-F3AEFF57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B359-79EE-4B63-A481-9DCF9D3C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BFF8-5D71-4FC6-B1F7-931F3CE2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4270-5BD7-41D9-9478-53ACBB09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C8FD5-9C1A-4153-B6D5-8DA73566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2823-45AF-439B-AF99-38E4D0B9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95A-1EE5-45AD-A2E7-07D34F98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CADFB-5FE4-4C3D-A496-77E55320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3A87-ABED-4C28-BFB9-7EA1114A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802F-B2CD-4EA6-BA4E-3E914BF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E32C-7036-4732-8907-C2D675A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14C9-EDDF-414A-83CF-D5A62C92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E824-4F4E-41E6-8CA6-85F7383C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0D5E-4872-4370-9444-05C6F24A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30E5C-8A3C-4D6D-97DE-4A22981A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2214-7F75-4F51-9E2C-DFD4E760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694F-A4C5-4131-AF7D-9F8AF9C2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2C5-1CD3-4742-8083-67E93115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706D-55E1-4387-9DE3-9404A238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4B4D0-C955-4EEB-8B95-D399DD91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61929-8483-4961-A7CE-15745968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ED35-BD1D-47ED-B14A-05F7A688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905D8-E36A-45CC-9056-8ABB38B9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7DFF-6A62-4618-993A-600076DB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1ADE2-E567-45BB-A7D2-296F217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7FFE-B489-41A4-A9E1-9C310426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EE53-B16E-4B6C-8047-FD895407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864-32A6-437A-BDFB-1694AB8D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719-57F8-4B4B-B2C6-A11D891E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364-26B4-4C4F-8D7E-BFB6CE2A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5F8-B92F-4404-894E-DC3E249B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006-5C5E-4ACC-9AE2-030BD5C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A4CC-8BCE-4795-90AC-E28C0AB05DD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8B19-DC40-4B10-A111-4EDD6A0DB82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8C95-2FF6-4AD3-8E78-B09443B09A2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94E7-44E6-46F0-BF6C-B2674E3C060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تغير المنا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شكراً على اهتمامك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مبادئ التوجيهية لإستراتيجية عملية التجديد الخامسة لموارد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جابة لتوجيهات الاتفاق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نظر بعين الاعتبار إلى الظروف الوطنية للبلدان المستفي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عالية التكاليف عند تحقيق المنافع البيئي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" descr="Nikki-Sa_0.tmp"/>
          <p:cNvPicPr/>
          <p:nvPr/>
        </p:nvPicPr>
        <p:blipFill>
          <a:blip r:embed="rId1"/>
          <a:stretch/>
        </p:blipFill>
        <p:spPr>
          <a:xfrm>
            <a:off x="2057400" y="281952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أول: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رض ونشر ونقل التكنولوجيات منخفضة الكربو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تجه الأنظار نحو التكنولوجيات المبتكرة، كما تتجه أيضاً نحو التكنولوجيات ذات الأولوية المتاحة تجارياً ولم يتم اعتمادها في أسواق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ساعدة الفنية من أج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خلق بيئة داعمة لنقل التكنولوجي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ضع آليات لنقل التكنولوجي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عاون بين بلدان الشمال والجنوب وبلدان الجنوب والج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شراء التراخ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ات التجريب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طوير القدرات المحلية لتكييف التكنولوجيات الخارجية مع الظروف المحلية ودمج التكنولوجي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0" y="24382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ثاني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حول السوق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نحو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كفاءة استخدام الطاقة في الصناعة وقطاع المب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قطاع الصناعي: التكنولوجيات والممارسات التي تتسم بكفاءة استخدام الطا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باني: تمت تغطية المباني السكنية، والتجارية، والمباني العامة الجديدة والمعدلة ؛ وكذلك حافظة المباني والأنظمة المستخِدمة للطا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الطاقة الشمسية والطاقة الحرارية الأرضية الضحلة من أجل التدفئة والتبر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قد يعمل ذلك على التخلص التدريجي من مركبات المواد الهيدرو كلورو فلورو كربونية المستخدمة في الصناعة والمبان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مساعدة الفنية بشأن إعداد السياسات واللوائح التنظيمية وبناء القدرات؛ وآليات التمويل؛ والمشروعات التجريب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1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ثال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 في تكنولوجيات الطاقة المتجد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رامج الطاقة المتجددة على الشبك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إنتاج اللامركزي للطاقة الكهربائية واستخدام المصادر المحلية المتجدد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عزيز القدرات الفنية للمشروعات الصغيرة والمتوسطة لتقديم خدمات التركيب والتشغيل والصيانة الخاصة بتكنولوجيات الطاقة المتجدد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ستعادة الميثان من مخلفات الكتلة الحيوية من أجل توليد الطاقة أو إنتاج الحرارة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إنتاج المستدام للكتلة الحيوية من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للحصول على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الوقود الأحفور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مساعدة الفنية من أجل مساندة السياسات والمساندة التنظيمية، وبناء القدرات، ووضع آليات تمويل للاستثمار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89548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2" descr=""/>
          <p:cNvPicPr/>
          <p:nvPr/>
        </p:nvPicPr>
        <p:blipFill>
          <a:blip r:embed="rId1"/>
          <a:stretch/>
        </p:blipFill>
        <p:spPr>
          <a:xfrm>
            <a:off x="0" y="3809880"/>
            <a:ext cx="3657600" cy="24336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راب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أنظمة النقل والأنظمة الحضرية التي تتسم بكفاءة استخدام الطاقة وانخفاض انبعاث الكرب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212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جيع الإجراءات التدخلية الشاملة من خلال تكامل أنشطة قطاعات النقل والطاقة والمياه والإسكا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اول التخفيف من آثار تغير المناخ وأيضاً تلوث الهواء المحلي، والازدحام المروي، الخ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ساعدة الفنية والتخطيط الحضري، وإعداد آليات تمويل مبتكرة، وحملات توعية، واستثمارات في التكنولوجيات عالية الأداء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زيد من الاهتمام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لقياس والتوصيف الكمي للمنافع البيئية العالمية (دليل  الهيئة الاستشارية العلمية والفنية لدى صندوق البيئة العالمية لحساب المنافع المتأتية من تخفيض غازات الدفيئة [الاحتباس الحراري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خامس: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حفظ وتعزيز مستودعات الكربون من خلال الإدارة المستدامة لاستخدام الأراضي والغاب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تعزيز واستعادة وإدارة مخزونات الكربون الموجودة في أراضي الغابات وغيرها (ومن بينها أراضي المستنقعات)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انبعاثات مخزون الكربون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تتضمن الأنشطة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عروض عن الممارسات الجيدة، ووضع أنظمة للرصد والرقابة، وتعزيز السياسات والمؤسسات، الخ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ربط مع الإدارة المستدامة للغابات/الحد من إزالة الغابات وتدهور ـ البرنامج الإضافي، آلية التحفي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سادس: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نشطة الداعمة وبناء القد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الأطراف غير المدرجة بالمرفق الأول بإعداد اتصالات وطن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عداد وتحديث  تقييمات الاحتياجات من التكنولوجيا لا سيما بالنسبة للبلدان التي لم تتلق مساندة في هذا الشأن أثناء العملية الرابعة لتجديد موارد الصندوق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قد يقوم صندوق البيئة العالمية بتمويل أنشطة بغرض مساندة تطوير القدرات وتنفيذ المادة السادسة من الاتفاقية بشأن التعليم والتثقيف والتدريب والتوعية الجماهيرية وذلك بناء على التوجيهات المستقبلية لمؤتمر الأطراف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يقوم صندوق البيئة العالمية بدور في أسواق الكربون الناشئ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فويض مؤتمر الأطراف للصندوق بشأن نقل التكنولوجي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بوزنان الإستراتيجي بشأن نقل التكنولوجيا (قرار مؤتمر الأطراف رق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P.1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ديم المساندة من أجل تقييم الاحتياجات من التكنولوجيا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ديم المساندة من أجل المشروعات التجريبية لنقل التكنولوجيا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شر التكنولوجيات والمعارف الفنية التي تمت تجربتها بنجاح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خامسة لتجديد موارد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إجمالي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3.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1.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من أجل التخفيف من آثار تغير المناخ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Lisa</cp:lastModifiedBy>
  <dcterms:modified xsi:type="dcterms:W3CDTF">2012-04-22T23:47:34Z</dcterms:modified>
  <cp:revision>107</cp:revision>
  <dc:subject/>
  <dc:title>Focal Area and Cross Cutting Strategies – Climate Change</dc:title>
</cp:coreProperties>
</file>