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dt" idx="13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20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ftr" idx="14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 type="sldNum" idx="15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390DF-3610-45C1-9233-AD323AA6C9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52D4F-4D72-4509-BA46-7DCB1630651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6B383-FC07-4C5F-A912-1DA99186857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1A67A-BF1D-484B-8291-12C0E1A148A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262160" y="723960"/>
            <a:ext cx="4795920" cy="359712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Date Placeholder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Footer Placeholder 4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Header Placeholder 5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8C60-037A-4A79-BB49-3DDF53A63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B921-C037-407B-BC28-5C36CD09C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FD75-987A-4412-8C84-269AD3D4B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BA9B-91E0-4B6F-B82E-0C1F5DB1D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2765D-BA47-463A-BC67-7BE9B7742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7C37C-7A72-4186-AF87-A74A03429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AAB43-FC6D-4804-8F2F-4AE10F420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07B97-1760-49F3-80C5-6D038AE25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400F0-940D-4F09-A402-E6992F6C0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9683E-EF14-4655-9C43-BA33AB2E8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46005-20A8-45D2-8A41-B70C9F25D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51F8-32DC-4885-9AFA-6624817C9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0606E-F063-429F-A17F-1B286E6F1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24EA4-E16B-4B65-BAFE-C53176505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15604-5FA6-4DC6-8565-C32F70E85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5635B-7328-41C0-8A7B-E8EE30837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58365-77B3-45F9-AD0E-10BD80E09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E99E5-1729-4458-9DB7-D4269B927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1D91B-35D7-4B97-A719-CDDFE393C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9D0C1-5FBB-4893-89CA-E177877DD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86549-B774-464F-808E-37A940E70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7C708-AF2D-47BB-AAFF-919F7D7BF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C7A3-6ABA-43EE-BC0A-743B8D64E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841AC-B2B2-4073-AB76-EE30F42BD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2F9B9-0F9A-49D5-B8C4-491FC90ED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3A29F-F1BC-49A7-B6BA-3A00D3477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A96B4-707E-4076-B7A2-BC6FE54A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F9BBB-2C7F-4284-9903-ACF2A3A44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5EF0B-2A19-4F90-BF74-D4370FBA8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FF520-8415-4366-8A89-36DC92328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4DDF7-EE72-47A4-800F-C1AA5E73B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5A23C-7BD6-45BE-B2E3-822064857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DFE6E-79CC-48DA-851D-B18E51925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5523-C64D-44B7-8B10-F68E5C4A5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01DF4-9410-41AD-BB8F-8251BBF7A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625AA-6DEC-48C3-A609-1841D4BBE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350FE-D476-467D-8625-308BDFFD5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18E59-CF90-4B47-AC62-E007551A3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0FC52-96FE-45EB-9C25-F7A0A1C0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AC71A-6040-438A-A744-782F18F9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2AF4B-26C4-49B2-B205-652D17F5A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EE165-D484-4A23-9F29-4170608A3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4BA7E-F2E2-49B4-9034-220D91D26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D989-62FA-44F1-B503-9C08E695A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6CCE-A43A-4006-9CA0-BA2912643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3A90-362A-424D-B67F-5F1B97DD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A40A-E36D-4047-A943-95F0FDBCF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49B0-7EAD-43D1-B963-601E9C93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D7534-C547-42C7-A758-017A4D9252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6"/>
          <p:cNvGrpSpPr/>
          <p:nvPr/>
        </p:nvGrpSpPr>
        <p:grpSpPr>
          <a:xfrm>
            <a:off x="0" y="-28440"/>
            <a:ext cx="9144000" cy="1247760"/>
            <a:chOff x="0" y="-28440"/>
            <a:chExt cx="9144000" cy="1247760"/>
          </a:xfrm>
        </p:grpSpPr>
        <p:pic>
          <p:nvPicPr>
            <p:cNvPr id="42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-284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-27360"/>
              <a:ext cx="91198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6F4A5-9166-4B68-A89B-5A01FF0D3B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6"/>
          <p:cNvGrpSpPr/>
          <p:nvPr/>
        </p:nvGrpSpPr>
        <p:grpSpPr>
          <a:xfrm>
            <a:off x="0" y="5610240"/>
            <a:ext cx="9144000" cy="1247760"/>
            <a:chOff x="0" y="5610240"/>
            <a:chExt cx="9144000" cy="1247760"/>
          </a:xfrm>
        </p:grpSpPr>
        <p:pic>
          <p:nvPicPr>
            <p:cNvPr id="86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02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5610960"/>
              <a:ext cx="91198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AAF02-E4FB-436B-975A-588EB3B04F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6"/>
          <p:cNvGrpSpPr/>
          <p:nvPr/>
        </p:nvGrpSpPr>
        <p:grpSpPr>
          <a:xfrm>
            <a:off x="0" y="-28440"/>
            <a:ext cx="9144000" cy="1247760"/>
            <a:chOff x="0" y="-28440"/>
            <a:chExt cx="9144000" cy="1247760"/>
          </a:xfrm>
        </p:grpSpPr>
        <p:pic>
          <p:nvPicPr>
            <p:cNvPr id="130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-284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-27360"/>
              <a:ext cx="91198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0BE17-D897-4C68-BB37-46B4955FD0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Focal Area and Cross Cutting Strategies – Climate Chang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ubtitle 4"/>
          <p:cNvSpPr/>
          <p:nvPr/>
        </p:nvSpPr>
        <p:spPr>
          <a:xfrm>
            <a:off x="1219320" y="4267080"/>
            <a:ext cx="67053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15 to 17 February 201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Dead Sea, Jord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uiding Principles for GEF-5 Strategy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762120" y="1523880"/>
            <a:ext cx="76960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ponsiveness to Convention guid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sideration of national circumstances of recipient count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st-effectiveness in achieving global environmental benefi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1" descr="Nikki-Sa_0.tmp"/>
          <p:cNvPicPr/>
          <p:nvPr/>
        </p:nvPicPr>
        <p:blipFill>
          <a:blip r:embed="rId1"/>
          <a:stretch/>
        </p:blipFill>
        <p:spPr>
          <a:xfrm>
            <a:off x="2057400" y="2971800"/>
            <a:ext cx="5257800" cy="2886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1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monstration, deployment, and transfer of innovative low-carbon technolog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33520" y="15235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novative technologies are targeted, but also priority technologies that are commercially available but have not been adopted in their marke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chnical assistance for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reating enabling policy environment for tech transfer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apacity build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stablishment of tech transfer mechanism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-S and S-S cooper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urchase of licens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ilot investmen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evelopment of local capacity to adapt exogenous technologies to local conditions and technology integr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10" descr=""/>
          <p:cNvPicPr/>
          <p:nvPr/>
        </p:nvPicPr>
        <p:blipFill>
          <a:blip r:embed="rId1"/>
          <a:stretch/>
        </p:blipFill>
        <p:spPr>
          <a:xfrm>
            <a:off x="5715000" y="4952880"/>
            <a:ext cx="342900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2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rket transformation for energy efficiency in industry and the building se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762120" y="15998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dustrial sector: energy efficient technologies and pract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uildings: residential, commercial, and public buildings, both new and retrofitting; building envelope and energy-using systems are cover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lar energy and shallow ground thermal capacity for heating and coo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y support phase-out of HCFCs used in industry and building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bination of TA on policy, regulation, and capacity building; financing mechanisms; and pilo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13" descr=""/>
          <p:cNvPicPr/>
          <p:nvPr/>
        </p:nvPicPr>
        <p:blipFill>
          <a:blip r:embed="rId1"/>
          <a:stretch/>
        </p:blipFill>
        <p:spPr>
          <a:xfrm>
            <a:off x="6019920" y="4514760"/>
            <a:ext cx="3124080" cy="234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3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vestment in renewable energy technolog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609120" y="137160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-grid renewable energy progra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centralized production of electric power  and the use of indigenous renewable sour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hancement of technical capacities of SMEs to provide installation, operation, and maintenance services for RET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thane recovery from biomass wastes for power generation or heat productio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stainable production of biomass for biofu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bination of TA for policy and regulatory support, capacity building, and establishing financing mechanisms for investmen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1"/>
          <a:stretch/>
        </p:blipFill>
        <p:spPr>
          <a:xfrm>
            <a:off x="6248520" y="4954680"/>
            <a:ext cx="2895480" cy="190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4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ergy efficient, low-carbon transport and urban syst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762120" y="167652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rehensive interventions through integration of transport, energy, water, and housing sector activities will be encourag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dress not only climate change mitigation but also local air pollution, traffic congestion, etc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A in transport and urban planning, development of innovative financing mechanisms, awareness campaigns, and investments in high-performance technolog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eater attention to measuring and quantifying GEB (GEF-STAP manual for calculating GHG benefit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12" descr=""/>
          <p:cNvPicPr/>
          <p:nvPr/>
        </p:nvPicPr>
        <p:blipFill>
          <a:blip r:embed="rId1"/>
          <a:stretch/>
        </p:blipFill>
        <p:spPr>
          <a:xfrm>
            <a:off x="5486400" y="4424400"/>
            <a:ext cx="3657600" cy="243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5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ervation and enhancement of carbon stocks through sustainable management of land use and fore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560" y="1828440"/>
            <a:ext cx="4343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Enhance, restore and manage carbon stocks and storage on forest and non-forest land (including peatland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Reduce emissions of carbon stock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Activities include: good practice demonstrations, establishment of national C monitoring systems, strengthen policies and institution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Linked to Sustainable Forest Management/ REDD+ incentive mechanism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9" descr=""/>
          <p:cNvPicPr/>
          <p:nvPr/>
        </p:nvPicPr>
        <p:blipFill>
          <a:blip r:embed="rId1"/>
          <a:stretch/>
        </p:blipFill>
        <p:spPr>
          <a:xfrm>
            <a:off x="4952880" y="2514600"/>
            <a:ext cx="377820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6: Enabling activities and capacity bui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14400" y="1676520"/>
            <a:ext cx="7391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paration of National Communications  by non-Annex I Par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paration and updating of TNAs especially for countries that did not receive support for TNAs during GEF-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bject to future COP guidance, the GEF may finance activities to support capacity development and implementation of Article 6 of the Convention on education, training, and public awaren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GEF can play a role in the emerging carbon markets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P Mandate to GEF on Technology Transf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066680" y="1523520"/>
            <a:ext cx="5562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znan Strategic Program on Technology Transfer 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COP decision 2/CP.1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pport  for Technology Needs Assessment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pport for Technology Transfer Pilot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ssemination of successfully demonstrated technologies and know-ho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F-5 replenish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$4.3 billion total (six focal area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$1.4 billion for climate change mitig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Foundry in China supported by GEF to improve EE.jpg"/>
          <p:cNvPicPr/>
          <p:nvPr/>
        </p:nvPicPr>
        <p:blipFill>
          <a:blip r:embed="rId1"/>
          <a:stretch/>
        </p:blipFill>
        <p:spPr>
          <a:xfrm>
            <a:off x="6781680" y="2895480"/>
            <a:ext cx="2159280" cy="16192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"/>
          <p:cNvPicPr/>
          <p:nvPr/>
        </p:nvPicPr>
        <p:blipFill>
          <a:blip r:embed="rId2"/>
          <a:stretch/>
        </p:blipFill>
        <p:spPr>
          <a:xfrm>
            <a:off x="6781680" y="129528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3"/>
          <a:stretch/>
        </p:blipFill>
        <p:spPr>
          <a:xfrm>
            <a:off x="6781680" y="4492800"/>
            <a:ext cx="2133720" cy="160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6:52Z</dcterms:created>
  <dc:creator>wb350798</dc:creator>
  <dc:description/>
  <dc:language>en-US</dc:language>
  <cp:lastModifiedBy>Lisa</cp:lastModifiedBy>
  <dcterms:modified xsi:type="dcterms:W3CDTF">2012-04-22T23:29:45Z</dcterms:modified>
  <cp:revision>105</cp:revision>
  <dc:subject/>
  <dc:title>Focal Area and Cross Cutting Strategies – Climate Change</dc:title>
</cp:coreProperties>
</file>