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76D-1702-4F0E-A76B-0698F0605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AA7-A009-4372-8508-08BBA706C0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12D4-D375-4B82-B188-DDE84194B9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F0B-C563-4FA9-97C4-19AC6A744E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8FD-16E2-426D-82C8-0574DD05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4A0-67EE-4B24-9AC2-460571C8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0A2-074F-4319-8405-18A02BE9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813-75AA-4F3B-95A9-ACB4DC89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CB56-39FC-4523-A500-A41B3264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B942-B9C5-4BBA-A8AD-3233C381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A5AD-2F5F-4F72-943E-4ECD037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F785-3F43-43B5-BCE2-D7176DE0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894F-960D-4CAD-A0AB-D09ADEB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AB8D-B63C-483A-BF5F-73D2DC1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FE6D-C3F6-4165-A836-B097860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F19-F500-4DE4-8A2D-3DA8F654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998-A274-4F48-AC5B-1505C7B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7C12-44B2-46B2-9655-2C967AF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619-6DA3-46A4-8687-4D9103F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BE5-E07C-4AC9-A13C-4C853441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8CA4-FE35-45C0-8D54-AECA6258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62FF-4BAA-4BEF-9BA8-FD237EF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E520-428B-4ACF-87F8-05A1F9E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EA49-23A0-4958-9FA8-CF316C5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D0A7-0F35-4218-8A7E-491C26C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9C92-CDD7-4A67-A8FB-B7DD01B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853-54F8-48F8-A95E-C7B58502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ABDB-F23C-424D-B57E-DD3ADA9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CC74-B21E-4192-B57A-0DC1110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7E04-9ED5-492C-A3AC-7B05822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A1F5-063D-48B6-A42E-C1EC641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424B-C623-4E40-AC61-27EE8E0C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6482-550E-48C9-A08F-74875711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5269-6DEF-4AEC-8233-53C59E86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DDBF-2A98-4DFF-BDCF-3DC073B5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9673-A03A-46BB-A8E6-F6A6F10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D231-8F86-42D8-BD22-2A2C287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267-4739-4421-8FAF-E375907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3917-558F-4578-A68A-F81725A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945B-F168-49A6-A208-B6CC1888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DC81-9C82-4FB2-B13C-C36C924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6C20-C609-4F68-B4E7-C706B26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76F9-4F5C-46F7-879D-A846255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A326-33E9-429E-8404-A76FE17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4639-C454-44DF-9467-D5DD90B8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5535-BBA8-4AC1-B3E2-8E34796F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D853-98FE-4A5E-BCA5-515C7A31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393-D490-404B-A68C-ED504D68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54A-EB30-4E05-B3E8-E89F304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90C-B619-44F6-BE87-2C86427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555-7D77-4C27-B23B-68E5E0A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9CA-2C56-481C-B20E-3FF9B74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B5BE-2B9E-4C2A-A9AE-81DF71DBE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207F-004D-48AC-AA8E-640944798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20A-83E6-48E0-AAE8-FC4121881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24A6-F31A-4864-AA76-560E550C2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29:45Z</dcterms:modified>
  <cp:revision>105</cp:revision>
  <dc:subject/>
  <dc:title>Focal Area and Cross Cutting Strategies – Climate Change</dc:title>
</cp:coreProperties>
</file>