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9028-BC58-426B-9B1F-9EF5ED495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8F62-92D3-4F51-B9EE-305FC1D076C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FCE2-D1B2-4043-8684-CFF8CB857F0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9D51-A7DD-4772-9227-57C66BCD851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B0D-45A6-4C6A-AFB5-241E8431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70C-D4BC-4879-8AE3-8081D25E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F8E-8272-47AA-92DC-962C7E27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C65-677A-4CFD-9B76-385D5405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90CB-A6E8-4308-AED9-1052D7E1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0D33-7171-4497-BAAD-9EE2C752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ACAB-929B-4F77-A38D-8764E2DA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E40E-365E-4C34-AF68-53F74E01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7AD6-5C89-4CC3-82B8-F4B430E7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8CFF-7533-4D44-AB87-0AE1BEE5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0545-6EB7-4B4C-8F18-75F5C6DF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EE0-2B9F-4BCC-91DA-7D554ADA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2552-843E-417D-BDFD-692A589B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C7A8-3429-4F9F-A865-4FEB88BB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F56B-7695-4418-A6E7-2CF63A44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19E3-4A1E-41B2-BD53-02C91526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92C5-6545-418B-A9C0-92D86AAC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3D32-3E92-48F5-AA9B-4E27DF12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F8AB2-B52B-4187-8C6E-BB57F6CC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67233-832F-483E-B862-A22CEF7B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322A-B696-4631-88C3-A3BD49F4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A08F-14A6-4ECC-8B75-0A90504D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997-A950-42BB-B248-A42BBFEA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92EA-ADEA-46E4-A098-CDE23FE2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84BD-D412-4158-885F-CCF1E92B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37C6-D7BD-41B6-92AC-BA939C88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7286A-7F63-47C3-BF75-B7D8BBBC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D14DA-A6B9-43DB-BDAA-D98E8FE2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E429-CF81-4131-9A5E-9DB5A393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E988-9DE1-4CDF-A74C-985AE074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BC684-225A-462D-995D-DAB3D6E2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8B3E7-B691-4425-8CB2-A42646FF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7548A-A454-470C-976D-7DD8295E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8E4-02AC-4371-A86A-646BA552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793EB-E78D-4F7E-8555-5AB53CD9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71A5-437F-4859-A02F-5E29FF82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EEB5D-95E3-49F6-8DD2-8ED8A7B8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5B1B3-C73B-4D5A-AF77-AC6E461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0698-8813-4CD5-B9E6-7A27D5B7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54D90-14FC-41AE-9E4F-5FEB3CB5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FCF6-8ECA-4A80-8DD7-01A8AA90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1DD06-A777-4F40-9B22-D3F2B785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E778-07BC-4D3F-8F23-8AFC381D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726-4972-4EB8-9EBC-42F9E8D5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704-BAE5-4EF4-9144-65D441F2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E32-D4A5-40B9-8956-C4F362A5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4EF-CF95-4F32-B0B9-C65D61C0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F99-987D-424C-9828-4A8C270A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C223-86CE-44D4-AB73-BF14560DB2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5C3F-826F-497B-9825-83A0A95D7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1EFD-98B0-4B1F-81B9-BF14CC807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55A1-0D0C-40D7-B1F1-D167E32DC2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Climate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ding Principles for GEF-5 Strate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212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veness to Convention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ation of national circumstances of recipien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-effectiveness in achieving global environmental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" descr="Nikki-Sa_0.tmp"/>
          <p:cNvPicPr/>
          <p:nvPr/>
        </p:nvPicPr>
        <p:blipFill>
          <a:blip r:embed="rId1"/>
          <a:stretch/>
        </p:blipFill>
        <p:spPr>
          <a:xfrm>
            <a:off x="2057400" y="297180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ion, deployment, and transfer of innovative low-carbon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5235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novative technologies are targeted, but also priority technologies that are commercially available but have not been adopted in their marke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assistance f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enabling policy environment for tech transf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ment of tech transfer mechanis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-S and S-S coope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rchase of licen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lot invest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ment of local capacity to adapt exogenous technologies to local conditions and technology integ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5715000" y="49528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transformation for energy efficiency in industry and the building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sector: energy efficient technologies and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s: residential, commercial, and public buildings, both new and retrofitting; building envelope and energy-using systems are cov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ar energy and shallow ground thermal capacity for heating and coo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support phase-out of HCFCs used in industry and buil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on policy, regulation, and capacity building; financing mechanisms; and pilo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1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3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ment in renewable energy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3716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grid renewable energy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entralized production of electric power  and the use of indigenous renewable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ment of technical capacities of SMEs to provide installation, operation, and maintenance services for RE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ane recovery from biomass wastes for power generation or heat produ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able production of biomass for biofu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for policy and regulatory support, capacity building, and establishing financing mechanisms for invest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6248520" y="4954680"/>
            <a:ext cx="2895480" cy="19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4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efficient, low-carbon transport and urba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621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ehensive interventions through integration of transport, energy, water, and housing sector activities will be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 not only climate change mitigation but also local air pollution, traffic congestion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 in transport and urban planning, development of innovative financing mechanisms, awareness campaigns, and investments in high-performance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ter attention to measuring and quantifying GEB (GEF-STAP manual for calculating GHG benefi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12" descr=""/>
          <p:cNvPicPr/>
          <p:nvPr/>
        </p:nvPicPr>
        <p:blipFill>
          <a:blip r:embed="rId1"/>
          <a:stretch/>
        </p:blipFill>
        <p:spPr>
          <a:xfrm>
            <a:off x="5486400" y="442440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5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 and enhancement of carbon stocks through sustainable management of land use and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hance, restore and manage carbon stocks and storage on forest and non-forest land (including peat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duce emissions of carbon stoc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tivities include: good practice demonstrations, establishment of national C monitoring systems, strengthen policies and institution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nked to Sustainable Forest Management/ REDD+ incentive mechanis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6: Enabling activities and 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of National Communications  by non-Annex I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and updating of TNAs especially for countries that did not receive support for TNAs during GEF-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ject to future COP guidance, the GEF may finance activities to support capacity development and implementation of Article 6 of the Convention on education, training, and public awar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EF can play a role in the emerging carbon market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P Mandate to GEF on Technology Transf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nan Strategic Program on Technology Transfe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P decision 2/CP.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 for Technology Needs Assess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for Technology Transfer Pilo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semination of successfully demonstrated technologies and know-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4.3 billion total (six focal are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4 billion for climate change mit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Foundry in China supported by GEF to improve EE.jpg"/>
          <p:cNvPicPr/>
          <p:nvPr/>
        </p:nvPicPr>
        <p:blipFill>
          <a:blip r:embed="rId1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Lisa</cp:lastModifiedBy>
  <dcterms:modified xsi:type="dcterms:W3CDTF">2012-04-22T23:29:45Z</dcterms:modified>
  <cp:revision>105</cp:revision>
  <dc:subject/>
  <dc:title>Focal Area and Cross Cutting Strategies – Climate Change</dc:title>
</cp:coreProperties>
</file>