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0" y="0"/>
            <a:ext cx="3170160" cy="4795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6644-DC9E-4197-8818-4DE308467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D62D-B602-431C-97C4-EBE2148B8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07EFA-EA42-401A-B2AF-022E77214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F36C1-865D-4D6D-8AF6-55EA36DC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8D841-E4B0-487E-96E1-6F7792E2B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24921-A999-4D26-AE96-F5FCC3C68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490D3-ED09-43C9-A87A-3A9E86806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3450C-B553-4482-9A1D-7470BC1CA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72086-84CC-4979-97E7-A33DC1299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4A772-E516-43F9-BCFF-F914A5F51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63D7B-35F4-4037-B631-8892C6A87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81040-095A-4167-B0D4-2A432C1F0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27369-42C4-4141-B257-47B7876A2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54AC2-1849-47B5-AE47-D8C5BC1F2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91B71-7062-4C45-9531-A4F664CB7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E2992-4713-46AA-AFD0-41775267F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89B62-2668-4C6E-A2BE-415ABFC7A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A41A6-C2A4-4192-ABF1-57D857E6B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5BEFF-73E0-403B-B280-578032117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2F2DF3-9017-4D13-98C2-3EF3DFA2F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9C69B-C4CB-4D9D-85C5-4DED10E8F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1DADF-C73D-4ABB-B6B9-54485E5C6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06D9D-3189-474F-93CF-5A248CB39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C7043-3732-450A-B780-93A6C5D13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F5CD-A400-47E6-B217-1F8043BB1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8CB90-3B06-4A33-9C05-EC7B17557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DF42B-4811-494E-837F-148325236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05885-0E0B-49D7-908D-8B8CD8DA5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FCBFD-CE51-4637-BC8F-140649BC4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FB469-5BBC-4EAE-B7A6-06A36780B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6BB511-CB0D-4317-A193-75566AC1EB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A1808-A86B-4E0B-B4C1-868D5897D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D557FA-7958-42BC-A0EC-5881D802A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3A28E-844D-49ED-862C-004CBA4E7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174C3-8AD5-4E74-A015-5E957FC80E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B68DD-3B33-4290-94A2-77F8A19CF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FDBF9-CD1A-4C22-9960-800F72904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E3811-D5A3-46AC-8721-F547B3F743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9F6AD-C263-4CF4-9E63-7336F17C9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9C4B2-8E06-4A56-8553-291E83A99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C8524-270B-4764-B487-32BFC626F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E8EDD-05B8-4954-8A8D-A6372E3CE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70C7DC-C094-4FBE-99D2-5D1363A22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58B6E2-2979-4BF8-B1BF-457026BFBD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8EDB63-1D7E-4C78-9E29-D55DE1363A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B7A8D-B2D8-4338-A2EB-A2D61DC40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48C62-E453-49E6-B8A6-7483B6FCC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15C93-B45D-4B16-BBB5-C097FF34A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F8DED-6A44-4039-AFBF-0A3D68895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2BCAA-1950-4231-9855-7ABB11A00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663E-26FA-4244-B5DC-673028D536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0D95-EA5F-4447-AB9A-D98A2F5253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653F-4D91-4D4D-867E-420FA6B22B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0240"/>
            <a:ext cx="9144000" cy="1247760"/>
            <a:chOff x="0" y="5610240"/>
            <a:chExt cx="9144000" cy="1247760"/>
          </a:xfrm>
        </p:grpSpPr>
        <p:pic>
          <p:nvPicPr>
            <p:cNvPr id="130" name="Picture 7" descr="GEF-20-PPT-BG-blank.png"/>
            <p:cNvPicPr/>
            <p:nvPr/>
          </p:nvPicPr>
          <p:blipFill>
            <a:blip r:embed="rId2"/>
            <a:stretch/>
          </p:blipFill>
          <p:spPr>
            <a:xfrm>
              <a:off x="0" y="5610240"/>
              <a:ext cx="9144000" cy="1247760"/>
            </a:xfrm>
            <a:prstGeom prst="rect">
              <a:avLst/>
            </a:prstGeom>
            <a:ln w="0">
              <a:noFill/>
            </a:ln>
          </p:spPr>
        </p:pic>
        <p:pic>
          <p:nvPicPr>
            <p:cNvPr id="131" name="Picture 8" descr="GEF-PPT-BG.png"/>
            <p:cNvPicPr/>
            <p:nvPr/>
          </p:nvPicPr>
          <p:blipFill>
            <a:blip r:embed="rId3"/>
            <a:stretch/>
          </p:blipFill>
          <p:spPr>
            <a:xfrm>
              <a:off x="11880" y="5610960"/>
              <a:ext cx="9119880" cy="60804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7367-9033-42E6-A52F-D6E6CDD255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181" name="Subtitle 4"/>
          <p:cNvSpPr/>
          <p:nvPr/>
        </p:nvSpPr>
        <p:spPr>
          <a:xfrm>
            <a:off x="1143000" y="403848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183"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8D1C-EA5A-44D9-9C8F-2D3126FCE8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5" name="Picture 2" descr=""/>
          <p:cNvPicPr/>
          <p:nvPr/>
        </p:nvPicPr>
        <p:blipFill>
          <a:blip r:embed="rId1"/>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187" name=""/>
          <p:cNvSpPr txBox="1"/>
          <p:nvPr/>
        </p:nvSpPr>
        <p:spPr>
          <a:xfrm>
            <a:off x="380520" y="990360"/>
            <a:ext cx="5867640" cy="48006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bjective 1: Phase out POPs and reduce POPs releases</a:t>
            </a:r>
            <a:endParaRPr b="0" lang="en-US" sz="24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ve outcomes are expected for this objective:</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and use of controlled POPs chemicals phased out;</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mpted POPs chemicals used in an environmentally sound manner;</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s releases to the environment reduced;</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s waste prevented, managed, and disposed of, and POPs contaminated sites managed in an environmentally sound manner; and</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capacity built to effectively phase out and reduce releases of POPs.</a:t>
            </a:r>
            <a:endParaRPr b="0" lang="en-US" sz="2000" spc="-1" strike="noStrike">
              <a:solidFill>
                <a:srgbClr val="000000"/>
              </a:solidFill>
              <a:latin typeface="Calibri"/>
            </a:endParaRPr>
          </a:p>
        </p:txBody>
      </p:sp>
      <p:pic>
        <p:nvPicPr>
          <p:cNvPr id="188"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0041-27E1-408B-8FC8-3D1060ED05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228600" y="1143000"/>
            <a:ext cx="8229600" cy="4648320"/>
          </a:xfrm>
          <a:prstGeom prst="rect">
            <a:avLst/>
          </a:prstGeom>
          <a:noFill/>
          <a:ln w="0">
            <a:noFill/>
          </a:ln>
        </p:spPr>
        <p:txBody>
          <a:bodyPr anchor="t">
            <a:normAutofit/>
          </a:bodyPr>
          <a:p>
            <a:pPr>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93"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194" name="Picture 2" descr=""/>
          <p:cNvPicPr/>
          <p:nvPr/>
        </p:nvPicPr>
        <p:blipFill>
          <a:blip r:embed="rId1"/>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990360"/>
            <a:ext cx="8229600" cy="4724280"/>
          </a:xfrm>
          <a:prstGeom prst="rect">
            <a:avLst/>
          </a:prstGeom>
          <a:noFill/>
          <a:ln w="0">
            <a:noFill/>
          </a:ln>
        </p:spPr>
        <p:txBody>
          <a:bodyPr anchor="t">
            <a:normAutofit/>
          </a:bodyPr>
          <a:p>
            <a:pPr lvl="1" marL="349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34920">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19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2T23:30:24Z</dcterms:modified>
  <cp:revision>35</cp:revision>
  <dc:subject/>
  <dc:title>Focal Area and Cross Cutting Strategies – Chemicals</dc:title>
</cp:coreProperties>
</file>