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392E-4F3E-4C00-A4D5-4300F21CB58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D8F7-7B3B-4109-8E03-438470D8EA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46AC-B09A-4E87-8C2A-8BEE6B61E39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=&gt; 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Not repeating the scientific evidence and economic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Seek advice on timeframe, modalities, possible size of voluntary contributions, etc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E23-9149-4F2A-8EBC-CA121F6009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C1F-FE37-4FFD-B7D6-17E5D0DF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6CA-BCD4-453B-B4CC-D919F61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105-E641-40E9-8118-CEAFA3D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3B3-4CF8-409D-815F-52F3529B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5C45-CD9B-4A57-8D0C-7B09B97F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ED3C-2823-4D29-A7EE-DFE9E3A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9D99-9446-4270-AC5A-D7ED5DB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8A36-ED02-41F4-94EA-75811D0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76BE-0C21-48B0-87F9-C83134A6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8E02-9DD0-4240-B23E-7099E56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367-F845-45A3-AE4D-AEDD6C0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549-886D-4A06-9ECD-E611BF9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FCA-06E8-4C72-91F0-4466D39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F994-739F-4EA4-81B0-3D41A4A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5EAC-A7DE-4BDF-9E22-150D7EB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D8BF-292D-421D-8F76-E77A6586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5CCE-27C2-4EAA-B9D9-30C0AF79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4F9A-9AB8-460A-B63C-A0CBDC92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052C-D934-4779-B5F4-DE974D0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12DD-7D1F-40B7-A51B-3081B0F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1D28-6769-4C57-8ACC-C4672A6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D3DA-7358-4687-811C-AE8425A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D4A-004E-41D7-AB02-01C9685E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AB15-B3D9-4180-A6DF-9DF5879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A937-6DDC-454E-85DA-F667C19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E034-F551-4807-BEE2-49B86AE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E03E-42A6-459F-928C-A6B3238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3DC9-7D53-4E93-969E-942D803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3E92-90A7-4C7F-9EE3-5C06FA5B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952F-5928-4330-90CE-A42F7145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40F7-681A-4EE5-965D-5AAE636B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46E2-E7D0-4111-A500-A2A49AB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44C4-8447-4F33-B4C5-D5464A2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890-06C8-4B1E-B6FC-FF8ABD3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3C4A-4883-4166-B9C1-5DEBC7B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EF06-1836-4D0B-AAC3-2FD8235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E9D8-C00D-485A-BC77-6E71173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A0F8-E474-4117-A8B9-38FE2A0C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9F45-F5C4-4745-A2CB-9E2AE69E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5652-3541-472B-9AD5-6A96A70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B459-B015-41B4-B860-8819483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5B41-57BF-4F92-9247-34145CC9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AA8B-16C7-4EAE-9F21-044EFA8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E2B8-B7A8-4FC0-BCF6-CDDD00D8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CE3-D325-4069-9253-794FEBF0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5437-B4FB-4225-B8A5-A0CEF57F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C3DC-705B-46D2-B673-A5C6BB91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3095-52D1-4D9A-A2AA-E5B69B44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CB35-9C43-41CC-80E8-162D987F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3EF6-45D9-42F5-9098-1717761A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F790-F26F-4D1E-9B38-EDB4D01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0A2A8-88A1-4815-A687-2FAAAB9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8152-99F4-4E5D-8AB3-A3A046E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FDCE-0330-48F4-8749-F486A504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20CD-E4BE-47C6-ACE8-93DEF5A2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E11-9D4B-4004-B6CF-6B4B96B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8C1E-1239-478E-A630-F7D257D7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2B959-59C1-4020-B625-3315F42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043C-867D-4D2F-AA20-F66EBD7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B7BD1-42F1-4733-B21C-2E2BC7A5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9AD7-7B33-45A3-95FC-25D45E5D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E4E3-90F6-4E66-B1DF-CD18905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17A1-7E72-4404-BFD2-5C6314C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EC3D-76F5-4D40-8746-56EF39B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CC93-B311-4185-A51A-952EE76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6E82-3936-48DA-A6B5-356D55C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2C3-E136-4C52-AAA6-002C842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4B39-A629-49FF-9341-8C8B229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8FB1-D4A1-4A71-95D8-944F808E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07DE-16C7-41A2-BA61-E3F48598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8E29-6A5D-4947-A587-CD929970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E7C2-62C1-4FAD-8AEB-9A2D0E36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9670-5E00-4871-8E9F-7B084BF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DC43-590E-48DC-876A-DB5B24BF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44FF-3E33-4AD9-BB87-5B3C0E8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2AF9-55F4-4EF0-9EA7-E35ED9B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17EA-2F71-40B7-A895-C08EB96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D2C-4573-4EAC-AAF3-93B9A91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3F95-3172-4099-A00F-B3C35FA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A6FC1-BF9D-437E-A3D3-29617C6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F8491-B8EC-43E7-AB79-A9C0D2C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2310-FDD1-48BA-9DAC-9F88BDB2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3F618-9C46-454B-BCD7-3DD227B6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E1A-8A23-434E-BB8E-EDD983F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7421-C5CE-4845-9AF8-8B75CD9283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E479-DB2D-43E4-B923-ECADEE5BD3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25E0-6F3D-4D3C-BE17-6E12AA76F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3D3B-6399-4C83-B143-B3CB65799F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DF52-A20C-4846-96E0-D01FBBDDEA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A05-56CE-49AF-819D-602D51EE13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E77-02EC-426E-8A57-3AC46DBC89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56E-F472-4C2C-A851-572251DD41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E0F9-E943-4ACF-B9E1-6051AE3BD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F916-9C0D-4A78-88F3-38E2CAEC8B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8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30F-241B-4FD3-BFA1-8421C2752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F77-0218-45FC-BB99-D3B45CADBA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6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100-E966-45B5-8CFE-536CE69F1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DB3E-12BB-4884-BC10-7FACD0B01D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42d"/>
                </a:solidFill>
                <a:latin typeface="Calibri"/>
                <a:cs typeface="Times New Roman"/>
              </a:rPr>
              <a:t>إستراتيجية التكيف مع تغير المناخ في إطار الصندوق الخاص بأقل البلدان نمواً/الصندوق الخاص ب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ubtitle 4"/>
          <p:cNvSpPr/>
          <p:nvPr/>
        </p:nvSpPr>
        <p:spPr>
          <a:xfrm>
            <a:off x="1143000" y="4038480"/>
            <a:ext cx="6705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التكيف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في 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لدان الأقل نمواً/الصندوق الخاص بتغير المناخ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75212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كيف هو عمل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ن الآثار السلبية لتغير المناخ على الإنسان والأنظمة الطبيعية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ويشير التكيف إلى الجهود المبذولة للمواءمة مع التغيرات الفعلية، كما يشير إلى عملية التأقلم مع التغيرات المتوق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هدف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لبلدان النامية لزيادة قدرتها على مجابهة تغير المناخ من خلال إجراءات تكيف فورية وطويلة الأجل في سياسات وخطط وبرامج ومشروعات التنمية والأعمال ذات الصل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ثر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خسائر المطلقة بسبب التغيرات والتقلبات المناخ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A71-240B-4522-AF15-66C3C6E866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162-0E76-4D72-953D-FAF2120FF3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Vertical harvest Vietnam replenishment.tif"/>
          <p:cNvPicPr/>
          <p:nvPr/>
        </p:nvPicPr>
        <p:blipFill>
          <a:blip r:embed="rId1"/>
          <a:stretch/>
        </p:blipFill>
        <p:spPr>
          <a:xfrm>
            <a:off x="6400800" y="1219320"/>
            <a:ext cx="254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440" y="220968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الحد من قابلية التضرر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من الآثار السلبية ل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الحد من مخاطر الخسائر الاقتصادية من خلال تنفيذ تدابير وإجراءات التكي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1DA-0644-45AD-BA9A-3CF2F453C8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Users\owner\Desktop\water-wars-in-the-andes_1.jpg"/>
          <p:cNvPicPr/>
          <p:nvPr/>
        </p:nvPicPr>
        <p:blipFill>
          <a:blip r:embed="rId1"/>
          <a:stretch/>
        </p:blipFill>
        <p:spPr>
          <a:xfrm>
            <a:off x="6172200" y="1143000"/>
            <a:ext cx="2743200" cy="45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2666520"/>
            <a:ext cx="4876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زيادة القدرة على التكيف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 من أجل الاستجابة لآثار 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 في قطاعات التنمية المعنية، والموارد الطبيعية؛ وتنويع وتعزيز سبل كسب العيش ومصادر الدخ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AD0-E778-4CD5-BBA0-43E8678BCE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Bhutan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402588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27432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 تشجيع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نقل واعتماد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تكنولوجيات التكي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كما ورد تعريفها في اتفاقية المناخ (مثال: الصندوق الخاص بتغير المناخ ــ نقل التكنولوجيا،  الأردن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45ED-E584-40CD-9B9B-B986879794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Content Placeholder 9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قطاعات المستهدفة الأكثر تضررا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زراعة، والأمن الغذائي، وإدارة موارد المياه ــ جميع هذه المجالات ذات صلة قوية بالجهود المبذولة للحد من تدهور الأراض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خلال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ستئماني متعدد الأطراف، ونُهج برامج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، يعمل صندوق أقل البلدان نمواً والصندوق الخاص بتغير المناخ على تشجيع تضافر الجهود مع مجالات التركيز الأخرى لصندوق البيئة العالمية لا سيما تدهور الأراض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E42-52B5-4C7F-8D1B-0B6DBD509AF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التكيف من خلا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مويل قوي ويمكن التنبؤ به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والصندوق الخاص ب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ُهج برام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وإرشادات الاتفاقيات، وتحديد احتياجات البلد المعني، وإجراء تقييمات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0CC-0C40-48D9-B749-1385E38FFF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مات المشتركة لصندوق أقل البلدان نمواً/الصندوق الخاص بتغير المنا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50D-A847-4FC9-81BA-C37ADEAF01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029200" y="1670040"/>
            <a:ext cx="3276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ندوق الاستئماني لصندوق البيئة العالم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لفة متزاي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افع 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شفاف لتخصيص المو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143000" y="1676520"/>
            <a:ext cx="3352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ندوق أقل البلدان نموا والصندوق الخاص بتغيّر المناخ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اليف إ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مطلب بشأن المنافع العا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نظام شفاف لتخصيص الموا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وجود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إطار السياق المعتاد للعمل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سقف أعلى للمشروعات متوسطة الحج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فقة على أساس متجدد بالنسب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صندوق أقل البلدان نمو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Woman with wood Burkina Faso.tif"/>
          <p:cNvPicPr/>
          <p:nvPr/>
        </p:nvPicPr>
        <p:blipFill>
          <a:blip r:embed="rId1"/>
          <a:stretch/>
        </p:blipFill>
        <p:spPr>
          <a:xfrm>
            <a:off x="6019920" y="4038480"/>
            <a:ext cx="2057400" cy="17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F6E-9D67-4F4F-93B2-54FFF128FB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79200" y="1523880"/>
            <a:ext cx="206028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62920" y="1523880"/>
            <a:ext cx="2157120" cy="2743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44800" y="1523880"/>
            <a:ext cx="3303720" cy="27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81040" y="1523880"/>
            <a:ext cx="1951200" cy="2743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11280"/>
            <a:ext cx="2066760" cy="27687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2"/>
          <p:cNvSpPr/>
          <p:nvPr/>
        </p:nvSpPr>
        <p:spPr>
          <a:xfrm>
            <a:off x="2133720" y="4191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للمزيد من المعلومات، يرجى زيارة موقعي صندوق أقل البلدان نمواً والصندوق الخاص بتغير المناخ على شبكة الإنترن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صندوق أقل البلدان نمواً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http://www.thegef.org/gef/ld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صندوق الخاص بتغير المناخ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http://www.thegef.org/gef/sc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53:54Z</dcterms:modified>
  <cp:revision>759</cp:revision>
  <dc:subject/>
  <dc:title>Slide 1</dc:title>
</cp:coreProperties>
</file>