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22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3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4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F661-3378-4D56-B56E-E1AC782D649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1AB5-8702-4AB8-AE89-672950CBFD0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601A-3766-494E-9B7A-1402AA76774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=&gt; 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Not repeating the scientific evidence and economics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Seek advice on timeframe, modalities, possible size of voluntary contributions, etc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  <a:ea typeface="Arial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469E-5869-4DDA-9E2D-698CE56EDF0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B0B-487C-42BC-97E0-7D1D07EB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D7D-C010-413C-B0F6-FB846E01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B56-2BC5-456C-B15D-3FF00143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6B5-07CE-48D2-9F60-E7E92C56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65F3-4739-4DFA-A86F-6607D5D4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9EC6-E04D-4BC5-8304-2857DA6F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A09B-D930-491A-B080-6B2352FA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0504-08C3-4128-8E50-845DFE5F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B341-25BC-450B-8C41-095894D1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B380-48A6-4D81-AE47-FE37E813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6FDE-CB57-4B03-8D83-1B5DE822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A6C-9CF3-4CED-8B4C-7AE9B09D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0A35-9836-48FF-8116-FC84C044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F237-F32A-4B07-9E7A-385B5C25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D61D-8422-41B7-8B78-A0CC2367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C537-4BCD-4274-97BC-09F78AAF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41B1-5C12-4AEE-94AF-E98C7E24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89BB9-188F-4BAC-AA9C-71AD6504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A56C-EAA5-46D3-904E-44F718E2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76A1-F3E6-4E6B-ACE9-3EB9CB7D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3B70-E431-4BC7-BFEE-EDE82642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A28A-5E8B-4C92-9BB7-14B32AD1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C97-919E-403E-8061-27F73116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A747-151C-449B-AA31-CF137037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97B9-F2FB-45CF-9962-BAC578A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6312-C58C-4F60-BC7B-0CCCD99C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671D-8AD2-4E59-A1E9-969E3464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63E4-CDA6-4748-8E72-00798C4F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7175-5908-46C8-9E42-5EB70690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132CA-870D-46C3-AFDD-751D62D5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5FB0E-2E8A-4EC1-AE7D-1ED83E9D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0DEF3-E1B0-411D-885D-4807C15A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E578-1DF8-466F-B6DF-379D63BC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B8D-8926-4120-9D2B-2A3A5B6F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E6659-D630-49BB-BC47-DDD89A01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91AE-62FD-4F23-8342-A33AE29A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C756-5A51-4E42-8FCC-AC91AEE6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12BEF-B14D-4207-AFE9-1B475E7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FBC57-9B24-4506-9D37-E34814DF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D7EB0-D278-488F-A259-FD5259FC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755A5-953D-4B56-83CC-1D7B8B29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D24FB-7B9C-4CA5-B042-530955AC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5C0F-5929-44A2-A0C5-7BF8045D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5AE09-F738-4D2D-825F-A6C7AD23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4D8-77EF-4DCD-B4CF-D6724BCA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21DA3-1FB1-418B-A99F-00612D49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9A86F-D151-4CF5-BA5E-81DF9EC4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E581A-30A6-43F0-8A1E-94609EB8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92F0D-F684-4826-8D73-C50C9404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3984C-1FC3-4106-A4A6-059D1CF8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5365D-3951-4E8E-A2AC-BF6E173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08CFD-257D-4A6F-8FCD-71C3EECF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C56A2-F828-483D-B585-3873BD4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D9DEF-96EC-48C6-9B1C-5173A959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854D8-795E-48D7-90CF-2302228E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386-6223-4135-BC25-1312DE4A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23519-2E0F-440E-B0A8-2603651B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6C347-ED14-4E33-8FDE-C0D82ACB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D8110-02DA-49B6-BA2F-CA14643A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AD819-F09B-48A7-98A3-4F1544DE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B30A9-536D-4316-ABA4-B41BE8D3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A4A17-A16C-4BE1-8AAE-AC4F1E12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781BA-E6AD-462C-9D5F-9ECE9048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F8A04-2E9D-490E-A81B-BE4A1137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5FF86-04E7-46AF-9AA0-9AE0A7A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A66C5-8944-47AE-BFDD-89E4592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A12-F3DB-402E-BC4D-78486161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43F43-9CDC-4F36-9173-084F463B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E351D-E0DA-4859-A18B-9F583A00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84B6-DBCD-42EE-BFFE-29C10D76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0C42C-DFE8-4603-AFEE-723EF065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B81C1-BC28-454B-A33D-57967AB7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5E305-0F2E-4A61-8A3A-695ED19E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0BB35-0408-4AFA-BF09-E087AD40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02156-4CBF-4548-AB24-BA75805A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34562-A9B7-4000-89BD-EC8DAD87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A721B-EE0C-42A9-BAE3-5F855439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FA4-6186-470C-854F-5501312C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A9233-CDA7-4492-A0B5-830F6CE3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F4269-C078-4C46-AAA8-15A1FAD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A62C2-9BF0-4026-BBC4-8535DFB7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1A62E-FDF3-4730-8ED6-D65ACB6A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732A5-6013-4865-9EC7-ECFDEB5C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41E-9D26-484A-A873-59DC18F2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F95B-4B27-4D2B-AD8F-CD73803FD8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0A44-5631-4B0F-9C4C-025F21A3AFA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DB30-6348-45B1-B0C2-F9F3879FD0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05A1-BB1E-417A-B4E8-B3184A8FB71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59EC-693A-4A3D-9E1C-564E17E85D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4E8D-C153-4842-8BAC-6532CEC3D3A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884C-6AB6-42CE-A148-6DF410E971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ADFD-529B-4AA4-AFC8-AA602550C82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1072-6568-4EA4-A93A-E2015FBE9F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F15D-E053-4763-9E0D-91E59DAA2DD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218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D2A4-C026-4158-80EC-46C6A67576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DD43-E87F-4305-B64B-38507088907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26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40B0-F7D1-4AE1-99C7-3A49465A60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776C-53E4-41E0-B96F-0F51B5D9FA3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42d"/>
                </a:solidFill>
                <a:latin typeface="Calibri"/>
                <a:cs typeface="Times New Roman"/>
              </a:rPr>
              <a:t>إستراتيجية التكيف مع تغير المناخ في إطار الصندوق الخاص بأقل البلدان نمواً/الصندوق الخاص بتغير المنا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ubtitle 4"/>
          <p:cNvSpPr/>
          <p:nvPr/>
        </p:nvSpPr>
        <p:spPr>
          <a:xfrm>
            <a:off x="1143000" y="4038480"/>
            <a:ext cx="6705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إستراتيجية التكيف </a:t>
            </a:r>
            <a:r>
              <a:rPr b="1" lang="ar-EG" sz="2200" spc="-1" strike="noStrike">
                <a:solidFill>
                  <a:srgbClr val="000000"/>
                </a:solidFill>
                <a:latin typeface="Calibri"/>
                <a:cs typeface="Arial"/>
              </a:rPr>
              <a:t>في إطار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لدان الأقل نمواً/الصندوق الخاص بتغير المناخ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2010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752120"/>
            <a:ext cx="5334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كيف هو عمل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الحد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ن الآثار السلبية لتغير المناخ على الإنسان والأنظمة الطبيعية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ويشير التكيف إلى الجهود المبذولة للمواءمة مع التغيرات الفعلية، كما يشير إلى عملية التأقلم مع التغيرات المتوقع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هدف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ساندة البلدان النامية لزيادة قدرتها على مجابهة تغير المناخ من خلال إجراءات تكيف فورية وطويلة الأجل في سياسات وخطط وبرامج ومشروعات التنمية والأعمال ذات الصل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ثر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الخسائر المطلقة بسبب التغيرات والتقلبات المناخي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FC39-3EE1-4EFC-8F4E-C74A9E6B6F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B08C-8C65-4DAF-8099-C5D83F4889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Vertical harvest Vietnam replenishment.tif"/>
          <p:cNvPicPr/>
          <p:nvPr/>
        </p:nvPicPr>
        <p:blipFill>
          <a:blip r:embed="rId1"/>
          <a:stretch/>
        </p:blipFill>
        <p:spPr>
          <a:xfrm>
            <a:off x="6400800" y="1219320"/>
            <a:ext cx="254016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أهداف الإستراتيجية لصندوق أقل البلدان نمواً والصندوق الخاص بتغير المنا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440" y="220968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الحد من قابلية التضرر 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من الآثار السلبية لتغير المناخ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على سبيل المثال،الحد من مخاطر الخسائر الاقتصادية من خلال تنفيذ تدابير وإجراءات التكي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6E8D-6A6B-40DA-B9CA-6A59602B0B5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C:\Users\owner\Desktop\water-wars-in-the-andes_1.jpg"/>
          <p:cNvPicPr/>
          <p:nvPr/>
        </p:nvPicPr>
        <p:blipFill>
          <a:blip r:embed="rId1"/>
          <a:stretch/>
        </p:blipFill>
        <p:spPr>
          <a:xfrm>
            <a:off x="6172200" y="1143000"/>
            <a:ext cx="2743200" cy="451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أهداف الإستراتيجية لصندوق أقل البلدان نمواً والصندوق الخاص بتغير المنا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2666520"/>
            <a:ext cx="4876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.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زيادة القدرة على التكيف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 من أجل الاستجابة لآثار تغير المناخ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على سبيل المثال، في قطاعات التنمية المعنية، والموارد الطبيعية؛ وتنويع وتعزيز سبل كسب العيش ومصادر الدخ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5B2D-35E9-47C2-86AF-FC8024F726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Bhutan"/>
          <p:cNvPicPr/>
          <p:nvPr/>
        </p:nvPicPr>
        <p:blipFill>
          <a:blip r:embed="rId1"/>
          <a:stretch/>
        </p:blipFill>
        <p:spPr>
          <a:xfrm>
            <a:off x="6248520" y="1600200"/>
            <a:ext cx="2895480" cy="402588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هداف الإستراتيجية لصندوق أقل البلدان نمواً والصندوق الخاص بتغير المنا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2743200"/>
            <a:ext cx="4648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3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  <a:ea typeface="Arial"/>
              </a:rPr>
              <a:t>. تشجيع </a:t>
            </a:r>
            <a:r>
              <a:rPr b="0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نقل واعتماد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  <a:cs typeface="Arial"/>
              </a:rPr>
              <a:t>تكنولوجيات التكي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كما ورد تعريفها في اتفاقية المناخ (مثال: الصندوق الخاص بتغير المناخ ــ نقل التكنولوجيا،  الأردن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7723-6DC3-45AA-B325-98513AE051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Content Placeholder 9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لمضي قدماً: البرمجة في إطار صندوق أقل البلدان نمواً والصندوق الخاص بتغير المنا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قطاعات المستهدفة الأكثر تضررا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زراعة، والأمن الغذائي، وإدارة موارد المياه ــ جميع هذه المجالات ذات صلة قوية بالجهود المبذولة للحد من تدهور الأراضي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خلال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ستئماني متعدد الأطراف، ونُهج برامج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، يعمل صندوق أقل البلدان نمواً والصندوق الخاص بتغير المناخ على تشجيع تضافر الجهود مع مجالات التركيز الأخرى لصندوق البيئة العالمية لا سيما تدهور الأراض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C317-FAE7-46C4-A5E1-247ED38A4F2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لمضي قدماً: البرمجة في إطار صندوق أقل البلدان نمواً والصندوق الخاص بتغير المنا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وسيع نطاق التكيف من خلا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مويل قوي ويمكن التنبؤ به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صندوق أقل البلدان نمواً والصندوق الخاص بتغير المنا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ُهج برامج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ستجابة لتوجيهات وإرشادات الاتفاقيات، وتحديد احتياجات البلد المعني، وإجراء تقييمات مستقل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E47B-E6FB-49A6-B552-3674AB6B222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مات المشتركة لصندوق أقل البلدان نمواً/الصندوق الخاص بتغير المنا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05CE-51D9-4A3C-9156-A87A9A77BA5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5029200" y="1670040"/>
            <a:ext cx="327672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ندوق الاستئماني لصندوق البيئة العالمية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لفة متزاي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افع عالم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ام شفاف لتخصيص الموا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ويل مشتر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143000" y="1676520"/>
            <a:ext cx="33526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ندوق أقل البلدان نموا والصندوق الخاص بتغيّر المناخ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اليف إضاف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 يوجد مطلب بشأن المنافع العال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 يوجد نظام شفاف لتخصيص الموار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ويل موجود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إطار السياق المعتاد للعمل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B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سقف أعلى للمشروعات متوسطة الحج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فقة على أساس متجدد بالنسب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لصندوق أقل البلدان نموا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7" descr="Woman with wood Burkina Faso.tif"/>
          <p:cNvPicPr/>
          <p:nvPr/>
        </p:nvPicPr>
        <p:blipFill>
          <a:blip r:embed="rId1"/>
          <a:stretch/>
        </p:blipFill>
        <p:spPr>
          <a:xfrm>
            <a:off x="6019920" y="4038480"/>
            <a:ext cx="2057400" cy="170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شكراً لك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5CDC-DC8A-4AC3-B717-A1D3098720B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79200" y="1523880"/>
            <a:ext cx="2060280" cy="2743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62920" y="1523880"/>
            <a:ext cx="2157120" cy="2743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44800" y="1523880"/>
            <a:ext cx="3303720" cy="2743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81040" y="1523880"/>
            <a:ext cx="1951200" cy="2743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11280"/>
            <a:ext cx="2066760" cy="27687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2"/>
          <p:cNvSpPr/>
          <p:nvPr/>
        </p:nvSpPr>
        <p:spPr>
          <a:xfrm>
            <a:off x="2133720" y="4191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للمزيد من المعلومات، يرجى زيارة موقعي صندوق أقل البلدان نمواً والصندوق الخاص بتغير المناخ على شبكة الإنترن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صندوق أقل البلدان نمواً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/>
              </a:rPr>
              <a:t>http://www.thegef.org/gef/ld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صندوق الخاص بتغير المناخ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7"/>
              </a:rPr>
              <a:t>http://www.thegef.org/gef/sc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Lisa</cp:lastModifiedBy>
  <dcterms:modified xsi:type="dcterms:W3CDTF">2012-04-22T23:53:54Z</dcterms:modified>
  <cp:revision>759</cp:revision>
  <dc:subject/>
  <dc:title>Slide 1</dc:title>
</cp:coreProperties>
</file>