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1FBD-A691-4028-9E61-E73B9547108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ADF-084C-451A-84BB-77EB1C050DD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B403-FB24-4058-9CEF-292338355C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=&gt; 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Not repeating the scientific evidence and economic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Seek advice on timeframe, modalities, possible size of voluntary contributions, etc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72D2-552A-4DAA-BB73-C125DB3614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FCB-6966-4868-AB3D-384158D9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C74-6BB0-47EC-92E6-809CCB7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439-3DF7-44A3-9E85-37EE4D88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0FC-12E1-46FF-BCED-B76448BE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2572-A8FF-488D-9FF0-483CF9C0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2EEF-2934-4434-B13B-2CB888D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FBD6-9B4B-49BD-B6DA-0C729C0F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E8F0-7566-48A9-8957-1E2A19DB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D9FC-9858-4DFE-973D-D2EEC47E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E2A0-95D9-4BB7-9E7C-3E6037B2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C8E0-700A-45C5-AF6B-F21677D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DBC-19FA-4972-A118-29CA17D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AFC2-2676-4143-BD15-328CD23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E91A-BB09-455D-A4E9-2E8434B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05CB-A093-4F25-A238-E66747EC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6572-FB8A-44F0-9F39-B9CCB479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F54F-E9C2-4298-A35E-87AADDC6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A83D-3A1B-4C8D-996D-B90E3620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BA1F-ADA1-4FC7-9BCB-B9F42ACB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D872-AEC0-44FB-BC67-8845D8DD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1F85-0060-4088-8FB7-EA7A19CF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8629-0D8B-46CF-8892-E1EDCA04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C6B-89F2-4994-A322-A9A6E675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D85B-BF19-4395-AE9E-2576989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FF42-478B-4DD9-A021-7D1B3C9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A0E7-8AFF-4AB8-B211-B59F377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53A1-1997-49A2-8449-5810486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7111-C2CB-4F04-A7D1-B02EB7C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FEF6-7370-42B5-B4A6-5A3E1CDC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B6E6-256C-4BC3-82B9-40D7AFF4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21E7-2071-469A-A815-CD3C76FB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B7C6-7645-4AB0-BAE4-C25D9961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4577-7340-4D10-AFBB-4F47B3B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B15-305F-46FA-839B-CD7A097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2429-7DD1-40AE-B212-A2AB2CA2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A0FC-9804-4779-B2BC-F52C52C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CD254-BAFB-44EA-A36B-9B658FA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53E2-AEA4-47C8-A2F2-5B02DF5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84FC-2DF7-42A2-B2B8-BDC5B83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12B5-FDA4-4F06-BD82-0537724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A3BF-9304-471E-B8D3-C56CCEE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31DE9-FDC6-49BB-8578-5135F2CF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3FBBB-B6FF-427E-8C61-69D49B47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1381-0272-4A3F-BC26-6FB84DC5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AC5-EDDC-458D-B804-6D677FC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F6219-7348-4CCC-B01E-5D8528C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AD32-23B8-4D55-B3FC-72DF5E82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F71A-C84B-47F3-BD6B-F563DC1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1D22-7FB2-4F13-8B5A-C746DDF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419E-F1B8-489C-B056-0B4D28F5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39F3-D12C-4CAA-B4FD-ABF5D51C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7FEA4-CE31-4A53-8CD5-E244CDE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FBE0-683B-4F05-B8F0-3C5C251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69CB-5F2D-47A3-B29C-4641220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2C1B2-58C9-4D7F-94B5-6B99BE3F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CD0-5D93-4E13-B22E-D515FBF9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F910-6295-4493-896B-1BBC7547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C856-EE02-40AE-8398-652F2C56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1FEAF-2EE9-47C3-B375-8A502B4C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99725-89CD-4F76-92A9-879524A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6AFB-AB42-4B2B-A9DB-32B2E2E6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793F5-E1DB-443D-9AE0-AB9BE33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E06E-C88C-4190-A485-1B75B24F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CD23-C622-44F2-9568-A5E9895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1F84-9792-4EEE-BDA1-46ECCD7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DF9D-6E3F-40D8-A74F-7A70AE4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BB6-91A3-4BB4-9DB7-D5A5DE54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5949-969C-42F9-A056-9E04238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33A2-1567-450B-B76B-00E4C448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C89B-73DD-4211-B1F4-C14AC0B0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1BE3-ABA4-4887-A56B-5759B4E2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470A3-EB9F-434D-900B-A9D87FF4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16B71-D7A9-494D-8B60-E29CAA58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9AF17-1730-43DC-BA1E-5F76BD4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61F6-BEB0-494D-ABD6-FD42E81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54349-FB28-487C-B2A8-F751C72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3284-46D7-4D4A-B2A7-1D36E6B7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E26-2819-4E8D-B3A5-01E683F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6030-4DFA-48F2-AA48-956D4BF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8E979-F0E4-45D8-BE8C-C5A774D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B0FF-18D1-4783-B0CE-11B0CDB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02795-D9C5-4C38-9ACB-6059F010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6B919-7B99-4A5B-B928-D77585B4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A39-204C-4A9C-A89D-845FE22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E85-44E0-4885-9F38-AFCA9032F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1382-81FC-431A-9EC3-F9B4D23222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D7C2-BCD3-4EE5-8083-B98D81A1CA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715-60CC-4C6B-8D63-815CF7E03D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3566-E29D-4C75-801B-AD76ED19D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C654-82DF-42FB-B60F-1F305D11A5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CD1-8E2E-4D07-AD88-286C15421D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102-80FC-4B5C-8A0E-8E0A2E7766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E49-AC53-478D-ABC9-AD998ED4C4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C60D-379B-4DEC-8E74-3673B0FFEE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8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2844-89C7-4E9C-AE30-40F276588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8EEC-0F28-432C-A9A3-E87A50CB52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6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4733-CC58-42F3-B0A8-CD4327F056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40E-8C45-4590-95DD-3D51C2561F4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42d"/>
                </a:solidFill>
                <a:latin typeface="Calibri"/>
                <a:cs typeface="Times New Roman"/>
              </a:rPr>
              <a:t>إستراتيجية التكيف مع تغير المناخ في إطار الصندوق الخاص بأقل البلدان نمواً/الصندوق الخاص ب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ubtitle 4"/>
          <p:cNvSpPr/>
          <p:nvPr/>
        </p:nvSpPr>
        <p:spPr>
          <a:xfrm>
            <a:off x="1143000" y="4038480"/>
            <a:ext cx="6705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إستراتيجية التكيف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في 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لدان الأقل نمواً/الصندوق الخاص بتغير المناخ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010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752120"/>
            <a:ext cx="5334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كيف هو عمل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د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ن الآثار السلبية لتغير المناخ على الإنسان والأنظمة الطبيعية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ويشير التكيف إلى الجهود المبذولة للمواءمة مع التغيرات الفعلية، كما يشير إلى عملية التأقلم مع التغيرات المتوق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هدف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ساندة البلدان النامية لزيادة قدرتها على مجابهة تغير المناخ من خلال إجراءات تكيف فورية وطويلة الأجل في سياسات وخطط وبرامج ومشروعات التنمية والأعمال ذات الصل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ثر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لخسائر المطلقة بسبب التغيرات والتقلبات المناخ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3626-55EE-43DA-AC55-FB11C95D37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14C-424C-47A6-8EEC-9D46CFB31E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Vertical harvest Vietnam replenishment.tif"/>
          <p:cNvPicPr/>
          <p:nvPr/>
        </p:nvPicPr>
        <p:blipFill>
          <a:blip r:embed="rId1"/>
          <a:stretch/>
        </p:blipFill>
        <p:spPr>
          <a:xfrm>
            <a:off x="6400800" y="1219320"/>
            <a:ext cx="25401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440" y="220968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الحد من قابلية التضرر 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من الآثار السلبية لتغير 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على سبيل المثال،الحد من مخاطر الخسائر الاقتصادية من خلال تنفيذ تدابير وإجراءات التكي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2B3-DDD2-40AC-9AA5-D34071982E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Users\owner\Desktop\water-wars-in-the-andes_1.jpg"/>
          <p:cNvPicPr/>
          <p:nvPr/>
        </p:nvPicPr>
        <p:blipFill>
          <a:blip r:embed="rId1"/>
          <a:stretch/>
        </p:blipFill>
        <p:spPr>
          <a:xfrm>
            <a:off x="6172200" y="1143000"/>
            <a:ext cx="2743200" cy="45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2666520"/>
            <a:ext cx="4876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زيادة القدرة على التكيف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 من أجل الاستجابة لآثار تغير 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على سبيل المثال، في قطاعات التنمية المعنية، والموارد الطبيعية؛ وتنويع وتعزيز سبل كسب العيش ومصادر الدخ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622-3FD1-4744-924B-1F1A2D0950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Bhutan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402588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27432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. تشجيع 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نقل واعتماد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تكنولوجيات التكي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كما ورد تعريفها في اتفاقية المناخ (مثال: الصندوق الخاص بتغير المناخ ــ نقل التكنولوجيا،  الأردن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105-6ABC-4063-B545-9AEB5935EA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Content Placeholder 9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ضي قدماً: البرمجة في إطار صندوق أقل البلدان نمواً والصندوق الخاص بتغير المنا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قطاعات المستهدفة الأكثر تضررا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زراعة، والأمن الغذائي، وإدارة موارد المياه ــ جميع هذه المجالات ذات صلة قوية بالجهود المبذولة للحد من تدهور الأراض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خلال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ستئماني متعدد الأطراف، ونُهج برامج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، يعمل صندوق أقل البلدان نمواً والصندوق الخاص بتغير المناخ على تشجيع تضافر الجهود مع مجالات التركيز الأخرى لصندوق البيئة العالمية لا سيما تدهور الأراض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DC3A-3152-43DF-A0C4-02567D53D5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ضي قدماً: البرمجة في إطار صندوق أقل البلدان نمواً والصندوق الخاص بتغير المنا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وسيع نطاق التكيف من خلا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مويل قوي ويمكن التنبؤ به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صندوق أقل البلدان نمواً والصندوق الخاص ب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ُهج برامج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وإرشادات الاتفاقيات، وتحديد احتياجات البلد المعني، وإجراء تقييمات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2F5C-F2F8-4FD5-8708-0C2978DAAC1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مات المشتركة لصندوق أقل البلدان نمواً/الصندوق الخاص بتغير المنا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9D8-B870-489B-BB62-70ADE3E3A4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029200" y="1670040"/>
            <a:ext cx="32767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ندوق الاستئماني لصندوق البيئة العالم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لفة متزاي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افع 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شفاف لتخصيص المو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143000" y="1676520"/>
            <a:ext cx="33526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ندوق أقل البلدان نموا والصندوق الخاص بتغيّر المناخ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اليف إضاف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 يوجد مطلب بشأن المنافع العا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 يوجد نظام شفاف لتخصيص الموا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موجود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إطار السياق المعتاد للعمل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سقف أعلى للمشروعات متوسطة الحج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فقة على أساس متجدد بالنسب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صندوق أقل البلدان نمو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Woman with wood Burkina Faso.tif"/>
          <p:cNvPicPr/>
          <p:nvPr/>
        </p:nvPicPr>
        <p:blipFill>
          <a:blip r:embed="rId1"/>
          <a:stretch/>
        </p:blipFill>
        <p:spPr>
          <a:xfrm>
            <a:off x="6019920" y="4038480"/>
            <a:ext cx="2057400" cy="170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شكراً لك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A95-4DCF-4E3E-BBD5-F9BD8AF4FF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79200" y="1523880"/>
            <a:ext cx="2060280" cy="2743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62920" y="1523880"/>
            <a:ext cx="2157120" cy="2743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44800" y="1523880"/>
            <a:ext cx="3303720" cy="2743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81040" y="1523880"/>
            <a:ext cx="1951200" cy="2743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11280"/>
            <a:ext cx="2066760" cy="27687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2"/>
          <p:cNvSpPr/>
          <p:nvPr/>
        </p:nvSpPr>
        <p:spPr>
          <a:xfrm>
            <a:off x="2133720" y="4191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للمزيد من المعلومات، يرجى زيارة موقعي صندوق أقل البلدان نمواً والصندوق الخاص بتغير المناخ على شبكة الإنترن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صندوق أقل البلدان نمواً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http://www.thegef.org/gef/ld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صندوق الخاص بتغير المناخ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http://www.thegef.org/gef/sc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53:54Z</dcterms:modified>
  <cp:revision>759</cp:revision>
  <dc:subject/>
  <dc:title>Slide 1</dc:title>
</cp:coreProperties>
</file>