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0921-C271-4FF2-BFAA-285F27B6A1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444D-9FD7-4295-872B-CA339A3107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BFE-AB20-4A86-AE99-60A45632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454-A997-4DAC-917E-CA203163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B00-2352-4424-9B8F-20CF72BA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9AB-5151-4229-8383-5B7DC75A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14DE-CFF4-47CC-921E-D60F60B0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EBF8-B5D4-4F84-B1A1-4D0F1BB5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3344-35FE-47FC-9A25-44A78F07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7DFF-DB09-47BB-95C7-ECB3E226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9CB8-2618-4215-AD46-915B0CCD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65E7-AB7E-4BC9-860A-DF16526A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CE1D-00B2-48C0-AE3A-128445AC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C8B-CE21-4873-A611-3E6AAD10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4471-B231-4D34-B5C2-C319FCAD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CE71-C402-4A42-9BB3-41C7A742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DF74-4851-413F-8E37-758187FB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E8F5-D04A-4F66-9F6F-31A6E911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D512-3D70-4197-884D-996C732D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2C348-92F8-4819-8A43-2EA6C769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02177-5D42-4EF9-B065-AADCE9E7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3FFB7-6A53-46F5-898E-3C873266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D557-A2D3-41CA-9E1D-848BE980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29CE9-B142-4A3C-BBF2-2B634CA6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609-116E-4BB1-84B4-3BFB63A6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FDA60-11A0-4438-995F-2513948D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EB9B2-E469-434E-A6EC-683B24FC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421B3-F06E-42B4-8C19-AECB8F6A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B7E5-C308-4940-83C2-732009C8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B689D-C192-4D80-8862-7CA33338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37B1F-8918-4D3D-99A5-4A5C2EB6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FD5AC-5BA3-46B6-B087-8A6A0F17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5BCEA-4C92-4830-BD77-097033B3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EA14E-4D2A-4353-99FC-CD7E53A5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F7ADC-0178-42A7-B356-D8B86F98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E4C-042E-4C1E-AA03-8E55BE23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F8756-3A23-490C-94FE-3164E36D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99444-D3DB-403C-B8D1-B267EE61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25CFC-0B3F-42A5-9C68-0FC2E0CE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73BD2-BE07-4DDF-AA19-972CABE3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39789-063F-4C11-843B-4FEC45A6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FA0EE-55BA-4CD4-BCCB-CD666DB2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A0E8B-367A-4AB0-BB0A-4C10057C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68929-44CA-4655-9117-E05F1065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FD5B9-1D4F-4FDC-9B32-6A6A3901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3502C-CF90-4EDC-BA36-4E6B4460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E5D-39D0-4FE2-9B92-986839BE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FD83C-F9B9-4E70-A60D-9FC9A84D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A609A-5962-4754-8095-1BEB6676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5361F-E2A8-4B5A-80C7-3B30822F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15E70-16E9-4371-B091-7560309E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014D3-86F4-4BC4-9D7A-B29E10C2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112B8-B955-481C-BBCA-AE5C6370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751F9-830B-4AF7-A411-08F45264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187D6-622C-49F8-A765-316943ED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2A707-E663-4B49-A59B-1C6540E3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4EF44-E7E3-42E2-9FDB-9DE2BF0C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BFC-3F0A-41E1-8A5E-F24CD7A3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A4EFB-FAE8-4BAE-8B13-705DDB9E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65C-1A87-4032-9961-30F0F65A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66D-EB7E-436A-A8C2-8B0C70C6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C1A-38D0-4C66-91B0-679E9083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562D-9F9C-418F-AA44-37702D99ADB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B9A0-EEFB-46E4-95AD-67298E506DFF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8495-9027-4B9B-A5BE-5014D42BD01D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7EA4-4829-447B-A59D-37C6BF79A6D4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8D53-DD0D-4345-866B-9AA7A8F27321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النهج الإستراتيجي لصندوق البيئة العالمية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إزاء بناء القدرا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295280" y="3581280"/>
            <a:ext cx="6705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4617b"/>
                </a:solidFill>
                <a:latin typeface="Calibri"/>
                <a:cs typeface="Arial"/>
              </a:rPr>
              <a:t>أربعة مسارات محددة لتنمية قدرات البلدان بهدف تنفيذ اتفاقية ريو</a:t>
            </a:r>
            <a:r>
              <a:rPr b="0" lang="ar-SA" sz="3000" spc="-1" strike="noStrike">
                <a:solidFill>
                  <a:srgbClr val="04617b"/>
                </a:solidFill>
                <a:latin typeface="Calibri"/>
                <a:ea typeface="Arial"/>
              </a:rPr>
              <a:t> (المجلس في </a:t>
            </a:r>
            <a:r>
              <a:rPr b="0" lang="ar-SA" sz="3000" spc="-1" strike="noStrike">
                <a:solidFill>
                  <a:srgbClr val="04617b"/>
                </a:solidFill>
                <a:latin typeface="Calibri"/>
                <a:ea typeface="Arial"/>
              </a:rPr>
              <a:t>2003</a:t>
            </a:r>
            <a:r>
              <a:rPr b="0" lang="ar-SA" sz="3000" spc="-1" strike="noStrike">
                <a:solidFill>
                  <a:srgbClr val="04617b"/>
                </a:solidFill>
                <a:latin typeface="Calibri"/>
                <a:ea typeface="Arial"/>
              </a:rPr>
              <a:t> ــ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  <a:ea typeface="Arial"/>
              </a:rPr>
              <a:t> (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  <a:ea typeface="Arial"/>
              </a:rPr>
              <a:t>C/22.8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  <a:ea typeface="Arial"/>
              </a:rPr>
              <a:t> </a:t>
            </a:r>
            <a:r>
              <a:rPr b="0" lang="ar-EG" sz="3000" spc="-1" strike="noStrike">
                <a:solidFill>
                  <a:srgbClr val="04617b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قييم الذاتي للاحتياجات من القدرات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زيز عناصر تنمية القدرات في مشروعات صندوق البيئة العالمية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شروعات المستهدفة لتطوير القدرات (التي كانت تعرف سابقاً بمشروعات بناء القدرات ــ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برامج الخاصة ببلدان محددة لتلبية الاحتياجات المهمة الخاصة ببناء القدرات  في البلدان الأقل نموا والدول الجزرية الصغيرة النام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4617b"/>
                </a:solidFill>
                <a:latin typeface="Calibri"/>
                <a:cs typeface="Arial"/>
              </a:rPr>
              <a:t>الأهداف الإستراتيجية للتنمية الشاملة للقدرات في إطار العملية الخامسة لتجديد موارد الصندوق (المبلغ المتاح 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Arial"/>
              </a:rPr>
              <a:t>44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Arial"/>
              </a:rPr>
              <a:t> مليون دولار أمريكي</a:t>
            </a:r>
            <a:r>
              <a:rPr b="0" lang="ar-EG" sz="3200" spc="-1" strike="noStrike">
                <a:solidFill>
                  <a:srgbClr val="04617b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88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 تعزيز قدرات أصحاب المصالح المباشرة بهدف الانخراط من خلال عملية تشاور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وليد المعلومات والمعارف والوصول إليها واستخدام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عزيز القدرات اللازمة لإعداد السياسات والتشريعات من أجل تحقيق منافع عال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عزيز القدرات من أجل إدارة وتنفيذ إرشادات الاتفاقي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عزيز القدرات لرصد وتقييم الآثار والاتجاهات البي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cs typeface="Arial"/>
              </a:rPr>
              <a:t>المتطلبات العامة للمشروع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88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وافق مع الأهداف الإستراتيجية من أجل التنمية الشاملة للقد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r" rtl="1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http://www.thegef.org/gef/GEF5_Capacity_Development_Strategy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دد مجالات التركيز (لتحقيق منافع لثلاثة مجالات تركيز على الأقل)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أولويات من خلال عملية التقييم الذاتي لبناء القدرات الوطنية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قديم التمويل المشترك بنسبة لا تقل ع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: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مكن أن تكون المشروعات متوسطة الحجم أو كاملة الحج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Calibri"/>
                <a:cs typeface="Arial"/>
              </a:rPr>
              <a:t>شكراً لكم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Lisa</cp:lastModifiedBy>
  <dcterms:modified xsi:type="dcterms:W3CDTF">2012-04-22T23:56:18Z</dcterms:modified>
  <cp:revision>119</cp:revision>
  <dc:subject/>
  <dc:title>GEF NGO Network</dc:title>
</cp:coreProperties>
</file>