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262-2ACE-4BD6-87DD-4E469B73D5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CC5-5CBD-41F3-ABCA-6E92A29178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30C-0825-4AAD-87F4-F31125E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D13-6DC7-4C4D-A500-0CA9A12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E0A-62B0-4AAE-B9BD-2CB59744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1BC-548D-45BD-A6E7-64F3C8B2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C625-7AED-4083-93FE-FDFD34C3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A92-5980-45C6-8734-2BC0ABB2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2C88-4044-4BEE-8E4D-51853C1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FC51-3DC9-4FBB-A2AF-61C05C46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903B-921F-4CBF-96CF-1AAC871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4977-D07A-489C-9E1E-5884CC00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A77B-B532-4202-8D18-EBCBB75A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0FB-5B5C-4823-BF80-7AF57C4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B65-FA60-4906-A423-F4DBD7A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A25A-0896-49C0-9282-BD7D716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C40D-7C0B-40B4-B80B-D51ED8B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B580-60CA-4D11-9ED5-683EA58E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4E13-A39C-4882-BFB6-7B8689E5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6AF2-D4E6-4509-8F25-F5E91A34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523F-4783-4EA8-8635-2BB7CCF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7DA3-0B8C-45BE-9207-9D6CEDA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3214-F98E-4524-907A-312F1FF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A81C-E86C-4382-9487-DC1C402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4AF-BDF0-403F-97A6-807B7D7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E7D7-EA70-4C76-9EB1-55CD58F1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BBE2-DEB3-4960-9D3B-8D31B83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21FE-FFB0-43F3-BD54-CF38A34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69AF-0E8C-4F80-BB8C-CFEE8AD7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F487-8192-4D0D-AC2E-B8C4063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9ABC-4E83-4EC3-B5F4-622C0923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DFCE-CE70-4890-AF4A-9E3A76D0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336E-5657-4BE0-8029-5C567145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810C-6276-4B84-9D73-C8B622D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72C0-10B2-4EBC-8E1D-07B4C5E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C3C-2A16-474F-A268-1C94E9F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6104-E0F1-4B8D-86F8-6206AB9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432C-D4EA-4503-9A30-7EBB1077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9C98-7786-451C-8D7D-BE3CF499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190E-5DC8-4796-8F9A-FF2D597D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F232-5283-46A0-BBAA-2C002C80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5DDE-8205-4EA9-A98B-F181179B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7A2C-FF39-4618-B8F9-DCD737A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A4E4-7DE0-48DE-9434-E581C40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C05C-4162-4DCB-9D7A-DA04586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8439-E237-4E1B-B598-928271B3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88A-1B25-4A8D-A976-E94C955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2B19-5264-4377-B327-48926E1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68B6-5BA8-4B79-940D-5AD24FD2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F3490-4403-4905-81D5-B8F0A43E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A2DD-92C8-4C1F-8934-3EF9F171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3C30-429C-4B42-889D-A24EE0C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8115-E18F-4852-9A13-BF4233D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23C1-4706-4CEC-921C-D2F09A8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34160-53EC-40AD-A705-4F9181A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D061-BBD9-4111-BC96-03A1E45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711D-F3E7-4F39-BD15-DABC059A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FE-1043-4E84-9A77-7A3BC79A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C4CB-A88F-4BBC-9E48-E5275185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3E5-D99E-4ABB-B327-74CEA18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7BF-C625-4E6C-A957-F730A8E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46C-0770-4F63-B566-A9BCAF5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0D3A-FB83-437B-A719-275B281078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B163-A991-40BD-952E-E49983E25DA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5DD-35A5-42CD-83C2-75BE97AA609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F24A-2B52-4A3D-A284-C0238A69608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ED8-47A9-487D-8B74-7A6DB7C3E4A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النهج الإستراتيجي لصندوق البيئة العالمية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إزاء بناء القدر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3581280"/>
            <a:ext cx="6705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4617b"/>
                </a:solidFill>
                <a:latin typeface="Calibri"/>
                <a:cs typeface="Arial"/>
              </a:rPr>
              <a:t>أربعة مسارات محددة لتنمية قدرات البلدان بهدف تنفيذ اتفاقية ريو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(المجلس في 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2003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ــ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(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C/22.8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قييم الذاتي للاحتياجات من القدرات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زيز عناصر تنمية القدرات في مشروعات صندوق البيئة العالمية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المستهدفة لتطوير القدرات (التي كانت تعرف سابقاً بمشروعات بناء القدرات ــ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 الخاصة ببلدان محددة لتلبية الاحتياجات المهمة الخاصة ببناء القدرات  في البلدان الأقل نموا والدول الجزرية الصغيرة النا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4617b"/>
                </a:solidFill>
                <a:latin typeface="Calibri"/>
                <a:cs typeface="Arial"/>
              </a:rPr>
              <a:t>الأهداف الإستراتيجية للتنمية الشاملة للقدرات في إطار العملية الخامسة لتجديد موارد الصندوق (المبلغ المتاح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44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 مليون دولار أمريكي</a:t>
            </a:r>
            <a:r>
              <a:rPr b="0" lang="ar-EG" sz="3200" spc="-1" strike="noStrike">
                <a:solidFill>
                  <a:srgbClr val="04617b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 تعزيز قدرات أصحاب المصالح المباشرة بهدف الانخراط من خلال عملية تشاو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وليد المعلومات والمعارف والوصول إليها واستخدام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اللازمة لإعداد السياسات والتشريعات من أجل تحقيق منافع 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من أجل إدارة وتنفيذ إرشادات الاتفاق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لرصد وتقييم الآثار والاتجاه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cs typeface="Arial"/>
              </a:rPr>
              <a:t>المتطلبات العامة للمشروع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وافق مع الأهداف الإستراتيجية من أجل التنمية الشاملة ل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http://www.thegef.org/gef/GEF5_Capacity_Development_Strategy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دد مجالات التركيز (لتحقيق منافع لثلاثة مجالات تركيز على الأقل)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ولويات من خلال عملية التقييم الذاتي لبناء القدرات الوطنية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قديم التمويل المشترك بنسبة لا تقل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: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المشروعات متوسطة الحجم أو كاملة الحج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Calibri"/>
                <a:cs typeface="Arial"/>
              </a:rPr>
              <a:t>شكراً لكم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56:18Z</dcterms:modified>
  <cp:revision>119</cp:revision>
  <dc:subject/>
  <dc:title>GEF NGO Network</dc:title>
</cp:coreProperties>
</file>