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F Expanded Constituency Worksh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B05F-1D5B-4D5C-BA0F-D5B5108A295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508D-D3B3-4E7C-BF3D-88BDBF382A8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حلقة العمل الموسعة على مستوى البلدان الأعضاء في صندوق البيئة العالمية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7810-8696-46A2-9E72-3ABE108B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11A-D107-455D-A6F1-231B4C31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9BE-24F3-40FE-82AB-6A768770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F3C-88CE-4EAF-852F-2AFF5BCB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D3EC-3C6E-41E6-9AF4-41DBA745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044B-DD5D-48E9-B0A8-0631E7E8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7B6B-A285-429D-9FC8-ED1B6B2A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F7B6-CD46-4B4F-A44B-9A570AA8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E1E0-6852-4B82-8925-88281B60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71DB-E1A9-4B10-B30B-A509F6B3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A733-45AE-4405-A8E3-4E0FD9B0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B70-E070-49C6-B1BF-FCCB7F15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A8DE-2E2B-4BDB-BC7B-A8EAB99D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35F4-0D0D-48CB-9E54-AC19CF9B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FAD1-B72D-4210-8E86-5B0EC947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532E-23E1-411D-92BC-DF3094AC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F542-9D8F-4584-B052-CE714069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7A6ED-7D40-4B60-9803-4C777A74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70841-0597-44A0-B35F-83C53C9F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A52A6-9BED-487D-AC5B-36FD41D1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3D0A4-CC55-46DC-AEA2-8FEEBB22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E2D08-9090-4065-96F4-1EB66CE6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C2B-3E14-4FE0-A0E8-691A32AC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74446-D4C3-4BDB-8546-C1F43AAE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75ACA-6CC0-4D8D-90D3-E91B54BC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97826-EF5E-4436-8FE6-F15C23C0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D071E-7093-4573-A71C-428C06B3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36AFA-DAFC-4169-8669-ADC47ABC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143C0-A437-4982-BB87-6EDD5551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58678-705F-4AA8-88DE-5B32CAC0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BB8A9-F953-49FD-B637-4F088A51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27302-78F5-422A-A4A7-F1B03825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8E01C-7A01-463F-91C5-BD0FF8F7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051-C21D-4878-B400-D7BEEAF9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43465-E893-40B5-B256-5575615C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B129F-4FEF-4AB5-97F8-E36C13AC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87BA9-9C29-4352-9B4B-97C3AE80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C1A40-5080-47A4-96E8-7900351D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46076-A943-4304-A937-B5D74D92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545FE-AB61-48E5-AFD2-4BFA5396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EA26E-87A6-499E-AAA6-FBCAD0FF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EA4EA-D480-46AC-8ABD-951CCCF6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417A5-D0FA-44C8-89CE-D3C00AEB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94058-0189-4D08-BCDD-A6FDC869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263-8C5D-4F09-98CB-CD2A8818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3F14D-2243-47F5-B72D-1F1F8B85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32CA8-9BCF-439C-822F-07B324C1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DCFB0-D0F9-4E31-9DE8-8CD37D8A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EE173-9486-4D52-B967-A8764FBB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2D1DD-AEFF-46D8-9D7B-A51DDCDA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F06CD-40A5-4A52-9FC5-9926B5F0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284F4-CD6F-462C-BA78-E12BA790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D0107-A124-400B-ADFC-475557AC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9F097-D477-4FD4-82AA-013CF62D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59588-8F79-46B4-A31C-00670C8C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30C4-F7F5-4D85-9D5C-BBD68ECE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34E63-8B26-477B-8708-CD84D89E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7F1F-FEC5-4CF3-8866-9A55600D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DC30-EA0F-4757-8AF1-22F473E9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91D8-50E8-42AD-9E2C-07B51CAC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B4AD-C378-4AD9-9BB5-61592852F39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3FD0-2E45-4A51-9B54-24F92B7C4338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D2BE-BCCB-47BB-8E7D-32BA394B9056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3676-1CF4-441F-A08B-1617E47EE846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400A-5683-4BC3-B3D6-46F09E75DB9E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النهج الإستراتيجي لصندوق البيئة العالمية</a:t>
            </a: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إزاء بناء القدرا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295280" y="3581280"/>
            <a:ext cx="6705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–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4617b"/>
                </a:solidFill>
                <a:latin typeface="Calibri"/>
                <a:cs typeface="Arial"/>
              </a:rPr>
              <a:t>أربعة مسارات محددة لتنمية قدرات البلدان بهدف تنفيذ اتفاقية ريو</a:t>
            </a:r>
            <a:r>
              <a:rPr b="0" lang="ar-SA" sz="3000" spc="-1" strike="noStrike">
                <a:solidFill>
                  <a:srgbClr val="04617b"/>
                </a:solidFill>
                <a:latin typeface="Calibri"/>
                <a:ea typeface="Arial"/>
              </a:rPr>
              <a:t> (المجلس في </a:t>
            </a:r>
            <a:r>
              <a:rPr b="0" lang="ar-SA" sz="3000" spc="-1" strike="noStrike">
                <a:solidFill>
                  <a:srgbClr val="04617b"/>
                </a:solidFill>
                <a:latin typeface="Calibri"/>
                <a:ea typeface="Arial"/>
              </a:rPr>
              <a:t>2003</a:t>
            </a:r>
            <a:r>
              <a:rPr b="0" lang="ar-SA" sz="3000" spc="-1" strike="noStrike">
                <a:solidFill>
                  <a:srgbClr val="04617b"/>
                </a:solidFill>
                <a:latin typeface="Calibri"/>
                <a:ea typeface="Arial"/>
              </a:rPr>
              <a:t> ــ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  <a:ea typeface="Arial"/>
              </a:rPr>
              <a:t> (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  <a:ea typeface="Arial"/>
              </a:rPr>
              <a:t>C/22.8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  <a:ea typeface="Arial"/>
              </a:rPr>
              <a:t> </a:t>
            </a:r>
            <a:r>
              <a:rPr b="0" lang="ar-EG" sz="3000" spc="-1" strike="noStrike">
                <a:solidFill>
                  <a:srgbClr val="04617b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تقييم الذاتي للاحتياجات من القدرات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زيز عناصر تنمية القدرات في مشروعات صندوق البيئة العالمية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مشروعات المستهدفة لتطوير القدرات (التي كانت تعرف سابقاً بمشروعات بناء القدرات ــ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برامج الخاصة ببلدان محددة لتلبية الاحتياجات المهمة الخاصة ببناء القدرات  في البلدان الأقل نموا والدول الجزرية الصغيرة النام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4617b"/>
                </a:solidFill>
                <a:latin typeface="Calibri"/>
                <a:cs typeface="Arial"/>
              </a:rPr>
              <a:t>الأهداف الإستراتيجية للتنمية الشاملة للقدرات في إطار العملية الخامسة لتجديد موارد الصندوق (المبلغ المتاح 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  <a:ea typeface="Arial"/>
              </a:rPr>
              <a:t>44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  <a:ea typeface="Arial"/>
              </a:rPr>
              <a:t> مليون دولار أمريكي</a:t>
            </a:r>
            <a:r>
              <a:rPr b="0" lang="ar-EG" sz="3200" spc="-1" strike="noStrike">
                <a:solidFill>
                  <a:srgbClr val="04617b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88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ناء القدرات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 تعزيز قدرات أصحاب المصالح المباشرة بهدف الانخراط من خلال عملية تشاور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ناء القدرات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توليد المعلومات والمعارف والوصول إليها واستخدام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ناء القدرات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تعزيز القدرات اللازمة لإعداد السياسات والتشريعات من أجل تحقيق منافع عال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ناء القدرات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تعزيز القدرات من أجل إدارة وتنفيذ إرشادات الاتفاقي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ناء القدرات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تعزيز القدرات لرصد وتقييم الآثار والاتجاهات البي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Calibri"/>
                <a:cs typeface="Arial"/>
              </a:rPr>
              <a:t>المتطلبات العامة للمشروع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088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توافق مع الأهداف الإستراتيجية من أجل التنمية الشاملة للقد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 algn="r" rtl="1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http://www.thegef.org/gef/GEF5_Capacity_Development_Strategy</a:t>
            </a:r>
            <a:r>
              <a:rPr b="0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دد مجالات التركيز (لتحقيق منافع لثلاثة مجالات تركيز على الأقل)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ديد الأولويات من خلال عملية التقييم الذاتي لبناء القدرات الوطنية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قديم التمويل المشترك بنسبة لا تقل ع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1: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مكن أن تكون المشروعات متوسطة الحجم أو كاملة الحج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Calibri"/>
                <a:cs typeface="Arial"/>
              </a:rPr>
              <a:t>شكراً لكم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8:09:00Z</dcterms:created>
  <dc:creator>Daniel</dc:creator>
  <dc:description/>
  <dc:language>en-US</dc:language>
  <cp:lastModifiedBy>Lisa</cp:lastModifiedBy>
  <dcterms:modified xsi:type="dcterms:W3CDTF">2012-04-22T23:56:18Z</dcterms:modified>
  <cp:revision>119</cp:revision>
  <dc:subject/>
  <dc:title>GEF NGO Network</dc:title>
</cp:coreProperties>
</file>