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E3EB-A112-4E18-82C6-9C38B5D4FC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742-3CFE-4626-AF90-3EEEA26C17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054-1F64-4A0F-8142-0EBACC1E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D70-A6E7-445C-85DD-82E0816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17-135B-4299-A36F-281E5C0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909-EA33-4B19-9237-EB50C985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2D0D-EE10-46B6-9FEF-2F621AA9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C51-62BD-4C66-95EC-94A1CC1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7BE-06F1-4E87-B2C0-5C34898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F523-93F2-4DC6-8F08-AAB29FC4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737-0069-4FFD-887F-FBF9DF66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247-7BFB-4DAD-A79E-AAD24BD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6F4E-825B-4979-A990-9B5287C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4B9-3EFF-40A0-937E-18B9466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AFD-EC73-46D3-A0F2-D67FCAE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9DBB-F8F2-465F-8C5F-85ADFC0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203B-5662-45B7-8D4F-3D7B8D6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7BA-4D28-4082-9C80-8BF61BA5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348E-A5A0-4A2F-B55A-BCC2D02E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EF4B-DED4-4801-8F68-8EA5E248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7A36-0EA1-4780-8C3C-5E4028C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CEF8-D360-4C61-AECB-2F818BB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8BD1-C52B-4EAE-932E-1829947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B940-77DB-458C-AFB5-B8B319F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C4F-6EDF-4539-AE36-05FD778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4363-D8EB-4A56-B323-5C5B15F8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DEC1-EB8E-49D5-99F5-C518A2CB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A7D9-6C9E-4AF4-A50D-241D372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F425-D75E-48AE-9CC8-079A298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92C6-EEF0-44ED-9EF3-3FDE5D9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CA41-E5D6-486C-8400-1BA5F8FF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0AC4-2FE6-40E1-9981-424EB29C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076A-F49B-429A-864C-2E4E7267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1960-8E4B-4D11-97C2-D5C13419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B8D8-730B-4DF4-A64B-1843F7B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E31-6F61-4649-9768-3666DCA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7E48-D3DA-40F3-A848-3C1339F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8E49-8E23-4BFA-BC9B-14960FE5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6D92-2957-4999-A929-64608CA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AB3B-CA65-407D-A47A-717A381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3B06-CCBC-4C9D-B7C4-0972CAE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D17E-3D6E-4759-A659-848ED44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EA25-65B7-432C-94E7-24A9F21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33B9-7F88-4CBA-B431-C433A089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5920-CDAA-47A5-B445-49973689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81BC-AD8E-4108-ABAC-452B9250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2E2-F866-4389-9776-1B75FC9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3DF6-00B5-404A-8AF7-8FAB2D8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1DDF-2979-4115-95BF-E2B3926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C546-6DED-4A72-A52A-EB73DDD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C993-3CD7-4F4F-B3FB-745F290F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FBE7-A291-4E60-9331-DDAD55C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1856-B400-4F19-9F33-48FA9E1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FA12-4091-4513-87B6-C2B17D6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BB98-F533-4156-A232-6B17B12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DDCA-80D3-41A7-9A03-6F38BE6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8F03-192A-40FF-AD9A-F1BC5826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F45-522C-472A-87D7-B439DA3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0D99-AB39-4AA7-973E-52F84E82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8AE-49BA-4CF0-83C9-AB0BFAC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C5F-F082-4704-BDE5-B24F202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5F1-D0DD-450A-897B-5D7C867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EC0-6D25-414E-A261-E560BAF48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2A7-7019-406F-834E-E923A32A1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EC5C-4C3F-436C-8CF6-D0647B814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3EEE-5607-406C-9DD1-A341148A4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A1C-4C35-4F00-B303-EEADB92F6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 Pathways defined to develop capacity of countries to implement Rio Convention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Lisa</cp:lastModifiedBy>
  <dcterms:modified xsi:type="dcterms:W3CDTF">2012-04-22T23:31:28Z</dcterms:modified>
  <cp:revision>115</cp:revision>
  <dc:subject/>
  <dc:title>GEF NGO Network</dc:title>
</cp:coreProperties>
</file>