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GEF Expanded Constituency Workshop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ftr" idx="17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 type="sldNum" idx="18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DC28-DBD0-4FFC-8EF8-E03FC64AF61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1D03-945B-48B7-9BAC-3B16C453AC8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Header Placeholder 6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EF Expanded Constituency Workshop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ED1C-BD54-4573-A4A6-6AC59058C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07FD-5EC8-4452-B1A3-2052CD00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1FC5-296A-44B9-8319-109007E79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A965-DC7C-42B9-AE94-B443B257F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8EA9-5A5D-42BD-9C01-CB572374A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D094-2E57-41EB-824C-13CBA569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5B9A-4550-4692-A8C8-6CC9B9C7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0B4D-662B-435D-B4D9-95FA4601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B968-C9E6-4356-AD75-0F7E76AE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6C651-077C-4BAD-A7E8-B1F3461A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E621-2F9E-4146-BABE-5CACF3E4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DF4F-DEBF-426C-85EA-8D6CBF66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0ECF-2FE8-404F-9BA9-1EF0FA5A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7AAE-7BB9-44A7-B40F-353E80E0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A14F-9269-421C-9B8F-21367685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8952-6A52-4C3A-A231-D1733CF81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CA49-B9FF-495B-978C-0B5D322E6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BB49C-0DCF-4B00-8DCC-7E86BA8EE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4DC3D-EB23-42C6-8D44-C705568E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70250-0A05-4709-AC08-96D5B7A2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475BD-40E5-431A-9874-9BF952C3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04813-4863-4BB5-8BFA-F3FDF6FB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73A7-79D3-462E-A5EE-16A5070C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76686-7447-4CA4-9B10-36522BD3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C452B-BBB7-4D97-B40C-94E3DC2A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DEA68-4A92-415E-A241-640C92D2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BB9F8-E4A6-471C-92FD-C83F7E82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50D5D-0562-4FD3-88F0-D74731D2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3869F-08BB-4402-ACFC-F0F95BE4A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F954E-7AAC-42CD-A6A1-3D8FCCBEE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7C0EF-56ED-4EF4-A84B-445053D2F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761DC-7E1C-4A60-8CD1-53102E6B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A733C-2C0D-49E9-97D9-036AF9F5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26DE-2D79-42EF-B276-EED14C9B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CEE4C-0F4A-42B1-A1B1-023D74E5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A4154-F05A-4B52-817F-37340E42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088D3-306E-4DAA-9CF8-F7603CE6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9897A-A089-48C3-881C-88FE290B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FF8E6-0478-41E7-AE87-2D81F359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EE750-5D5B-4541-8714-4730269C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7CFED-F4F4-4A3F-BCB1-91F9A752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FF9AF-F750-4C75-9411-066C510EA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23095-2006-4FAC-A0B6-8493D3C98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0E6A1-4BC3-4CEB-9801-CAF285AF8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2781-2082-4A49-8A82-8BF9E45C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F0AAA-669E-4172-86AC-BA7CAA43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528C5-7B01-408C-8053-E6008085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7F79B-5C55-4D51-81E3-11B90F2E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E3E59-5AA2-42EB-B7B6-2A8AB69D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080A6-BE34-4661-962C-1CAFBC40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70294-D61D-403A-97B1-66DB2B88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293F3-EF3B-4365-A1AE-5B19D4B2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E88FC-9179-48A3-B550-B4CE57A8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1FE75-6952-410A-96FB-28305848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FBF2C-ABBD-42EB-BEDE-FE3A25F51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E574-2070-4698-AA19-F8F1872A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AD308-D0DF-428E-8DAD-E76CC1673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F2E8-9837-4636-B19D-55590F6E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3FC4-8871-46CA-BA14-04B70CB2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AE05-152B-4E1E-89D7-A45EBEE9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FB56-AE48-464B-9DA2-02A3371A63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-28440"/>
            <a:ext cx="9144000" cy="1247760"/>
            <a:chOff x="0" y="-28440"/>
            <a:chExt cx="9144000" cy="124776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-284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-273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7CFE-927B-40EB-9FB3-A7196D08FC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AA7B-FB8E-4CA5-906A-4A635DA15D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27CD-373A-448C-A9BC-7EF35C681E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174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FAC0-E6AA-4673-9702-A2269D13D0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  <a:ea typeface="Arial"/>
              </a:rPr>
              <a:t>GEF Strategic Approach to </a:t>
            </a:r>
            <a:br>
              <a:rPr sz="4000"/>
            </a:br>
            <a:r>
              <a:rPr b="1" lang="en-US" sz="4000" spc="-1" strike="noStrike">
                <a:solidFill>
                  <a:srgbClr val="00642d"/>
                </a:solidFill>
                <a:latin typeface="Calibri"/>
                <a:ea typeface="Arial"/>
              </a:rPr>
              <a:t>Capacity Build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ubtitle 4"/>
          <p:cNvSpPr/>
          <p:nvPr/>
        </p:nvSpPr>
        <p:spPr>
          <a:xfrm>
            <a:off x="1295280" y="4114800"/>
            <a:ext cx="6705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15 to 17 February 20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Dead Sea, Jord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Four Pathways defined to develop capacity of countries to implement Rio Conventions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Council in 2003 C/22.8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f assessment of capacity needs (NCSA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engthening capacity development elements in GEF projects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rgeted capacity development projects CD (former CB-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ntry specific programs for addressing critical capacity building needs in LDCs and SI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rategic objectives for cross-cutting capacity development inGEF-5 (available 44 mln US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D 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Enhance capacities of stakeholders for engagement through consultative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D 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Generate, access and use of information and knowled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D 3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Strengthened capacities for policy and legislation  development for achieving global benef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D 4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Strengthened capacities for management and implementation of convention guide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D 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apacities enhanced to monitor and evaluate environmental impacts and tre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eneric requirements for project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142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 consistent with strategic objectives for cross-cutting capacity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http://www.thegef.org/gef/GEF5_Capacity_Development_Strateg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e to be multifocal (to benefit at least three focal areas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orities to be identified through NCSA proces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 co-financing at least with ratio 1:1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be MSPs or FS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8:09:00Z</dcterms:created>
  <dc:creator>Daniel</dc:creator>
  <dc:description/>
  <dc:language>en-US</dc:language>
  <cp:lastModifiedBy>Lisa</cp:lastModifiedBy>
  <dcterms:modified xsi:type="dcterms:W3CDTF">2012-04-22T23:31:28Z</dcterms:modified>
  <cp:revision>115</cp:revision>
  <dc:subject/>
  <dc:title>GEF NGO Network</dc:title>
</cp:coreProperties>
</file>