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FDE-FE21-4A4F-B35F-BA5CA4E347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4AA-EF23-4E08-B5D0-7AE4BBBCF94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3AD-3F7F-40BC-B884-BA934106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954-C973-4850-A1F3-66878E4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058-7C81-4CDA-9AA2-ABBBFF6E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B18-3A7C-448C-8782-66AABF19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B1A-DB61-437E-ADEB-B56C16D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448E-05BA-4E2F-B6F6-6CB3A8D8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3F2-6F68-4021-8DB3-F86F7E0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02E-49AD-4D57-9DC7-46E3E4A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7F8-4666-41D7-866E-64E3A47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056-D012-4975-A430-3332A21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2E3-7A79-4F63-AE13-872C5255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BCC-488D-4361-970F-88926E2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4D25-C9B7-4B8B-AF14-0CE4AE3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C7D9-2D95-48F7-AB01-C255F8A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210-B61F-4936-86BA-83D3550A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ADDF-58C8-47AB-8356-8D09C35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2FC3-1725-4B24-A9A4-A4685AD9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68C1-6BF6-43D2-BC81-387B6876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C93E-8F3E-4DF1-AFE5-067FC520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2AB7-A151-4503-A8D0-6D5E62E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E1BB-B0F1-4127-9261-B111820D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3636-A6E3-4907-B4C4-83606E7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1C8-8C95-4C4D-8273-230E734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E998-AF11-4DEA-8185-91FDA52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B035-A9C4-4E6E-AE9F-7876715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18B7-7E94-4E82-89C6-0C05908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D9F6-B989-4ACB-BA40-72F04E3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0CF5-024C-40EB-8525-81C4A262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EF21-225E-4649-B131-50E39F84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DB60-A7DC-445C-89DE-315CF237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9315-4754-41F6-B4C5-E7317303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81BA-77DD-480C-885E-407AA56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BAEF-AB05-446D-A39B-39877DC8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47D-C9CB-46C1-81ED-2646186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9B88-86D8-42B0-9577-579E0D5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8972-289B-45D4-8534-3D8E37C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40F4-6CB5-434E-8F71-31119F8E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6BF8-3247-4A03-BE6C-649922C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7E49-ECAA-41E3-90BC-9DD545E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E3CD-7FC3-4C6A-A403-73D6B59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30F3-1222-4963-B8DA-F9B31E6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677C-BDD1-4AA5-94D4-73E4CB06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925D-C8A4-4DA8-8206-E7BFBB47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EE81-75AC-4D84-80AE-CDB0934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A13-C2C4-40CC-8213-4F5018E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98804-5882-4F96-A22A-26C5ED0E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7B75-E2CA-46FA-A2C7-F18DCB19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2079-6D49-4885-B3B8-71CA907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4D26-9286-4F14-A067-D1509FA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9D72-8DB3-44A8-8CE3-28CDE4EE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9D44-2FEC-4D0F-BF96-AF542D8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43BD-31E1-4374-A476-15209DE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49A6-B991-4FA0-A441-1E1D256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DDB2-F2C0-4EE8-B3EA-FA6D4511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0DA1-36DA-4267-8B34-B966D8EC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CA4-D237-47B4-9EFF-064B2B3C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7F4D-E96C-42E9-8E40-52705DF9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3A6-417C-4A64-8A5F-807F66C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054-9497-4582-95C6-203C06C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29A-2F9C-4D01-8B70-3FD9A6D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B79-EC96-4DE5-9A39-D9030541A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DD6-2A23-4C73-87CE-E5CE72E6E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CCC0-9198-4E78-B7B1-851BDA559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5507-9575-4E71-BA28-AB33F3BEF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5D8-6F91-4CD3-A377-F71CC7723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 Pathways defined to develop capacity of countries to implement Rio Convention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31:28Z</dcterms:modified>
  <cp:revision>115</cp:revision>
  <dc:subject/>
  <dc:title>GEF NGO Network</dc:title>
</cp:coreProperties>
</file>