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103A-237C-4F55-BA06-BF00E99A290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F119-DE31-45D9-B51F-E89A21BE9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FA29-D480-457F-8F8E-287305A1B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9452-937C-4A22-AFE1-420073033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6ED1-B108-458F-BE62-5E33E2FF8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FEA6-7C4B-445F-96BD-161B11857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92EC-2487-4C02-8555-2BF8D35E9A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F95B-301C-458C-BE80-49354D3D2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2CDE-7CB6-4AC6-A4EA-E0A818C93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BADC-3F3A-4112-B0B9-78D771F12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Extended Constituency Workshop</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8 -10 February 2012</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Bujumbura, Burundi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65120" y="1596960"/>
            <a:ext cx="5803920" cy="435312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27640" y="1127160"/>
            <a:ext cx="3822840" cy="573732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1600" y="-6480"/>
            <a:ext cx="2828880" cy="2127240"/>
          </a:xfrm>
          <a:prstGeom prst="rect">
            <a:avLst/>
          </a:prstGeom>
          <a:ln w="0">
            <a:noFill/>
          </a:ln>
        </p:spPr>
      </p:pic>
      <p:pic>
        <p:nvPicPr>
          <p:cNvPr id="154" name="Picture 11" descr="Drums containing DDT_Panama.JPG"/>
          <p:cNvPicPr/>
          <p:nvPr/>
        </p:nvPicPr>
        <p:blipFill>
          <a:blip r:embed="rId2"/>
          <a:stretch/>
        </p:blipFill>
        <p:spPr>
          <a:xfrm>
            <a:off x="2889360" y="-6480"/>
            <a:ext cx="3444840" cy="2298960"/>
          </a:xfrm>
          <a:prstGeom prst="rect">
            <a:avLst/>
          </a:prstGeom>
          <a:ln w="0">
            <a:noFill/>
          </a:ln>
        </p:spPr>
      </p:pic>
      <p:pic>
        <p:nvPicPr>
          <p:cNvPr id="15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14T21:46:08Z</dcterms:modified>
  <cp:revision>304</cp:revision>
  <dc:subject/>
  <dc:title>Slide 1</dc:title>
</cp:coreProperties>
</file>