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A276-04D7-46EF-8657-2DB352FF0F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B871-4DEB-4FE6-A221-0400CC717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53EB-AB11-4D10-9C0E-846F602C3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E372-69E0-40E4-9B90-667B5B132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4818-8633-4B10-AAA9-5B3EF3DE6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AA38-1977-4928-9669-E8A82FFB9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1F8C-A20D-4A8C-9E35-6F1B10550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73B2-DAF7-46BF-B687-4C43D2D9D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95E8-8307-4812-A851-2797E8AD4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5278-C7E1-4974-AEB2-20D23CF89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8 -10 February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Bujumbura, Burundi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08Z</dcterms:modified>
  <cp:revision>304</cp:revision>
  <dc:subject/>
  <dc:title>Slide 1</dc:title>
</cp:coreProperties>
</file>