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BB4F-934D-4AFC-A413-826556D1977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D4F7-E0E5-4B00-A26F-632F5D864B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2C34F-F5B7-45A6-BB80-38D9721A34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200" spc="-1" strike="noStrike" baseline="30000">
                <a:solidFill>
                  <a:srgbClr val="000000"/>
                </a:solidFill>
                <a:latin typeface="Calibri"/>
              </a:rPr>
              <a:t>rd</a:t>
            </a:r>
            <a:r>
              <a:rPr b="0" lang="en-US" sz="1200" spc="-1" strike="noStrike">
                <a:solidFill>
                  <a:srgbClr val="000000"/>
                </a:solidFill>
                <a:latin typeface="Calibri"/>
              </a:rPr>
              <a:t> meeting discussions on a Financial Mechanism has started.  The GEF put forward its position on this at that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BA85-3111-47DB-AB9E-4AF0C6D748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76A84-F34A-4363-B7B2-A0712EB6EA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477D-3928-4D29-8407-F8D522DB21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4A84-9133-4C67-8F98-91CB0A84F3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D4741-EAB5-44BF-A010-AAA1B384D7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3BD9-2D5B-43BF-AC2B-570744B030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C24E-4807-48FC-87D2-83453F41F1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Chemicals Update</a:t>
            </a:r>
            <a:endParaRPr b="1" lang="en-US" sz="4000" spc="-1" strike="noStrike">
              <a:solidFill>
                <a:srgbClr val="1f497d"/>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ea typeface="ＭＳ Ｐゴシック"/>
              </a:rPr>
              <a:t>Extended Constituency Workshop</a:t>
            </a:r>
            <a:endParaRPr b="0" lang="en-US" sz="2600" spc="-1" strike="noStrike">
              <a:solidFill>
                <a:srgbClr val="000000"/>
              </a:solidFill>
              <a:latin typeface="Calibri"/>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ea typeface="ＭＳ Ｐゴシック"/>
              </a:rPr>
              <a:t>8 -10 February 2012</a:t>
            </a:r>
            <a:endParaRPr b="0" lang="en-US" sz="2600" spc="-1" strike="noStrike">
              <a:solidFill>
                <a:srgbClr val="000000"/>
              </a:solidFill>
              <a:latin typeface="Calibri"/>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ea typeface="ＭＳ Ｐゴシック"/>
              </a:rPr>
              <a:t>Bujumbura, Burundi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1f497d"/>
                </a:solidFill>
                <a:latin typeface="Calibri"/>
              </a:rPr>
              <a:t>GEF Chemicals -Background</a:t>
            </a:r>
            <a:br>
              <a:rPr sz="4400"/>
            </a:br>
            <a:endParaRPr b="1" lang="en-US" sz="4400" spc="-1" strike="noStrike">
              <a:solidFill>
                <a:srgbClr val="1f497d"/>
              </a:solidFill>
              <a:latin typeface="Calibri"/>
            </a:endParaRPr>
          </a:p>
        </p:txBody>
      </p:sp>
      <p:sp>
        <p:nvSpPr>
          <p:cNvPr id="13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F </a:t>
            </a:r>
            <a:r>
              <a:rPr b="0" lang="en-US" sz="2500" spc="-1" strike="noStrike">
                <a:solidFill>
                  <a:srgbClr val="000000"/>
                </a:solidFill>
                <a:latin typeface="Calibri"/>
              </a:rPr>
              <a:t>provides resources to the following areas related to chemicals managem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Persistent Organic Pollutants – Stockholm Conven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Ozone Depleting Substances (ODS), specifically to countries with economies in transition – Montreal Protoco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mercury – to support and inform ongoing negotiations of an agreement on Mercu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chemicals (and chemical issues) of global concern – related to the objectives of the Strategic Approach to International Chemicals Management (SAICM)</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5 Highlights</a:t>
            </a:r>
            <a:endParaRPr b="1" lang="en-US" sz="4400" spc="-1" strike="noStrike">
              <a:solidFill>
                <a:srgbClr val="1f497d"/>
              </a:solidFill>
              <a:latin typeface="Calibri"/>
            </a:endParaRPr>
          </a:p>
        </p:txBody>
      </p:sp>
      <p:sp>
        <p:nvSpPr>
          <p:cNvPr id="133" name=""/>
          <p:cNvSpPr txBox="1"/>
          <p:nvPr/>
        </p:nvSpPr>
        <p:spPr>
          <a:xfrm>
            <a:off x="457200" y="1600200"/>
            <a:ext cx="5943600" cy="411480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8M in GEF investments plus an additional 489M in other resources to chemical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2 pilot projects on mercury reduction, one on  artisanal gold mining and the other in health care sector.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National Implementation Plan (NIP) updates both through agency access and direct access and we encourage all eligible Parties to continue to submit applications for NIP update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d the endorsement of the Russia chlorofluorocarbon (CFC) phase out in the metered dose inhaler sector.</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4" name="Picture 2" descr="L:\Photos\COP5\Task FOrce 3.JPG"/>
          <p:cNvPicPr/>
          <p:nvPr/>
        </p:nvPicPr>
        <p:blipFill>
          <a:blip r:embed="rId1"/>
          <a:stretch/>
        </p:blipFill>
        <p:spPr>
          <a:xfrm>
            <a:off x="6629400" y="3200400"/>
            <a:ext cx="2400480" cy="1600200"/>
          </a:xfrm>
          <a:prstGeom prst="rect">
            <a:avLst/>
          </a:prstGeom>
          <a:ln w="0">
            <a:noFill/>
          </a:ln>
        </p:spPr>
      </p:pic>
      <p:pic>
        <p:nvPicPr>
          <p:cNvPr id="135"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136"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ersistent Organic Pollutants</a:t>
            </a:r>
            <a:endParaRPr b="1" lang="en-US" sz="4400" spc="-1" strike="noStrike">
              <a:solidFill>
                <a:srgbClr val="1f497d"/>
              </a:solidFill>
              <a:latin typeface="Calibri"/>
            </a:endParaRPr>
          </a:p>
        </p:txBody>
      </p:sp>
      <p:sp>
        <p:nvSpPr>
          <p:cNvPr id="138" name=""/>
          <p:cNvSpPr txBox="1"/>
          <p:nvPr/>
        </p:nvSpPr>
        <p:spPr>
          <a:xfrm>
            <a:off x="457200" y="1600200"/>
            <a:ext cx="8229600" cy="4114800"/>
          </a:xfrm>
          <a:prstGeom prst="rect">
            <a:avLst/>
          </a:prstGeom>
          <a:noFill/>
          <a:ln w="0">
            <a:noFill/>
          </a:ln>
        </p:spPr>
        <p:txBody>
          <a:bodyPr anchor="t">
            <a:normAutofit/>
          </a:bodyPr>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 majority of projects in GEF will be to implement the National Implementation Plans’ priorities,  including reduction Polychorobiphenyls (PCBs), POPs pesticides, DDT (dichlorodiphenyltrichloroethane) and unintentionally produced POPs (U-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n GEF 5 Parties are encouraged to apply for funding (up to a maximum of 250K) to review and update their National Implementation Plan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re is an opportunity to submit demonstration/pilot activities addressing new 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ODS Cylinders_Cambodia.JPG"/>
          <p:cNvPicPr/>
          <p:nvPr/>
        </p:nvPicPr>
        <p:blipFill>
          <a:blip r:embed="rId1"/>
          <a:stretch/>
        </p:blipFill>
        <p:spPr>
          <a:xfrm>
            <a:off x="1365120" y="1596960"/>
            <a:ext cx="5803920" cy="435312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supports the Montreal Protocol</a:t>
            </a:r>
            <a:endParaRPr b="1" lang="en-US" sz="4400" spc="-1" strike="noStrike">
              <a:solidFill>
                <a:srgbClr val="1f497d"/>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EF supports implementation of the Montreal Protocol (MP) in countries with economies in transition (CEITs). </a:t>
            </a:r>
            <a:r>
              <a:rPr b="0" lang="en-US" sz="2200" spc="-1" strike="noStrike">
                <a:solidFill>
                  <a:srgbClr val="000000"/>
                </a:solidFill>
                <a:latin typeface="Calibri"/>
              </a:rPr>
              <a:t>GEF5 has an allocation of 25M for the phase-out of Ozone Depleting Substances (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has invested 232M for ODS phase-out in CEITs countries. </a:t>
            </a:r>
            <a:r>
              <a:rPr b="0" lang="en-GB" sz="2200" spc="-1" strike="noStrike">
                <a:solidFill>
                  <a:srgbClr val="000000"/>
                </a:solidFill>
                <a:latin typeface="Calibri"/>
              </a:rPr>
              <a:t>GEF financed ODS phase out in Russia and CEITs, which is roughly equivalent to amounts phased out in all developing countri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continues to support eligible CEITs on achieving phase out of hydro chlorofluorocarbons (HCFC) and methyl brom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Mercury INC process</a:t>
            </a:r>
            <a:endParaRPr b="1" lang="en-US" sz="4400" spc="-1" strike="noStrike">
              <a:solidFill>
                <a:srgbClr val="1f497d"/>
              </a:solidFill>
              <a:latin typeface="Calibri"/>
            </a:endParaRPr>
          </a:p>
        </p:txBody>
      </p:sp>
      <p:sp>
        <p:nvSpPr>
          <p:cNvPr id="143" name=""/>
          <p:cNvSpPr txBox="1"/>
          <p:nvPr/>
        </p:nvSpPr>
        <p:spPr>
          <a:xfrm>
            <a:off x="3809880" y="1599840"/>
            <a:ext cx="5105520" cy="42670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5 has an allocation of 15M for activities related to pilot mercury reductio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F has contributed to all mercury INC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jects should address one or more of the following issue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product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industrial processe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and exposures in artisanal and small-scale gold mining</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for mercury storage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atmospheric emissions of mercury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data and scientific information at the national level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to address waste and contaminated sit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ounded Rectangle 4"/>
          <p:cNvSpPr/>
          <p:nvPr/>
        </p:nvSpPr>
        <p:spPr>
          <a:xfrm>
            <a:off x="685800" y="16002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GEF 5 mercury resources are intended to support assessment and pilot activities that will advance the development of the global mercury instrument and improve countries’ abilities to implement the its provisions when the (mercury) instrument enters into for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GEF Strategy for Mercury Programm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Chemicals Management</a:t>
            </a:r>
            <a:endParaRPr b="1" lang="en-US" sz="4400" spc="-1" strike="noStrike">
              <a:solidFill>
                <a:srgbClr val="1f497d"/>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TextBox 5"/>
          <p:cNvSpPr/>
          <p:nvPr/>
        </p:nvSpPr>
        <p:spPr>
          <a:xfrm>
            <a:off x="457200" y="152388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F5 has an allocation of 10M for sound chemicals management to cover the following issu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waste – properly designed e-waste projects should take into account mercury and POPs issues as relevan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ducts containing chemicals of global concern, consistent with Strategic Approach to International Chemicals Management (SAICM)</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d in p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7" descr="DSC01987.jpg"/>
          <p:cNvPicPr/>
          <p:nvPr/>
        </p:nvPicPr>
        <p:blipFill>
          <a:blip r:embed="rId1"/>
          <a:stretch/>
        </p:blipFill>
        <p:spPr>
          <a:xfrm>
            <a:off x="5784840" y="441324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SC01899.jpg"/>
          <p:cNvPicPr/>
          <p:nvPr/>
        </p:nvPicPr>
        <p:blipFill>
          <a:blip r:embed="rId1"/>
          <a:stretch/>
        </p:blipFill>
        <p:spPr>
          <a:xfrm>
            <a:off x="5327640" y="1127160"/>
            <a:ext cx="3822840" cy="573732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inding Synergy in the Chemicals Portfolio</a:t>
            </a:r>
            <a:endParaRPr b="1" lang="en-US" sz="4400" spc="-1" strike="noStrike">
              <a:solidFill>
                <a:srgbClr val="1f497d"/>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GEF 5 more synergy in projects is encouraged in order to achieve greater impac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regard, multi focal area, or multi-chemical projects that countries may wish to consider would inclu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aling with POPs, e-waste, mercury, lead and improving waste managem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lamps and other waste products in building/lighting efficiency projec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seek to improve energy efficiency in the heating/cooling/air-conditioning production and consumption sector and phase out of O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and POPS reduction in medical was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incorporate action on Basel, Rotterdam and Stockholm Conven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Ps and ODS co- destruc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09480" y="2361960"/>
            <a:ext cx="8229600" cy="342900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ＭＳ Ｐゴシック"/>
              </a:rPr>
              <a:t>Contact Information</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Ibrahima Sow</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Chemicals Cluster Coordinator</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Anil Sookdeo</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asookdeo@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Evelyn Swain</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Jie Pan</a:t>
            </a:r>
            <a:r>
              <a:rPr b="1" i="1" lang="en-US" sz="1800" spc="-1" strike="noStrike">
                <a:solidFill>
                  <a:srgbClr val="000000"/>
                </a:solidFill>
                <a:latin typeface="Times New Roman"/>
                <a:ea typeface="ＭＳ Ｐゴシック"/>
              </a:rPr>
              <a:t>	</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Junior Professional Associate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jpa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Marie Boucher</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On Detail from USEPA</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mboucher@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10" descr="Medical Waste_china.JPG"/>
          <p:cNvPicPr/>
          <p:nvPr/>
        </p:nvPicPr>
        <p:blipFill>
          <a:blip r:embed="rId1"/>
          <a:stretch/>
        </p:blipFill>
        <p:spPr>
          <a:xfrm>
            <a:off x="6321600" y="-6480"/>
            <a:ext cx="2828880" cy="2127240"/>
          </a:xfrm>
          <a:prstGeom prst="rect">
            <a:avLst/>
          </a:prstGeom>
          <a:ln w="0">
            <a:noFill/>
          </a:ln>
        </p:spPr>
      </p:pic>
      <p:pic>
        <p:nvPicPr>
          <p:cNvPr id="154" name="Picture 11" descr="Drums containing DDT_Panama.JPG"/>
          <p:cNvPicPr/>
          <p:nvPr/>
        </p:nvPicPr>
        <p:blipFill>
          <a:blip r:embed="rId2"/>
          <a:stretch/>
        </p:blipFill>
        <p:spPr>
          <a:xfrm>
            <a:off x="2889360" y="-6480"/>
            <a:ext cx="3444840" cy="2298960"/>
          </a:xfrm>
          <a:prstGeom prst="rect">
            <a:avLst/>
          </a:prstGeom>
          <a:ln w="0">
            <a:noFill/>
          </a:ln>
        </p:spPr>
      </p:pic>
      <p:pic>
        <p:nvPicPr>
          <p:cNvPr id="155"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3-14T21:46:08Z</dcterms:modified>
  <cp:revision>304</cp:revision>
  <dc:subject/>
  <dc:title>Slide 1</dc:title>
</cp:coreProperties>
</file>